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816-453E-423F-AA3E-5506C4CA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4DA-490E-429E-930A-9BE39B1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6B3-D7D2-450E-92AA-7500FED3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C01-D7A1-45A5-AEA7-3DB01AB3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5B5-EEDC-4135-B1D8-C2875885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880-ADDD-4814-8CDD-C33F0744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371-3A7E-419E-9824-B6EA45E7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0AC-9B27-4AC8-9BA3-BE24960E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A37-77AE-41FB-8B10-57C04C64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427-F39D-4495-8BB6-7C830A9F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EF5-68EA-4CBF-97AD-08211935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55E-2C16-4C37-B629-1882E38C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9838-15E6-40F7-9FC6-4E269D5510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17960" y="1428840"/>
            <a:ext cx="725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Составление обратных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699640" y="4778280"/>
            <a:ext cx="46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гаркова Ольга Геннад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БОУ «Гимназия № 25» г. Кур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ая соединительная линия 4"/>
          <p:cNvSpPr/>
          <p:nvPr/>
        </p:nvSpPr>
        <p:spPr>
          <a:xfrm>
            <a:off x="1979640" y="3649680"/>
            <a:ext cx="208764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 flipV="1">
            <a:off x="1963800" y="4149360"/>
            <a:ext cx="3504960" cy="468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Левая круглая скобка 8"/>
          <p:cNvSpPr/>
          <p:nvPr/>
        </p:nvSpPr>
        <p:spPr>
          <a:xfrm rot="5400000">
            <a:off x="2914920" y="2493000"/>
            <a:ext cx="216000" cy="2087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2087640"/>
              <a:gd name="textAreaBottom" fmla="*/ 20790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3"/>
                  <a:pt x="0" y="186"/>
                </a:cubicBezTo>
                <a:lnTo>
                  <a:pt x="0" y="21414"/>
                </a:lnTo>
                <a:cubicBezTo>
                  <a:pt x="0" y="2150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Левая круглая скобка 9"/>
          <p:cNvSpPr/>
          <p:nvPr/>
        </p:nvSpPr>
        <p:spPr>
          <a:xfrm rot="16200000">
            <a:off x="3603600" y="2509920"/>
            <a:ext cx="225360" cy="3504960"/>
          </a:xfrm>
          <a:custGeom>
            <a:avLst/>
            <a:gdLst>
              <a:gd name="textAreaLeft" fmla="*/ 66240 w 225360"/>
              <a:gd name="textAreaRight" fmla="*/ 225720 w 225360"/>
              <a:gd name="textAreaTop" fmla="*/ 9360 h 3504960"/>
              <a:gd name="textAreaBottom" fmla="*/ 349560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8"/>
                  <a:pt x="0" y="116"/>
                </a:cubicBezTo>
                <a:lnTo>
                  <a:pt x="0" y="21484"/>
                </a:lnTo>
                <a:cubicBezTo>
                  <a:pt x="0" y="21542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1979640" y="364968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12"/>
          <p:cNvSpPr/>
          <p:nvPr/>
        </p:nvSpPr>
        <p:spPr>
          <a:xfrm>
            <a:off x="4067280" y="364500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Левая круглая скобка 13"/>
          <p:cNvSpPr/>
          <p:nvPr/>
        </p:nvSpPr>
        <p:spPr>
          <a:xfrm rot="5400000">
            <a:off x="4672440" y="3358080"/>
            <a:ext cx="220680" cy="1371600"/>
          </a:xfrm>
          <a:custGeom>
            <a:avLst/>
            <a:gdLst>
              <a:gd name="textAreaLeft" fmla="*/ 64800 w 220680"/>
              <a:gd name="textAreaRight" fmla="*/ 221040 w 220680"/>
              <a:gd name="textAreaTop" fmla="*/ 9000 h 1371600"/>
              <a:gd name="textAreaBottom" fmla="*/ 136260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5"/>
                  <a:pt x="0" y="290"/>
                </a:cubicBezTo>
                <a:lnTo>
                  <a:pt x="0" y="21310"/>
                </a:lnTo>
                <a:cubicBezTo>
                  <a:pt x="0" y="21455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1356480" y="1413000"/>
            <a:ext cx="653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ама купила дочке 5 карандаше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а ручек на 3 боль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колько ручек купила ма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7"/>
          <p:cNvSpPr/>
          <p:nvPr/>
        </p:nvSpPr>
        <p:spPr>
          <a:xfrm>
            <a:off x="1567080" y="329868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1542600" y="3855960"/>
            <a:ext cx="5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2826000" y="295272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5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4354560" y="334800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3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2986560" y="4379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?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067840" y="501336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+ 3 = 8 (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978560" y="573264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  8 руч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ая соединительная линия 4"/>
          <p:cNvSpPr/>
          <p:nvPr/>
        </p:nvSpPr>
        <p:spPr>
          <a:xfrm>
            <a:off x="1979640" y="3649680"/>
            <a:ext cx="208764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6"/>
          <p:cNvSpPr/>
          <p:nvPr/>
        </p:nvSpPr>
        <p:spPr>
          <a:xfrm flipV="1">
            <a:off x="1963800" y="4149360"/>
            <a:ext cx="3504960" cy="468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Левая круглая скобка 8"/>
          <p:cNvSpPr/>
          <p:nvPr/>
        </p:nvSpPr>
        <p:spPr>
          <a:xfrm rot="5400000">
            <a:off x="2914920" y="2493000"/>
            <a:ext cx="216000" cy="2087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2087640"/>
              <a:gd name="textAreaBottom" fmla="*/ 20790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3"/>
                  <a:pt x="0" y="186"/>
                </a:cubicBezTo>
                <a:lnTo>
                  <a:pt x="0" y="21414"/>
                </a:lnTo>
                <a:cubicBezTo>
                  <a:pt x="0" y="2150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Левая круглая скобка 9"/>
          <p:cNvSpPr/>
          <p:nvPr/>
        </p:nvSpPr>
        <p:spPr>
          <a:xfrm rot="16200000">
            <a:off x="3603600" y="2509920"/>
            <a:ext cx="225360" cy="3504960"/>
          </a:xfrm>
          <a:custGeom>
            <a:avLst/>
            <a:gdLst>
              <a:gd name="textAreaLeft" fmla="*/ 66240 w 225360"/>
              <a:gd name="textAreaRight" fmla="*/ 225720 w 225360"/>
              <a:gd name="textAreaTop" fmla="*/ 9360 h 3504960"/>
              <a:gd name="textAreaBottom" fmla="*/ 349560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8"/>
                  <a:pt x="0" y="116"/>
                </a:cubicBezTo>
                <a:lnTo>
                  <a:pt x="0" y="21484"/>
                </a:lnTo>
                <a:cubicBezTo>
                  <a:pt x="0" y="21542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1"/>
          <p:cNvSpPr/>
          <p:nvPr/>
        </p:nvSpPr>
        <p:spPr>
          <a:xfrm>
            <a:off x="1979640" y="364968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2"/>
          <p:cNvSpPr/>
          <p:nvPr/>
        </p:nvSpPr>
        <p:spPr>
          <a:xfrm>
            <a:off x="4067280" y="364500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Левая круглая скобка 13"/>
          <p:cNvSpPr/>
          <p:nvPr/>
        </p:nvSpPr>
        <p:spPr>
          <a:xfrm rot="5400000">
            <a:off x="4672440" y="3358080"/>
            <a:ext cx="220680" cy="1371600"/>
          </a:xfrm>
          <a:custGeom>
            <a:avLst/>
            <a:gdLst>
              <a:gd name="textAreaLeft" fmla="*/ 64800 w 220680"/>
              <a:gd name="textAreaRight" fmla="*/ 221040 w 220680"/>
              <a:gd name="textAreaTop" fmla="*/ 9000 h 1371600"/>
              <a:gd name="textAreaBottom" fmla="*/ 136260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5"/>
                  <a:pt x="0" y="290"/>
                </a:cubicBezTo>
                <a:lnTo>
                  <a:pt x="0" y="21310"/>
                </a:lnTo>
                <a:cubicBezTo>
                  <a:pt x="0" y="21455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1351440" y="1413000"/>
            <a:ext cx="657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ама купила дочке 8 руче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Это на 3 больше, чем карандаш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колько карандашей купила ма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1567080" y="329868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1542600" y="3855960"/>
            <a:ext cx="5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2834280" y="29527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?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354560" y="334800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3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2978280" y="437976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8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2066760" y="5013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 - 3 = 5 (к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1981440" y="5732640"/>
            <a:ext cx="41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  5 карандаш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ая соединительная линия 4"/>
          <p:cNvSpPr/>
          <p:nvPr/>
        </p:nvSpPr>
        <p:spPr>
          <a:xfrm>
            <a:off x="1979640" y="3649680"/>
            <a:ext cx="208764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6"/>
          <p:cNvSpPr/>
          <p:nvPr/>
        </p:nvSpPr>
        <p:spPr>
          <a:xfrm flipV="1">
            <a:off x="1963800" y="4149360"/>
            <a:ext cx="3504960" cy="468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Левая круглая скобка 8"/>
          <p:cNvSpPr/>
          <p:nvPr/>
        </p:nvSpPr>
        <p:spPr>
          <a:xfrm rot="5400000">
            <a:off x="2914920" y="2493000"/>
            <a:ext cx="216000" cy="2087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640 h 2087640"/>
              <a:gd name="textAreaBottom" fmla="*/ 207900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3"/>
                  <a:pt x="0" y="186"/>
                </a:cubicBezTo>
                <a:lnTo>
                  <a:pt x="0" y="21414"/>
                </a:lnTo>
                <a:cubicBezTo>
                  <a:pt x="0" y="2150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Левая круглая скобка 9"/>
          <p:cNvSpPr/>
          <p:nvPr/>
        </p:nvSpPr>
        <p:spPr>
          <a:xfrm rot="16200000">
            <a:off x="3603600" y="2509920"/>
            <a:ext cx="225360" cy="3504960"/>
          </a:xfrm>
          <a:custGeom>
            <a:avLst/>
            <a:gdLst>
              <a:gd name="textAreaLeft" fmla="*/ 66240 w 225360"/>
              <a:gd name="textAreaRight" fmla="*/ 225720 w 225360"/>
              <a:gd name="textAreaTop" fmla="*/ 9360 h 3504960"/>
              <a:gd name="textAreaBottom" fmla="*/ 349560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8"/>
                  <a:pt x="0" y="116"/>
                </a:cubicBezTo>
                <a:lnTo>
                  <a:pt x="0" y="21484"/>
                </a:lnTo>
                <a:cubicBezTo>
                  <a:pt x="0" y="21542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11"/>
          <p:cNvSpPr/>
          <p:nvPr/>
        </p:nvSpPr>
        <p:spPr>
          <a:xfrm>
            <a:off x="1979640" y="364968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>
            <a:off x="4067280" y="3645000"/>
            <a:ext cx="0" cy="4316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Левая круглая скобка 13"/>
          <p:cNvSpPr/>
          <p:nvPr/>
        </p:nvSpPr>
        <p:spPr>
          <a:xfrm rot="5400000">
            <a:off x="4672440" y="3358080"/>
            <a:ext cx="220680" cy="1371600"/>
          </a:xfrm>
          <a:custGeom>
            <a:avLst/>
            <a:gdLst>
              <a:gd name="textAreaLeft" fmla="*/ 64800 w 220680"/>
              <a:gd name="textAreaRight" fmla="*/ 221040 w 220680"/>
              <a:gd name="textAreaTop" fmla="*/ 9000 h 1371600"/>
              <a:gd name="textAreaBottom" fmla="*/ 136260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5"/>
                  <a:pt x="0" y="290"/>
                </a:cubicBezTo>
                <a:lnTo>
                  <a:pt x="0" y="21310"/>
                </a:lnTo>
                <a:cubicBezTo>
                  <a:pt x="0" y="21455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1288800" y="1268280"/>
            <a:ext cx="663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ама купила дочке 5 карандаш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 8 ручек. На сколько больше руч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упила ма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1567080" y="329868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1542600" y="3855960"/>
            <a:ext cx="5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2826000" y="295272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5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4362840" y="334800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?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1"/>
          <p:cNvSpPr/>
          <p:nvPr/>
        </p:nvSpPr>
        <p:spPr>
          <a:xfrm>
            <a:off x="2978280" y="437976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8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1984320" y="5732640"/>
            <a:ext cx="49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  на 3 ручки боль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2173320" y="501156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 - 5 = 3 (р.) 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932560" y="48276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28T15:36:15Z</dcterms:created>
  <dc:creator>Пользователь Windows</dc:creator>
  <dc:description/>
  <dc:language>en-US</dc:language>
  <cp:lastModifiedBy>Пользователь Windows</cp:lastModifiedBy>
  <dcterms:modified xsi:type="dcterms:W3CDTF">2023-01-31T14:46:50Z</dcterms:modified>
  <cp:revision>4</cp:revision>
  <dc:subject/>
  <dc:title>Презентация PowerPoint</dc:title>
</cp:coreProperties>
</file>