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A09-9949-4906-BD23-CEC0A8A0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F26-9519-4303-A41A-925C9E6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81F-99EB-40B4-BA4A-97777EE1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1C7-DDC9-46B7-9ADE-B900CBB4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B92-8B08-4852-A0C6-1B8F4873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BE2-6F5E-40DD-A228-935DA861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D3F-A463-47BA-8FA5-62A326B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2B4-1558-41D1-97E2-0469AAC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638-DE9F-488B-9A13-7DF0924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156-094D-43E0-B102-52C80FD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8BA-E4DE-4B91-BB92-6B467CF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93E-C4E9-44EF-BF5B-E94413E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A2D0-0C1E-461B-99CE-693DF7E67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7960" y="1428840"/>
            <a:ext cx="725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оставление обратны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699640" y="4778280"/>
            <a:ext cx="46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гаркова Ольга Генн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БОУ «Гимназия № 25» г. Кур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1356480" y="1413000"/>
            <a:ext cx="653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5 карандаш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а ручек на 3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колько ручек 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2826000" y="295272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5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4354560" y="334800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2986560" y="4379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067840" y="501336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+ 3 = 8 (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978560" y="573264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8 ру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1351440" y="1413000"/>
            <a:ext cx="65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8 руче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о на 3 больше, чем каранда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колько карандашей 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2834280" y="2952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354560" y="334800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2978280" y="437976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8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2066760" y="5013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 - 3 = 5 (к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1981440" y="5732640"/>
            <a:ext cx="41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5 каранда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1288800" y="1268280"/>
            <a:ext cx="66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5 карандаш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 8 ручек. На сколько больше руч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2826000" y="295272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5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4362840" y="3348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2978280" y="437976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8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984320" y="573264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на 3 ручки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2173320" y="50115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 - 5 = 3 (р.)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932560" y="4827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8T15:36:15Z</dcterms:created>
  <dc:creator>Пользователь Windows</dc:creator>
  <dc:description/>
  <dc:language>en-US</dc:language>
  <cp:lastModifiedBy>Пользователь Windows</cp:lastModifiedBy>
  <dcterms:modified xsi:type="dcterms:W3CDTF">2023-01-31T14:46:50Z</dcterms:modified>
  <cp:revision>4</cp:revision>
  <dc:subject/>
  <dc:title>Презентация PowerPoint</dc:title>
</cp:coreProperties>
</file>