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8BA-F4F4-457C-84E9-7581CAB5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48C-4DD6-4FC3-A746-2EEC0AE1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E2C-0879-4E5E-BB26-0C094D71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5EC-D5E3-426C-88BC-3D349CCB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480-C584-4D95-B6AA-A93F3DEB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64F-0062-41CB-9A75-54B07F4B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B44-B903-409B-9D9D-087DB30F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5EA-2467-45D5-BC9B-0AB8FBE5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CDA-50DF-474F-B8A3-ED2A613E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E73-5BA4-4BD3-B47A-7A2957FA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3AA-0373-4146-B46A-E4DF6E81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82F-2F0A-4C16-9FA8-BDF93568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0EFB-3C4E-46DC-B2AC-A1EEEEEC7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Monotype Corsiva"/>
              </a:rPr>
              <a:t>Музейная педагогика: вопросы преемственности с начальной школой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11"/>
          <p:cNvPicPr/>
          <p:nvPr/>
        </p:nvPicPr>
        <p:blipFill>
          <a:blip r:embed="rId2"/>
          <a:stretch/>
        </p:blipFill>
        <p:spPr>
          <a:xfrm>
            <a:off x="1165320" y="1413000"/>
            <a:ext cx="7037280" cy="4032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1444680" y="2133720"/>
            <a:ext cx="648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Я слышу - и забываю.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Я вижу - и вспоминаю.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Я делаю-и постигаю</a:t>
            </a:r>
            <a:r>
              <a:rPr b="0" i="1" lang="ru-RU" sz="4800" spc="-1" strike="noStrike">
                <a:solidFill>
                  <a:srgbClr val="cc0066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996840" y="476280"/>
          <a:ext cx="7326360" cy="5575320"/>
        </p:xfrm>
        <a:graphic>
          <a:graphicData uri="http://schemas.openxmlformats.org/drawingml/2006/table">
            <a:tbl>
              <a:tblPr/>
              <a:tblGrid>
                <a:gridCol w="3662640"/>
                <a:gridCol w="3663720"/>
              </a:tblGrid>
              <a:tr h="43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Цели музейной педагог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e8a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Реализация направления «Музейная педагогик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богащение предметно-развивающей среды ДО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богащение ПП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Формирование у дошкольников представлений о муз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Расширение кругозора дошколь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Развитие познавательных способностей и познавательн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Формирование проектно-исследовательских умений и навы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Формирование умения самостоятельно анализировать и систематизировать полученные зн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Развитие творческого и логического мышления и воображ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Формирование активной жизненной пози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d7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Создание условий для развития личности путём включения её в многообразную деятель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</p:spTree>
  </p:cSld>
  <p:transition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2920" y="231840"/>
            <a:ext cx="403236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ринци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92720" y="4653000"/>
            <a:ext cx="266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11"/>
          <p:cNvPicPr/>
          <p:nvPr/>
        </p:nvPicPr>
        <p:blipFill>
          <a:blip r:embed="rId5"/>
          <a:stretch/>
        </p:blipFill>
        <p:spPr>
          <a:xfrm>
            <a:off x="1258920" y="1989000"/>
            <a:ext cx="6769080" cy="352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1173240" y="1006560"/>
          <a:ext cx="7016760" cy="5851440"/>
        </p:xfrm>
        <a:graphic>
          <a:graphicData uri="http://schemas.openxmlformats.org/drawingml/2006/table">
            <a:tbl>
              <a:tblPr/>
              <a:tblGrid>
                <a:gridCol w="3456000"/>
                <a:gridCol w="3560760"/>
              </a:tblGrid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-Принцип природосообразности  ‒Принцип науч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‒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ринцип гуманизации и партн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‒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ринцип культуросообразности ‒ Принцип динамичности и вариа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‒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ринцип разнообр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‒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ринцип регионального компон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7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ринцип активного отношения к музейному пространст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-  Принцип толерантно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-  Принцип авторств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озитивный центризм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- Непрерывность и преемственность педагогического процесс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- Дифференцированный подход к каждому ребенку, максимальный учет его психологических особенностей, возможностей и интерес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- Рациональное сочетание разных видов деятель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- Деятельностный подхо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-Развивающий характер обучения, основанный на детской ак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5b2"/>
                    </a:solidFill>
                  </a:tcPr>
                </a:tc>
              </a:tr>
            </a:tbl>
          </a:graphicData>
        </a:graphic>
      </p:graphicFrame>
    </p:spTree>
  </p:cSld>
  <p:transition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11"/>
          <p:cNvPicPr/>
          <p:nvPr/>
        </p:nvPicPr>
        <p:blipFill>
          <a:blip r:embed="rId2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2286000" y="2697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1042920" y="2997360"/>
            <a:ext cx="115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У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979640" y="1341360"/>
            <a:ext cx="511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итие мыслительной деятельности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Прогресс сторон творческого мышления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ой способ получения знаний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484360" y="476280"/>
            <a:ext cx="475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УЗЕЙНАЯ ПЕДАГОГИ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Стрелка вправо 4"/>
          <p:cNvSpPr/>
          <p:nvPr/>
        </p:nvSpPr>
        <p:spPr>
          <a:xfrm rot="5400000">
            <a:off x="4460400" y="431280"/>
            <a:ext cx="490680" cy="1954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e8ac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7451640" y="2881440"/>
            <a:ext cx="70164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ОЛА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11"/>
          <p:cNvPicPr/>
          <p:nvPr/>
        </p:nvPicPr>
        <p:blipFill>
          <a:blip r:embed="rId2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1428840" y="503280"/>
            <a:ext cx="65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правления деятельности музея: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1050840" y="1628640"/>
            <a:ext cx="7042320" cy="40291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1187280" y="1916280"/>
            <a:ext cx="6823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 поисково-собирательское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99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экспозиционное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buClr>
                <a:srgbClr val="99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экскурсионное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9"/>
          <p:cNvPicPr/>
          <p:nvPr/>
        </p:nvPicPr>
        <p:blipFill>
          <a:blip r:embed="rId1"/>
          <a:stretch/>
        </p:blipFill>
        <p:spPr>
          <a:xfrm>
            <a:off x="190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1"/>
          <p:cNvPicPr/>
          <p:nvPr/>
        </p:nvPicPr>
        <p:blipFill>
          <a:blip r:embed="rId2"/>
          <a:stretch/>
        </p:blipFill>
        <p:spPr>
          <a:xfrm>
            <a:off x="1187280" y="225360"/>
            <a:ext cx="7037640" cy="550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772280" y="130320"/>
            <a:ext cx="59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66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узейная педагогика дает возможность</a:t>
            </a:r>
            <a:r>
              <a:rPr b="1" lang="ru-RU" sz="3600" spc="-1" strike="noStrike">
                <a:solidFill>
                  <a:srgbClr val="cc0066"/>
                </a:solidFill>
                <a:latin typeface="Monotype Corsiv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1403280" y="282888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1187280" y="981000"/>
            <a:ext cx="4321440" cy="50328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уществлять нетрадиционный подход к образованию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3059280" y="1628640"/>
            <a:ext cx="4897440" cy="57636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очетать эмоциональные и интеллектуальные воздействия на дете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1187280" y="2349360"/>
            <a:ext cx="4392720" cy="64800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скрыть значимость и практический смысл изучаемого материал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3132000" y="3141720"/>
            <a:ext cx="4896000" cy="71892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пробовать собственные силы и самореализоваться каждому ребенку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1258920" y="4005360"/>
            <a:ext cx="4392720" cy="64764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бъяснить сложный материал на простых и наглядных примерах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3203640" y="4797360"/>
            <a:ext cx="5021280" cy="1295640"/>
          </a:xfrm>
          <a:prstGeom prst="rect">
            <a:avLst/>
          </a:prstGeom>
          <a:solidFill>
            <a:srgbClr val="fad7a4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ts val="168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рганизовать интересные занятия и дополнительные, факультативные и внеклассные занятия, исследовательскую работу в школьном музее и школ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11"/>
          <p:cNvPicPr/>
          <p:nvPr/>
        </p:nvPicPr>
        <p:blipFill>
          <a:blip r:embed="rId2"/>
          <a:stretch/>
        </p:blipFill>
        <p:spPr>
          <a:xfrm>
            <a:off x="1187280" y="260280"/>
            <a:ext cx="7037640" cy="5256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650960" y="689040"/>
            <a:ext cx="626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ля детей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узейная педагогика - это пока игра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то знает: возможно, когда-нибудь кто-то из них будет работать в настоящем музее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3"/>
          <p:cNvPicPr/>
          <p:nvPr/>
        </p:nvPicPr>
        <p:blipFill>
          <a:blip r:embed="rId2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2653560" y="2924280"/>
            <a:ext cx="371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cc0066"/>
                </a:solidFill>
                <a:latin typeface="Monotype Corsiva"/>
              </a:rPr>
              <a:t>Спасибо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Monotype Corsiva"/>
              </a:rPr>
              <a:t>за внима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Оксана</cp:lastModifiedBy>
  <dcterms:modified xsi:type="dcterms:W3CDTF">2018-12-05T08:49:54Z</dcterms:modified>
  <cp:revision>18</cp:revision>
  <dc:subject/>
  <dc:title>Слайд 1</dc:title>
</cp:coreProperties>
</file>