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C829-978C-41A6-A654-5944266E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26BD-39CD-405B-A8A5-7A9537C5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E05D-5390-4191-B19A-32367FC1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69FF-22CD-4238-8802-56F0FB7A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1D7F-BBC0-464D-8288-951F0E29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E2CF-70BA-4DC4-B1F5-4B399D2D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5F54-A357-4A4B-AD8E-8E5493FB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FD32-D258-4375-9ADB-A341C2AB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53F7-6A8A-4719-A2C9-24FEAD95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3B74-94F7-4EFD-85D2-69504F61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0263-6E9A-466D-B0D4-B9CC0CE4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6D3E-DCF3-4E45-B812-D9AF3574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05CE-3B0E-432D-B966-D3AD41B113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95280" y="2205000"/>
            <a:ext cx="482436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Monotype Corsiva"/>
              </a:rPr>
              <a:t>Музейная педагогика: вопросы преемственности с начальной школой</a:t>
            </a: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3"/>
          <p:cNvPicPr/>
          <p:nvPr/>
        </p:nvPicPr>
        <p:blipFill>
          <a:blip r:embed="rId3"/>
          <a:stretch/>
        </p:blipFill>
        <p:spPr>
          <a:xfrm>
            <a:off x="0" y="0"/>
            <a:ext cx="1674720" cy="168444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11"/>
          <p:cNvPicPr/>
          <p:nvPr/>
        </p:nvPicPr>
        <p:blipFill>
          <a:blip r:embed="rId2"/>
          <a:stretch/>
        </p:blipFill>
        <p:spPr>
          <a:xfrm>
            <a:off x="1165320" y="1413000"/>
            <a:ext cx="7037280" cy="4032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4"/>
          <p:cNvSpPr/>
          <p:nvPr/>
        </p:nvSpPr>
        <p:spPr>
          <a:xfrm>
            <a:off x="1444680" y="2133720"/>
            <a:ext cx="6480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Я слышу - и забываю. 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Я вижу - и вспоминаю. 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Я делаю-и постигаю</a:t>
            </a:r>
            <a:r>
              <a:rPr b="0" i="1" lang="ru-RU" sz="4800" spc="-1" strike="noStrike">
                <a:solidFill>
                  <a:srgbClr val="cc0066"/>
                </a:solidFill>
                <a:latin typeface="Monotype Corsiva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advTm="5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996840" y="476280"/>
          <a:ext cx="7326360" cy="5575320"/>
        </p:xfrm>
        <a:graphic>
          <a:graphicData uri="http://schemas.openxmlformats.org/drawingml/2006/table">
            <a:tbl>
              <a:tblPr/>
              <a:tblGrid>
                <a:gridCol w="3662640"/>
                <a:gridCol w="3663720"/>
              </a:tblGrid>
              <a:tr h="439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Цели музейной педагог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e8a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Реализация направления «Музейная педагогик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Обогащение предметно-развивающей среды ДО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Обогащение ППР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Формирование у дошкольников представлений о музе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Расширение кругозора дошкольни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Развитие познавательных способностей и познавательной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Формирование проектно-исследовательских умений и навы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Формирование умения самостоятельно анализировать и систематизировать полученные зн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Развитие творческого и логического мышления и воображ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Формирование активной жизненной пози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7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Создание условий для развития личности путём включения её в многообразную деятельнос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</p:spTree>
  </p:cSld>
  <p:transition advTm="5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42920" y="231840"/>
            <a:ext cx="403236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ринцип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92720" y="4653000"/>
            <a:ext cx="266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11"/>
          <p:cNvPicPr/>
          <p:nvPr/>
        </p:nvPicPr>
        <p:blipFill>
          <a:blip r:embed="rId5"/>
          <a:stretch/>
        </p:blipFill>
        <p:spPr>
          <a:xfrm>
            <a:off x="1258920" y="1989000"/>
            <a:ext cx="6769080" cy="352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1173240" y="1006560"/>
          <a:ext cx="7016760" cy="5851440"/>
        </p:xfrm>
        <a:graphic>
          <a:graphicData uri="http://schemas.openxmlformats.org/drawingml/2006/table">
            <a:tbl>
              <a:tblPr/>
              <a:tblGrid>
                <a:gridCol w="3456000"/>
                <a:gridCol w="3560760"/>
              </a:tblGrid>
              <a:tr h="58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-Принцип природосообразности  ‒Принцип науч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 ‒ </a:t>
                      </a: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Принцип гуманизации и партнер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 ‒ </a:t>
                      </a: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Принцип культуросообразности ‒ Принцип динамичности и вариатив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 ‒ </a:t>
                      </a: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Принцип разнообраз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 ‒ </a:t>
                      </a: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Принцип регионального компон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7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Принцип активного отношения к музейному пространств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-  Принцип толерантност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-  Принцип авторств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Позитивный центризм”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- Непрерывность и преемственность педагогического процесс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- Дифференцированный подход к каждому ребенку, максимальный учет его психологических особенностей, возможностей и интерес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- Рациональное сочетание разных видов деятель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- Деятельностный подход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-Развивающий характер обучения, основанный на детской актив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d5b2"/>
                    </a:solidFill>
                  </a:tcPr>
                </a:tc>
              </a:tr>
            </a:tbl>
          </a:graphicData>
        </a:graphic>
      </p:graphicFrame>
    </p:spTree>
  </p:cSld>
  <p:transition advTm="5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11"/>
          <p:cNvPicPr/>
          <p:nvPr/>
        </p:nvPicPr>
        <p:blipFill>
          <a:blip r:embed="rId2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2286000" y="269712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" name="Прямоугольник 1"/>
          <p:cNvSpPr/>
          <p:nvPr/>
        </p:nvSpPr>
        <p:spPr>
          <a:xfrm>
            <a:off x="1042920" y="2997360"/>
            <a:ext cx="115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У</a:t>
            </a: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1979640" y="1341360"/>
            <a:ext cx="511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азвитие мыслительной деятельности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Прогресс сторон творческого мышления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сновной способ получения знаний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2484360" y="476280"/>
            <a:ext cx="4751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МУЗЕЙНАЯ ПЕДАГОГИК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" name="Стрелка вправо 4"/>
          <p:cNvSpPr/>
          <p:nvPr/>
        </p:nvSpPr>
        <p:spPr>
          <a:xfrm rot="5400000">
            <a:off x="4460400" y="431280"/>
            <a:ext cx="490680" cy="1954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e8ac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7451640" y="2881440"/>
            <a:ext cx="70164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КОЛА</a:t>
            </a: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advTm="5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11"/>
          <p:cNvPicPr/>
          <p:nvPr/>
        </p:nvPicPr>
        <p:blipFill>
          <a:blip r:embed="rId2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1428840" y="503280"/>
            <a:ext cx="655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правления деятельности музея: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3" name="Picture 9" descr=""/>
          <p:cNvPicPr/>
          <p:nvPr/>
        </p:nvPicPr>
        <p:blipFill>
          <a:blip r:embed="rId3"/>
          <a:stretch/>
        </p:blipFill>
        <p:spPr>
          <a:xfrm>
            <a:off x="1050840" y="1628640"/>
            <a:ext cx="7042320" cy="40291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"/>
          <p:cNvSpPr/>
          <p:nvPr/>
        </p:nvSpPr>
        <p:spPr>
          <a:xfrm>
            <a:off x="1187280" y="1916280"/>
            <a:ext cx="6823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 поисково-собирательское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buClr>
                <a:srgbClr val="99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экспозиционное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buClr>
                <a:srgbClr val="99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экскурсионное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advTm="5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9"/>
          <p:cNvPicPr/>
          <p:nvPr/>
        </p:nvPicPr>
        <p:blipFill>
          <a:blip r:embed="rId1"/>
          <a:stretch/>
        </p:blipFill>
        <p:spPr>
          <a:xfrm>
            <a:off x="190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11"/>
          <p:cNvPicPr/>
          <p:nvPr/>
        </p:nvPicPr>
        <p:blipFill>
          <a:blip r:embed="rId2"/>
          <a:stretch/>
        </p:blipFill>
        <p:spPr>
          <a:xfrm>
            <a:off x="1187280" y="225360"/>
            <a:ext cx="7037640" cy="550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1772280" y="130320"/>
            <a:ext cx="59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66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узейная педагогика дает возможность</a:t>
            </a:r>
            <a:r>
              <a:rPr b="1" lang="ru-RU" sz="3600" spc="-1" strike="noStrike">
                <a:solidFill>
                  <a:srgbClr val="cc0066"/>
                </a:solidFill>
                <a:latin typeface="Monotype Corsiv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1403280" y="2828880"/>
            <a:ext cx="66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Прямоугольник 1"/>
          <p:cNvSpPr/>
          <p:nvPr/>
        </p:nvSpPr>
        <p:spPr>
          <a:xfrm>
            <a:off x="1187280" y="981000"/>
            <a:ext cx="4321440" cy="503280"/>
          </a:xfrm>
          <a:prstGeom prst="rect">
            <a:avLst/>
          </a:prstGeom>
          <a:solidFill>
            <a:srgbClr val="fad7a4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существлять нетрадиционный подход к образованию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3059280" y="1628640"/>
            <a:ext cx="4897440" cy="576360"/>
          </a:xfrm>
          <a:prstGeom prst="rect">
            <a:avLst/>
          </a:prstGeom>
          <a:solidFill>
            <a:srgbClr val="fad7a4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очетать эмоциональные и интеллектуальные воздействия на детей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1187280" y="2349360"/>
            <a:ext cx="4392720" cy="648000"/>
          </a:xfrm>
          <a:prstGeom prst="rect">
            <a:avLst/>
          </a:prstGeom>
          <a:solidFill>
            <a:srgbClr val="fad7a4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аскрыть значимость и практический смысл изучаемого материал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3132000" y="3141720"/>
            <a:ext cx="4896000" cy="718920"/>
          </a:xfrm>
          <a:prstGeom prst="rect">
            <a:avLst/>
          </a:prstGeom>
          <a:solidFill>
            <a:srgbClr val="fad7a4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пробовать собственные силы и самореализоваться каждому ребенку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1258920" y="4005360"/>
            <a:ext cx="4392720" cy="647640"/>
          </a:xfrm>
          <a:prstGeom prst="rect">
            <a:avLst/>
          </a:prstGeom>
          <a:solidFill>
            <a:srgbClr val="fad7a4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бъяснить сложный материал на простых и наглядных примерах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Прямоугольник 8"/>
          <p:cNvSpPr/>
          <p:nvPr/>
        </p:nvSpPr>
        <p:spPr>
          <a:xfrm>
            <a:off x="3203640" y="4797360"/>
            <a:ext cx="5021280" cy="1295640"/>
          </a:xfrm>
          <a:prstGeom prst="rect">
            <a:avLst/>
          </a:prstGeom>
          <a:solidFill>
            <a:srgbClr val="fad7a4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ts val="1687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рганизовать интересные занятия и дополнительные, факультативные и внеклассные занятия, исследовательскую работу в школьном музее и школе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advTm="5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11"/>
          <p:cNvPicPr/>
          <p:nvPr/>
        </p:nvPicPr>
        <p:blipFill>
          <a:blip r:embed="rId2"/>
          <a:stretch/>
        </p:blipFill>
        <p:spPr>
          <a:xfrm>
            <a:off x="1187280" y="260280"/>
            <a:ext cx="7037640" cy="5256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1650960" y="689040"/>
            <a:ext cx="6264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Для детей 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музейная педагогика - это пока игра.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то знает: возможно, когда-нибудь кто-то из них будет работать в настоящем музее.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advTm="5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3"/>
          <p:cNvPicPr/>
          <p:nvPr/>
        </p:nvPicPr>
        <p:blipFill>
          <a:blip r:embed="rId2"/>
          <a:stretch/>
        </p:blipFill>
        <p:spPr>
          <a:xfrm>
            <a:off x="0" y="0"/>
            <a:ext cx="1674720" cy="16844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2653560" y="2924280"/>
            <a:ext cx="371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Monotype Corsiva"/>
              </a:rPr>
              <a:t>   </a:t>
            </a:r>
            <a:r>
              <a:rPr b="0" lang="ru-RU" sz="4400" spc="-1" strike="noStrike">
                <a:solidFill>
                  <a:srgbClr val="cc0066"/>
                </a:solidFill>
                <a:latin typeface="Monotype Corsiva"/>
              </a:rPr>
              <a:t>Спасибо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Monotype Corsiva"/>
              </a:rPr>
              <a:t>за внимание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advTm="5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1:47:09Z</dcterms:created>
  <dc:creator>Юлия</dc:creator>
  <dc:description/>
  <dc:language>en-US</dc:language>
  <cp:lastModifiedBy>Оксана</cp:lastModifiedBy>
  <dcterms:modified xsi:type="dcterms:W3CDTF">2018-12-05T08:49:54Z</dcterms:modified>
  <cp:revision>18</cp:revision>
  <dc:subject/>
  <dc:title>Слайд 1</dc:title>
</cp:coreProperties>
</file>