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BCC-2A6F-452F-BD9E-9F683443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EC9-B993-47D5-9A0E-AE3105D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932-9168-4A9A-92F1-B2CE7498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55A-3F0A-41C8-8928-82FD8172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CF8-2200-46BE-8F56-E929327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4C0-0CB0-419A-9B11-68EDE59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DAB-6970-41CB-A917-24503F36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760-339F-46AB-9DBF-6BA5789D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B1D-FD90-495C-8C54-C0885A15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EFE-AAF7-42EF-952E-A791BF8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F02-408A-4196-A2B8-C7CFC966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540-8869-4BB7-9903-5DC87B07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BDF2-8E04-4126-9F06-361A43A7A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971640" y="1125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методики воспитательной работы, основные принципы деятельностного подхода, виды и приемы современных 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003640" y="5229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пырева  Д.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835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755640" y="836640"/>
            <a:ext cx="74883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Технология проектной деятель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79280" y="0"/>
            <a:ext cx="87138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Технология 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тельской деятельности в детском саду — сформировать у дошкольников 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ючевые компетенции, способность к исследовательскому типу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 и приемы организации экспериментально – исследователь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вристические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а и решение вопросов проблемного харак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оздание моделей об изменениях в неживой приро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ксация результатов: наблюдений, опытов, экспериментов, труд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огружени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 краски, звуки, запахи и образы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ажание голосам и звукам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художественного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игры, игровые обучающие и творчески развивающие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ые поручения,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одержимое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95280" y="765000"/>
            <a:ext cx="7993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ознавательно- 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ыты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экспериментиро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ллекционировани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классификационная раб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утешествие по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утешествие по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еке време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24000" y="404640"/>
            <a:ext cx="8351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Технология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ТРИЗ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З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еория решения изобретательских задач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создана ученым-изобретателем Т.С. Альтшулл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ит воспитывать и обучать ребенка под девизом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Творчество во всем!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ошкольный возраст уникален, ибо как сформируется ребенок, такова будет и его жизнь, именно поэтому важно не упустить этот период для раскрытия творческого потенциала кажд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использования данной технологии в детском саду является развитие, с одной стороны, таких качеств мышления, как гибкость, подвижность, системность, диалектичность; с другой – поисковой активности, стремления к новизне; речи и творческого вооб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задача использования ТРИЗ — технологии в дошкольном возрасте – это привить ребенку радость творческих откры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95280" y="333360"/>
            <a:ext cx="82090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Информационно-коммуникацион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, в котором развивается современный ребенок, кор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м отличается от мира, в котором выросли его родители.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компьютер, интерактивная доска, планшет и др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95280" y="620640"/>
            <a:ext cx="806436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Т в работе современного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ор иллюстративного материала к занятиям и для оформления стендов, группы, кабинетов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канирование, интернет, принтер, презента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ор дополнительного познавательного материала к занятиям, знакомство со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611280" y="404640"/>
            <a:ext cx="79214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Личностно — ориентированная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аются попытки создания условий личностно-ориентированных взаимодействий с детьми в развивающем пространстве, позволяющей ребенку проявить собственную активность, наиболее полно реализова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95280" y="692280"/>
            <a:ext cx="828036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мках личностно-ориентированных технологий самостоятельными направлениями вы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уманно-личностные технологии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ехнология сотрудничества реализует принцип демократизации дошкольного образования, равенство в отношениях педагога с ребенком, партнерство в системе взаимоотношений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зрослый — ребенок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едагог и дети создают условия развивающей среды, изготавливают пособия, игрушки, подарки к праздникам. Совместно определяют разнообразную творческую деятельность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игры, труд, концерты, праздники, развлечен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24000" y="260280"/>
            <a:ext cx="84247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Технология проблемного обучения в детском с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ют четыре уровня проблемности в обу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сам ставит проблему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задачу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сам решает её при активном слушании и обсуждении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ставит проблему, дети самостоятельно или под его руководством находят решение. Воспитатель направляет ребёнка на самостоятельные поиски путей решени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частично-поисковый мето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ёнок ставит проблему, воспитатель помогает её решить. У ребёнка воспитывается способность самостоятельно формулировать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ёнок сам ставит проблему и сам её решает. Воспитатель даже не указывает на проблему: ребёнок должен увидеть её самостоятельно, а увидев, сформулировать и исследовать возможности и способы её решения.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Исследовательски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тоге воспитывается способность самостоятельно анализ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ную ситуацию, самостоятельно находить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468360" y="333360"/>
            <a:ext cx="770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Технология портфолио до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фолио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 ряд функций портфоли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ностическ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фиксирует изменения и рост за определенный период времен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ельн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аскрывает весь спектр выполняемых работ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йтингов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казывает диапазон умений и навыков ребенк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0" y="442800"/>
            <a:ext cx="2232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9280" y="0"/>
            <a:ext cx="896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методы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ами воспитания называют пути взаимосвязанной деятельности педагога и воспитанников, направленной на достижение целей воспитания. Опыт показывает, что взаимодействие воспитателя с воспитуемыми может осуществляться по-разному, в частности пут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редственного влияния на учеников (убеждение, нравоучение, требование, приказ, угроза, наказание, поощрение, личный пример, авторитет, просьба, сов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я специальных условий, ситуаций и обстоятельств, которые побуждают воспитанника изменить собственное отношение к чему-либо, выразить свою позицию, осуществить поступок, проявить характ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я общественного мнения (референтной для воспитанника группы или коллектива – школьного, студенческого, профессионального), а также мнения значимого для него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ой деятельности воспитателя и воспитанника (через общение и тру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я или самообразования, передачи информации или социального опыта, осуществляемых в кругу семьи, в процессе межличностного или профессионального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ружения в мир народных традиций и фольклорного творчества, чтения художествен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611280" y="260280"/>
            <a:ext cx="8137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Игровая технолог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е включаются последователь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ы игр на обобщение предметов по определен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26920" y="549360"/>
            <a:ext cx="72010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Технология разноуровневого обу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дагогическая технология организации процесса, в рамках которого предполагается разный уровень усвоения учебного материала, то есть глубина и сложность одного и того же учебного материала различна в группах уровня А,Б, C, что дает возможность каждому воспитаннику овладевать учебным материалом на разном уровн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, В, 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не ниже базового, в зависимости от способностей и индивидуальных особенностей личности каждого воспитан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у технологии разноуровневого обучения составляют: психолого-педагогическая диагностика воспитанника; сетевое планирование; разноуровневый дидактически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00000" y="260280"/>
            <a:ext cx="755964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 Технология интегрированного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ированное занятие отличается от традиционного использованием межпредметных связей, предусматривающих лишь эпизодическое включение материала других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ирование — соединение знаний из разных образовательных областей на равноправной основе, дополняя друг друга. При этом решается несколько задач развития. В форме интегрированных занятий лучше проводить обобщающие занятия, презентации тем, итогов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611280" y="549360"/>
            <a:ext cx="80643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. Инклюзивно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енное (инклюзивное) образование – процесс интеграции, подразумевающий доступность образования для всех и создание образовательного пространства, соответствующего различным потребностям всех обуч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инклюзивного образования обеспечивает равные права, доступность, возможность выбора подходящего образовательного маршрута для любого ребенка вне зависимости от его физических и других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684360" y="333360"/>
            <a:ext cx="77752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 Здоровьесберегающ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х технологий является обеспечение ребенку возможности сохранения здоровья, формирование у него необходимых знаний, умений, навыков по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 педагогические технологии вклюсают все аспекты воздействия педагога на здоровье ребенка на разных уровнях – информационном, психологическом, био-энергетиче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620280"/>
            <a:ext cx="813744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68360" y="260280"/>
            <a:ext cx="84247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яют три группы здоровьесберегающих технолог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Технологии сохранения и стимулирования здоровья: ритмопластика, динамические паузы, подвижные и спортивные игры, релаксация, технологии эстетической направленности, гимнастика пальчиковая, гимнастика для глаз, гимнастика дыхательная, гимнастика корригирующая, гимнастика ортопеди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Технологии обучения здоровому образу жизни: коммуникативные игры, беседы из серии «Здоровье», самомассаж, точечный самомасс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ррекционные технологии: арттерапия, технологии музыкального воздействия, сказкотерапия, технологии воздействия цветом, технологии коррекции поведения, психогимнастика, фонетическая и логопедическая рит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042920" y="1341360"/>
            <a:ext cx="70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0920" y="18900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стеме методов воспитания существует нескол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деляемых по различным осно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П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арактеру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я на личность воспитан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 убеж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упражн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ощр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аказ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П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чнику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я на личность воспитанн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ловесн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блемно-ситуативны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методы приучения и упраж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методы стимулир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етоды торм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методы руковод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методы само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П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зультата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я на личность воспитанника выделяются мет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лияющие на нравственные установки, мотивы, отношения, формирующие представления, понятия, иде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лияющие на привычки, определяющие тип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2560" y="214200"/>
            <a:ext cx="8543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24000" y="549360"/>
            <a:ext cx="8064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П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равленности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я на личность воспитанника методы воспитания делят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формирующие мировоззрение и осуществляющие обмен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 организующие деятельность и стимулирующие мотивы поведения; в) оказывающие помощь воспитанникам и направленные на оценку их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инарны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, предполагающие выделение пар методов «воспитания – самовоспитания». Это методы воздей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а интеллектуальную сферу (убеждение – самоубежд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мотивационную сферу (стимулирование (поощрение и наказание) 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эмоциональную сферу (внушение – самовнуш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олевую сферу (требование – упражн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сферу саморегуляции (коррекция поведения – самокоррек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предметно-практическую сферу (воспитывающие ситуаци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е проб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 экзистенциальную сферу (метод дилемм – рефлекс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000" y="213840"/>
            <a:ext cx="72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179280" y="0"/>
            <a:ext cx="87854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нципы деятельнос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деятельностным подходом понимают такой способ организации учебно-познавательной деятельности обучаемых, при котором они являются не пассивными «приёмниками» информации, а сами активно участвуют в учеб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еятельностного подхода является воспитание личности ребенка как субъекта жизнедеятельности. Быть субъектом – быть хозяином своей деятельности: ставить цели, решать задачи, отвечать за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ного подхода в обучении состоит в направлении «всех педагогических мер на организацию интенсивной, постоянно усложняющейся деятельности, ибо только через собственную деятельность человек усваивает науку и культуру, способы познания и преобразования мира, формирует и совершенствует личностные каче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ятельностного подхода раскрывается в принципе деятельности, который  можно охарактеризовать  китайской мудростью «Я слышу – я забываю, я вижу – я запоминаю, я делаю – я усваиваю». Еще Сократ говорил о том, что научиться играть на флейте можно только, играя  самому.  Точно также способности учащихся формируются лишь тогда, когда они  включены в самостоятельную учебно-познаватель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4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79280" y="0"/>
            <a:ext cx="878544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деятельностного подхода  в практике препод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ся следующей системой дидактических принц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 Принцип деятельности– заключается в том, что ученик, получая знания не в готовом виде, а, добывая их сам, осознает при этом содержание и      формы своейучебной деятельности,  что способствует успешному формированию его способностей, общеучебных умений. Об этом принципе мы поговорим подроб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 Принцип непрерывности – означает преемственность между всеми ступенямии этапами обучения с учетом возрастных психологических особенностей развития детей. Непрерывность процесса обеспечивает инвариантностью технологии, а также преемственностью между всеми ступенями обучения содержания и метод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 Принцип целостности– предполагает формирование учащимися системного представления о мире, о роли и месте каждой науки в системе наук. У ребёнка должно быть сформировано обобщённое, целостное представление о мире (природе — обществе — самом себе), о роли и месте каждой науки в системе на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 Принцип минимакса– заключается в следующем: школа должна предложить ученику возможность освоения содержания образования на максимальном для него уровне  и обеспечить при этом его усвоение на уровне социально безопасного минимума (государственного стандарта зна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250920" y="189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  Принцип психологической комфортности– предполагает снятие всех                     стрессообразующих факторов учебного процесса, создание  на уроках доброжелательной атмосферы, развитие диалоговых форм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 Принцип вариативности– предполагает формирование учащимися     способностей к адекватному принятию решений в ситуациях выбора, развитие у учащихся вариативного мышления, то есть понимания возможности различных вариантов решения проблемы, формирование способности к систематическому перебору вариантов и выбору оптимального вари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  Принцип творчества– означает максимальную ориентацию на творческое начало в образовательном процессе, приобретение ими собственного опыта творческой деятельности. Еще Л.С. Выготский в замечательной книге «Педагогическая психология», опередившей свое время как минимум лет на 60, говорил о том, что в новой педагогике жизнь «раскрывается как система творчества… Каждая наша мысль, каждое наше движение и переживание являются стремлением к созданию новой действительности, прорывом вперед к чему-то новому». Для этого и сам процесс учения должен быть творческим. Он должен звать ребенка из «ограниченной и уравновешенной, устоявшейся абстракции к новому, еще не оцененном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178596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68360" y="404640"/>
            <a:ext cx="83516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временные педагогические технологи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 педагогический лексикон прочно вошло понятие педагогической технологии. Технология – это совокупность приемов, применяемых в каком-либо деле, мастерстве, искусстве (толковый словарь). Есть множество определений понятия «педагогическая технология». Мы изберем следующее: это такое построение деятельности педагога, в которой все входящие в него действия представлены в определенной последовательности и целостности, а выполнение предполагает достижение необходимого результата и имеет прогнозируем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400" y="428760"/>
            <a:ext cx="825804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1613165311_219-p-zheltii-fon-zeleno-goluboi-2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95280" y="260280"/>
            <a:ext cx="8280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числу современных образовательных технологий можно отн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проек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ТРИ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— ориентирова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портфолио до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ов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ноуровнев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интегрированно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клюзив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10:48:43Z</dcterms:created>
  <dc:creator>Александр</dc:creator>
  <dc:description/>
  <dc:language>en-US</dc:language>
  <cp:lastModifiedBy>User</cp:lastModifiedBy>
  <dcterms:modified xsi:type="dcterms:W3CDTF">2023-02-01T08:04:37Z</dcterms:modified>
  <cp:revision>44</cp:revision>
  <dc:subject/>
  <dc:title>Слайд 1</dc:title>
</cp:coreProperties>
</file>