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D3FD-F132-4A4C-994D-C7E19247B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B917-660E-4F3D-8239-40813125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8518-D0AF-4DF5-84EA-D0BF4C5D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9D5C-28C1-4BDE-93B9-6A7972433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A833-0EC0-4090-BD3D-51026235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2EB6-0AF9-4C3A-869B-C4CEE9C2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3FF5-B970-496B-984D-1C1F4CC2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DD8D-31F1-4ECD-8E6A-B4B12759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5CAD-6C5C-47AE-89D3-F128DA6D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E92A-73B2-49CF-B850-013BEC5B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1955-9D7F-448C-8931-CDAE5076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AEA1-D68D-45DA-AF87-CB8727F6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EA74-D0FB-4EA9-94C0-9A8248C990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971640" y="1125360"/>
            <a:ext cx="712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методики воспитательной работы, основные принципы деятельностного подхода, виды и приемы современных педагогических технолог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5003640" y="522936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педаг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пырева  Д.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83576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755640" y="836640"/>
            <a:ext cx="74883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Технология проектной деятельност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Развитие и обогащение социально-личностного опыта посредством включения детей в сферу межличностного взаимо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дагоги, активно использующие проектную технологию в воспитании и обучении дошкольников, единодушно отмечают, что организованная по ней жизнедеятельность в детском саду позволяет лучше узнать воспитанников, проникнуть во внутренний мир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3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179280" y="0"/>
            <a:ext cx="8713800" cy="65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Технология исследователь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тельской деятельности в детском саду — сформировать у дошкольников основ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ючевые компетенции, способность к исследовательскому типу мыш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оды и приемы организации экспериментально – исследовательской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вристические бес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ка и решение вопросов проблемного характ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лю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лирование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создание моделей об изменениях в неживой природ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ы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ксация результатов: наблюдений, опытов, экспериментов, трудов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погружение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в краски, звуки, запахи и образы прир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ражание голосам и звукам прир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художественного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дактические игры, игровые обучающие и творчески развивающие ситу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овые поручения, 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Содержимое 2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395280" y="765000"/>
            <a:ext cx="799308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держание познавательно- исследователь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пыты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экспериментирова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Коллекционирование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классификационная рабо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утешествие по кар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Путешествие по 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реке времен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324000" y="404640"/>
            <a:ext cx="835164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Технология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ТРИЗ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ИЗ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теория решения изобретательских задач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ая создана ученым-изобретателем Т.С. Альтшулле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 использует нетрадиционные формы работы, которые ставят ребенка в позицию думающего человека. Адаптированная к дошкольному возрасту ТРИЗ-технология позволит воспитывать и обучать ребенка под девизом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Творчество во всем!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Дошкольный возраст уникален, ибо как сформируется ребенок, такова будет и его жизнь, именно поэтому важно не упустить этот период для раскрытия творческого потенциала каждого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ю использования данной технологии в детском саду является развитие, с одной стороны, таких качеств мышления, как гибкость, подвижность, системность, диалектичность; с другой – поисковой активности, стремления к новизне; речи и творческого вообра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ая задача использования ТРИЗ — технологии в дошкольном возрасте – это привить ребенку радость творческих откры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3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395280" y="333360"/>
            <a:ext cx="820908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Информационно-коммуникационные технолог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р, в котором развивается современный ребенок, корен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м отличается от мира, в котором выросли его родители. Э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ъявляет качественно новые требования к дошкольному воспитанию как первому звену непрерывного образования: образования с использованием современных информационных технологий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компьютер, интерактивная доска, планшет и др.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Содержимое 2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395280" y="620640"/>
            <a:ext cx="8064360" cy="56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КТ в работе современного педаго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бор иллюстративного материала к занятиям и для оформления стендов, группы, кабинетов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сканирование, интернет, принтер, презента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бор дополнительного познавательного материала к занятиям, знакомство со сценариями праздников и других меропри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мен опытом, знакомство с периодикой, наработками других педагогов России и зарубеж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формление групповой документации, отчетов. Компьютер позволит не писать отчеты и анализы каждый раз, а достаточно набрать один раз схему и в дальнейшем только вносить необходимые изме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презентаций в программе Рower Рoint для повышения эффективности образовательных занятий с детьми и педагогической компетенции у родителей в процессе проведения родительских собр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3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611280" y="404640"/>
            <a:ext cx="792144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Личностно — ориентированная техн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остно-ориентированные технологии ставят в центр всей системы дошкольного образования личность ребенка, обеспечение комфортных условий в семье и дошкольном учреждении, бесконфликтных и безопасных условий ее развития, реализация имеющихся природных потенц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остно-ориентированная технология реализуется в развивающей среде, отвечающей требованиям содержания новых образовательных програм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мечаются попытки создания условий личностно-ориентированных взаимодействий с детьми в развивающем пространстве, позволяющей ребенку проявить собственную активность, наиболее полно реализовать себ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одержимое 2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395280" y="692280"/>
            <a:ext cx="8280360" cy="53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амках личностно-ориентированных технологий самостоятельными направлениями выде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Гуманно-личностные технологии, отличающиеся своей гуманистической сущностью психолого-терапевтической направленностью на оказание помощи ребенку с ослабленным здоровьем, в период адаптации к условиям дошкольного учре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Технология сотрудничества реализует принцип демократизации дошкольного образования, равенство в отношениях педагога с ребенком, партнерство в системе взаимоотношений 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Взрослый — ребенок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едагог и дети создают условия развивающей среды, изготавливают пособия, игрушки, подарки к праздникам. Совместно определяют разнообразную творческую деятельность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игры, труд, концерты, праздники, развлечен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3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324000" y="260280"/>
            <a:ext cx="8424720" cy="62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Технология проблемного обучения в детском са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ществуют четыре уровня проблемности в обуч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тель сам ставит проблему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задачу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 сам решает её при активном слушании и обсуждении дет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тель ставит проблему, дети самостоятельно или под его руководством находят решение. Воспитатель направляет ребёнка на самостоятельные поиски путей решения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частично-поисковый метод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ёнок ставит проблему, воспитатель помогает её решить. У ребёнка воспитывается способность самостоятельно формулировать пробл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ёнок сам ставит проблему и сам её решает. Воспитатель даже не указывает на проблему: ребёнок должен увидеть её самостоятельно, а увидев, сформулировать и исследовать возможности и способы её решения.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Исследовательский мето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тоге воспитывается способность самостоятельно анализир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ную ситуацию, самостоятельно находить правильный от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3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468360" y="333360"/>
            <a:ext cx="77040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 Технология портфолио дошк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тфолио — это копилка личных достижений ребенка в разнообразных видах деятельности, его успехов, положительных эмоций, возможность еще раз пережить приятные моменты своей жизни, это своеобразный маршрут развития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ществует ряд функций портфоли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агностическая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фиксирует изменения и рост за определенный период времени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ржательная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раскрывает весь спектр выполняемых работ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йтинговая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показывает диапазон умений и навыков ребенк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56000" y="442800"/>
            <a:ext cx="2232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3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179280" y="0"/>
            <a:ext cx="89647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новные методы воспи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ами воспитания называют пути взаимосвязанной деятельности педагога и воспитанников, направленной на достижение целей воспитания. Опыт показывает, что взаимодействие воспитателя с воспитуемыми может осуществляться по-разному, в частности пут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осредственного влияния на учеников (убеждение, нравоучение, требование, приказ, угроза, наказание, поощрение, личный пример, авторитет, просьба, совет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я специальных условий, ситуаций и обстоятельств, которые побуждают воспитанника изменить собственное отношение к чему-либо, выразить свою позицию, осуществить поступок, проявить характе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я общественного мнения (референтной для воспитанника группы или коллектива – школьного, студенческого, профессионального), а также мнения значимого для него челове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местной деятельности воспитателя и воспитанника (через общение и труд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ения или самообразования, передачи информации или социального опыта, осуществляемых в кругу семьи, в процессе межличностного или профессионального общ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гружения в мир народных традиций и фольклорного творчества, чтения художественной лит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Содержимое 3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611280" y="260280"/>
            <a:ext cx="813744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. Игровая технолог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ится как целостное образование, охватывающее определенную часть учебного процесса и объединенное общим содержанием, сюжетом, персонаж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ее включаются последователь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ы и упражнения, формирующие умение выделять основные, характерные признаки предметов, сравнивать, сопоставлять и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ы игр на обобщение предметов по определенным признак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ы игр, в процессе которых у дошкольников развивается умение отличать реальные явления от нереальн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ы игр, воспитывающих умение владеть собой, быстроту реакции на слово, фонематический слух, смекалку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одержимое 3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826920" y="549360"/>
            <a:ext cx="720108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. Технология разноуровневого обуче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педагогическая технология организации процесса, в рамках которого предполагается разный уровень усвоения учебного материала, то есть глубина и сложность одного и того же учебного материала различна в группах уровня А,Б, C, что дает возможность каждому воспитаннику овладевать учебным материалом на разном уровне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А, В, С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о не ниже базового, в зависимости от способностей и индивидуальных особенностей личности каждого воспитан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у технологии разноуровневого обучения составляют: психолого-педагогическая диагностика воспитанника; сетевое планирование; разноуровневый дидактический матери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3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900000" y="260280"/>
            <a:ext cx="755964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. Технология интегрированного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грированное занятие отличается от традиционного использованием межпредметных связей, предусматривающих лишь эпизодическое включение материала других предм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грирование — соединение знаний из разных образовательных областей на равноправной основе, дополняя друг друга. При этом решается несколько задач развития. В форме интегрированных занятий лучше проводить обобщающие занятия, презентации тем, итоговые заня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Содержимое 3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611280" y="549360"/>
            <a:ext cx="806436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1. Инклюзивное 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ключенное (инклюзивное) образование – процесс интеграции, подразумевающий доступность образования для всех и создание образовательного пространства, соответствующего различным потребностям всех обучаем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инклюзивного образования обеспечивает равные права, доступность, возможность выбора подходящего образовательного маршрута для любого ребенка вне зависимости от его физических и других возмож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Содержимое 3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684360" y="333360"/>
            <a:ext cx="777528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. Здоровьесберегающие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ю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оровьесберегающих технологий является обеспечение ребенку возможности сохранения здоровья, формирование у него необходимых знаний, умений, навыков по здоровому образу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оровьесберегающие педагогические технологии вклюсают все аспекты воздействия педагога на здоровье ребенка на разных уровнях – информационном, психологическом, био-энергетичес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95280" y="620280"/>
            <a:ext cx="8137440" cy="53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2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468360" y="260280"/>
            <a:ext cx="842472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яют три группы здоровьесберегающих технолог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Технологии сохранения и стимулирования здоровья: ритмопластика, динамические паузы, подвижные и спортивные игры, релаксация, технологии эстетической направленности, гимнастика пальчиковая, гимнастика для глаз, гимнастика дыхательная, гимнастика корригирующая, гимнастика ортопедическ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Технологии обучения здоровому образу жизни: коммуникативные игры, беседы из серии «Здоровье», самомассаж, точечный самомасса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Коррекционные технологии: арттерапия, технологии музыкального воздействия, сказкотерапия, технологии воздействия цветом, технологии коррекции поведения, психогимнастика, фонетическая и логопедическая ритм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Содержимое 2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3"/>
          <p:cNvSpPr/>
          <p:nvPr/>
        </p:nvSpPr>
        <p:spPr>
          <a:xfrm>
            <a:off x="1042920" y="1341360"/>
            <a:ext cx="7058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з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-25560" y="0"/>
            <a:ext cx="91695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50920" y="189000"/>
            <a:ext cx="8713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истеме методов воспитания существует нескольк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ификац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ыделяемых по различным основа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 По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арактеру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ействия на личность воспитанн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 убежде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упражне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поощре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наказ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 По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сточнику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ействия на личность воспитанник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словесны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проблемно-ситуативны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методы приучения и упражн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методы стимулиров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) методы тормо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) методы руководст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) методы самовос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 По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езультатам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ействия на личность воспитанника выделяются мето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влияющие на нравственные установки, мотивы, отношения, формирующие представления, понятия, иде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влияющие на привычки, определяющие тип по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42560" y="214200"/>
            <a:ext cx="85438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2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324000" y="549360"/>
            <a:ext cx="8064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 По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правленности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ействия на личность воспитанника методы воспитания делятся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формирующие мировоззрение и осуществляющие обмен информац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 организующие деятельность и стимулирующие мотивы поведения; в) оказывающие помощь воспитанникам и направленные на оценку их поступ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инарные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ы, предполагающие выделение пар методов «воспитания – самовоспитания». Это методы воздейств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на интеллектуальную сферу (убеждение – самоубежд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мотивационную сферу (стимулирование (поощрение и наказание) –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тивация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эмоциональную сферу (внушение – самовнуш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волевую сферу (требование – упражн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) сферу саморегуляции (коррекция поведения – самокоррекц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) предметно-практическую сферу (воспитывающие ситуации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ые пробы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) экзистенциальную сферу (метод дилемм – рефлекс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1000" y="213840"/>
            <a:ext cx="720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4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6"/>
          <p:cNvSpPr/>
          <p:nvPr/>
        </p:nvSpPr>
        <p:spPr>
          <a:xfrm>
            <a:off x="179280" y="0"/>
            <a:ext cx="878544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нципы деятельностного подх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деятельностным подходом понимают такой способ организации учебно-познавательной деятельности обучаемых, при котором они являются не пассивными «приёмниками» информации, а сами активно участвуют в учебном проце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деятельностного подхода является воспитание личности ребенка как субъекта жизнедеятельности. Быть субъектом – быть хозяином своей деятельности: ставить цели, решать задачи, отвечать за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т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ного подхода в обучении состоит в направлении «всех педагогических мер на организацию интенсивной, постоянно усложняющейся деятельности, ибо только через собственную деятельность человек усваивает науку и культуру, способы познания и преобразования мира, формирует и совершенствует личностные качест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ятельностного подхода раскрывается в принципе деятельности, который  можно охарактеризовать  китайской мудростью «Я слышу – я забываю, я вижу – я запоминаю, я делаю – я усваиваю». Еще Сократ говорил о том, что научиться играть на флейте можно только, играя  самому.  Точно также способности учащихся формируются лишь тогда, когда они  включены в самостоятельную учебно-познавательную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Содержимое 4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79280" y="0"/>
            <a:ext cx="878544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ализация деятельностного подхода  в практике препода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спечивается следующей системой дидактических принцип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 Принцип деятельности– заключается в том, что ученик, получая знания не в готовом виде, а, добывая их сам, осознает при этом содержание и      формы своейучебной деятельности,  что способствует успешному формированию его способностей, общеучебных умений. Об этом принципе мы поговорим подроб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 Принцип непрерывности – означает преемственность между всеми ступенямии этапами обучения с учетом возрастных психологических особенностей развития детей. Непрерывность процесса обеспечивает инвариантностью технологии, а также преемственностью между всеми ступенями обучения содержания и метод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 Принцип целостности– предполагает формирование учащимися системного представления о мире, о роли и месте каждой науки в системе наук. У ребёнка должно быть сформировано обобщённое, целостное представление о мире (природе — обществе — самом себе), о роли и месте каждой науки в системе нау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 Принцип минимакса– заключается в следующем: школа должна предложить ученику возможность освоения содержания образования на максимальном для него уровне  и обеспечить при этом его усвоение на уровне социально безопасного минимума (государственного стандарта знани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Содержимое 3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250920" y="189000"/>
            <a:ext cx="87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)   Принцип психологической комфортности– предполагает снятие всех                     стрессообразующих факторов учебного процесса, создание  на уроках доброжелательной атмосферы, развитие диалоговых форм об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)  Принцип вариативности– предполагает формирование учащимися     способностей к адекватному принятию решений в ситуациях выбора, развитие у учащихся вариативного мышления, то есть понимания возможности различных вариантов решения проблемы, формирование способности к систематическому перебору вариантов и выбору оптимального вариа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)  Принцип творчества– означает максимальную ориентацию на творческое начало в образовательном процессе, приобретение ими собственного опыта творческой деятельности. Еще Л.С. Выготский в замечательной книге «Педагогическая психология», опередившей свое время как минимум лет на 60, говорил о том, что в новой педагогике жизнь «раскрывается как система творчества… Каждая наша мысль, каждое наше движение и переживание являются стремлением к созданию новой действительности, прорывом вперед к чему-то новому». Для этого и сам процесс учения должен быть творческим. Он должен звать ребенка из «ограниченной и уравновешенной, устоявшейся абстракции к новому, еще не оцененном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5480" y="42840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14200" y="1785960"/>
            <a:ext cx="842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     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468360" y="404640"/>
            <a:ext cx="835164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временные педагогические технологии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стоящее время в педагогический лексикон прочно вошло понятие педагогической технологии. Технология – это совокупность приемов, применяемых в каком-либо деле, мастерстве, искусстве (толковый словарь). Есть множество определений понятия «педагогическая технология». Мы изберем следующее: это такое построение деятельности педагога, в которой все входящие в него действия представлены в определенной последовательности и целостности, а выполнение предполагает достижение необходимого результата и имеет прогнозируемый харак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28400" y="428760"/>
            <a:ext cx="8258040" cy="60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395280" y="260280"/>
            <a:ext cx="828036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числу современных образовательных технологий можно отне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проект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исследователь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ТРИЗ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онно-коммуникационные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но — ориентированная 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проблемного обучения в детском с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портфолио дошк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овая 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разноуровневого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интегрированного 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клюзивное 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3T10:48:43Z</dcterms:created>
  <dc:creator>Александр</dc:creator>
  <dc:description/>
  <dc:language>en-US</dc:language>
  <cp:lastModifiedBy>User</cp:lastModifiedBy>
  <dcterms:modified xsi:type="dcterms:W3CDTF">2023-02-01T08:04:37Z</dcterms:modified>
  <cp:revision>44</cp:revision>
  <dc:subject/>
  <dc:title>Слайд 1</dc:title>
</cp:coreProperties>
</file>