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МБДОУ «Детский сад № 86 «Сударушка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"/>
          <p:cNvSpPr/>
          <p:nvPr/>
        </p:nvSpPr>
        <p:spPr>
          <a:xfrm>
            <a:off x="1600200" y="129528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d4d4d"/>
                </a:solidFill>
                <a:latin typeface="Microsoft Sans Serif"/>
              </a:rPr>
              <a:t>Организация  работы  по  патриотическому  воспитанию  на музыкальных занятиях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Microsoft Sans Serif"/>
              </a:rPr>
              <a:t>    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Подготовила: 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Гракова Алеся Станиславов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Дети знакомятся с символами государства- герб, гимн, флаг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129528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Разучивается песня «Флаг России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Дети слушают и подпевают Гимн России, знакомятся с историей создан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291780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Знакомство с русскими  народными  инструментами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1143000"/>
            <a:ext cx="7315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Балалайка    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Трещетк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гармошк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52680" y="1143000"/>
            <a:ext cx="1579680" cy="2106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67280" y="1143000"/>
            <a:ext cx="286236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581280" y="4038480"/>
            <a:ext cx="25956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Важное  место в работе с детьми занимает тема «Великой Победы»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1295280"/>
            <a:ext cx="7315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Дети знакомятся  с произведениями  военных  лет, а также с произведениями  современных  авторов на  военную  тематику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Обязательно принимают  участие в празднике «9 МАЯ – ДЕНЬ ПОБЕДЫ», с удовольствием исполняют песни и танцевальные композиции на военную тематику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52480" y="3581280"/>
            <a:ext cx="3727440" cy="279720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867280" y="3581280"/>
            <a:ext cx="2819520" cy="26672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В детском  саду  проводятся  праздники, имеющие  патриотическое  направление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143000"/>
            <a:ext cx="7315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ДЕНЬ  РОССИ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                                   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МАСЛЕНИЦ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1812960" cy="241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3168720" cy="237816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В детском  саду  проводятся  праздники, имеющие  патриотическое  направление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ДЕНЬ КОСМОНАВТИКИ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ДЕНЬ  ПОБЕДЫ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2795760" cy="2071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27432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                            </a:t>
            </a: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Было  создано и разработано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066680"/>
            <a:ext cx="7315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Проекты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Ложки  деревянные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Масленица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Русская  балалайка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Мой  любимый  город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Здравствуй,  русская  песня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Гражданско-патриотическое воспитание детей старшего дошкольного  возраста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Музыка  Великой  Победы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Дидактические игры 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Символы  России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Собери  матрешку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Вот какая  балалайка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Теремок», «Колобок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ПРИОБРЕТЕНЫ  И ВЫПОЛНЕНЫ ЛЭПБУКИ: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29528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  РОДНАЯ  КОЛЫБЕЛЬ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  ВЕЩИ  ФРОНТОВИКА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АХ, КАКАЯ  МАСЛЕНИЦА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НАШИ  ДОСТИЖЕН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29528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Фестиваль   «Играй, оркестр»  - 3 место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Фестиваль «Я помню, я горжусь» – 3  место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76520" y="380880"/>
            <a:ext cx="7315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d4d4d"/>
                </a:solidFill>
                <a:latin typeface="Microsoft Sans Serif"/>
              </a:rPr>
              <a:t>     </a:t>
            </a:r>
            <a:r>
              <a:rPr b="0" lang="ru-RU" sz="2200" spc="-1" strike="noStrike">
                <a:solidFill>
                  <a:srgbClr val="4d4d4d"/>
                </a:solidFill>
                <a:latin typeface="Microsoft Sans Serif"/>
              </a:rPr>
              <a:t>Как известно, суть нравственно-патриотического  воспитания  состоит  в том, чтобы  пробудить в детской  душе  семена  любви к родной  природе, к родному  дому и семье, к истории  и  культуре  страны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1828800"/>
            <a:ext cx="7086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Невозможно  переоценить роль  музыки  в нравственно-патриотическом  воспитании дошкольников. Ярко выплеснуть  свои эмоции, выразить  свое  отношение  к  тому уголку Родины, в котором он живет, ребенку  помогают обстановка  праздников и развлечений. Помимо этого  формирование таких качеств как  коллективизм, любовь к своему дому, бережное  отношение к природе, постоянно осуществляется  и в непосредственной образовательной музыкальной деятельност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76520" y="3049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Процесс воспитания  чувства патриотизма на музыкальных занятиях можно разбить на три блока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4479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Знакомство  детей  с произведениями  русских  классиков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Музыкальный  фольклор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Творчество  современных  композиторов, пишущих  для  детей (так называемая  детская  музык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57720" y="3651120"/>
            <a:ext cx="340056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Microsoft Sans Serif"/>
              </a:rPr>
              <a:t>Занятия  включают  в  себя определенное  содержани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447920"/>
            <a:ext cx="7315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Народный  календарь, народные  обычаи и обряды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быт, уклад  жизни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4d4d4d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жанры  литературного  фолькло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Microsoft Sans Serif"/>
              </a:rPr>
              <a:t>И  виды  музыкальной  деятельности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1.Слушание музыкальных произведений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2.пение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3.народная  хореография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4. музыкально – фольклорные  игры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5.театрализац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51680" y="4187880"/>
            <a:ext cx="277956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Приобщение  детей  к национально-культурным  традициям  начинается уже  в младшем  возрасте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295280"/>
            <a:ext cx="7315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Дети  знакомятся  с  малыми  формами фолькло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Это  потешки, пестушки, прибаутки, песенки,сказк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Они присутствуют не только непосредственно в музыкальной  деятельности, но и сопровождают  детей в режимных  моментах, а также в повседневной  жизн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Например, р.н.п. «Заинька», хороводный танец «Заинька, попляши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В режимных моментах используются потешки при умывании детей, причесывании, укладывании  спать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1295280"/>
            <a:ext cx="7315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Водичка, водичка, умой  мое  личико…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 Расти коса  до  пояса…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« Баю, баюшки, баю….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2851200" cy="160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562720" y="2590920"/>
            <a:ext cx="238896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733920" y="4419720"/>
            <a:ext cx="278604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3808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В младшем возрасте  происходит знакомство детей с народными музыкальными инструментами- деревянные  ложки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129528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       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Дети  учатся  разным  способам  извлечения  звук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Мною специально для  этого  был  разработан  проект для  малышей «Ложки  деревянные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52760" y="3121200"/>
            <a:ext cx="3479760" cy="552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562720" y="2971800"/>
            <a:ext cx="220968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Так же в младшей группе  дети  знакомятся с народными игрушками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295280"/>
            <a:ext cx="7315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МАТРЕШК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НЕВАЛЯШК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27892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57800" y="4343400"/>
            <a:ext cx="2590920" cy="196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828800" y="1600200"/>
            <a:ext cx="1982880" cy="1982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224760" y="1292400"/>
            <a:ext cx="2711160" cy="47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Microsoft Sans Serif"/>
              </a:rPr>
              <a:t>С детьми  старшего дошкольного возраста  работа  по  патриотическому  воспитанию  строится по темам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1295280"/>
            <a:ext cx="7315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Дети знакомятся с историей родного города, его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символами, музыкой  смоленских композиторов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09680" y="2362320"/>
            <a:ext cx="229716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791320" y="2209680"/>
            <a:ext cx="159516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19720" y="4267080"/>
            <a:ext cx="2133360" cy="23227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Пользователь Windows</cp:lastModifiedBy>
  <dcterms:modified xsi:type="dcterms:W3CDTF">2022-03-28T17:31:26Z</dcterms:modified>
  <cp:revision>47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