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9F4-A9A9-4B55-8486-C6F14C8F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768-E895-4CCF-A061-F9E46BFF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3A8-9D50-4CCE-B1F9-7B693C77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500-5A6D-4964-B60E-2940E0A6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33A-2CC4-4DDE-A0DD-60C5C3E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81E-A9A2-46CF-A035-92F342C5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D3F-E52B-40FE-A8B5-6E64DA1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C02-6946-4CA7-A194-981D506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7A7-84C8-48AE-BF2B-97927C17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B06-1C11-46E6-9E3F-933951A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5E4-30BE-4E3C-A339-029C072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56F-EAD5-4C2F-A45A-8192916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3AA-5646-4D4D-91E5-3B2E061ED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1571760" y="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447920" y="2786040"/>
            <a:ext cx="3898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988280" y="6032520"/>
            <a:ext cx="28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566440" y="5715000"/>
            <a:ext cx="193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990720" y="1357200"/>
            <a:ext cx="5581440" cy="4251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004480" y="7086600"/>
            <a:ext cx="29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857160" y="1600200"/>
            <a:ext cx="546732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064600" y="6032520"/>
            <a:ext cx="28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857160" y="2071800"/>
            <a:ext cx="579132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785880" y="2286000"/>
            <a:ext cx="5614920" cy="3357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000160" y="7086600"/>
            <a:ext cx="368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1143000" y="1371600"/>
            <a:ext cx="5181480" cy="3670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340720" y="5715000"/>
            <a:ext cx="234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1357200" y="1600200"/>
            <a:ext cx="4967280" cy="439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914400" y="7010280"/>
            <a:ext cx="48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411560" y="6019920"/>
            <a:ext cx="415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00120" y="714240"/>
            <a:ext cx="3783240" cy="5105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614680" y="614376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857160" y="2819520"/>
            <a:ext cx="565956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571760" y="857160"/>
            <a:ext cx="3978000" cy="5639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758960" y="6715080"/>
            <a:ext cx="331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80880" y="7162920"/>
            <a:ext cx="57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785880" y="3200400"/>
            <a:ext cx="561492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305440" y="7086600"/>
            <a:ext cx="232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342520" y="7086600"/>
            <a:ext cx="20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1000080" y="1676520"/>
            <a:ext cx="54007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894320" y="716292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1285920" y="1143000"/>
            <a:ext cx="480996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422800" y="716292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1071720" y="2286000"/>
            <a:ext cx="53290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701800" y="70009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1143000" y="1857240"/>
            <a:ext cx="546732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057400" y="5715000"/>
            <a:ext cx="26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811080" y="1714680"/>
            <a:ext cx="5761080" cy="3632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878480" y="7086600"/>
            <a:ext cx="30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Людмилка</cp:lastModifiedBy>
  <dcterms:modified xsi:type="dcterms:W3CDTF">2013-04-22T12:17:18Z</dcterms:modified>
  <cp:revision>11</cp:revision>
  <dc:subject/>
  <dc:title>Заголовок слайда отсутствует</dc:title>
</cp:coreProperties>
</file>