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800B-4145-4D6C-B003-E1456BB6A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F550-92EF-440E-B17C-D530CB2D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294E-A6AD-4427-8F51-B08217767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1612-EA02-4D93-AAED-83F31E9A7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36CDA-CBEA-420C-8E0D-5BC0024D0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BB17-4981-4070-B43B-577715BC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8E76-52D5-4D75-8F63-3FF13D01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AF437-BA8E-4489-A443-AAF3C9D3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006B-693F-4B60-BD9D-51B27B1C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A7C1-3967-4EF7-BCC6-449D68CE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CFCD-B0CE-42D2-9501-3945C238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460E-50BA-43EC-9ACA-E73F6B33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9DD7F-86A6-4829-AD97-8ADACDD5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EE2B-25A7-4E40-816E-8572411C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52F7-74D4-4445-8126-7505A6B0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8475-48D2-4903-984A-48351C308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7B5D-2EB4-4E18-AFA2-C9EAB25EF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5788-2254-4D82-B1E1-C1E089C1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D3A8-1CEF-4451-BD17-367D7ACF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7D02-BF6B-4614-B687-390FA6F6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BCBD-D6EA-4F1A-BEA5-EC241294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5877-C9B9-4830-B1EF-60CF7BA9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F392-5DC9-4E38-8A42-12A68243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4F81-4AE5-46A9-A1DA-077240BB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E94B-39A9-46F0-97A2-8705A33683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1ad1f4399543.png"/>
          <p:cNvPicPr/>
          <p:nvPr/>
        </p:nvPicPr>
        <p:blipFill>
          <a:blip r:embed="rId3"/>
          <a:srcRect l="71498" t="9752" r="4355" b="72352"/>
          <a:stretch/>
        </p:blipFill>
        <p:spPr>
          <a:xfrm>
            <a:off x="2643120" y="2357280"/>
            <a:ext cx="6072120" cy="4500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1874-04F5-4DC3-B857-BCEB4D095D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ст «Страницы всемирной истори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4 класс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Выполнила учитель начальных классов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Васина С.С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468360" y="404640"/>
            <a:ext cx="867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Какие государства древнего мира ты знаеш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468360" y="260280"/>
            <a:ext cx="84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На какие эпохи учёные делят историю человечеств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611280" y="333360"/>
            <a:ext cx="8281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ы на тес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-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-Древний Египет, Древняя Греция, Древний Р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Первобытная история, история Древнего мира. история Средних веков, история Нового времени, история Новейшего врем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2"/>
          <p:cNvSpPr/>
          <p:nvPr/>
        </p:nvSpPr>
        <p:spPr>
          <a:xfrm>
            <a:off x="324000" y="260280"/>
            <a:ext cx="806436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открыл Америк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Х. Колумб;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Ф. Магеллан;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М. Лазарев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Ж. Вер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539640" y="404640"/>
            <a:ext cx="84250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"/>
          <p:cNvSpPr/>
          <p:nvPr/>
        </p:nvSpPr>
        <p:spPr>
          <a:xfrm>
            <a:off x="539640" y="189000"/>
            <a:ext cx="860436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эпоха в истории человечества является самой коротко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История древнего ми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история средних век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история Новейшего времен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395280" y="333360"/>
            <a:ext cx="835344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еликий путешественник, который доказал, что Земля имеет форму шар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‎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‎ Фаддей Беллинсгаузен‎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‎ Михаил Лазаре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Фернан Магелла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Иосиф Лазар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395280" y="-6480"/>
            <a:ext cx="856944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собые знаки в Древнем Египте - эт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букв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циф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иероглиф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знак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395280" y="333360"/>
            <a:ext cx="842472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Книгопечатание появилос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в средневековь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в Новое врем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в Древнем Египт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в Инд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324000" y="260280"/>
            <a:ext cx="849600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Какие мероприятия проводились в римском амфитеатр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гладиаторские бо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театральные предста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конные бег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прыжки с бату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395280" y="189000"/>
            <a:ext cx="8424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С какого года мы ведем отсчет исторической эпохе – Новейшее врем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192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191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181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19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395280" y="0"/>
            <a:ext cx="874872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Какая эпоха в истории человечества была самой долго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средние 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Новейшее врем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Первобытная исто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Новое врем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14:27:14Z</dcterms:created>
  <dc:creator>Helen</dc:creator>
  <dc:description/>
  <dc:language>en-US</dc:language>
  <cp:lastModifiedBy>Пользователь Windows</cp:lastModifiedBy>
  <dcterms:modified xsi:type="dcterms:W3CDTF">2023-02-01T16:21:31Z</dcterms:modified>
  <cp:revision>8</cp:revision>
  <dc:subject/>
  <dc:title>Слайд 1</dc:title>
</cp:coreProperties>
</file>