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B97-A530-4748-81B4-0AE8CCC1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486-DF48-4D26-BD8D-02BAB4B5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29C-982F-4988-AEA4-54641963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348-05FD-49FD-9957-AE9E3E8E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5CBB-35B9-4E65-8EBE-FCBC5EDC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65B0-6A51-4F20-88AB-D8649BDB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6832-AC12-44B4-AACC-08F9C40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AEF7-6377-463A-BF81-2948F30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3B7-DCBC-467C-906B-D8E18B32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888A-DF61-42F8-B12A-668ED2D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C3D5-AF1E-48C0-9342-2A9F2B4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E20-4B30-496B-B96A-294A673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61B-26F1-4DAC-BEB2-203F0DE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434-BDAB-4C93-ADBB-8CEE025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AE94-F055-4EAF-91A6-0757D81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046-DBB7-4627-9FAE-833D8370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0ADD-A555-459A-9F26-AD9AE445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BDD-6BB0-4437-A655-E0C2B7D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464-9C5F-4552-B850-7C2C0655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348-68F0-405E-9C2D-6AC0AE68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12C-8D3A-4668-9C96-661BE257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3EA-EDE9-4F67-AEB0-8F4B400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AB9-853C-468B-9FAE-056C8C8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DF0-F0C6-484F-AA05-8E34AFE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B1A-2F3B-4222-8A24-85F0FF8FA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ad1f4399543.png"/>
          <p:cNvPicPr/>
          <p:nvPr/>
        </p:nvPicPr>
        <p:blipFill>
          <a:blip r:embed="rId3"/>
          <a:srcRect l="71498" t="9752" r="4355" b="72352"/>
          <a:stretch/>
        </p:blipFill>
        <p:spPr>
          <a:xfrm>
            <a:off x="2643120" y="2357280"/>
            <a:ext cx="6072120" cy="450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1987-4747-4D0F-A856-DDFF3AA82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«Страницы всемирной истор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4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ыполнила учитель начальных класс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асина С.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68360" y="40464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ие государства древнего мира ты знаеш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68360" y="260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 какие эпохи учёные делят историю человече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11280" y="333360"/>
            <a:ext cx="8281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Древний Египет, Древняя Греция, Древний 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Первобытная история, история Древнего мира. история Средних веков, история Нового времени, история Новейш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324000" y="260280"/>
            <a:ext cx="8064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ткрыл Амер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Х. Колумб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. Магеллан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. Лазаре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Ж. Вер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404640"/>
            <a:ext cx="842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539640" y="189000"/>
            <a:ext cx="86043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эпоха в истории человечества является самой коротк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стория древнего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стория средних ве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стория Новейшего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5280" y="333360"/>
            <a:ext cx="8353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ликий путешественник, который доказал, что Земля имеет форму ша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‎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‎ Фаддей Беллинсгаузен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‎ Михаил Лазар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Фернан Магел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осиф Лазар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95280" y="-6480"/>
            <a:ext cx="8569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обые знаки в Древнем Египте -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циф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ерогли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зна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95280" y="333360"/>
            <a:ext cx="8424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нигопечатание появилос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средневеков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Ново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Древнем Егип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 Инд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24000" y="260280"/>
            <a:ext cx="84960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кие мероприятия проводились в римском амфитеатр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ладиаторские бо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еатральные предста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нные бег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ыжки с бату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95280" y="18900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 какого года мы ведем отсчет исторической эпохе – Новейшее вре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9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9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8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19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0"/>
            <a:ext cx="87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ая эпоха в истории человечества была самой долг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овейше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ервобытная 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4:27:14Z</dcterms:created>
  <dc:creator>Helen</dc:creator>
  <dc:description/>
  <dc:language>en-US</dc:language>
  <cp:lastModifiedBy>Пользователь Windows</cp:lastModifiedBy>
  <dcterms:modified xsi:type="dcterms:W3CDTF">2023-02-01T16:21:31Z</dcterms:modified>
  <cp:revision>8</cp:revision>
  <dc:subject/>
  <dc:title>Слайд 1</dc:title>
</cp:coreProperties>
</file>