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170-529B-4B61-8B11-ED1EB33E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828-B1CA-42CF-BC0D-A39CDB3A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72A-B47F-448E-807C-B647DD20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F27-B11B-4DF5-83F4-A350DCED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111-6460-440C-8262-19BB819A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38F-4F01-470D-ABB2-B65B002B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5F4-EB4F-48A7-A873-98F5237E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D83-9984-4540-A5B2-672696C5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07C-E339-49EC-945F-B39B0086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1D8-8CBE-4602-BC48-E2F532EB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840-E46D-48E5-831D-546A195D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DEB-76AE-4FEC-8AA7-137BD267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ff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1C68-B78D-4C18-9F7A-3B0316855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91856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«ВЛИЯНИЕ НАРУШЕНИЙ РАЗВИТИЯ РЕЧИ РЕБЕНКА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НА РОДИТЕЛЕЙ»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360" y="4365360"/>
            <a:ext cx="60832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учитель-логоп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МБДОУ «ДСКВ № 118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Кунике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льг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мь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социум, в котором ребенок не только живет, но в котором формируются его нравственные качества, отношение к миру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511404945"/>
          <p:cNvPicPr/>
          <p:nvPr/>
        </p:nvPicPr>
        <p:blipFill>
          <a:blip r:embed="rId1"/>
          <a:srcRect l="1096" t="0" r="0" b="9499"/>
          <a:stretch/>
        </p:blipFill>
        <p:spPr>
          <a:xfrm>
            <a:off x="1476360" y="2608200"/>
            <a:ext cx="6594480" cy="406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6804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амого рождения каждый человек для своего нормального развития долгое время нуждается не только в уходе и удовлетворении своих физических потребностей в пище, тепле, безопасности, но и в общении с близкими, любящими его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3276720" y="3355920"/>
            <a:ext cx="565128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е нарушение речи или ее полное отсутствие является предпосылкой к возникновению коммуникативного барьера, отчужденности и отгороженности в родительско-детских отнош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76244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5ba2941e119c58c207716b692911263e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395280" y="878040"/>
            <a:ext cx="8353440" cy="5195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13744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ние малыша с отклонениями в развитии, независимо от характера и сроков его заболевания или травмы, нарушает весь ход жизни семьи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8928000" cy="664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7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родителей к речевому дефекту ребенка зависит от многих фактор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075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сть речевого нару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осведомленности родителей в области логопедии (знание о специфике того или иного нарушения речи, и речевого нарушения собственного ребе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умственных способностей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харак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семейные отно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зиц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дителей по отношению к речевому дефект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 адекватной позицией по отношению к нарушению речи ребен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 неадекватной позици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61ec0657ad67d758e6b081e89c781741"/>
          <p:cNvPicPr/>
          <p:nvPr/>
        </p:nvPicPr>
        <p:blipFill>
          <a:blip r:embed="rId1"/>
          <a:stretch/>
        </p:blipFill>
        <p:spPr>
          <a:xfrm>
            <a:off x="5148360" y="3645000"/>
            <a:ext cx="387972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и с недостатками речев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6156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речевого развития ребенка выступают как фактор, снижающий возможности социального общения ребенка. Такой ребенок может рассматриваться родителями как имеющий меньшие социальные перспективы в будущ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9298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облемы семьи с ребенком с нарушением речи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79280" y="1500120"/>
            <a:ext cx="87854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зкий уровень психолого-педагогических знаний родител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стные особенности родител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выражаются в непринятии ребенка и его проб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возможность родителей преодолеть стереотипы общест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ности внутри семь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ы с непониманием родителями роли отца и матери, несовместимость нравственных позиций родителей, неорганизованный быт, состояние собственного здоровья, материальные проблемы и загруженность на работ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15:04:01Z</dcterms:created>
  <dc:creator>наталья</dc:creator>
  <dc:description/>
  <dc:language>en-US</dc:language>
  <cp:lastModifiedBy>ЭМ</cp:lastModifiedBy>
  <dcterms:modified xsi:type="dcterms:W3CDTF">2023-02-01T02:47:17Z</dcterms:modified>
  <cp:revision>22</cp:revision>
  <dc:subject/>
  <dc:title>Семейное воспитание детей с отклонениями в развитии</dc:title>
</cp:coreProperties>
</file>