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D51-FA5B-4763-B684-6EF9E752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B0E-4938-42C6-8EA8-E5E30F6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6DF-0E34-454A-B84D-A9061D0E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AF2-65A8-46C6-8755-B8F9923D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4A1-888B-43BA-8186-DD07B4FA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5C1-2201-4FD2-A860-77B500A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709-DBDC-452F-8D1A-A8649C2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380-EF32-473E-B9FC-6BF1F1D0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461-C4E0-457F-B62B-BDC87F3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94E-987F-410C-A646-79D9A03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70A-1E46-4045-B3AF-7B8D5F2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401-CD74-4026-8AB5-2EDB39A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273-E7B3-4AF4-A9BE-F7E3E66A5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9185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ВЛИЯНИЕ НАРУШЕНИЙ РАЗВИТИЯ РЕЧИ РЕБЕНКА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А РОДИТЕЛЕЙ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360" y="4365360"/>
            <a:ext cx="60832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БДОУ «ДСКВ № 11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унике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льг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оциум, в котором ребенок не только живет, но в котором формируются его нравственные качества, отношение к миру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11404945"/>
          <p:cNvPicPr/>
          <p:nvPr/>
        </p:nvPicPr>
        <p:blipFill>
          <a:blip r:embed="rId1"/>
          <a:srcRect l="1096" t="0" r="0" b="9499"/>
          <a:stretch/>
        </p:blipFill>
        <p:spPr>
          <a:xfrm>
            <a:off x="1476360" y="2608200"/>
            <a:ext cx="6594480" cy="406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804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го рождения каждый человек для своего нормального развития долгое время нуждается не только в уходе и удовлетворении своих физических потребностей в пище, тепле, безопасности, но и в общении с близкими, любящими его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3276720" y="3355920"/>
            <a:ext cx="565128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е нарушение речи или ее полное отсутствие является предпосылкой к возникновению коммуникативного барьера, отчужденности и отгороженности в родительско-детских отнош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76244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5ba2941e119c58c207716b692911263e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95280" y="878040"/>
            <a:ext cx="8353440" cy="5195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137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малыша с отклонениями в развитии, независимо от характера и сроков его заболевания или травмы, нарушает весь ход жизни семьи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928000" cy="664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родителей к речевому дефекту ребенка зависит от многих факто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075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сть речевого нару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сведомленности родителей в области логопедии (знание о специфике того или иного нарушения речи, и речевого нарушения собственного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умственных способностей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семейны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зиц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ей по отношению к речевому дефект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 адекватной позицией по отношению к нарушению речи ребен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 неадекватной пози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1ec0657ad67d758e6b081e89c781741"/>
          <p:cNvPicPr/>
          <p:nvPr/>
        </p:nvPicPr>
        <p:blipFill>
          <a:blip r:embed="rId1"/>
          <a:stretch/>
        </p:blipFill>
        <p:spPr>
          <a:xfrm>
            <a:off x="5148360" y="3645000"/>
            <a:ext cx="387972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с недостатками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6156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речевого развития ребенка выступают как фактор, снижающий возможности социального общения ребенка. Такой ребенок может рассматриваться родителями как имеющий меньшие социальные перспективы в буду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929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блемы семьи с ребенком с нарушением речи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79280" y="1500120"/>
            <a:ext cx="8785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ий уровень психолого-педагогических знаний родит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ые особенности родит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ыражаются в непринятии ребенка и его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озможность родителей преодолеть стереотипы общ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ти внутри семь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ы с непониманием родителями роли отца и матери, несовместимость нравственных позиций родителей, неорганизованный быт, состояние собственного здоровья, материальные проблемы и загруженность на рабо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5:04:01Z</dcterms:created>
  <dc:creator>наталья</dc:creator>
  <dc:description/>
  <dc:language>en-US</dc:language>
  <cp:lastModifiedBy>ЭМ</cp:lastModifiedBy>
  <dcterms:modified xsi:type="dcterms:W3CDTF">2023-02-01T02:47:17Z</dcterms:modified>
  <cp:revision>22</cp:revision>
  <dc:subject/>
  <dc:title>Семейное воспитание детей с отклонениями в развитии</dc:title>
</cp:coreProperties>
</file>