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8.gif" ContentType="image/gif"/>
  <Override PartName="/ppt/media/image27.gif" ContentType="image/gif"/>
  <Override PartName="/ppt/media/image5.jpeg" ContentType="image/jpeg"/>
  <Override PartName="/ppt/media/image32.gif" ContentType="image/gif"/>
  <Override PartName="/ppt/media/image20.png" ContentType="image/png"/>
  <Override PartName="/ppt/media/image7.jpeg" ContentType="image/jpeg"/>
  <Override PartName="/ppt/media/image4.jpeg" ContentType="image/jpeg"/>
  <Override PartName="/ppt/media/image2.png" ContentType="image/png"/>
  <Override PartName="/ppt/media/image8.jpeg" ContentType="image/jpeg"/>
  <Override PartName="/ppt/media/image13.png" ContentType="image/png"/>
  <Override PartName="/ppt/media/image18.png" ContentType="image/png"/>
  <Override PartName="/ppt/media/image25.gif" ContentType="image/gif"/>
  <Override PartName="/ppt/media/image6.jpeg" ContentType="image/jpeg"/>
  <Override PartName="/ppt/media/image10.png" ContentType="image/png"/>
  <Override PartName="/ppt/media/image31.gif" ContentType="image/gif"/>
  <Override PartName="/ppt/media/image12.png" ContentType="image/png"/>
  <Override PartName="/ppt/media/image11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17.png" ContentType="image/png"/>
  <Override PartName="/ppt/media/image24.gif" ContentType="image/gif"/>
  <Override PartName="/ppt/media/image2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27D-C858-4524-8F5A-4C20DAB4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3B1-F893-4E6D-91D2-823387EE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0A608-DF31-4E82-B624-2B973482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91471-BE71-454D-98B8-6AD7C0EB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65190-6520-4473-9840-083C2259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8B532-924E-49EB-BB98-FD176D5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C5711-068E-458F-BE35-FCFFDAD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43945-878A-4EAE-AAFC-078977F5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39723-8207-4E99-878F-A18F0734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A3360-4298-4960-B035-41B59D78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CBCCF-0BDA-44CA-BB52-5651CB66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D7114-B54F-4D4A-9835-5EF48C05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A24-FAFB-42A0-A1D4-1F85D61D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D6B31-493C-47CD-90A1-1DFA9406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57591-64D9-4CB6-AF7E-7594D33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E5F65-5124-468F-A23B-4BB83CEC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E70AE-EB89-4262-B3E2-48CC1697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99BCE-9936-4E74-84F8-80D6E3DC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F59B2-7C04-4E2A-8BBE-826D8E3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B17B9-E134-4BE2-AD0E-1566C02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C5CB9-51D2-43C4-8BA9-A5C0E1BE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0CAA1-7C86-4E1E-ACE4-0C01212F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79660-D134-45D6-807D-3FF52E3A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646-F45F-44D0-A538-7B40833C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87892-3215-43F2-8D83-45B90D7E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157EB-F3ED-4727-99DE-F0ADE93B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2AECE-8167-4874-8AA2-2F04EB55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4E0C-3CE6-4A37-83B9-79878CE7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8ECD8-D2D4-4F2A-A9D0-9AC3B134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1F359-ABC0-4EFF-B26F-FC28672C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C4E4-5FAE-4DA1-A3B2-1FFC53C9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E4AEC-2225-4FDC-BBD5-34E5B7CC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1EB5E-31EA-49BF-9A7A-003F7F46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CA1D2-19CD-4856-8C9D-C42F755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A63B-8C05-4C1A-860A-E3AF8051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684CF-121D-465E-A6F2-71DFAE27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08022-0CD6-489D-94CF-8A3D3605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F2EA5-DE9C-427F-8ED0-20614F1C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5AA9F-55C7-4CC6-9AD6-43922BFC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9442C-E146-4295-B149-B99F356B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AE2B5-4C6F-4C95-BD65-966131F0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3BDF4-7BDF-41C9-BE68-16A191AF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83853-C493-495D-B6EE-FF8C845C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ACBEB-7DB1-43C8-94FA-96AA0FE0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E7B35-1C03-4D6B-B584-6DD5380C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626B-8E79-48CF-98E8-3F0AEF0D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AFCF6-E443-44FF-93DF-8CAED37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9E74B-43A0-407F-A1E7-D6B81CD4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71CA2-6886-46D6-A104-4221DAF0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917EA-BEF3-4DAD-8B28-B0BAAB38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D22BA-94A5-4CF6-8BA0-4745C5DF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854AB-46F1-47CD-8750-FCD545C1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AFB3D-4678-4974-98C6-6ACD7966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961A9-91D2-432C-8453-E70B00DB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DE2CC-F368-41C7-A7C6-639C2C4D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EF95D-D584-4938-989B-6617430E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8F52-EE51-4918-A9DA-80BA36F2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66FF1-B531-45EF-BDD4-25283BBA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E054E-3810-448B-AD7C-926D33C4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71D8A-D7F8-4439-B32D-D0438B4F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F2933-E05D-48F6-8152-D989FF6B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E88C6-84E9-44C9-AC57-4FCD39A8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D2D79-7A95-49E7-98C5-ACCED557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6E9C8-AA9B-4652-B8F6-9ABC2E77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6C91-BA9B-4925-B54E-F7E5DEBF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7C0E-70CE-47F5-BF7F-F97A6D6D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AD51-C114-4189-BA86-46AC58A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5187-BB48-4781-8A45-0B555FD7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4C5-904B-4276-9AC2-3B88A03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FD94-9D20-496F-A87C-7EA6FA0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8F08-08A7-4617-955E-956ED69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117A-E360-4D27-8B8F-11FA1D61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8CC3-A26C-4BA4-BBBA-E4E4815E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8328-03FA-405F-818B-A3335277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A399-F9ED-46EF-91C0-16E47204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D24A-FE56-48CB-9299-0E02546C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40B8-FFB2-4B20-890B-55DF3017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D3B5-3A4E-4E36-82CF-496888F2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D368-2FAF-4426-B4D6-3365143A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038-3CA4-47EA-ADDA-4E6E6092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12EC-1F89-4367-8F74-0B994AC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5532-6AB5-4584-9BBC-623EA85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C2BC-CA41-43FB-9382-73105FE7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8EBD-E16C-47AB-85BC-A4B0772B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F02F-D15F-491F-8F02-5954D69E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566C-C916-4366-AD59-643D67F8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44AD-47E1-49CC-AE1D-91F35FC6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9EE8-962F-4974-B914-9AE5FAF1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F3E5-CD7B-4857-A833-84394A7E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C8E2-86AB-47BB-9781-65870A2D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2D0-3D44-4491-8A4B-84FF5041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A4969-E988-4C12-811D-C0875DC1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7EE31-E9AA-4DDA-9113-5CE20218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67111-B820-44D1-B390-5C39ACFB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3CA0-89E8-4208-B66C-F11479BE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2BBC-B90A-4844-B2ED-C371F3F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26A99-6C3E-44C6-B6EC-C475A83C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D0A2-0BFE-41EB-AF37-C8B1DAE3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607D-64BF-4334-8126-38FB1174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81E57-3749-4DB3-A56D-4C85A270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B434E-85C0-4A65-8A31-BA40C9C5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8C4-0084-407C-BF10-449F6FA0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A9B31-2B07-422B-9DE8-BF5C03E9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20882-2014-4FE9-B499-8F5E384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CFD93-270B-44F6-8F76-89C7EE71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AD97F-F4F7-4DB4-9DC1-1A4AE3D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EDA3D-94FC-403F-BDB9-FBECC628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09B4-B2E9-4E76-B612-1CD5FC09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37A9-253D-4F17-8CD2-8B7186B4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CBDC-7392-4201-9DD9-1849F087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A641A-733E-4436-A203-3CAD3C39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347BE-AB28-4B7E-AEB2-D433B4C7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7B1-37B4-45ED-B982-2CD285A8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A6565-130B-4B8D-B146-14C7C883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06F30-47DC-4091-80CA-81320959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9EB16-CAD5-4EDA-9FEF-F0040415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A3A45-89DE-4A83-BA74-5FEEBD31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624C-48C5-4EEB-BA86-2B7BA9FB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E869-38C5-495C-B56F-76DC939E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422E-A2AD-4DD9-8766-BCAFEF51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4EA3-3B7F-43FC-B912-F709476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0D905-CBA1-4DB7-BE04-803FB2C8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E3F9-FD9F-4A6B-8DF0-979B36A4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8FC-BAB4-4FD9-A1C9-AA428E47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ED994-7B45-48A5-BD92-8B0E43C8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A0404-55C4-4203-9519-6B1B93CE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D70A8-0F9E-4119-9093-4E020332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A5F21-5943-4149-9504-F59D7529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CBB1E-E449-4C2B-A2F2-AFA4BD24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5B795-053B-406E-A23F-0AF75335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1613C-E1CF-47B0-B35C-37CA8B5E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47021-AA87-4A6B-989F-6B24B44A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DF34-6F79-4C61-B63B-5F269127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23C5B-BF68-4C0A-BA6B-6ED0D62A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2AA-4197-4100-BC3C-997982B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E9A9-94BE-4921-849C-73FB20B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0E4DC-C517-497F-B44F-8BE7ACD2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7472-DD96-4AB8-B1D9-7EA8D9BC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C445-5651-4B62-A0B8-CD8A52AD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4C85-30F5-4F80-884D-14B850F9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38DA8-292C-4BCA-8EAC-4962CE14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30B67-C6EA-41CC-BAA8-CA67A30F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0420-EE11-4269-A2C3-ACBD27F2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97B71-727C-4AA0-B961-89E0C9C1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C2C7D-7942-447E-B969-C3006EDE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509-25B8-41D3-B8D7-4388757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8B0BA-08EC-44A5-87C4-2773A5F9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453F8-28DE-4A63-A55C-D89AC7E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E069F-BEBB-4E3D-837D-EAC38FF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2EDE-20E1-4BD7-B127-F34F4ABF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2024E-17E9-4216-B0C3-5886DD80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9B064-9808-4A56-B3E9-7833CBC3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CAC1A-E99D-495F-B315-FA8EAEF0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53BF7-9F6C-447E-BA49-3BB3172D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58EE5-ADAA-46B4-819F-B5B80005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8980E-DFB0-4CFC-B41C-884AA041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04D2-5ED3-40B5-9B1D-DE03F847B8F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AC3D-493F-4279-9878-CC041A455E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A457-FE3B-407E-A9DD-D756F59DD93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E5CA-8C8D-4407-9BA4-F55B011FA4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BB4C-634B-4FC1-AC55-4CAF6AA8E20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71DC-19C6-4EB6-971C-672F324EBF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9B28-3DB4-4821-ACEC-760EA36253A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2FD6-2DAD-4FE3-BF9D-D7BEB53858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2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3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3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25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28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8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28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71E8-FF85-4241-A099-716908DF83FC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9E9A-B9E8-4015-9323-0C14F998E12E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4B0C-3ED7-4CD7-8712-410B516F6B7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FB40-972C-4A78-BCB4-C3B282E6C2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E2EC-9114-40E4-B8FC-049A85082B3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460F-2BD2-436F-89CB-325FFE1EC0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F5AB-A255-4936-8ADF-BE0DBC528F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F9AF-26C7-4453-8ECB-4951FFEF94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8D9-BE65-4773-9D7E-D41AE17D000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8E00-B98F-471E-8F6E-33FD4CA62A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F10B-E5AB-4A9E-872D-03F713031DB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105D-5454-4191-940F-13368A00B5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A38D-DE35-4E17-B0DD-971AF7C7E2C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19C-5D46-499C-AE4F-2A56A44592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9D83-D323-47CD-A791-C4BB97DE51D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2FDF-FF84-4F2C-91E2-9EBDD91FAA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2753-2C47-4E77-8224-3058FA9F74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7C95-C0D0-463B-B96F-F76ADAAF3F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790560" y="-360"/>
            <a:ext cx="835344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Тема урока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«Свойства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араллельных прямых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(урок 1)»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31" name="Picture 5" descr="p4004"/>
          <p:cNvPicPr/>
          <p:nvPr/>
        </p:nvPicPr>
        <p:blipFill>
          <a:blip r:embed="rId1"/>
          <a:stretch/>
        </p:blipFill>
        <p:spPr>
          <a:xfrm>
            <a:off x="3492360" y="4362480"/>
            <a:ext cx="30067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8" name="Group 2"/>
          <p:cNvGrpSpPr/>
          <p:nvPr/>
        </p:nvGrpSpPr>
        <p:grpSpPr>
          <a:xfrm>
            <a:off x="1908000" y="2113560"/>
            <a:ext cx="1584360" cy="1315440"/>
            <a:chOff x="1908000" y="2113560"/>
            <a:chExt cx="1584360" cy="1315440"/>
          </a:xfrm>
        </p:grpSpPr>
        <p:grpSp>
          <p:nvGrpSpPr>
            <p:cNvPr id="1509" name="Group 3"/>
            <p:cNvGrpSpPr/>
            <p:nvPr/>
          </p:nvGrpSpPr>
          <p:grpSpPr>
            <a:xfrm>
              <a:off x="1908000" y="2133720"/>
              <a:ext cx="1584360" cy="1295280"/>
              <a:chOff x="1908000" y="2133720"/>
              <a:chExt cx="1584360" cy="1295280"/>
            </a:xfrm>
          </p:grpSpPr>
          <p:grpSp>
            <p:nvGrpSpPr>
              <p:cNvPr id="1510" name="Group 4"/>
              <p:cNvGrpSpPr/>
              <p:nvPr/>
            </p:nvGrpSpPr>
            <p:grpSpPr>
              <a:xfrm>
                <a:off x="1908000" y="2133720"/>
                <a:ext cx="1584360" cy="1295280"/>
                <a:chOff x="1908000" y="2133720"/>
                <a:chExt cx="1584360" cy="1295280"/>
              </a:xfrm>
            </p:grpSpPr>
            <p:sp>
              <p:nvSpPr>
                <p:cNvPr id="1511" name="Freeform 5"/>
                <p:cNvSpPr/>
                <p:nvPr/>
              </p:nvSpPr>
              <p:spPr>
                <a:xfrm>
                  <a:off x="1908000" y="2781360"/>
                  <a:ext cx="1008360" cy="647640"/>
                </a:xfrm>
                <a:custGeom>
                  <a:avLst/>
                  <a:gdLst/>
                  <a:ahLst/>
                  <a:rect l="l" t="t" r="r" b="b"/>
                  <a:pathLst>
                    <a:path w="635" h="408">
                      <a:moveTo>
                        <a:pt x="272" y="45"/>
                      </a:moveTo>
                      <a:lnTo>
                        <a:pt x="0" y="408"/>
                      </a:lnTo>
                      <a:lnTo>
                        <a:pt x="54" y="352"/>
                      </a:lnTo>
                      <a:lnTo>
                        <a:pt x="635" y="363"/>
                      </a:lnTo>
                      <a:lnTo>
                        <a:pt x="317" y="0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2" name="Freeform 6"/>
                <p:cNvSpPr/>
                <p:nvPr/>
              </p:nvSpPr>
              <p:spPr>
                <a:xfrm>
                  <a:off x="2411280" y="2133720"/>
                  <a:ext cx="1081080" cy="672840"/>
                </a:xfrm>
                <a:custGeom>
                  <a:avLst/>
                  <a:gdLst/>
                  <a:ahLst/>
                  <a:rect l="l" t="t" r="r" b="b"/>
                  <a:pathLst>
                    <a:path w="681" h="424">
                      <a:moveTo>
                        <a:pt x="681" y="16"/>
                      </a:moveTo>
                      <a:lnTo>
                        <a:pt x="305" y="0"/>
                      </a:lnTo>
                      <a:lnTo>
                        <a:pt x="0" y="424"/>
                      </a:lnTo>
                      <a:lnTo>
                        <a:pt x="318" y="424"/>
                      </a:lnTo>
                      <a:lnTo>
                        <a:pt x="545" y="378"/>
                      </a:lnTo>
                      <a:lnTo>
                        <a:pt x="635" y="242"/>
                      </a:lnTo>
                      <a:lnTo>
                        <a:pt x="681" y="16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13" name="Text Box 7"/>
              <p:cNvSpPr/>
              <p:nvPr/>
            </p:nvSpPr>
            <p:spPr>
              <a:xfrm>
                <a:off x="2247840" y="2900520"/>
                <a:ext cx="30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14" name="Text Box 8"/>
              <p:cNvSpPr/>
              <p:nvPr/>
            </p:nvSpPr>
            <p:spPr>
              <a:xfrm>
                <a:off x="2843280" y="2205000"/>
                <a:ext cx="30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15" name="Group 9"/>
            <p:cNvGrpSpPr/>
            <p:nvPr/>
          </p:nvGrpSpPr>
          <p:grpSpPr>
            <a:xfrm>
              <a:off x="2124000" y="2113560"/>
              <a:ext cx="946440" cy="1248840"/>
              <a:chOff x="2124000" y="2113560"/>
              <a:chExt cx="946440" cy="1248840"/>
            </a:xfrm>
          </p:grpSpPr>
          <p:sp>
            <p:nvSpPr>
              <p:cNvPr id="1516" name="Freeform 10"/>
              <p:cNvSpPr/>
              <p:nvPr/>
            </p:nvSpPr>
            <p:spPr>
              <a:xfrm rot="5916600">
                <a:off x="2804400" y="2097720"/>
                <a:ext cx="215640" cy="287280"/>
              </a:xfrm>
              <a:custGeom>
                <a:avLst/>
                <a:gdLst/>
                <a:ahLst/>
                <a:rect l="l" t="t" r="r" b="b"/>
                <a:pathLst>
                  <a:path w="111" h="174">
                    <a:moveTo>
                      <a:pt x="0" y="0"/>
                    </a:moveTo>
                    <a:cubicBezTo>
                      <a:pt x="12" y="11"/>
                      <a:pt x="57" y="40"/>
                      <a:pt x="75" y="69"/>
                    </a:cubicBezTo>
                    <a:cubicBezTo>
                      <a:pt x="93" y="98"/>
                      <a:pt x="104" y="152"/>
                      <a:pt x="111" y="174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517" name="Group 11"/>
              <p:cNvGrpSpPr/>
              <p:nvPr/>
            </p:nvGrpSpPr>
            <p:grpSpPr>
              <a:xfrm>
                <a:off x="2124000" y="3068640"/>
                <a:ext cx="247680" cy="293760"/>
                <a:chOff x="2124000" y="3068640"/>
                <a:chExt cx="247680" cy="293760"/>
              </a:xfrm>
            </p:grpSpPr>
            <p:sp>
              <p:nvSpPr>
                <p:cNvPr id="1518" name="Freeform 12"/>
                <p:cNvSpPr/>
                <p:nvPr/>
              </p:nvSpPr>
              <p:spPr>
                <a:xfrm>
                  <a:off x="2195640" y="3068640"/>
                  <a:ext cx="176040" cy="293760"/>
                </a:xfrm>
                <a:custGeom>
                  <a:avLst/>
                  <a:gdLst/>
                  <a:ahLst/>
                  <a:rect l="l" t="t" r="r" b="b"/>
                  <a:pathLst>
                    <a:path w="111" h="185">
                      <a:moveTo>
                        <a:pt x="0" y="0"/>
                      </a:moveTo>
                      <a:cubicBezTo>
                        <a:pt x="12" y="13"/>
                        <a:pt x="57" y="49"/>
                        <a:pt x="75" y="80"/>
                      </a:cubicBezTo>
                      <a:cubicBezTo>
                        <a:pt x="93" y="111"/>
                        <a:pt x="104" y="163"/>
                        <a:pt x="111" y="185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9" name="Freeform 13"/>
                <p:cNvSpPr/>
                <p:nvPr/>
              </p:nvSpPr>
              <p:spPr>
                <a:xfrm>
                  <a:off x="2124000" y="3141720"/>
                  <a:ext cx="152640" cy="216000"/>
                </a:xfrm>
                <a:custGeom>
                  <a:avLst/>
                  <a:gdLst/>
                  <a:ahLst/>
                  <a:rect l="l" t="t" r="r" b="b"/>
                  <a:pathLst>
                    <a:path w="96" h="136">
                      <a:moveTo>
                        <a:pt x="0" y="0"/>
                      </a:moveTo>
                      <a:cubicBezTo>
                        <a:pt x="11" y="12"/>
                        <a:pt x="50" y="47"/>
                        <a:pt x="66" y="70"/>
                      </a:cubicBezTo>
                      <a:cubicBezTo>
                        <a:pt x="82" y="93"/>
                        <a:pt x="90" y="122"/>
                        <a:pt x="96" y="136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20" name="Line 15"/>
          <p:cNvSpPr/>
          <p:nvPr/>
        </p:nvSpPr>
        <p:spPr>
          <a:xfrm>
            <a:off x="900000" y="2133720"/>
            <a:ext cx="2951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1" name="Line 16"/>
          <p:cNvSpPr/>
          <p:nvPr/>
        </p:nvSpPr>
        <p:spPr>
          <a:xfrm>
            <a:off x="826920" y="3357720"/>
            <a:ext cx="2951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2" name="Freeform 17"/>
          <p:cNvSpPr/>
          <p:nvPr/>
        </p:nvSpPr>
        <p:spPr>
          <a:xfrm>
            <a:off x="1547640" y="1625760"/>
            <a:ext cx="1703520" cy="2307960"/>
          </a:xfrm>
          <a:custGeom>
            <a:avLst/>
            <a:gdLst/>
            <a:ahLst/>
            <a:rect l="l" t="t" r="r" b="b"/>
            <a:pathLst>
              <a:path w="1073" h="1454">
                <a:moveTo>
                  <a:pt x="0" y="1454"/>
                </a:moveTo>
                <a:lnTo>
                  <a:pt x="1073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3" name="Text Box 18"/>
          <p:cNvSpPr/>
          <p:nvPr/>
        </p:nvSpPr>
        <p:spPr>
          <a:xfrm>
            <a:off x="3635280" y="2924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4" name="Text Box 19"/>
          <p:cNvSpPr/>
          <p:nvPr/>
        </p:nvSpPr>
        <p:spPr>
          <a:xfrm>
            <a:off x="3705120" y="1747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5" name="Text Box 20"/>
          <p:cNvSpPr/>
          <p:nvPr/>
        </p:nvSpPr>
        <p:spPr>
          <a:xfrm>
            <a:off x="3347280" y="1341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6" name="Text Box 21"/>
          <p:cNvSpPr/>
          <p:nvPr/>
        </p:nvSpPr>
        <p:spPr>
          <a:xfrm>
            <a:off x="2340000" y="206064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7" name="Text Box 22"/>
          <p:cNvSpPr/>
          <p:nvPr/>
        </p:nvSpPr>
        <p:spPr>
          <a:xfrm>
            <a:off x="4479480" y="2060640"/>
            <a:ext cx="36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바탕"/>
              </a:rPr>
              <a:t>II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바탕"/>
              </a:rPr>
              <a:t>b,  c-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секущая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ь: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Cambria Math"/>
                <a:ea typeface="Cambria Math"/>
              </a:rPr>
              <a:t>∠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40458c"/>
                </a:solidFill>
                <a:latin typeface="Cambria Math"/>
                <a:ea typeface="Cambria Math"/>
              </a:rPr>
              <a:t>∠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=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8" name="Text Box 23"/>
          <p:cNvSpPr/>
          <p:nvPr/>
        </p:nvSpPr>
        <p:spPr>
          <a:xfrm>
            <a:off x="477000" y="3933720"/>
            <a:ext cx="459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+   2 =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, т. к. они смежны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=   3, т. к. это  НЛУ при  а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바탕"/>
              </a:rPr>
              <a:t>II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바탕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9" name="Rectangle 24"/>
          <p:cNvSpPr/>
          <p:nvPr/>
        </p:nvSpPr>
        <p:spPr>
          <a:xfrm>
            <a:off x="5803560" y="494172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 +   2 =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0" name="AutoShape 25"/>
          <p:cNvSpPr/>
          <p:nvPr/>
        </p:nvSpPr>
        <p:spPr>
          <a:xfrm>
            <a:off x="5291280" y="4581360"/>
            <a:ext cx="360360" cy="144000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1" name="Text Box 26"/>
          <p:cNvSpPr/>
          <p:nvPr/>
        </p:nvSpPr>
        <p:spPr>
          <a:xfrm>
            <a:off x="685800" y="537372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2" name="Text Box 27"/>
          <p:cNvSpPr/>
          <p:nvPr/>
        </p:nvSpPr>
        <p:spPr>
          <a:xfrm>
            <a:off x="5367240" y="60930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орема доказ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33" name="Group 36"/>
          <p:cNvGrpSpPr/>
          <p:nvPr/>
        </p:nvGrpSpPr>
        <p:grpSpPr>
          <a:xfrm>
            <a:off x="468360" y="4724280"/>
            <a:ext cx="936720" cy="331560"/>
            <a:chOff x="468360" y="4724280"/>
            <a:chExt cx="936720" cy="331560"/>
          </a:xfrm>
        </p:grpSpPr>
        <mc:AlternateContent>
          <mc:Choice xmlns:a14="http://schemas.microsoft.com/office/drawing/2010/main" Requires="a14">
            <p:sp>
              <p:nvSpPr>
                <p:cNvPr id="1534" name="Object 37"/>
                <p:cNvSpPr txBox="1"/>
                <p:nvPr/>
              </p:nvSpPr>
              <p:spPr>
                <a:xfrm>
                  <a:off x="1044720" y="472428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5" name="Object 38"/>
                <p:cNvSpPr txBox="1"/>
                <p:nvPr/>
              </p:nvSpPr>
              <p:spPr>
                <a:xfrm>
                  <a:off x="468360" y="472428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6" name="Group 39"/>
          <p:cNvGrpSpPr/>
          <p:nvPr/>
        </p:nvGrpSpPr>
        <p:grpSpPr>
          <a:xfrm>
            <a:off x="468360" y="5445000"/>
            <a:ext cx="936720" cy="331560"/>
            <a:chOff x="468360" y="5445000"/>
            <a:chExt cx="936720" cy="331560"/>
          </a:xfrm>
        </p:grpSpPr>
        <mc:AlternateContent>
          <mc:Choice xmlns:a14="http://schemas.microsoft.com/office/drawing/2010/main" Requires="a14">
            <p:sp>
              <p:nvSpPr>
                <p:cNvPr id="1537" name="Object 40"/>
                <p:cNvSpPr txBox="1"/>
                <p:nvPr/>
              </p:nvSpPr>
              <p:spPr>
                <a:xfrm>
                  <a:off x="1044720" y="544500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8" name="Object 41"/>
                <p:cNvSpPr txBox="1"/>
                <p:nvPr/>
              </p:nvSpPr>
              <p:spPr>
                <a:xfrm>
                  <a:off x="468360" y="544500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9" name="Group 42"/>
          <p:cNvGrpSpPr/>
          <p:nvPr/>
        </p:nvGrpSpPr>
        <p:grpSpPr>
          <a:xfrm>
            <a:off x="6300720" y="5013360"/>
            <a:ext cx="1079280" cy="331560"/>
            <a:chOff x="6300720" y="5013360"/>
            <a:chExt cx="1079280" cy="331560"/>
          </a:xfrm>
        </p:grpSpPr>
        <mc:AlternateContent>
          <mc:Choice xmlns:a14="http://schemas.microsoft.com/office/drawing/2010/main" Requires="a14">
            <p:sp>
              <p:nvSpPr>
                <p:cNvPr id="1540" name="Object 43"/>
                <p:cNvSpPr txBox="1"/>
                <p:nvPr/>
              </p:nvSpPr>
              <p:spPr>
                <a:xfrm>
                  <a:off x="6964920" y="5013360"/>
                  <a:ext cx="41508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1" name="Object 44"/>
                <p:cNvSpPr txBox="1"/>
                <p:nvPr/>
              </p:nvSpPr>
              <p:spPr>
                <a:xfrm>
                  <a:off x="6300720" y="5013360"/>
                  <a:ext cx="41508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2" name="Object 45"/>
              <p:cNvSpPr txBox="1"/>
              <p:nvPr/>
            </p:nvSpPr>
            <p:spPr>
              <a:xfrm>
                <a:off x="5796000" y="5013360"/>
                <a:ext cx="527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3" name="Rectangle 6"/>
          <p:cNvSpPr/>
          <p:nvPr/>
        </p:nvSpPr>
        <p:spPr>
          <a:xfrm>
            <a:off x="34920" y="198000"/>
            <a:ext cx="91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Если две параллельные прямые пересечены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секущей, то сумма односторонних углов равна 180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30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3000"/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3000"/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3000"/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C 0.05226 0.0368 0.10451 0.07361 0.16649 0.08657 C 0.22865 0.09977 0.30677 0.09051 0.37187 0.07708 C 0.4368 0.06366 0.5118 0.02847 0.55729 0.00579 C 0.60208 -0.0169 0.62222 -0.03866 0.64305 -0.05949 E">
                                      <p:cBhvr>
                                        <p:cTn id="346" dur="5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3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Freeform 4"/>
          <p:cNvSpPr/>
          <p:nvPr/>
        </p:nvSpPr>
        <p:spPr>
          <a:xfrm>
            <a:off x="1908000" y="2781360"/>
            <a:ext cx="100836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272" y="45"/>
                </a:moveTo>
                <a:lnTo>
                  <a:pt x="0" y="408"/>
                </a:lnTo>
                <a:lnTo>
                  <a:pt x="54" y="352"/>
                </a:lnTo>
                <a:lnTo>
                  <a:pt x="635" y="363"/>
                </a:lnTo>
                <a:lnTo>
                  <a:pt x="317" y="0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5" name="Freeform 5"/>
          <p:cNvSpPr/>
          <p:nvPr/>
        </p:nvSpPr>
        <p:spPr>
          <a:xfrm>
            <a:off x="2124000" y="3141720"/>
            <a:ext cx="152640" cy="216000"/>
          </a:xfrm>
          <a:custGeom>
            <a:avLst/>
            <a:gdLst/>
            <a:ahLst/>
            <a:rect l="l" t="t" r="r" b="b"/>
            <a:pathLst>
              <a:path w="96" h="136">
                <a:moveTo>
                  <a:pt x="0" y="0"/>
                </a:moveTo>
                <a:cubicBezTo>
                  <a:pt x="11" y="12"/>
                  <a:pt x="50" y="47"/>
                  <a:pt x="66" y="70"/>
                </a:cubicBezTo>
                <a:cubicBezTo>
                  <a:pt x="82" y="93"/>
                  <a:pt x="90" y="122"/>
                  <a:pt x="96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6" name="Freeform 6"/>
          <p:cNvSpPr/>
          <p:nvPr/>
        </p:nvSpPr>
        <p:spPr>
          <a:xfrm>
            <a:off x="2843280" y="155736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272" y="45"/>
                </a:moveTo>
                <a:lnTo>
                  <a:pt x="0" y="408"/>
                </a:lnTo>
                <a:lnTo>
                  <a:pt x="54" y="352"/>
                </a:lnTo>
                <a:lnTo>
                  <a:pt x="635" y="363"/>
                </a:lnTo>
                <a:lnTo>
                  <a:pt x="317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7" name="Text Box 7"/>
          <p:cNvSpPr/>
          <p:nvPr/>
        </p:nvSpPr>
        <p:spPr>
          <a:xfrm>
            <a:off x="2195640" y="292428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8" name="Text Box 8"/>
          <p:cNvSpPr/>
          <p:nvPr/>
        </p:nvSpPr>
        <p:spPr>
          <a:xfrm>
            <a:off x="3111480" y="170028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9" name="Line 10"/>
          <p:cNvSpPr/>
          <p:nvPr/>
        </p:nvSpPr>
        <p:spPr>
          <a:xfrm>
            <a:off x="900000" y="2133720"/>
            <a:ext cx="2951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0" name="Line 11"/>
          <p:cNvSpPr/>
          <p:nvPr/>
        </p:nvSpPr>
        <p:spPr>
          <a:xfrm>
            <a:off x="826920" y="3357720"/>
            <a:ext cx="2951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1" name="Freeform 12"/>
          <p:cNvSpPr/>
          <p:nvPr/>
        </p:nvSpPr>
        <p:spPr>
          <a:xfrm>
            <a:off x="1547640" y="1413000"/>
            <a:ext cx="1872000" cy="2520720"/>
          </a:xfrm>
          <a:custGeom>
            <a:avLst/>
            <a:gdLst/>
            <a:ahLst/>
            <a:rect l="l" t="t" r="r" b="b"/>
            <a:pathLst>
              <a:path w="1073" h="1454">
                <a:moveTo>
                  <a:pt x="0" y="1454"/>
                </a:moveTo>
                <a:lnTo>
                  <a:pt x="1073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2" name="Text Box 13"/>
          <p:cNvSpPr/>
          <p:nvPr/>
        </p:nvSpPr>
        <p:spPr>
          <a:xfrm>
            <a:off x="3635280" y="2924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3" name="Text Box 14"/>
          <p:cNvSpPr/>
          <p:nvPr/>
        </p:nvSpPr>
        <p:spPr>
          <a:xfrm>
            <a:off x="3705120" y="1747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4" name="Text Box 15"/>
          <p:cNvSpPr/>
          <p:nvPr/>
        </p:nvSpPr>
        <p:spPr>
          <a:xfrm>
            <a:off x="3021840" y="12682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5" name="Text Box 16"/>
          <p:cNvSpPr/>
          <p:nvPr/>
        </p:nvSpPr>
        <p:spPr>
          <a:xfrm>
            <a:off x="2340000" y="210816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6" name="Text Box 17"/>
          <p:cNvSpPr/>
          <p:nvPr/>
        </p:nvSpPr>
        <p:spPr>
          <a:xfrm>
            <a:off x="4427280" y="2060640"/>
            <a:ext cx="366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II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바탕"/>
              </a:rPr>
              <a:t>b,  c-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секущая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ь: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СУ       1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=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7" name="Text Box 18"/>
          <p:cNvSpPr/>
          <p:nvPr/>
        </p:nvSpPr>
        <p:spPr>
          <a:xfrm>
            <a:off x="468720" y="3933720"/>
            <a:ext cx="458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 =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, т. к. они вертикальны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 =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, т. к. это  НЛУ при  а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II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바탕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8" name="Rectangle 19"/>
          <p:cNvSpPr/>
          <p:nvPr/>
        </p:nvSpPr>
        <p:spPr>
          <a:xfrm>
            <a:off x="5819400" y="4987800"/>
            <a:ext cx="28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바탕"/>
                <a:ea typeface="바탕"/>
              </a:rPr>
              <a:t> 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 =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 =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9" name="AutoShape 20"/>
          <p:cNvSpPr/>
          <p:nvPr/>
        </p:nvSpPr>
        <p:spPr>
          <a:xfrm>
            <a:off x="5291280" y="4581360"/>
            <a:ext cx="360360" cy="144000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0" name="Text Box 21"/>
          <p:cNvSpPr/>
          <p:nvPr/>
        </p:nvSpPr>
        <p:spPr>
          <a:xfrm>
            <a:off x="5367240" y="60930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орема доказ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1" name="Freeform 26"/>
          <p:cNvSpPr/>
          <p:nvPr/>
        </p:nvSpPr>
        <p:spPr>
          <a:xfrm>
            <a:off x="3059280" y="1917720"/>
            <a:ext cx="152280" cy="216000"/>
          </a:xfrm>
          <a:custGeom>
            <a:avLst/>
            <a:gdLst/>
            <a:ahLst/>
            <a:rect l="l" t="t" r="r" b="b"/>
            <a:pathLst>
              <a:path w="96" h="136">
                <a:moveTo>
                  <a:pt x="0" y="0"/>
                </a:moveTo>
                <a:cubicBezTo>
                  <a:pt x="11" y="12"/>
                  <a:pt x="50" y="47"/>
                  <a:pt x="66" y="70"/>
                </a:cubicBezTo>
                <a:cubicBezTo>
                  <a:pt x="82" y="93"/>
                  <a:pt x="90" y="122"/>
                  <a:pt x="96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2" name="Freeform 27"/>
          <p:cNvSpPr/>
          <p:nvPr/>
        </p:nvSpPr>
        <p:spPr>
          <a:xfrm rot="10657800">
            <a:off x="2577600" y="2136600"/>
            <a:ext cx="152640" cy="216000"/>
          </a:xfrm>
          <a:custGeom>
            <a:avLst/>
            <a:gdLst/>
            <a:ahLst/>
            <a:rect l="l" t="t" r="r" b="b"/>
            <a:pathLst>
              <a:path w="96" h="136">
                <a:moveTo>
                  <a:pt x="0" y="0"/>
                </a:moveTo>
                <a:cubicBezTo>
                  <a:pt x="11" y="12"/>
                  <a:pt x="50" y="47"/>
                  <a:pt x="66" y="70"/>
                </a:cubicBezTo>
                <a:cubicBezTo>
                  <a:pt x="82" y="93"/>
                  <a:pt x="90" y="122"/>
                  <a:pt x="96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63" name="Group 31"/>
          <p:cNvGrpSpPr/>
          <p:nvPr/>
        </p:nvGrpSpPr>
        <p:grpSpPr>
          <a:xfrm>
            <a:off x="6659640" y="2852640"/>
            <a:ext cx="1090440" cy="360000"/>
            <a:chOff x="6659640" y="2852640"/>
            <a:chExt cx="1090440" cy="360000"/>
          </a:xfrm>
        </p:grpSpPr>
        <mc:AlternateContent>
          <mc:Choice xmlns:a14="http://schemas.microsoft.com/office/drawing/2010/main" Requires="a14">
            <p:sp>
              <p:nvSpPr>
                <p:cNvPr id="1564" name="Object 32"/>
                <p:cNvSpPr txBox="1"/>
                <p:nvPr/>
              </p:nvSpPr>
              <p:spPr>
                <a:xfrm>
                  <a:off x="6659640" y="2852640"/>
                  <a:ext cx="29844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5" name="Object 33"/>
                <p:cNvSpPr txBox="1"/>
                <p:nvPr/>
              </p:nvSpPr>
              <p:spPr>
                <a:xfrm>
                  <a:off x="7451640" y="2852640"/>
                  <a:ext cx="29844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66" name="Object 3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567" name="Group 35"/>
          <p:cNvGrpSpPr/>
          <p:nvPr/>
        </p:nvGrpSpPr>
        <p:grpSpPr>
          <a:xfrm>
            <a:off x="324000" y="4724280"/>
            <a:ext cx="936000" cy="360000"/>
            <a:chOff x="324000" y="4724280"/>
            <a:chExt cx="936000" cy="360000"/>
          </a:xfrm>
        </p:grpSpPr>
        <mc:AlternateContent>
          <mc:Choice xmlns:a14="http://schemas.microsoft.com/office/drawing/2010/main" Requires="a14">
            <p:sp>
              <p:nvSpPr>
                <p:cNvPr id="1568" name="Object 36"/>
                <p:cNvSpPr txBox="1"/>
                <p:nvPr/>
              </p:nvSpPr>
              <p:spPr>
                <a:xfrm>
                  <a:off x="324000" y="4724280"/>
                  <a:ext cx="25596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9" name="Object 37"/>
                <p:cNvSpPr txBox="1"/>
                <p:nvPr/>
              </p:nvSpPr>
              <p:spPr>
                <a:xfrm>
                  <a:off x="1004040" y="4724280"/>
                  <a:ext cx="25596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0" name="Group 38"/>
          <p:cNvGrpSpPr/>
          <p:nvPr/>
        </p:nvGrpSpPr>
        <p:grpSpPr>
          <a:xfrm>
            <a:off x="322200" y="5445000"/>
            <a:ext cx="1009440" cy="360000"/>
            <a:chOff x="322200" y="5445000"/>
            <a:chExt cx="1009440" cy="360000"/>
          </a:xfrm>
        </p:grpSpPr>
        <mc:AlternateContent>
          <mc:Choice xmlns:a14="http://schemas.microsoft.com/office/drawing/2010/main" Requires="a14">
            <p:sp>
              <p:nvSpPr>
                <p:cNvPr id="1571" name="Object 39"/>
                <p:cNvSpPr txBox="1"/>
                <p:nvPr/>
              </p:nvSpPr>
              <p:spPr>
                <a:xfrm>
                  <a:off x="322200" y="5445000"/>
                  <a:ext cx="27612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2" name="Object 40"/>
                <p:cNvSpPr txBox="1"/>
                <p:nvPr/>
              </p:nvSpPr>
              <p:spPr>
                <a:xfrm>
                  <a:off x="1055520" y="5445000"/>
                  <a:ext cx="27612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3" name="Group 44"/>
          <p:cNvGrpSpPr/>
          <p:nvPr/>
        </p:nvGrpSpPr>
        <p:grpSpPr>
          <a:xfrm>
            <a:off x="6588000" y="5013360"/>
            <a:ext cx="1882440" cy="360360"/>
            <a:chOff x="6588000" y="5013360"/>
            <a:chExt cx="1882440" cy="360360"/>
          </a:xfrm>
        </p:grpSpPr>
        <mc:AlternateContent>
          <mc:Choice xmlns:a14="http://schemas.microsoft.com/office/drawing/2010/main" Requires="a14">
            <p:sp>
              <p:nvSpPr>
                <p:cNvPr id="1574" name="Object 41"/>
                <p:cNvSpPr txBox="1"/>
                <p:nvPr/>
              </p:nvSpPr>
              <p:spPr>
                <a:xfrm>
                  <a:off x="6588000" y="5013360"/>
                  <a:ext cx="3823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5" name="Object 42"/>
                <p:cNvSpPr txBox="1"/>
                <p:nvPr/>
              </p:nvSpPr>
              <p:spPr>
                <a:xfrm>
                  <a:off x="7342920" y="5013360"/>
                  <a:ext cx="381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6" name="Object 43"/>
                <p:cNvSpPr txBox="1"/>
                <p:nvPr/>
              </p:nvSpPr>
              <p:spPr>
                <a:xfrm>
                  <a:off x="8088480" y="5030640"/>
                  <a:ext cx="3819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7" name="Group 50"/>
          <p:cNvGrpSpPr/>
          <p:nvPr/>
        </p:nvGrpSpPr>
        <p:grpSpPr>
          <a:xfrm>
            <a:off x="6586560" y="4950000"/>
            <a:ext cx="563040" cy="459720"/>
            <a:chOff x="6586560" y="4950000"/>
            <a:chExt cx="563040" cy="459720"/>
          </a:xfrm>
        </p:grpSpPr>
        <p:sp>
          <p:nvSpPr>
            <p:cNvPr id="1578" name="Text Box 2"/>
            <p:cNvSpPr/>
            <p:nvPr/>
          </p:nvSpPr>
          <p:spPr>
            <a:xfrm>
              <a:off x="6588000" y="4950000"/>
              <a:ext cx="56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9" name="Object 46"/>
                <p:cNvSpPr txBox="1"/>
                <p:nvPr/>
              </p:nvSpPr>
              <p:spPr>
                <a:xfrm>
                  <a:off x="6586560" y="5021640"/>
                  <a:ext cx="3697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0" name="Group 49"/>
          <p:cNvGrpSpPr/>
          <p:nvPr/>
        </p:nvGrpSpPr>
        <p:grpSpPr>
          <a:xfrm>
            <a:off x="8088480" y="4950000"/>
            <a:ext cx="792000" cy="459720"/>
            <a:chOff x="8088480" y="4950000"/>
            <a:chExt cx="792000" cy="459720"/>
          </a:xfrm>
        </p:grpSpPr>
        <p:sp>
          <p:nvSpPr>
            <p:cNvPr id="1581" name="Text Box 3"/>
            <p:cNvSpPr/>
            <p:nvPr/>
          </p:nvSpPr>
          <p:spPr>
            <a:xfrm>
              <a:off x="8088480" y="4950000"/>
              <a:ext cx="792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2" name="Object 48"/>
                <p:cNvSpPr txBox="1"/>
                <p:nvPr/>
              </p:nvSpPr>
              <p:spPr>
                <a:xfrm>
                  <a:off x="8161560" y="5046840"/>
                  <a:ext cx="298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83" name="Object 51"/>
              <p:cNvSpPr txBox="1"/>
              <p:nvPr/>
            </p:nvSpPr>
            <p:spPr>
              <a:xfrm>
                <a:off x="5796000" y="5013360"/>
                <a:ext cx="527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Object 29"/>
              <p:cNvSpPr txBox="1"/>
              <p:nvPr/>
            </p:nvSpPr>
            <p:spPr>
              <a:xfrm>
                <a:off x="7308720" y="5702400"/>
                <a:ext cx="4240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5" name="Rectangle 6"/>
          <p:cNvSpPr/>
          <p:nvPr/>
        </p:nvSpPr>
        <p:spPr>
          <a:xfrm>
            <a:off x="34920" y="198000"/>
            <a:ext cx="91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Если две параллельные прямые пересечены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секущей, то соответственные углы равны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3000"/>
                                        <p:tgtEl>
                                          <p:spTgt spid="1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3000"/>
                                        <p:tgtEl>
                                          <p:spTgt spid="1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3000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3000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1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-0.05122 0.09629 E">
                                      <p:cBhvr>
                                        <p:cTn id="433" dur="2000" fill="hold"/>
                                        <p:tgtEl>
                                          <p:spTgt spid="1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2378 0.09629 E">
                                      <p:cBhvr>
                                        <p:cTn id="435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Гимнастика для глаз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7" name="Рисунок 3" descr="0_93ea7_f4af505b_XL.png"/>
          <p:cNvPicPr/>
          <p:nvPr/>
        </p:nvPicPr>
        <p:blipFill>
          <a:blip r:embed="rId1"/>
          <a:stretch/>
        </p:blipFill>
        <p:spPr>
          <a:xfrm>
            <a:off x="0" y="1571760"/>
            <a:ext cx="5176800" cy="4786200"/>
          </a:xfrm>
          <a:prstGeom prst="rect">
            <a:avLst/>
          </a:prstGeom>
          <a:ln w="0">
            <a:noFill/>
          </a:ln>
        </p:spPr>
      </p:pic>
      <p:pic>
        <p:nvPicPr>
          <p:cNvPr id="1588" name="Рисунок 4" descr="sea19.gif"/>
          <p:cNvPicPr/>
          <p:nvPr/>
        </p:nvPicPr>
        <p:blipFill>
          <a:blip r:embed="rId2"/>
          <a:stretch/>
        </p:blipFill>
        <p:spPr>
          <a:xfrm>
            <a:off x="857160" y="2678040"/>
            <a:ext cx="1143000" cy="858960"/>
          </a:xfrm>
          <a:prstGeom prst="rect">
            <a:avLst/>
          </a:prstGeom>
          <a:ln w="0">
            <a:noFill/>
          </a:ln>
        </p:spPr>
      </p:pic>
      <p:pic>
        <p:nvPicPr>
          <p:cNvPr id="1589" name="Рисунок 5" descr="sea19.gif"/>
          <p:cNvPicPr/>
          <p:nvPr/>
        </p:nvPicPr>
        <p:blipFill>
          <a:blip r:embed="rId3"/>
          <a:stretch/>
        </p:blipFill>
        <p:spPr>
          <a:xfrm flipH="1">
            <a:off x="7714800" y="2678040"/>
            <a:ext cx="1071720" cy="8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17919E-006 L 0.7375 -0.00278 E">
                                      <p:cBhvr>
                                        <p:cTn id="454" dur="5000" fill="hold"/>
                                        <p:tgtEl>
                                          <p:spTgt spid="1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5434E-006 L -0.76458 0.00116 E">
                                      <p:cBhvr>
                                        <p:cTn id="465" dur="5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2659E-007 L 0.74827 -0.00277 E">
                                      <p:cBhvr>
                                        <p:cTn id="476" dur="5000" fill="hold"/>
                                        <p:tgtEl>
                                          <p:spTgt spid="1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0.00115 L -0.7651 0.01017 E">
                                      <p:cBhvr>
                                        <p:cTn id="487" dur="5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8 -0.00277 L 0.72673 -0.00832 E">
                                      <p:cBhvr>
                                        <p:cTn id="498" dur="5000" fill="hold"/>
                                        <p:tgtEl>
                                          <p:spTgt spid="1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00116 L -0.74879 0.01179 E">
                                      <p:cBhvr>
                                        <p:cTn id="509" dur="5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459 0.00116 L -0.31563 0.15573 E">
                                      <p:cBhvr>
                                        <p:cTn id="512" dur="2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0" name="Рисунок 5" descr="3853239-85adfe6c8e0cc34a.gif"/>
          <p:cNvPicPr/>
          <p:nvPr/>
        </p:nvPicPr>
        <p:blipFill>
          <a:blip r:embed="rId1"/>
          <a:stretch/>
        </p:blipFill>
        <p:spPr>
          <a:xfrm rot="1520400">
            <a:off x="304560" y="347760"/>
            <a:ext cx="1809720" cy="826920"/>
          </a:xfrm>
          <a:prstGeom prst="rect">
            <a:avLst/>
          </a:prstGeom>
          <a:ln w="0">
            <a:noFill/>
          </a:ln>
        </p:spPr>
      </p:pic>
      <p:pic>
        <p:nvPicPr>
          <p:cNvPr id="1591" name="Рисунок 6" descr="3853239-85adfe6c8e0cc34a.gif"/>
          <p:cNvPicPr/>
          <p:nvPr/>
        </p:nvPicPr>
        <p:blipFill>
          <a:blip r:embed="rId2"/>
          <a:stretch/>
        </p:blipFill>
        <p:spPr>
          <a:xfrm flipH="1" rot="2191800">
            <a:off x="7144920" y="5490720"/>
            <a:ext cx="1925640" cy="881280"/>
          </a:xfrm>
          <a:prstGeom prst="rect">
            <a:avLst/>
          </a:prstGeom>
          <a:ln w="0">
            <a:noFill/>
          </a:ln>
        </p:spPr>
      </p:pic>
      <p:pic>
        <p:nvPicPr>
          <p:cNvPr id="1592" name="Рисунок 4" descr="p1y4bcf2ygk.gif"/>
          <p:cNvPicPr/>
          <p:nvPr/>
        </p:nvPicPr>
        <p:blipFill>
          <a:blip r:embed="rId3"/>
          <a:stretch/>
        </p:blipFill>
        <p:spPr>
          <a:xfrm>
            <a:off x="285840" y="2071800"/>
            <a:ext cx="4929120" cy="44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23 0.0111 L 0.73785 0.75584 E">
                                      <p:cBhvr>
                                        <p:cTn id="521" dur="500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038 -0.74197 L -0.00868 0.00277 E">
                                      <p:cBhvr>
                                        <p:cTn id="532" dur="5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7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23 0.0111 L 0.75347 0.75584 E">
                                      <p:cBhvr>
                                        <p:cTn id="543" dur="500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389 -0.73434 L 1.11111E-006 4.04624E-007 E">
                                      <p:cBhvr>
                                        <p:cTn id="554" dur="5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04 0.0111 L 0.73229 0.73411 E">
                                      <p:cBhvr>
                                        <p:cTn id="565" dur="500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257 -0.73157 L -0.00868 0.01317 E">
                                      <p:cBhvr>
                                        <p:cTn id="576" dur="5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257 -0.73157 L -0.71736 -0.30151 E">
                                      <p:cBhvr>
                                        <p:cTn id="579" dur="5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Рисунок 3" descr="0_93ea7_f4af505b_XL.png"/>
          <p:cNvPicPr/>
          <p:nvPr/>
        </p:nvPicPr>
        <p:blipFill>
          <a:blip r:embed="rId1"/>
          <a:stretch/>
        </p:blipFill>
        <p:spPr>
          <a:xfrm>
            <a:off x="0" y="1571760"/>
            <a:ext cx="5176800" cy="4786200"/>
          </a:xfrm>
          <a:prstGeom prst="rect">
            <a:avLst/>
          </a:prstGeom>
          <a:ln w="0">
            <a:noFill/>
          </a:ln>
        </p:spPr>
      </p:pic>
      <p:pic>
        <p:nvPicPr>
          <p:cNvPr id="1594" name="Рисунок 4" descr="everything_moves.gif"/>
          <p:cNvPicPr/>
          <p:nvPr/>
        </p:nvPicPr>
        <p:blipFill>
          <a:blip r:embed="rId2"/>
          <a:stretch/>
        </p:blipFill>
        <p:spPr>
          <a:xfrm>
            <a:off x="3857760" y="357120"/>
            <a:ext cx="1657080" cy="676440"/>
          </a:xfrm>
          <a:prstGeom prst="rect">
            <a:avLst/>
          </a:prstGeom>
          <a:ln w="0">
            <a:noFill/>
          </a:ln>
        </p:spPr>
      </p:pic>
      <p:pic>
        <p:nvPicPr>
          <p:cNvPr id="1595" name="Рисунок 5" descr="everything_moves.gif"/>
          <p:cNvPicPr/>
          <p:nvPr/>
        </p:nvPicPr>
        <p:blipFill>
          <a:blip r:embed="rId3"/>
          <a:stretch/>
        </p:blipFill>
        <p:spPr>
          <a:xfrm flipH="1">
            <a:off x="3857400" y="5715000"/>
            <a:ext cx="1657080" cy="676440"/>
          </a:xfrm>
          <a:prstGeom prst="rect">
            <a:avLst/>
          </a:prstGeom>
          <a:ln w="0">
            <a:noFill/>
          </a:ln>
        </p:spPr>
      </p:pic>
      <p:pic>
        <p:nvPicPr>
          <p:cNvPr id="1596" name="Рисунок 7" descr="522392_thumb.gif"/>
          <p:cNvPicPr/>
          <p:nvPr/>
        </p:nvPicPr>
        <p:blipFill>
          <a:blip r:embed="rId4"/>
          <a:stretch/>
        </p:blipFill>
        <p:spPr>
          <a:xfrm>
            <a:off x="-3533760" y="714240"/>
            <a:ext cx="353376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1.47874E-006 L 0.0033 0.79621 E">
                                      <p:cBhvr>
                                        <p:cTn id="588" dur="5000" fill="hold"/>
                                        <p:tgtEl>
                                          <p:spTgt spid="1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963E-006 L 1.38889E-006 -0.78604 E">
                                      <p:cBhvr>
                                        <p:cTn id="599" dur="500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3.03142E-006 L 0.0033 0.7604 E">
                                      <p:cBhvr>
                                        <p:cTn id="610" dur="5000" fill="hold"/>
                                        <p:tgtEl>
                                          <p:spTgt spid="1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5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963E-006 L -0.00799 -0.79667 E">
                                      <p:cBhvr>
                                        <p:cTn id="621" dur="500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6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0.00624 L -0.00469 0.77934 E">
                                      <p:cBhvr>
                                        <p:cTn id="632" dur="5000" fill="hold"/>
                                        <p:tgtEl>
                                          <p:spTgt spid="1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1641 L -0.00139 -0.77426 E">
                                      <p:cBhvr>
                                        <p:cTn id="643" dur="500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08872E-006 C 0.00659 0.02703 0.0158 0.05014 0.02968 0.07209 C 0.04236 0.09219 0.03281 0.0744 0.046 0.08988 C 0.06007 0.10628 0.07152 0.12269 0.08923 0.13309 C 0.12968 0.15688 0.17552 0.1622 0.21875 0.16543 C 0.23611 0.17329 0.21666 0.16497 0.24045 0.17283 C 0.25191 0.17676 0.26076 0.18392 0.27291 0.18715 C 0.32031 0.22874 0.275 0.19177 0.42153 0.19778 C 0.47031 0.19986 0.51302 0.21881 0.55937 0.23383 C 0.56597 0.24237 0.57413 0.24769 0.58385 0.24815 C 0.62968 0.25046 0.67552 0.25069 0.72153 0.25185 C 0.73229 0.253 0.75399 0.25554 0.75399 0.25554 E">
                                      <p:cBhvr>
                                        <p:cTn id="652" dur="5000" fill="hold"/>
                                        <p:tgtEl>
                                          <p:spTgt spid="1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Рисунок 1" descr="0_33c2f_a4cb019d_S.gif"/>
          <p:cNvPicPr/>
          <p:nvPr/>
        </p:nvPicPr>
        <p:blipFill>
          <a:blip r:embed="rId1"/>
          <a:stretch/>
        </p:blipFill>
        <p:spPr>
          <a:xfrm>
            <a:off x="5786280" y="4214880"/>
            <a:ext cx="1530360" cy="1109520"/>
          </a:xfrm>
          <a:prstGeom prst="rect">
            <a:avLst/>
          </a:prstGeom>
          <a:ln w="0">
            <a:noFill/>
          </a:ln>
        </p:spPr>
      </p:pic>
      <p:pic>
        <p:nvPicPr>
          <p:cNvPr id="1598" name="Рисунок 2" descr="0_33c2f_a4cb019d_S.gif"/>
          <p:cNvPicPr/>
          <p:nvPr/>
        </p:nvPicPr>
        <p:blipFill>
          <a:blip r:embed="rId2"/>
          <a:stretch/>
        </p:blipFill>
        <p:spPr>
          <a:xfrm flipH="1">
            <a:off x="2071800" y="4214880"/>
            <a:ext cx="1333440" cy="966600"/>
          </a:xfrm>
          <a:prstGeom prst="rect">
            <a:avLst/>
          </a:prstGeom>
          <a:ln w="0">
            <a:noFill/>
          </a:ln>
        </p:spPr>
      </p:pic>
      <p:pic>
        <p:nvPicPr>
          <p:cNvPr id="1599" name="Рисунок 3" descr="0_33c2f_a4cb019d_S.gif"/>
          <p:cNvPicPr/>
          <p:nvPr/>
        </p:nvPicPr>
        <p:blipFill>
          <a:blip r:embed="rId3"/>
          <a:stretch/>
        </p:blipFill>
        <p:spPr>
          <a:xfrm flipH="1">
            <a:off x="2000160" y="1357200"/>
            <a:ext cx="1643040" cy="1192320"/>
          </a:xfrm>
          <a:prstGeom prst="rect">
            <a:avLst/>
          </a:prstGeom>
          <a:ln w="0">
            <a:noFill/>
          </a:ln>
        </p:spPr>
      </p:pic>
      <p:pic>
        <p:nvPicPr>
          <p:cNvPr id="1600" name="Рисунок 4" descr="0_33c2f_a4cb019d_S.gif"/>
          <p:cNvPicPr/>
          <p:nvPr/>
        </p:nvPicPr>
        <p:blipFill>
          <a:blip r:embed="rId4"/>
          <a:stretch/>
        </p:blipFill>
        <p:spPr>
          <a:xfrm>
            <a:off x="5857920" y="1708200"/>
            <a:ext cx="1244520" cy="901800"/>
          </a:xfrm>
          <a:prstGeom prst="rect">
            <a:avLst/>
          </a:prstGeom>
          <a:ln w="0">
            <a:noFill/>
          </a:ln>
        </p:spPr>
      </p:pic>
      <p:pic>
        <p:nvPicPr>
          <p:cNvPr id="1601" name="Рисунок 5" descr="1663179ww43l0f4hh.gif"/>
          <p:cNvPicPr/>
          <p:nvPr/>
        </p:nvPicPr>
        <p:blipFill>
          <a:blip r:embed="rId5"/>
          <a:stretch/>
        </p:blipFill>
        <p:spPr>
          <a:xfrm>
            <a:off x="5786280" y="300024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602" name="Рисунок 13" descr="0_7c292_dddaad59_XL.gif"/>
          <p:cNvPicPr/>
          <p:nvPr/>
        </p:nvPicPr>
        <p:blipFill>
          <a:blip r:embed="rId6"/>
          <a:stretch/>
        </p:blipFill>
        <p:spPr>
          <a:xfrm>
            <a:off x="4500720" y="514368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603" name="Рисунок 14" descr="5120 (1).gif"/>
          <p:cNvPicPr/>
          <p:nvPr/>
        </p:nvPicPr>
        <p:blipFill>
          <a:blip r:embed="rId7"/>
          <a:stretch/>
        </p:blipFill>
        <p:spPr>
          <a:xfrm>
            <a:off x="3890880" y="2957400"/>
            <a:ext cx="136224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Актуализация опорных знаний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WordArt 12"/>
          <p:cNvSpPr txBox="1"/>
          <p:nvPr/>
        </p:nvSpPr>
        <p:spPr>
          <a:xfrm>
            <a:off x="716040" y="727200"/>
            <a:ext cx="799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ак называются эти углы?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d90d2a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34" name="Text Box 8"/>
          <p:cNvSpPr/>
          <p:nvPr/>
        </p:nvSpPr>
        <p:spPr>
          <a:xfrm>
            <a:off x="1832040" y="26416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2b2b2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5" name="Freeform 10"/>
          <p:cNvSpPr/>
          <p:nvPr/>
        </p:nvSpPr>
        <p:spPr>
          <a:xfrm>
            <a:off x="4495680" y="3002040"/>
            <a:ext cx="1079640" cy="7189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6" name="Freeform 11"/>
          <p:cNvSpPr/>
          <p:nvPr/>
        </p:nvSpPr>
        <p:spPr>
          <a:xfrm>
            <a:off x="3271680" y="5522760"/>
            <a:ext cx="1079640" cy="7938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680" h="500">
                <a:moveTo>
                  <a:pt x="204" y="0"/>
                </a:moveTo>
                <a:lnTo>
                  <a:pt x="635" y="1"/>
                </a:lnTo>
                <a:lnTo>
                  <a:pt x="680" y="182"/>
                </a:lnTo>
                <a:lnTo>
                  <a:pt x="635" y="364"/>
                </a:lnTo>
                <a:lnTo>
                  <a:pt x="408" y="500"/>
                </a:lnTo>
                <a:lnTo>
                  <a:pt x="181" y="500"/>
                </a:lnTo>
                <a:lnTo>
                  <a:pt x="91" y="409"/>
                </a:lnTo>
                <a:lnTo>
                  <a:pt x="0" y="273"/>
                </a:lnTo>
                <a:lnTo>
                  <a:pt x="204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1758960" y="50896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2b2b2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8" name="Text Box 14"/>
          <p:cNvSpPr/>
          <p:nvPr/>
        </p:nvSpPr>
        <p:spPr>
          <a:xfrm>
            <a:off x="5648400" y="19940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2b2b2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9" name="Freeform 16"/>
          <p:cNvSpPr/>
          <p:nvPr/>
        </p:nvSpPr>
        <p:spPr>
          <a:xfrm>
            <a:off x="3632040" y="4729320"/>
            <a:ext cx="1224000" cy="792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771" h="499">
                <a:moveTo>
                  <a:pt x="0" y="499"/>
                </a:moveTo>
                <a:lnTo>
                  <a:pt x="363" y="0"/>
                </a:lnTo>
                <a:lnTo>
                  <a:pt x="589" y="91"/>
                </a:lnTo>
                <a:lnTo>
                  <a:pt x="771" y="318"/>
                </a:lnTo>
                <a:lnTo>
                  <a:pt x="771" y="499"/>
                </a:lnTo>
                <a:lnTo>
                  <a:pt x="0" y="49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0" name="Freeform 20"/>
          <p:cNvSpPr/>
          <p:nvPr/>
        </p:nvSpPr>
        <p:spPr>
          <a:xfrm>
            <a:off x="5567400" y="2281320"/>
            <a:ext cx="1233360" cy="72072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777" h="454">
                <a:moveTo>
                  <a:pt x="0" y="446"/>
                </a:moveTo>
                <a:lnTo>
                  <a:pt x="368" y="0"/>
                </a:lnTo>
                <a:lnTo>
                  <a:pt x="595" y="83"/>
                </a:lnTo>
                <a:lnTo>
                  <a:pt x="777" y="289"/>
                </a:lnTo>
                <a:lnTo>
                  <a:pt x="777" y="454"/>
                </a:lnTo>
                <a:lnTo>
                  <a:pt x="0" y="44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1" name="Freeform 22"/>
          <p:cNvSpPr/>
          <p:nvPr/>
        </p:nvSpPr>
        <p:spPr>
          <a:xfrm>
            <a:off x="2550960" y="5522760"/>
            <a:ext cx="1079640" cy="7192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2" name="Freeform 23"/>
          <p:cNvSpPr/>
          <p:nvPr/>
        </p:nvSpPr>
        <p:spPr>
          <a:xfrm>
            <a:off x="2840040" y="4730760"/>
            <a:ext cx="1084320" cy="79200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3" name="Freeform 24"/>
          <p:cNvSpPr/>
          <p:nvPr/>
        </p:nvSpPr>
        <p:spPr>
          <a:xfrm>
            <a:off x="4711680" y="2354400"/>
            <a:ext cx="1152720" cy="6872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726" h="433">
                <a:moveTo>
                  <a:pt x="526" y="409"/>
                </a:moveTo>
                <a:cubicBezTo>
                  <a:pt x="383" y="409"/>
                  <a:pt x="242" y="414"/>
                  <a:pt x="99" y="410"/>
                </a:cubicBezTo>
                <a:cubicBezTo>
                  <a:pt x="94" y="410"/>
                  <a:pt x="117" y="433"/>
                  <a:pt x="101" y="409"/>
                </a:cubicBezTo>
                <a:lnTo>
                  <a:pt x="0" y="264"/>
                </a:lnTo>
                <a:lnTo>
                  <a:pt x="99" y="117"/>
                </a:lnTo>
                <a:lnTo>
                  <a:pt x="363" y="0"/>
                </a:lnTo>
                <a:lnTo>
                  <a:pt x="594" y="59"/>
                </a:lnTo>
                <a:lnTo>
                  <a:pt x="726" y="176"/>
                </a:lnTo>
                <a:lnTo>
                  <a:pt x="526" y="40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4" name="Line 4"/>
          <p:cNvSpPr/>
          <p:nvPr/>
        </p:nvSpPr>
        <p:spPr>
          <a:xfrm>
            <a:off x="1832040" y="3002040"/>
            <a:ext cx="619272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5" name="Line 6"/>
          <p:cNvSpPr/>
          <p:nvPr/>
        </p:nvSpPr>
        <p:spPr>
          <a:xfrm flipH="1">
            <a:off x="2709360" y="1787400"/>
            <a:ext cx="3816360" cy="4897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6" name="Line 5"/>
          <p:cNvSpPr/>
          <p:nvPr/>
        </p:nvSpPr>
        <p:spPr>
          <a:xfrm>
            <a:off x="1758960" y="5521320"/>
            <a:ext cx="619272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Freeform 33"/>
          <p:cNvSpPr/>
          <p:nvPr/>
        </p:nvSpPr>
        <p:spPr>
          <a:xfrm>
            <a:off x="7486560" y="2633760"/>
            <a:ext cx="1298520" cy="1485720"/>
          </a:xfrm>
          <a:custGeom>
            <a:avLst/>
            <a:gdLst>
              <a:gd name="textAreaLeft" fmla="*/ 0 w 1298520"/>
              <a:gd name="textAreaRight" fmla="*/ 1298520 w 129852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818" h="936">
                <a:moveTo>
                  <a:pt x="513" y="0"/>
                </a:moveTo>
                <a:cubicBezTo>
                  <a:pt x="534" y="7"/>
                  <a:pt x="547" y="26"/>
                  <a:pt x="567" y="36"/>
                </a:cubicBezTo>
                <a:cubicBezTo>
                  <a:pt x="573" y="39"/>
                  <a:pt x="579" y="42"/>
                  <a:pt x="585" y="45"/>
                </a:cubicBezTo>
                <a:cubicBezTo>
                  <a:pt x="591" y="49"/>
                  <a:pt x="603" y="57"/>
                  <a:pt x="603" y="57"/>
                </a:cubicBezTo>
                <a:cubicBezTo>
                  <a:pt x="610" y="78"/>
                  <a:pt x="600" y="53"/>
                  <a:pt x="615" y="75"/>
                </a:cubicBezTo>
                <a:cubicBezTo>
                  <a:pt x="631" y="98"/>
                  <a:pt x="643" y="125"/>
                  <a:pt x="657" y="150"/>
                </a:cubicBezTo>
                <a:cubicBezTo>
                  <a:pt x="664" y="163"/>
                  <a:pt x="678" y="175"/>
                  <a:pt x="684" y="189"/>
                </a:cubicBezTo>
                <a:cubicBezTo>
                  <a:pt x="706" y="238"/>
                  <a:pt x="714" y="291"/>
                  <a:pt x="738" y="339"/>
                </a:cubicBezTo>
                <a:cubicBezTo>
                  <a:pt x="743" y="372"/>
                  <a:pt x="737" y="344"/>
                  <a:pt x="747" y="369"/>
                </a:cubicBezTo>
                <a:cubicBezTo>
                  <a:pt x="749" y="375"/>
                  <a:pt x="753" y="387"/>
                  <a:pt x="753" y="387"/>
                </a:cubicBezTo>
                <a:cubicBezTo>
                  <a:pt x="760" y="468"/>
                  <a:pt x="776" y="555"/>
                  <a:pt x="750" y="633"/>
                </a:cubicBezTo>
                <a:cubicBezTo>
                  <a:pt x="747" y="658"/>
                  <a:pt x="746" y="683"/>
                  <a:pt x="741" y="708"/>
                </a:cubicBezTo>
                <a:cubicBezTo>
                  <a:pt x="736" y="737"/>
                  <a:pt x="741" y="711"/>
                  <a:pt x="735" y="732"/>
                </a:cubicBezTo>
                <a:cubicBezTo>
                  <a:pt x="733" y="740"/>
                  <a:pt x="729" y="756"/>
                  <a:pt x="729" y="756"/>
                </a:cubicBezTo>
                <a:cubicBezTo>
                  <a:pt x="728" y="785"/>
                  <a:pt x="730" y="814"/>
                  <a:pt x="726" y="843"/>
                </a:cubicBezTo>
                <a:cubicBezTo>
                  <a:pt x="725" y="850"/>
                  <a:pt x="714" y="861"/>
                  <a:pt x="714" y="861"/>
                </a:cubicBezTo>
                <a:cubicBezTo>
                  <a:pt x="711" y="874"/>
                  <a:pt x="818" y="936"/>
                  <a:pt x="711" y="876"/>
                </a:cubicBezTo>
                <a:lnTo>
                  <a:pt x="0" y="591"/>
                </a:lnTo>
                <a:lnTo>
                  <a:pt x="513" y="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2700000"/>
          </a:grad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8" name="Freeform 32"/>
          <p:cNvSpPr/>
          <p:nvPr/>
        </p:nvSpPr>
        <p:spPr>
          <a:xfrm>
            <a:off x="6410160" y="3200400"/>
            <a:ext cx="1062360" cy="1157400"/>
          </a:xfrm>
          <a:custGeom>
            <a:avLst/>
            <a:gdLst>
              <a:gd name="textAreaLeft" fmla="*/ 0 w 1062360"/>
              <a:gd name="textAreaRight" fmla="*/ 1062720 w 106236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669" h="729">
                <a:moveTo>
                  <a:pt x="129" y="0"/>
                </a:moveTo>
                <a:cubicBezTo>
                  <a:pt x="104" y="4"/>
                  <a:pt x="86" y="13"/>
                  <a:pt x="63" y="21"/>
                </a:cubicBezTo>
                <a:cubicBezTo>
                  <a:pt x="49" y="42"/>
                  <a:pt x="57" y="35"/>
                  <a:pt x="42" y="45"/>
                </a:cubicBezTo>
                <a:cubicBezTo>
                  <a:pt x="38" y="58"/>
                  <a:pt x="30" y="69"/>
                  <a:pt x="24" y="81"/>
                </a:cubicBezTo>
                <a:cubicBezTo>
                  <a:pt x="9" y="110"/>
                  <a:pt x="6" y="154"/>
                  <a:pt x="0" y="186"/>
                </a:cubicBezTo>
                <a:cubicBezTo>
                  <a:pt x="1" y="250"/>
                  <a:pt x="0" y="314"/>
                  <a:pt x="3" y="378"/>
                </a:cubicBezTo>
                <a:cubicBezTo>
                  <a:pt x="4" y="401"/>
                  <a:pt x="23" y="433"/>
                  <a:pt x="33" y="453"/>
                </a:cubicBezTo>
                <a:cubicBezTo>
                  <a:pt x="54" y="495"/>
                  <a:pt x="77" y="534"/>
                  <a:pt x="105" y="573"/>
                </a:cubicBezTo>
                <a:lnTo>
                  <a:pt x="240" y="729"/>
                </a:lnTo>
                <a:lnTo>
                  <a:pt x="669" y="228"/>
                </a:lnTo>
                <a:lnTo>
                  <a:pt x="129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9" name="Line 8"/>
          <p:cNvSpPr/>
          <p:nvPr/>
        </p:nvSpPr>
        <p:spPr>
          <a:xfrm flipH="1">
            <a:off x="4127400" y="47628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0" name="Freeform 9"/>
          <p:cNvSpPr/>
          <p:nvPr/>
        </p:nvSpPr>
        <p:spPr>
          <a:xfrm>
            <a:off x="5148360" y="1461960"/>
            <a:ext cx="1430280" cy="171936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901" h="1083">
                <a:moveTo>
                  <a:pt x="592" y="0"/>
                </a:moveTo>
                <a:cubicBezTo>
                  <a:pt x="597" y="16"/>
                  <a:pt x="602" y="32"/>
                  <a:pt x="607" y="48"/>
                </a:cubicBezTo>
                <a:cubicBezTo>
                  <a:pt x="611" y="77"/>
                  <a:pt x="615" y="113"/>
                  <a:pt x="631" y="138"/>
                </a:cubicBezTo>
                <a:cubicBezTo>
                  <a:pt x="638" y="175"/>
                  <a:pt x="630" y="137"/>
                  <a:pt x="637" y="162"/>
                </a:cubicBezTo>
                <a:cubicBezTo>
                  <a:pt x="639" y="170"/>
                  <a:pt x="643" y="186"/>
                  <a:pt x="643" y="186"/>
                </a:cubicBezTo>
                <a:cubicBezTo>
                  <a:pt x="643" y="193"/>
                  <a:pt x="644" y="257"/>
                  <a:pt x="649" y="279"/>
                </a:cubicBezTo>
                <a:cubicBezTo>
                  <a:pt x="652" y="292"/>
                  <a:pt x="667" y="315"/>
                  <a:pt x="667" y="315"/>
                </a:cubicBezTo>
                <a:cubicBezTo>
                  <a:pt x="672" y="334"/>
                  <a:pt x="692" y="355"/>
                  <a:pt x="706" y="369"/>
                </a:cubicBezTo>
                <a:cubicBezTo>
                  <a:pt x="719" y="382"/>
                  <a:pt x="706" y="374"/>
                  <a:pt x="715" y="387"/>
                </a:cubicBezTo>
                <a:cubicBezTo>
                  <a:pt x="728" y="408"/>
                  <a:pt x="744" y="428"/>
                  <a:pt x="760" y="447"/>
                </a:cubicBezTo>
                <a:cubicBezTo>
                  <a:pt x="771" y="460"/>
                  <a:pt x="781" y="472"/>
                  <a:pt x="790" y="486"/>
                </a:cubicBezTo>
                <a:cubicBezTo>
                  <a:pt x="796" y="495"/>
                  <a:pt x="805" y="513"/>
                  <a:pt x="805" y="513"/>
                </a:cubicBezTo>
                <a:cubicBezTo>
                  <a:pt x="812" y="540"/>
                  <a:pt x="827" y="596"/>
                  <a:pt x="841" y="618"/>
                </a:cubicBezTo>
                <a:cubicBezTo>
                  <a:pt x="846" y="637"/>
                  <a:pt x="859" y="649"/>
                  <a:pt x="865" y="666"/>
                </a:cubicBezTo>
                <a:cubicBezTo>
                  <a:pt x="875" y="697"/>
                  <a:pt x="887" y="726"/>
                  <a:pt x="892" y="759"/>
                </a:cubicBezTo>
                <a:cubicBezTo>
                  <a:pt x="894" y="818"/>
                  <a:pt x="893" y="843"/>
                  <a:pt x="901" y="891"/>
                </a:cubicBezTo>
                <a:cubicBezTo>
                  <a:pt x="900" y="961"/>
                  <a:pt x="895" y="1019"/>
                  <a:pt x="895" y="1083"/>
                </a:cubicBezTo>
                <a:lnTo>
                  <a:pt x="0" y="69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1" name="Text Box 10"/>
          <p:cNvSpPr/>
          <p:nvPr/>
        </p:nvSpPr>
        <p:spPr>
          <a:xfrm>
            <a:off x="4861080" y="2131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2" name="Text Box 11"/>
          <p:cNvSpPr/>
          <p:nvPr/>
        </p:nvSpPr>
        <p:spPr>
          <a:xfrm>
            <a:off x="6804000" y="115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3" name="Text Box 12"/>
          <p:cNvSpPr/>
          <p:nvPr/>
        </p:nvSpPr>
        <p:spPr>
          <a:xfrm>
            <a:off x="6300720" y="4941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4" name="Text Box 13"/>
          <p:cNvSpPr/>
          <p:nvPr/>
        </p:nvSpPr>
        <p:spPr>
          <a:xfrm>
            <a:off x="853272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5" name="Text Box 14"/>
          <p:cNvSpPr/>
          <p:nvPr/>
        </p:nvSpPr>
        <p:spPr>
          <a:xfrm>
            <a:off x="730872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6" name="Text Box 15"/>
          <p:cNvSpPr/>
          <p:nvPr/>
        </p:nvSpPr>
        <p:spPr>
          <a:xfrm>
            <a:off x="4140360" y="3500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7" name="Text Box 16"/>
          <p:cNvSpPr/>
          <p:nvPr/>
        </p:nvSpPr>
        <p:spPr>
          <a:xfrm>
            <a:off x="356400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8" name="WordArt 18"/>
          <p:cNvSpPr txBox="1"/>
          <p:nvPr/>
        </p:nvSpPr>
        <p:spPr>
          <a:xfrm>
            <a:off x="285840" y="214200"/>
            <a:ext cx="55767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азовите угол, который составляет</a:t>
            </a:r>
            <a:endParaRPr b="0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 углом АВС </a:t>
            </a:r>
            <a:endParaRPr b="0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ару углов:</a:t>
            </a:r>
            <a:endParaRPr b="0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59" name="Text Box 19"/>
          <p:cNvSpPr/>
          <p:nvPr/>
        </p:nvSpPr>
        <p:spPr>
          <a:xfrm>
            <a:off x="179280" y="1916280"/>
            <a:ext cx="35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0d2a"/>
                </a:solidFill>
                <a:latin typeface="Monotype Corsiva"/>
              </a:rPr>
              <a:t>а) односторонних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0" name="Text Box 21"/>
          <p:cNvSpPr/>
          <p:nvPr/>
        </p:nvSpPr>
        <p:spPr>
          <a:xfrm rot="350400">
            <a:off x="8459280" y="1628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1" name="Freeform 27"/>
          <p:cNvSpPr/>
          <p:nvPr/>
        </p:nvSpPr>
        <p:spPr>
          <a:xfrm>
            <a:off x="6732720" y="2506680"/>
            <a:ext cx="1368360" cy="10666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891" h="672">
                <a:moveTo>
                  <a:pt x="0" y="449"/>
                </a:moveTo>
                <a:cubicBezTo>
                  <a:pt x="30" y="404"/>
                  <a:pt x="4" y="447"/>
                  <a:pt x="9" y="311"/>
                </a:cubicBezTo>
                <a:cubicBezTo>
                  <a:pt x="10" y="276"/>
                  <a:pt x="23" y="255"/>
                  <a:pt x="45" y="230"/>
                </a:cubicBezTo>
                <a:cubicBezTo>
                  <a:pt x="52" y="223"/>
                  <a:pt x="68" y="200"/>
                  <a:pt x="78" y="197"/>
                </a:cubicBezTo>
                <a:cubicBezTo>
                  <a:pt x="92" y="175"/>
                  <a:pt x="116" y="154"/>
                  <a:pt x="138" y="140"/>
                </a:cubicBezTo>
                <a:cubicBezTo>
                  <a:pt x="156" y="113"/>
                  <a:pt x="184" y="85"/>
                  <a:pt x="216" y="74"/>
                </a:cubicBezTo>
                <a:cubicBezTo>
                  <a:pt x="290" y="0"/>
                  <a:pt x="378" y="16"/>
                  <a:pt x="483" y="14"/>
                </a:cubicBezTo>
                <a:cubicBezTo>
                  <a:pt x="499" y="9"/>
                  <a:pt x="515" y="5"/>
                  <a:pt x="531" y="2"/>
                </a:cubicBezTo>
                <a:cubicBezTo>
                  <a:pt x="564" y="13"/>
                  <a:pt x="607" y="11"/>
                  <a:pt x="642" y="17"/>
                </a:cubicBezTo>
                <a:cubicBezTo>
                  <a:pt x="666" y="33"/>
                  <a:pt x="637" y="12"/>
                  <a:pt x="657" y="32"/>
                </a:cubicBezTo>
                <a:cubicBezTo>
                  <a:pt x="663" y="38"/>
                  <a:pt x="704" y="56"/>
                  <a:pt x="714" y="59"/>
                </a:cubicBezTo>
                <a:cubicBezTo>
                  <a:pt x="723" y="72"/>
                  <a:pt x="754" y="97"/>
                  <a:pt x="768" y="107"/>
                </a:cubicBezTo>
                <a:cubicBezTo>
                  <a:pt x="774" y="111"/>
                  <a:pt x="779" y="117"/>
                  <a:pt x="786" y="119"/>
                </a:cubicBezTo>
                <a:cubicBezTo>
                  <a:pt x="792" y="121"/>
                  <a:pt x="804" y="125"/>
                  <a:pt x="804" y="125"/>
                </a:cubicBezTo>
                <a:cubicBezTo>
                  <a:pt x="806" y="128"/>
                  <a:pt x="807" y="132"/>
                  <a:pt x="810" y="134"/>
                </a:cubicBezTo>
                <a:cubicBezTo>
                  <a:pt x="812" y="136"/>
                  <a:pt x="813" y="131"/>
                  <a:pt x="819" y="137"/>
                </a:cubicBezTo>
                <a:lnTo>
                  <a:pt x="891" y="218"/>
                </a:lnTo>
                <a:lnTo>
                  <a:pt x="482" y="672"/>
                </a:lnTo>
                <a:lnTo>
                  <a:pt x="0" y="44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6f89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2" name="Line 20"/>
          <p:cNvSpPr/>
          <p:nvPr/>
        </p:nvSpPr>
        <p:spPr>
          <a:xfrm flipH="1">
            <a:off x="6156360" y="184464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3" name="Line 4"/>
          <p:cNvSpPr/>
          <p:nvPr/>
        </p:nvSpPr>
        <p:spPr>
          <a:xfrm>
            <a:off x="3708360" y="1989000"/>
            <a:ext cx="5040360" cy="2089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4" name="Text Box 30"/>
          <p:cNvSpPr/>
          <p:nvPr/>
        </p:nvSpPr>
        <p:spPr>
          <a:xfrm>
            <a:off x="179280" y="270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0d2a"/>
                </a:solidFill>
                <a:latin typeface="Monotype Corsiva"/>
              </a:rPr>
              <a:t>б) накрест лежащих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5" name="Text Box 31"/>
          <p:cNvSpPr/>
          <p:nvPr/>
        </p:nvSpPr>
        <p:spPr>
          <a:xfrm>
            <a:off x="179280" y="350028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0d2a"/>
                </a:solidFill>
                <a:latin typeface="Monotype Corsiva"/>
              </a:rPr>
              <a:t>в) соответственных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Group 17"/>
          <p:cNvGrpSpPr/>
          <p:nvPr/>
        </p:nvGrpSpPr>
        <p:grpSpPr>
          <a:xfrm>
            <a:off x="900000" y="549360"/>
            <a:ext cx="3456000" cy="1688760"/>
            <a:chOff x="900000" y="549360"/>
            <a:chExt cx="3456000" cy="1688760"/>
          </a:xfrm>
        </p:grpSpPr>
        <p:sp>
          <p:nvSpPr>
            <p:cNvPr id="1367" name="Rectangle 4"/>
            <p:cNvSpPr/>
            <p:nvPr/>
          </p:nvSpPr>
          <p:spPr>
            <a:xfrm>
              <a:off x="900000" y="549360"/>
              <a:ext cx="3456000" cy="1584000"/>
            </a:xfrm>
            <a:prstGeom prst="rect">
              <a:avLst/>
            </a:prstGeom>
            <a:solidFill>
              <a:srgbClr val="ddfbff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8" name="Text Box 8"/>
            <p:cNvSpPr/>
            <p:nvPr/>
          </p:nvSpPr>
          <p:spPr>
            <a:xfrm>
              <a:off x="1042920" y="1628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9933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9" name="Text Box 9"/>
            <p:cNvSpPr/>
            <p:nvPr/>
          </p:nvSpPr>
          <p:spPr>
            <a:xfrm>
              <a:off x="1187280" y="7650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9933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0" name="Text Box 10"/>
            <p:cNvSpPr/>
            <p:nvPr/>
          </p:nvSpPr>
          <p:spPr>
            <a:xfrm>
              <a:off x="2340000" y="17730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1" name="Freeform 11"/>
            <p:cNvSpPr/>
            <p:nvPr/>
          </p:nvSpPr>
          <p:spPr>
            <a:xfrm>
              <a:off x="2195640" y="909360"/>
              <a:ext cx="360360" cy="215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27" h="136">
                  <a:moveTo>
                    <a:pt x="0" y="0"/>
                  </a:moveTo>
                  <a:lnTo>
                    <a:pt x="46" y="136"/>
                  </a:lnTo>
                  <a:lnTo>
                    <a:pt x="227" y="4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b049"/>
                </a:gs>
                <a:gs pos="100000">
                  <a:srgbClr val="f8b049"/>
                </a:gs>
              </a:gsLst>
              <a:lin ang="18900000"/>
            </a:gradFill>
            <a:ln w="0">
              <a:solidFill>
                <a:srgbClr val="ddfb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2" name="Freeform 12"/>
            <p:cNvSpPr/>
            <p:nvPr/>
          </p:nvSpPr>
          <p:spPr>
            <a:xfrm>
              <a:off x="2411280" y="1484280"/>
              <a:ext cx="576360" cy="3600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363" h="227">
                  <a:moveTo>
                    <a:pt x="91" y="137"/>
                  </a:moveTo>
                  <a:lnTo>
                    <a:pt x="363" y="227"/>
                  </a:lnTo>
                  <a:lnTo>
                    <a:pt x="0" y="0"/>
                  </a:lnTo>
                  <a:lnTo>
                    <a:pt x="91" y="137"/>
                  </a:lnTo>
                  <a:close/>
                </a:path>
              </a:pathLst>
            </a:cu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2700000"/>
            </a:gradFill>
            <a:ln w="0">
              <a:solidFill>
                <a:srgbClr val="ddfb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3" name="Line 5"/>
            <p:cNvSpPr/>
            <p:nvPr/>
          </p:nvSpPr>
          <p:spPr>
            <a:xfrm>
              <a:off x="1476360" y="765000"/>
              <a:ext cx="2232000" cy="5029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4" name="Line 7"/>
            <p:cNvSpPr/>
            <p:nvPr/>
          </p:nvSpPr>
          <p:spPr>
            <a:xfrm>
              <a:off x="2050920" y="620640"/>
              <a:ext cx="649440" cy="14392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5" name="Line 6"/>
            <p:cNvSpPr/>
            <p:nvPr/>
          </p:nvSpPr>
          <p:spPr>
            <a:xfrm>
              <a:off x="1187280" y="1412640"/>
              <a:ext cx="2232360" cy="5029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6" name="Text Box 14"/>
            <p:cNvSpPr/>
            <p:nvPr/>
          </p:nvSpPr>
          <p:spPr>
            <a:xfrm>
              <a:off x="2195640" y="909360"/>
              <a:ext cx="50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ahoma"/>
                </a:rPr>
                <a:t>50</a:t>
              </a:r>
              <a:r>
                <a:rPr b="1" lang="en-US" sz="2400" spc="-1" strike="noStrike" baseline="30000">
                  <a:solidFill>
                    <a:srgbClr val="40458c"/>
                  </a:solidFill>
                  <a:latin typeface="Tahoma"/>
                  <a:ea typeface="Arial"/>
                </a:rPr>
                <a:t>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7" name="Text Box 15"/>
            <p:cNvSpPr/>
            <p:nvPr/>
          </p:nvSpPr>
          <p:spPr>
            <a:xfrm>
              <a:off x="2556000" y="1412640"/>
              <a:ext cx="6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ahoma"/>
                </a:rPr>
                <a:t>130</a:t>
              </a:r>
              <a:r>
                <a:rPr b="1" lang="en-US" sz="2400" spc="-1" strike="noStrike" baseline="30000">
                  <a:solidFill>
                    <a:srgbClr val="40458c"/>
                  </a:solidFill>
                  <a:latin typeface="Tahoma"/>
                  <a:ea typeface="Arial"/>
                </a:rPr>
                <a:t>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78" name="Rectangle 19"/>
          <p:cNvSpPr/>
          <p:nvPr/>
        </p:nvSpPr>
        <p:spPr>
          <a:xfrm>
            <a:off x="900000" y="2565360"/>
            <a:ext cx="3456000" cy="1584360"/>
          </a:xfrm>
          <a:prstGeom prst="rect">
            <a:avLst/>
          </a:prstGeom>
          <a:solidFill>
            <a:srgbClr val="ddfb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9" name="Text Box 20"/>
          <p:cNvSpPr/>
          <p:nvPr/>
        </p:nvSpPr>
        <p:spPr>
          <a:xfrm>
            <a:off x="2411280" y="2708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0" name="Text Box 21"/>
          <p:cNvSpPr/>
          <p:nvPr/>
        </p:nvSpPr>
        <p:spPr>
          <a:xfrm>
            <a:off x="118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1" name="Text Box 22"/>
          <p:cNvSpPr/>
          <p:nvPr/>
        </p:nvSpPr>
        <p:spPr>
          <a:xfrm>
            <a:off x="3203640" y="3573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2" name="Line 26"/>
          <p:cNvSpPr/>
          <p:nvPr/>
        </p:nvSpPr>
        <p:spPr>
          <a:xfrm>
            <a:off x="2268360" y="2637000"/>
            <a:ext cx="649440" cy="1439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3" name="Rectangle 31"/>
          <p:cNvSpPr/>
          <p:nvPr/>
        </p:nvSpPr>
        <p:spPr>
          <a:xfrm>
            <a:off x="900000" y="4508640"/>
            <a:ext cx="3456000" cy="1584360"/>
          </a:xfrm>
          <a:prstGeom prst="rect">
            <a:avLst/>
          </a:prstGeom>
          <a:solidFill>
            <a:srgbClr val="ddfb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4" name="Text Box 32"/>
          <p:cNvSpPr/>
          <p:nvPr/>
        </p:nvSpPr>
        <p:spPr>
          <a:xfrm>
            <a:off x="2340000" y="4508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5" name="Text Box 33"/>
          <p:cNvSpPr/>
          <p:nvPr/>
        </p:nvSpPr>
        <p:spPr>
          <a:xfrm>
            <a:off x="378000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6" name="Text Box 34"/>
          <p:cNvSpPr/>
          <p:nvPr/>
        </p:nvSpPr>
        <p:spPr>
          <a:xfrm>
            <a:off x="3419640" y="5516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7" name="Freeform 43"/>
          <p:cNvSpPr/>
          <p:nvPr/>
        </p:nvSpPr>
        <p:spPr>
          <a:xfrm>
            <a:off x="2268360" y="2997360"/>
            <a:ext cx="503280" cy="792000"/>
          </a:xfrm>
          <a:custGeom>
            <a:avLst/>
            <a:gdLst>
              <a:gd name="textAreaLeft" fmla="*/ 0 w 503280"/>
              <a:gd name="textAreaRight" fmla="*/ 503640 w 503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7" h="499">
                <a:moveTo>
                  <a:pt x="317" y="499"/>
                </a:moveTo>
                <a:lnTo>
                  <a:pt x="0" y="408"/>
                </a:lnTo>
                <a:lnTo>
                  <a:pt x="90" y="0"/>
                </a:lnTo>
                <a:lnTo>
                  <a:pt x="317" y="499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0">
            <a:solidFill>
              <a:srgbClr val="ddfb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8" name="Freeform 44"/>
          <p:cNvSpPr/>
          <p:nvPr/>
        </p:nvSpPr>
        <p:spPr>
          <a:xfrm>
            <a:off x="1258920" y="2997360"/>
            <a:ext cx="576360" cy="57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363" h="363">
                <a:moveTo>
                  <a:pt x="363" y="363"/>
                </a:moveTo>
                <a:lnTo>
                  <a:pt x="0" y="272"/>
                </a:lnTo>
                <a:lnTo>
                  <a:pt x="182" y="0"/>
                </a:lnTo>
                <a:lnTo>
                  <a:pt x="363" y="363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2700000"/>
          </a:gradFill>
          <a:ln w="0">
            <a:solidFill>
              <a:srgbClr val="ddfb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9" name="Line 42"/>
          <p:cNvSpPr/>
          <p:nvPr/>
        </p:nvSpPr>
        <p:spPr>
          <a:xfrm>
            <a:off x="1403280" y="2637000"/>
            <a:ext cx="649440" cy="1439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0" name="Line 27"/>
          <p:cNvSpPr/>
          <p:nvPr/>
        </p:nvSpPr>
        <p:spPr>
          <a:xfrm>
            <a:off x="1187280" y="3429000"/>
            <a:ext cx="2232360" cy="50328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1" name="Text Box 28"/>
          <p:cNvSpPr/>
          <p:nvPr/>
        </p:nvSpPr>
        <p:spPr>
          <a:xfrm>
            <a:off x="1332000" y="314172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5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2" name="Text Box 29"/>
          <p:cNvSpPr/>
          <p:nvPr/>
        </p:nvSpPr>
        <p:spPr>
          <a:xfrm>
            <a:off x="2195640" y="33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5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3" name="Freeform 49"/>
          <p:cNvSpPr/>
          <p:nvPr/>
        </p:nvSpPr>
        <p:spPr>
          <a:xfrm>
            <a:off x="1116000" y="5445000"/>
            <a:ext cx="792000" cy="14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99" h="91">
                <a:moveTo>
                  <a:pt x="181" y="0"/>
                </a:moveTo>
                <a:lnTo>
                  <a:pt x="0" y="91"/>
                </a:lnTo>
                <a:lnTo>
                  <a:pt x="499" y="45"/>
                </a:lnTo>
                <a:lnTo>
                  <a:pt x="181" y="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solidFill>
              <a:srgbClr val="ddfb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4" name="Freeform 50"/>
          <p:cNvSpPr/>
          <p:nvPr/>
        </p:nvSpPr>
        <p:spPr>
          <a:xfrm>
            <a:off x="2124000" y="5445000"/>
            <a:ext cx="935280" cy="289080"/>
          </a:xfrm>
          <a:custGeom>
            <a:avLst/>
            <a:gdLst>
              <a:gd name="textAreaLeft" fmla="*/ 0 w 935280"/>
              <a:gd name="textAreaRight" fmla="*/ 935640 w 935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89" h="182">
                <a:moveTo>
                  <a:pt x="317" y="182"/>
                </a:moveTo>
                <a:lnTo>
                  <a:pt x="0" y="91"/>
                </a:lnTo>
                <a:lnTo>
                  <a:pt x="589" y="0"/>
                </a:lnTo>
                <a:lnTo>
                  <a:pt x="317" y="182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18900000"/>
          </a:gradFill>
          <a:ln w="0">
            <a:solidFill>
              <a:srgbClr val="ddfb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5" name="Line 45"/>
          <p:cNvSpPr/>
          <p:nvPr/>
        </p:nvSpPr>
        <p:spPr>
          <a:xfrm flipV="1">
            <a:off x="1116000" y="4724280"/>
            <a:ext cx="1584360" cy="86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6" name="Line 39"/>
          <p:cNvSpPr/>
          <p:nvPr/>
        </p:nvSpPr>
        <p:spPr>
          <a:xfrm>
            <a:off x="1187280" y="5372280"/>
            <a:ext cx="2232360" cy="50292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7" name="Line 46"/>
          <p:cNvSpPr/>
          <p:nvPr/>
        </p:nvSpPr>
        <p:spPr>
          <a:xfrm flipV="1">
            <a:off x="2195640" y="5084640"/>
            <a:ext cx="1584360" cy="86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8" name="Text Box 41"/>
          <p:cNvSpPr/>
          <p:nvPr/>
        </p:nvSpPr>
        <p:spPr>
          <a:xfrm>
            <a:off x="1116000" y="544500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9" name="Text Box 40"/>
          <p:cNvSpPr/>
          <p:nvPr/>
        </p:nvSpPr>
        <p:spPr>
          <a:xfrm>
            <a:off x="2340000" y="530064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4788000" y="692280"/>
            <a:ext cx="3456000" cy="1079280"/>
          </a:xfrm>
          <a:prstGeom prst="rect">
            <a:avLst/>
          </a:prstGeom>
          <a:solidFill>
            <a:srgbClr val="ddfb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b2b2b2"/>
                </a:solidFill>
                <a:latin typeface="Tahoma"/>
                <a:ea typeface="Arial"/>
              </a:rPr>
              <a:t>||b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, т.к. внутренни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накрест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 лежащи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углы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равн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1" name="Rectangle 52"/>
          <p:cNvSpPr/>
          <p:nvPr/>
        </p:nvSpPr>
        <p:spPr>
          <a:xfrm>
            <a:off x="4788000" y="2781360"/>
            <a:ext cx="3456000" cy="1079280"/>
          </a:xfrm>
          <a:prstGeom prst="rect">
            <a:avLst/>
          </a:prstGeom>
          <a:solidFill>
            <a:srgbClr val="ddfb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b2b2b2"/>
                </a:solidFill>
                <a:latin typeface="Tahoma"/>
                <a:ea typeface="Arial"/>
              </a:rPr>
              <a:t>||b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, т.к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соответственны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углы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равн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2" name="Rectangle 53"/>
          <p:cNvSpPr/>
          <p:nvPr/>
        </p:nvSpPr>
        <p:spPr>
          <a:xfrm>
            <a:off x="4716360" y="4581360"/>
            <a:ext cx="3600720" cy="1441440"/>
          </a:xfrm>
          <a:prstGeom prst="rect">
            <a:avLst/>
          </a:prstGeom>
          <a:solidFill>
            <a:srgbClr val="ddfb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b2b2b2"/>
                </a:solidFill>
                <a:latin typeface="Tahoma"/>
                <a:ea typeface="Arial"/>
              </a:rPr>
              <a:t>||b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, т.к. сум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внутрен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односторонних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 угл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 18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3" name="AutoShape 54"/>
          <p:cNvSpPr/>
          <p:nvPr/>
        </p:nvSpPr>
        <p:spPr>
          <a:xfrm rot="20099400">
            <a:off x="4213080" y="1779480"/>
            <a:ext cx="360360" cy="3672000"/>
          </a:xfrm>
          <a:prstGeom prst="upDownArrow">
            <a:avLst>
              <a:gd name="adj1" fmla="val 50000"/>
              <a:gd name="adj2" fmla="val 202853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500000"/>
          </a:gradFill>
          <a:ln w="9360">
            <a:solidFill>
              <a:srgbClr val="fea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4" name="AutoShape 55"/>
          <p:cNvSpPr/>
          <p:nvPr/>
        </p:nvSpPr>
        <p:spPr>
          <a:xfrm rot="5400000">
            <a:off x="4067640" y="2421720"/>
            <a:ext cx="360360" cy="1942920"/>
          </a:xfrm>
          <a:prstGeom prst="upDownArrow">
            <a:avLst>
              <a:gd name="adj1" fmla="val 50000"/>
              <a:gd name="adj2" fmla="val 107333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fea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5" name="AutoShape 56"/>
          <p:cNvSpPr/>
          <p:nvPr/>
        </p:nvSpPr>
        <p:spPr>
          <a:xfrm rot="2004000">
            <a:off x="4079520" y="1224000"/>
            <a:ext cx="360360" cy="4295880"/>
          </a:xfrm>
          <a:prstGeom prst="upDownArrow">
            <a:avLst>
              <a:gd name="adj1" fmla="val 50000"/>
              <a:gd name="adj2" fmla="val 23731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9596000"/>
          </a:gradFill>
          <a:ln w="9360">
            <a:solidFill>
              <a:srgbClr val="fea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6" name="AutoShape 57"/>
          <p:cNvSpPr/>
          <p:nvPr/>
        </p:nvSpPr>
        <p:spPr>
          <a:xfrm>
            <a:off x="0" y="98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7" name="AutoShape 58"/>
          <p:cNvSpPr/>
          <p:nvPr/>
        </p:nvSpPr>
        <p:spPr>
          <a:xfrm>
            <a:off x="0" y="2781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8" name="AutoShape 59"/>
          <p:cNvSpPr/>
          <p:nvPr/>
        </p:nvSpPr>
        <p:spPr>
          <a:xfrm>
            <a:off x="0" y="4797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9" name="Text Box 60"/>
          <p:cNvSpPr/>
          <p:nvPr/>
        </p:nvSpPr>
        <p:spPr>
          <a:xfrm>
            <a:off x="1052640" y="-1584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Monotype Corsiva"/>
              </a:rPr>
              <a:t>Соотнесите чертеж и его описание.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Freeform 33"/>
          <p:cNvSpPr/>
          <p:nvPr/>
        </p:nvSpPr>
        <p:spPr>
          <a:xfrm>
            <a:off x="5364000" y="2124000"/>
            <a:ext cx="1519560" cy="122868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957" h="774">
                <a:moveTo>
                  <a:pt x="917" y="0"/>
                </a:moveTo>
                <a:cubicBezTo>
                  <a:pt x="957" y="121"/>
                  <a:pt x="947" y="267"/>
                  <a:pt x="876" y="366"/>
                </a:cubicBezTo>
                <a:cubicBezTo>
                  <a:pt x="859" y="389"/>
                  <a:pt x="861" y="405"/>
                  <a:pt x="840" y="426"/>
                </a:cubicBezTo>
                <a:cubicBezTo>
                  <a:pt x="826" y="468"/>
                  <a:pt x="779" y="487"/>
                  <a:pt x="744" y="510"/>
                </a:cubicBezTo>
                <a:cubicBezTo>
                  <a:pt x="687" y="596"/>
                  <a:pt x="568" y="649"/>
                  <a:pt x="474" y="684"/>
                </a:cubicBezTo>
                <a:cubicBezTo>
                  <a:pt x="433" y="699"/>
                  <a:pt x="399" y="727"/>
                  <a:pt x="360" y="744"/>
                </a:cubicBezTo>
                <a:cubicBezTo>
                  <a:pt x="303" y="769"/>
                  <a:pt x="262" y="770"/>
                  <a:pt x="198" y="774"/>
                </a:cubicBezTo>
                <a:cubicBezTo>
                  <a:pt x="171" y="772"/>
                  <a:pt x="55" y="756"/>
                  <a:pt x="0" y="756"/>
                </a:cubicBezTo>
                <a:lnTo>
                  <a:pt x="335" y="183"/>
                </a:lnTo>
                <a:lnTo>
                  <a:pt x="9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11" name="Freeform 27"/>
          <p:cNvGrpSpPr/>
          <p:nvPr/>
        </p:nvGrpSpPr>
        <p:grpSpPr>
          <a:xfrm>
            <a:off x="4973760" y="1584360"/>
            <a:ext cx="1366560" cy="1128240"/>
            <a:chOff x="4973760" y="1584360"/>
            <a:chExt cx="1366560" cy="1128240"/>
          </a:xfrm>
        </p:grpSpPr>
        <p:pic>
          <p:nvPicPr>
            <p:cNvPr id="1412" name="Freeform 27" descr=""/>
            <p:cNvPicPr/>
            <p:nvPr/>
          </p:nvPicPr>
          <p:blipFill>
            <a:blip r:embed="rId2"/>
            <a:stretch/>
          </p:blipFill>
          <p:spPr>
            <a:xfrm>
              <a:off x="4973760" y="1622520"/>
              <a:ext cx="136656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4981680" y="1584360"/>
              <a:ext cx="135864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14" name="Freeform 26"/>
          <p:cNvSpPr/>
          <p:nvPr/>
        </p:nvSpPr>
        <p:spPr>
          <a:xfrm>
            <a:off x="4602240" y="2419200"/>
            <a:ext cx="1288800" cy="1200240"/>
          </a:xfrm>
          <a:custGeom>
            <a:avLst/>
            <a:gdLst>
              <a:gd name="textAreaLeft" fmla="*/ 0 w 1288800"/>
              <a:gd name="textAreaRight" fmla="*/ 1289160 w 128880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812" h="756">
                <a:moveTo>
                  <a:pt x="17" y="258"/>
                </a:moveTo>
                <a:cubicBezTo>
                  <a:pt x="17" y="271"/>
                  <a:pt x="0" y="509"/>
                  <a:pt x="65" y="552"/>
                </a:cubicBezTo>
                <a:cubicBezTo>
                  <a:pt x="99" y="604"/>
                  <a:pt x="54" y="543"/>
                  <a:pt x="95" y="576"/>
                </a:cubicBezTo>
                <a:cubicBezTo>
                  <a:pt x="134" y="607"/>
                  <a:pt x="80" y="585"/>
                  <a:pt x="125" y="600"/>
                </a:cubicBezTo>
                <a:cubicBezTo>
                  <a:pt x="147" y="633"/>
                  <a:pt x="124" y="607"/>
                  <a:pt x="155" y="624"/>
                </a:cubicBezTo>
                <a:cubicBezTo>
                  <a:pt x="168" y="631"/>
                  <a:pt x="191" y="648"/>
                  <a:pt x="191" y="648"/>
                </a:cubicBezTo>
                <a:cubicBezTo>
                  <a:pt x="205" y="669"/>
                  <a:pt x="215" y="676"/>
                  <a:pt x="239" y="684"/>
                </a:cubicBezTo>
                <a:cubicBezTo>
                  <a:pt x="257" y="711"/>
                  <a:pt x="331" y="756"/>
                  <a:pt x="365" y="756"/>
                </a:cubicBezTo>
                <a:lnTo>
                  <a:pt x="812" y="0"/>
                </a:lnTo>
                <a:lnTo>
                  <a:pt x="17" y="258"/>
                </a:lnTo>
                <a:close/>
              </a:path>
            </a:pathLst>
          </a:cu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0"/>
          </a:gradFill>
          <a:ln w="324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5" name="Freeform 25"/>
          <p:cNvSpPr/>
          <p:nvPr/>
        </p:nvSpPr>
        <p:spPr>
          <a:xfrm>
            <a:off x="3365640" y="4048200"/>
            <a:ext cx="1539720" cy="121896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70" h="768">
                <a:moveTo>
                  <a:pt x="40" y="768"/>
                </a:moveTo>
                <a:cubicBezTo>
                  <a:pt x="0" y="647"/>
                  <a:pt x="23" y="507"/>
                  <a:pt x="94" y="408"/>
                </a:cubicBezTo>
                <a:cubicBezTo>
                  <a:pt x="111" y="385"/>
                  <a:pt x="109" y="369"/>
                  <a:pt x="130" y="348"/>
                </a:cubicBezTo>
                <a:cubicBezTo>
                  <a:pt x="144" y="306"/>
                  <a:pt x="191" y="287"/>
                  <a:pt x="226" y="264"/>
                </a:cubicBezTo>
                <a:cubicBezTo>
                  <a:pt x="283" y="178"/>
                  <a:pt x="402" y="125"/>
                  <a:pt x="496" y="90"/>
                </a:cubicBezTo>
                <a:cubicBezTo>
                  <a:pt x="537" y="75"/>
                  <a:pt x="571" y="47"/>
                  <a:pt x="610" y="30"/>
                </a:cubicBezTo>
                <a:cubicBezTo>
                  <a:pt x="667" y="5"/>
                  <a:pt x="708" y="4"/>
                  <a:pt x="772" y="0"/>
                </a:cubicBezTo>
                <a:cubicBezTo>
                  <a:pt x="799" y="2"/>
                  <a:pt x="915" y="18"/>
                  <a:pt x="970" y="18"/>
                </a:cubicBezTo>
                <a:lnTo>
                  <a:pt x="640" y="579"/>
                </a:lnTo>
                <a:lnTo>
                  <a:pt x="40" y="76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24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6" name="Line 4"/>
          <p:cNvSpPr/>
          <p:nvPr/>
        </p:nvSpPr>
        <p:spPr>
          <a:xfrm flipV="1">
            <a:off x="1908000" y="2060280"/>
            <a:ext cx="5112000" cy="165564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7" name="Line 5"/>
          <p:cNvSpPr/>
          <p:nvPr/>
        </p:nvSpPr>
        <p:spPr>
          <a:xfrm flipV="1">
            <a:off x="2916360" y="3789000"/>
            <a:ext cx="5111640" cy="165564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8" name="Line 6"/>
          <p:cNvSpPr/>
          <p:nvPr/>
        </p:nvSpPr>
        <p:spPr>
          <a:xfrm flipH="1">
            <a:off x="3634920" y="1125360"/>
            <a:ext cx="3024360" cy="5112000"/>
          </a:xfrm>
          <a:prstGeom prst="line">
            <a:avLst/>
          </a:prstGeom>
          <a:ln w="28440">
            <a:solidFill>
              <a:srgbClr val="d90d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9" name="WordArt 13"/>
          <p:cNvSpPr txBox="1"/>
          <p:nvPr/>
        </p:nvSpPr>
        <p:spPr>
          <a:xfrm>
            <a:off x="468360" y="244440"/>
            <a:ext cx="83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40458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акой величиной заменим знак вопроса,</a:t>
            </a:r>
            <a:endParaRPr b="1" lang="en-US" sz="2400" spc="1" strike="noStrike">
              <a:ln w="12600">
                <a:solidFill>
                  <a:srgbClr val="40458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40458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ля того, чтобы прямые были параллельны?</a:t>
            </a:r>
            <a:endParaRPr b="1" lang="en-US" sz="2400" spc="1" strike="noStrike">
              <a:ln w="12600">
                <a:solidFill>
                  <a:srgbClr val="40458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20" name="Text Box 14"/>
          <p:cNvSpPr/>
          <p:nvPr/>
        </p:nvSpPr>
        <p:spPr>
          <a:xfrm>
            <a:off x="255600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3355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1" name="Text Box 15"/>
          <p:cNvSpPr/>
          <p:nvPr/>
        </p:nvSpPr>
        <p:spPr>
          <a:xfrm>
            <a:off x="1763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3355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2" name="Text Box 16"/>
          <p:cNvSpPr/>
          <p:nvPr/>
        </p:nvSpPr>
        <p:spPr>
          <a:xfrm>
            <a:off x="3708360" y="602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3" name="Text Box 20"/>
          <p:cNvSpPr/>
          <p:nvPr/>
        </p:nvSpPr>
        <p:spPr>
          <a:xfrm>
            <a:off x="586728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4" name="Text Box 23"/>
          <p:cNvSpPr/>
          <p:nvPr/>
        </p:nvSpPr>
        <p:spPr>
          <a:xfrm>
            <a:off x="579600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5" name="Text Box 28"/>
          <p:cNvSpPr/>
          <p:nvPr/>
        </p:nvSpPr>
        <p:spPr>
          <a:xfrm>
            <a:off x="3708360" y="450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6" name="Text Box 29"/>
          <p:cNvSpPr/>
          <p:nvPr/>
        </p:nvSpPr>
        <p:spPr>
          <a:xfrm>
            <a:off x="5076720" y="2708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7" name="Text Box 30"/>
          <p:cNvSpPr/>
          <p:nvPr/>
        </p:nvSpPr>
        <p:spPr>
          <a:xfrm>
            <a:off x="4932360" y="2708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8" name="Text Box 31"/>
          <p:cNvSpPr/>
          <p:nvPr/>
        </p:nvSpPr>
        <p:spPr>
          <a:xfrm>
            <a:off x="543564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9" name="Text Box 32"/>
          <p:cNvSpPr/>
          <p:nvPr/>
        </p:nvSpPr>
        <p:spPr>
          <a:xfrm>
            <a:off x="5219640" y="198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Freeform 2"/>
          <p:cNvSpPr/>
          <p:nvPr/>
        </p:nvSpPr>
        <p:spPr>
          <a:xfrm>
            <a:off x="7451640" y="5157720"/>
            <a:ext cx="66060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1" name="Freeform 3"/>
          <p:cNvSpPr/>
          <p:nvPr/>
        </p:nvSpPr>
        <p:spPr>
          <a:xfrm>
            <a:off x="7367760" y="5373720"/>
            <a:ext cx="66024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2" name="Freeform 4"/>
          <p:cNvSpPr/>
          <p:nvPr/>
        </p:nvSpPr>
        <p:spPr>
          <a:xfrm>
            <a:off x="7367760" y="3500280"/>
            <a:ext cx="66024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3" name="Freeform 5"/>
          <p:cNvSpPr/>
          <p:nvPr/>
        </p:nvSpPr>
        <p:spPr>
          <a:xfrm>
            <a:off x="7512120" y="1601640"/>
            <a:ext cx="66024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4" name="Freeform 6"/>
          <p:cNvSpPr/>
          <p:nvPr/>
        </p:nvSpPr>
        <p:spPr>
          <a:xfrm>
            <a:off x="7667640" y="2852640"/>
            <a:ext cx="66024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5" name="Freeform 7"/>
          <p:cNvSpPr/>
          <p:nvPr/>
        </p:nvSpPr>
        <p:spPr>
          <a:xfrm>
            <a:off x="7236000" y="1457280"/>
            <a:ext cx="576000" cy="43344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0"/>
                </a:moveTo>
                <a:lnTo>
                  <a:pt x="227" y="0"/>
                </a:lnTo>
                <a:lnTo>
                  <a:pt x="136" y="1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6" name="Rectangle 8"/>
          <p:cNvSpPr/>
          <p:nvPr/>
        </p:nvSpPr>
        <p:spPr>
          <a:xfrm>
            <a:off x="177840" y="2692800"/>
            <a:ext cx="72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Если при пересечении двух прямых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секущей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соответственные углы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равны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то прямые параллельн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7" name="Rectangle 9"/>
          <p:cNvSpPr/>
          <p:nvPr/>
        </p:nvSpPr>
        <p:spPr>
          <a:xfrm>
            <a:off x="106200" y="4564440"/>
            <a:ext cx="67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Если при пересечении двух прямых секущей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сумма односторонних углов равна 180</a:t>
            </a:r>
            <a:r>
              <a:rPr b="1" lang="ru-RU" sz="3200" spc="-1" strike="noStrike" baseline="30000">
                <a:solidFill>
                  <a:srgbClr val="ff0000"/>
                </a:solidFill>
                <a:latin typeface="Monotype Corsiva"/>
                <a:ea typeface="Arial"/>
              </a:rPr>
              <a:t>0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, то прямые параллельн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38" name="Group 10"/>
          <p:cNvGrpSpPr/>
          <p:nvPr/>
        </p:nvGrpSpPr>
        <p:grpSpPr>
          <a:xfrm>
            <a:off x="6877080" y="1025640"/>
            <a:ext cx="1655640" cy="1439640"/>
            <a:chOff x="6877080" y="1025640"/>
            <a:chExt cx="1655640" cy="1439640"/>
          </a:xfrm>
        </p:grpSpPr>
        <p:sp>
          <p:nvSpPr>
            <p:cNvPr id="1439" name="Line 11"/>
            <p:cNvSpPr/>
            <p:nvPr/>
          </p:nvSpPr>
          <p:spPr>
            <a:xfrm>
              <a:off x="6877080" y="146412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0" name="Line 12"/>
            <p:cNvSpPr/>
            <p:nvPr/>
          </p:nvSpPr>
          <p:spPr>
            <a:xfrm>
              <a:off x="6877080" y="2089440"/>
              <a:ext cx="159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1" name="Line 13"/>
            <p:cNvSpPr/>
            <p:nvPr/>
          </p:nvSpPr>
          <p:spPr>
            <a:xfrm flipH="1">
              <a:off x="7290000" y="1025640"/>
              <a:ext cx="76896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42" name="Group 14"/>
          <p:cNvGrpSpPr/>
          <p:nvPr/>
        </p:nvGrpSpPr>
        <p:grpSpPr>
          <a:xfrm>
            <a:off x="6732720" y="2924280"/>
            <a:ext cx="1655640" cy="1439640"/>
            <a:chOff x="6732720" y="2924280"/>
            <a:chExt cx="1655640" cy="1439640"/>
          </a:xfrm>
        </p:grpSpPr>
        <p:sp>
          <p:nvSpPr>
            <p:cNvPr id="1443" name="Line 15"/>
            <p:cNvSpPr/>
            <p:nvPr/>
          </p:nvSpPr>
          <p:spPr>
            <a:xfrm>
              <a:off x="6732720" y="336276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4" name="Line 16"/>
            <p:cNvSpPr/>
            <p:nvPr/>
          </p:nvSpPr>
          <p:spPr>
            <a:xfrm>
              <a:off x="6732720" y="3988080"/>
              <a:ext cx="159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5" name="Line 17"/>
            <p:cNvSpPr/>
            <p:nvPr/>
          </p:nvSpPr>
          <p:spPr>
            <a:xfrm flipH="1">
              <a:off x="7145640" y="2924280"/>
              <a:ext cx="76896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46" name="Group 18"/>
          <p:cNvGrpSpPr/>
          <p:nvPr/>
        </p:nvGrpSpPr>
        <p:grpSpPr>
          <a:xfrm>
            <a:off x="6732720" y="4797360"/>
            <a:ext cx="1655640" cy="1440000"/>
            <a:chOff x="6732720" y="4797360"/>
            <a:chExt cx="1655640" cy="1440000"/>
          </a:xfrm>
        </p:grpSpPr>
        <p:sp>
          <p:nvSpPr>
            <p:cNvPr id="1447" name="Line 19"/>
            <p:cNvSpPr/>
            <p:nvPr/>
          </p:nvSpPr>
          <p:spPr>
            <a:xfrm>
              <a:off x="6732720" y="523620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8" name="Line 20"/>
            <p:cNvSpPr/>
            <p:nvPr/>
          </p:nvSpPr>
          <p:spPr>
            <a:xfrm>
              <a:off x="6732720" y="5861520"/>
              <a:ext cx="159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9" name="Line 21"/>
            <p:cNvSpPr/>
            <p:nvPr/>
          </p:nvSpPr>
          <p:spPr>
            <a:xfrm flipH="1">
              <a:off x="7145640" y="4797360"/>
              <a:ext cx="768960" cy="14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50" name="Text Box 22"/>
          <p:cNvSpPr/>
          <p:nvPr/>
        </p:nvSpPr>
        <p:spPr>
          <a:xfrm>
            <a:off x="7460280" y="1386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1" name="Text Box 23"/>
          <p:cNvSpPr/>
          <p:nvPr/>
        </p:nvSpPr>
        <p:spPr>
          <a:xfrm>
            <a:off x="7579440" y="1770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2" name="Text Box 24"/>
          <p:cNvSpPr/>
          <p:nvPr/>
        </p:nvSpPr>
        <p:spPr>
          <a:xfrm>
            <a:off x="8390160" y="1170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3" name="Text Box 25"/>
          <p:cNvSpPr/>
          <p:nvPr/>
        </p:nvSpPr>
        <p:spPr>
          <a:xfrm>
            <a:off x="8318880" y="1817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4" name="Text Box 26"/>
          <p:cNvSpPr/>
          <p:nvPr/>
        </p:nvSpPr>
        <p:spPr>
          <a:xfrm>
            <a:off x="7960320" y="76500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5" name="Text Box 27"/>
          <p:cNvSpPr/>
          <p:nvPr/>
        </p:nvSpPr>
        <p:spPr>
          <a:xfrm>
            <a:off x="7888680" y="278136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6" name="Text Box 28"/>
          <p:cNvSpPr/>
          <p:nvPr/>
        </p:nvSpPr>
        <p:spPr>
          <a:xfrm>
            <a:off x="8245800" y="3068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7" name="Text Box 29"/>
          <p:cNvSpPr/>
          <p:nvPr/>
        </p:nvSpPr>
        <p:spPr>
          <a:xfrm>
            <a:off x="8174160" y="371628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8" name="Text Box 30"/>
          <p:cNvSpPr/>
          <p:nvPr/>
        </p:nvSpPr>
        <p:spPr>
          <a:xfrm>
            <a:off x="7676280" y="3068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9" name="Text Box 31"/>
          <p:cNvSpPr/>
          <p:nvPr/>
        </p:nvSpPr>
        <p:spPr>
          <a:xfrm>
            <a:off x="7389000" y="371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Text Box 32"/>
          <p:cNvSpPr/>
          <p:nvPr/>
        </p:nvSpPr>
        <p:spPr>
          <a:xfrm>
            <a:off x="7815960" y="479736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1" name="Text Box 33"/>
          <p:cNvSpPr/>
          <p:nvPr/>
        </p:nvSpPr>
        <p:spPr>
          <a:xfrm>
            <a:off x="8318880" y="4941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2" name="Text Box 34"/>
          <p:cNvSpPr/>
          <p:nvPr/>
        </p:nvSpPr>
        <p:spPr>
          <a:xfrm>
            <a:off x="8174160" y="5589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3" name="Text Box 35"/>
          <p:cNvSpPr/>
          <p:nvPr/>
        </p:nvSpPr>
        <p:spPr>
          <a:xfrm>
            <a:off x="7579440" y="51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4" name="Text Box 36"/>
          <p:cNvSpPr/>
          <p:nvPr/>
        </p:nvSpPr>
        <p:spPr>
          <a:xfrm>
            <a:off x="7362000" y="554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5" name="Rectangle 37"/>
          <p:cNvSpPr/>
          <p:nvPr/>
        </p:nvSpPr>
        <p:spPr>
          <a:xfrm>
            <a:off x="177840" y="103572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Если при пересечении двух прямых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секущей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накрест лежащие углы равны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то прямые параллельн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6" name="Rectangle 39"/>
          <p:cNvSpPr/>
          <p:nvPr/>
        </p:nvSpPr>
        <p:spPr>
          <a:xfrm>
            <a:off x="826920" y="17064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Признаки параллельности прям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Введение нового материала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Freeform 2"/>
          <p:cNvSpPr/>
          <p:nvPr/>
        </p:nvSpPr>
        <p:spPr>
          <a:xfrm>
            <a:off x="662040" y="1563840"/>
            <a:ext cx="2430360" cy="554040"/>
          </a:xfrm>
          <a:custGeom>
            <a:avLst/>
            <a:gdLst/>
            <a:ahLst/>
            <a:rect l="l" t="t" r="r" b="b"/>
            <a:pathLst>
              <a:path w="1531" h="349">
                <a:moveTo>
                  <a:pt x="1531" y="34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Freeform 3"/>
          <p:cNvSpPr/>
          <p:nvPr/>
        </p:nvSpPr>
        <p:spPr>
          <a:xfrm>
            <a:off x="3103560" y="1395360"/>
            <a:ext cx="866880" cy="722520"/>
          </a:xfrm>
          <a:custGeom>
            <a:avLst/>
            <a:gdLst/>
            <a:ahLst/>
            <a:rect l="l" t="t" r="r" b="b"/>
            <a:pathLst>
              <a:path w="546" h="455">
                <a:moveTo>
                  <a:pt x="0" y="455"/>
                </a:moveTo>
                <a:lnTo>
                  <a:pt x="546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0" name="Freeform 4"/>
          <p:cNvSpPr/>
          <p:nvPr/>
        </p:nvSpPr>
        <p:spPr>
          <a:xfrm flipH="1" rot="19066200">
            <a:off x="1692000" y="3069720"/>
            <a:ext cx="676080" cy="503280"/>
          </a:xfrm>
          <a:custGeom>
            <a:avLst/>
            <a:gdLst/>
            <a:ahLst/>
            <a:rect l="l" t="t" r="r" b="b"/>
            <a:pathLst>
              <a:path w="426" h="317">
                <a:moveTo>
                  <a:pt x="0" y="5"/>
                </a:moveTo>
                <a:lnTo>
                  <a:pt x="426" y="0"/>
                </a:lnTo>
                <a:lnTo>
                  <a:pt x="64" y="317"/>
                </a:lnTo>
                <a:lnTo>
                  <a:pt x="0" y="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1" name="Freeform 5"/>
          <p:cNvSpPr/>
          <p:nvPr/>
        </p:nvSpPr>
        <p:spPr>
          <a:xfrm>
            <a:off x="2382840" y="2133720"/>
            <a:ext cx="676440" cy="503280"/>
          </a:xfrm>
          <a:custGeom>
            <a:avLst/>
            <a:gdLst/>
            <a:ahLst/>
            <a:rect l="l" t="t" r="r" b="b"/>
            <a:pathLst>
              <a:path w="426" h="317">
                <a:moveTo>
                  <a:pt x="0" y="5"/>
                </a:moveTo>
                <a:lnTo>
                  <a:pt x="426" y="0"/>
                </a:lnTo>
                <a:lnTo>
                  <a:pt x="64" y="317"/>
                </a:lnTo>
                <a:lnTo>
                  <a:pt x="0" y="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2" name="Rectangle 6"/>
          <p:cNvSpPr/>
          <p:nvPr/>
        </p:nvSpPr>
        <p:spPr>
          <a:xfrm>
            <a:off x="34920" y="198000"/>
            <a:ext cx="91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Если две параллельные прямые пересечены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секущей, то накрест лежащие углы равны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3" name="Line 7"/>
          <p:cNvSpPr/>
          <p:nvPr/>
        </p:nvSpPr>
        <p:spPr>
          <a:xfrm>
            <a:off x="900000" y="213372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4" name="Line 8"/>
          <p:cNvSpPr/>
          <p:nvPr/>
        </p:nvSpPr>
        <p:spPr>
          <a:xfrm>
            <a:off x="826920" y="3357720"/>
            <a:ext cx="345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5" name="Freeform 9"/>
          <p:cNvSpPr/>
          <p:nvPr/>
        </p:nvSpPr>
        <p:spPr>
          <a:xfrm>
            <a:off x="971640" y="2128680"/>
            <a:ext cx="2120760" cy="1731960"/>
          </a:xfrm>
          <a:custGeom>
            <a:avLst/>
            <a:gdLst/>
            <a:ahLst/>
            <a:rect l="l" t="t" r="r" b="b"/>
            <a:pathLst>
              <a:path w="1471" h="1227">
                <a:moveTo>
                  <a:pt x="1471" y="0"/>
                </a:moveTo>
                <a:lnTo>
                  <a:pt x="0" y="1227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6" name="Text Box 10"/>
          <p:cNvSpPr/>
          <p:nvPr/>
        </p:nvSpPr>
        <p:spPr>
          <a:xfrm>
            <a:off x="3921120" y="17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7" name="Text Box 11"/>
          <p:cNvSpPr/>
          <p:nvPr/>
        </p:nvSpPr>
        <p:spPr>
          <a:xfrm>
            <a:off x="3916440" y="2924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8" name="Text Box 12"/>
          <p:cNvSpPr/>
          <p:nvPr/>
        </p:nvSpPr>
        <p:spPr>
          <a:xfrm>
            <a:off x="2824560" y="170028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9" name="Text Box 13"/>
          <p:cNvSpPr/>
          <p:nvPr/>
        </p:nvSpPr>
        <p:spPr>
          <a:xfrm>
            <a:off x="1464120" y="328464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0" name="Text Box 14"/>
          <p:cNvSpPr/>
          <p:nvPr/>
        </p:nvSpPr>
        <p:spPr>
          <a:xfrm>
            <a:off x="4451400" y="1125360"/>
            <a:ext cx="405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ано: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I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MN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- секуща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ь: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1=   2  (НЛ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особ от противног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пустим, что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1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1" name="Text Box 15"/>
          <p:cNvSpPr/>
          <p:nvPr/>
        </p:nvSpPr>
        <p:spPr>
          <a:xfrm>
            <a:off x="179280" y="384480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ложим от луча 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гол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Р, равный углу 2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 построению накрест лежащие углы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Р=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바탕"/>
                <a:ea typeface="바탕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РМ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바탕"/>
              </a:rPr>
              <a:t>I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바탕"/>
              </a:rPr>
              <a:t>b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лучили, что через точку М проходит две прямые (а и МР), параллельные прямой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!!!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Это противоречит аксиоме параллельных прямых. Значит, наше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пущение неверно!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1=   2.                  Теорема доказ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2" name="Text Box 16"/>
          <p:cNvSpPr/>
          <p:nvPr/>
        </p:nvSpPr>
        <p:spPr>
          <a:xfrm>
            <a:off x="2635920" y="2060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3" name="Text Box 17"/>
          <p:cNvSpPr/>
          <p:nvPr/>
        </p:nvSpPr>
        <p:spPr>
          <a:xfrm>
            <a:off x="1772280" y="3068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4" name="Freeform 18"/>
          <p:cNvSpPr/>
          <p:nvPr/>
        </p:nvSpPr>
        <p:spPr>
          <a:xfrm>
            <a:off x="2627280" y="2133720"/>
            <a:ext cx="144360" cy="287280"/>
          </a:xfrm>
          <a:custGeom>
            <a:avLst/>
            <a:gdLst/>
            <a:ahLst/>
            <a:rect l="l" t="t" r="r" b="b"/>
            <a:pathLst>
              <a:path w="91" h="181">
                <a:moveTo>
                  <a:pt x="0" y="0"/>
                </a:moveTo>
                <a:cubicBezTo>
                  <a:pt x="3" y="16"/>
                  <a:pt x="5" y="66"/>
                  <a:pt x="20" y="96"/>
                </a:cubicBezTo>
                <a:cubicBezTo>
                  <a:pt x="35" y="126"/>
                  <a:pt x="76" y="163"/>
                  <a:pt x="91" y="181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5" name="Freeform 19"/>
          <p:cNvSpPr/>
          <p:nvPr/>
        </p:nvSpPr>
        <p:spPr>
          <a:xfrm>
            <a:off x="2081160" y="2984400"/>
            <a:ext cx="168480" cy="373320"/>
          </a:xfrm>
          <a:custGeom>
            <a:avLst/>
            <a:gdLst/>
            <a:ahLst/>
            <a:rect l="l" t="t" r="r" b="b"/>
            <a:pathLst>
              <a:path w="106" h="235">
                <a:moveTo>
                  <a:pt x="0" y="0"/>
                </a:moveTo>
                <a:lnTo>
                  <a:pt x="68" y="121"/>
                </a:lnTo>
                <a:lnTo>
                  <a:pt x="106" y="235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6" name="Freeform 20"/>
          <p:cNvSpPr/>
          <p:nvPr/>
        </p:nvSpPr>
        <p:spPr>
          <a:xfrm>
            <a:off x="2128680" y="2911320"/>
            <a:ext cx="204840" cy="433440"/>
          </a:xfrm>
          <a:custGeom>
            <a:avLst/>
            <a:gdLst/>
            <a:ahLst/>
            <a:rect l="l" t="t" r="r" b="b"/>
            <a:pathLst>
              <a:path w="129" h="273">
                <a:moveTo>
                  <a:pt x="129" y="273"/>
                </a:moveTo>
                <a:cubicBezTo>
                  <a:pt x="123" y="252"/>
                  <a:pt x="112" y="189"/>
                  <a:pt x="91" y="144"/>
                </a:cubicBezTo>
                <a:cubicBezTo>
                  <a:pt x="70" y="99"/>
                  <a:pt x="19" y="30"/>
                  <a:pt x="0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7" name="Freeform 21"/>
          <p:cNvSpPr/>
          <p:nvPr/>
        </p:nvSpPr>
        <p:spPr>
          <a:xfrm>
            <a:off x="2514600" y="1996920"/>
            <a:ext cx="120600" cy="481320"/>
          </a:xfrm>
          <a:custGeom>
            <a:avLst/>
            <a:gdLst/>
            <a:ahLst/>
            <a:rect l="l" t="t" r="r" b="b"/>
            <a:pathLst>
              <a:path w="76" h="303">
                <a:moveTo>
                  <a:pt x="76" y="303"/>
                </a:moveTo>
                <a:cubicBezTo>
                  <a:pt x="65" y="284"/>
                  <a:pt x="28" y="240"/>
                  <a:pt x="15" y="190"/>
                </a:cubicBezTo>
                <a:cubicBezTo>
                  <a:pt x="2" y="140"/>
                  <a:pt x="3" y="40"/>
                  <a:pt x="0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8" name="Freeform 22"/>
          <p:cNvSpPr/>
          <p:nvPr/>
        </p:nvSpPr>
        <p:spPr>
          <a:xfrm>
            <a:off x="2409840" y="1949400"/>
            <a:ext cx="165240" cy="588960"/>
          </a:xfrm>
          <a:custGeom>
            <a:avLst/>
            <a:gdLst/>
            <a:ahLst/>
            <a:rect l="l" t="t" r="r" b="b"/>
            <a:pathLst>
              <a:path w="104" h="371">
                <a:moveTo>
                  <a:pt x="104" y="371"/>
                </a:moveTo>
                <a:cubicBezTo>
                  <a:pt x="89" y="343"/>
                  <a:pt x="32" y="256"/>
                  <a:pt x="16" y="194"/>
                </a:cubicBezTo>
                <a:cubicBezTo>
                  <a:pt x="0" y="132"/>
                  <a:pt x="7" y="40"/>
                  <a:pt x="5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9" name="Text Box 23"/>
          <p:cNvSpPr/>
          <p:nvPr/>
        </p:nvSpPr>
        <p:spPr>
          <a:xfrm>
            <a:off x="605160" y="148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0" name="Freeform 24"/>
          <p:cNvSpPr/>
          <p:nvPr/>
        </p:nvSpPr>
        <p:spPr>
          <a:xfrm>
            <a:off x="3116160" y="2128680"/>
            <a:ext cx="1455840" cy="292320"/>
          </a:xfrm>
          <a:custGeom>
            <a:avLst/>
            <a:gdLst/>
            <a:ahLst/>
            <a:rect l="l" t="t" r="r" b="b"/>
            <a:pathLst>
              <a:path w="872" h="205">
                <a:moveTo>
                  <a:pt x="0" y="0"/>
                </a:moveTo>
                <a:lnTo>
                  <a:pt x="872" y="20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91" name="Group 37"/>
          <p:cNvGrpSpPr/>
          <p:nvPr/>
        </p:nvGrpSpPr>
        <p:grpSpPr>
          <a:xfrm>
            <a:off x="0" y="3930480"/>
            <a:ext cx="28440" cy="63720"/>
            <a:chOff x="0" y="3930480"/>
            <a:chExt cx="28440" cy="63720"/>
          </a:xfrm>
        </p:grpSpPr>
        <mc:AlternateContent>
          <mc:Choice xmlns:a14="http://schemas.microsoft.com/office/drawing/2010/main" Requires="a14">
            <p:sp>
              <p:nvSpPr>
                <p:cNvPr id="1492" name="Object 34"/>
                <p:cNvSpPr txBox="1"/>
                <p:nvPr/>
              </p:nvSpPr>
              <p:spPr>
                <a:xfrm>
                  <a:off x="16560" y="3930480"/>
                  <a:ext cx="11880" cy="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3" name="Object 36"/>
                <p:cNvSpPr txBox="1"/>
                <p:nvPr/>
              </p:nvSpPr>
              <p:spPr>
                <a:xfrm>
                  <a:off x="0" y="3930480"/>
                  <a:ext cx="11880" cy="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4" name="Group 46"/>
          <p:cNvGrpSpPr/>
          <p:nvPr/>
        </p:nvGrpSpPr>
        <p:grpSpPr>
          <a:xfrm>
            <a:off x="6732720" y="3357720"/>
            <a:ext cx="1081080" cy="360360"/>
            <a:chOff x="6732720" y="3357720"/>
            <a:chExt cx="1081080" cy="360360"/>
          </a:xfrm>
        </p:grpSpPr>
        <mc:AlternateContent>
          <mc:Choice xmlns:a14="http://schemas.microsoft.com/office/drawing/2010/main" Requires="a14">
            <p:sp>
              <p:nvSpPr>
                <p:cNvPr id="1495" name="Object 39"/>
                <p:cNvSpPr txBox="1"/>
                <p:nvPr/>
              </p:nvSpPr>
              <p:spPr>
                <a:xfrm>
                  <a:off x="7453440" y="338472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6" name="Object 40"/>
                <p:cNvSpPr txBox="1"/>
                <p:nvPr/>
              </p:nvSpPr>
              <p:spPr>
                <a:xfrm>
                  <a:off x="6732720" y="338472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7" name="Object 45"/>
                <p:cNvSpPr txBox="1"/>
                <p:nvPr/>
              </p:nvSpPr>
              <p:spPr>
                <a:xfrm>
                  <a:off x="7166160" y="335772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498" name="Group 51"/>
          <p:cNvGrpSpPr/>
          <p:nvPr/>
        </p:nvGrpSpPr>
        <p:grpSpPr>
          <a:xfrm>
            <a:off x="6156360" y="1916280"/>
            <a:ext cx="936720" cy="331560"/>
            <a:chOff x="6156360" y="1916280"/>
            <a:chExt cx="936720" cy="331560"/>
          </a:xfrm>
        </p:grpSpPr>
        <mc:AlternateContent>
          <mc:Choice xmlns:a14="http://schemas.microsoft.com/office/drawing/2010/main" Requires="a14">
            <p:sp>
              <p:nvSpPr>
                <p:cNvPr id="1499" name="Object 48"/>
                <p:cNvSpPr txBox="1"/>
                <p:nvPr/>
              </p:nvSpPr>
              <p:spPr>
                <a:xfrm>
                  <a:off x="6732720" y="191628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0" name="Object 49"/>
                <p:cNvSpPr txBox="1"/>
                <p:nvPr/>
              </p:nvSpPr>
              <p:spPr>
                <a:xfrm>
                  <a:off x="6156360" y="191628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1" name="Group 55"/>
          <p:cNvGrpSpPr/>
          <p:nvPr/>
        </p:nvGrpSpPr>
        <p:grpSpPr>
          <a:xfrm>
            <a:off x="5865840" y="4292640"/>
            <a:ext cx="1370160" cy="331560"/>
            <a:chOff x="5865840" y="4292640"/>
            <a:chExt cx="1370160" cy="331560"/>
          </a:xfrm>
        </p:grpSpPr>
        <mc:AlternateContent>
          <mc:Choice xmlns:a14="http://schemas.microsoft.com/office/drawing/2010/main" Requires="a14">
            <p:sp>
              <p:nvSpPr>
                <p:cNvPr id="1502" name="Object 53"/>
                <p:cNvSpPr txBox="1"/>
                <p:nvPr/>
              </p:nvSpPr>
              <p:spPr>
                <a:xfrm>
                  <a:off x="6875640" y="429264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3" name="Object 54"/>
                <p:cNvSpPr txBox="1"/>
                <p:nvPr/>
              </p:nvSpPr>
              <p:spPr>
                <a:xfrm>
                  <a:off x="5865840" y="429264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4" name="Group 56"/>
          <p:cNvGrpSpPr/>
          <p:nvPr/>
        </p:nvGrpSpPr>
        <p:grpSpPr>
          <a:xfrm>
            <a:off x="2700360" y="6093000"/>
            <a:ext cx="936720" cy="331560"/>
            <a:chOff x="2700360" y="6093000"/>
            <a:chExt cx="936720" cy="331560"/>
          </a:xfrm>
        </p:grpSpPr>
        <mc:AlternateContent>
          <mc:Choice xmlns:a14="http://schemas.microsoft.com/office/drawing/2010/main" Requires="a14">
            <p:sp>
              <p:nvSpPr>
                <p:cNvPr id="1505" name="Object 57"/>
                <p:cNvSpPr txBox="1"/>
                <p:nvPr/>
              </p:nvSpPr>
              <p:spPr>
                <a:xfrm>
                  <a:off x="3276720" y="609300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6" name="Object 58"/>
                <p:cNvSpPr txBox="1"/>
                <p:nvPr/>
              </p:nvSpPr>
              <p:spPr>
                <a:xfrm>
                  <a:off x="2700360" y="609300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7" name="Object 59"/>
              <p:cNvSpPr txBox="1"/>
              <p:nvPr/>
            </p:nvSpPr>
            <p:spPr>
              <a:xfrm>
                <a:off x="7524720" y="4292640"/>
                <a:ext cx="455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3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8-03-25T19:53:37Z</dcterms:modified>
  <cp:revision>165</cp:revision>
  <dc:subject/>
  <dc:title>Презентация PowerPoint</dc:title>
</cp:coreProperties>
</file>