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6B6-077F-4B0A-8269-DB7B3021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0AE-07D6-48D0-9F89-9F4FC645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191-E485-47A3-950A-5AF81B0B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F4E-B2E9-4893-969B-71E8A109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08F-CF2C-432F-A250-8897E5AF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578-1050-4B70-A777-F20E650C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452-2C0A-4B7B-9FE8-0779959C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B22-2FB3-4380-A2F8-B4B86ADD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21D-9300-4639-BBFF-182F9164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08E-050D-469A-AFC4-E9B18E87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5E69-3B70-42D6-B05A-55B95CC7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4DF-2D34-4AAA-9029-A451A47F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AB96-D283-48A7-A09D-0254486335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learningapps.org/view28777494" TargetMode="External"/><Relationship Id="rId2" Type="http://schemas.openxmlformats.org/officeDocument/2006/relationships/hyperlink" Target="https://learningapps.org/view28777768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723960" y="1444680"/>
            <a:ext cx="7696080" cy="393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ework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64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.</a:t>
            </a:r>
            <a:r>
              <a:rPr b="0" lang="it-IT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2,6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134 ex. 1,2,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286000"/>
            <a:ext cx="83059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 fontScale="86000"/>
          </a:bodyPr>
          <a:p>
            <a:pPr>
              <a:lnSpc>
                <a:spcPct val="107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wo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iny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igers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ake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wo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axis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own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6000"/>
            <a:ext cx="83059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 fontScale="86000"/>
          </a:bodyPr>
          <a:p>
            <a:pPr>
              <a:lnSpc>
                <a:spcPct val="107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wo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iny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igers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ake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wo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axis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own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3886200" y="274680"/>
            <a:ext cx="14479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Calibri"/>
                <a:ea typeface="Calibri"/>
              </a:rPr>
              <a:t>[t</a:t>
            </a: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Calibri"/>
              </a:rPr>
              <a:t>]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838080" y="1436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learningapps.org/view287774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838080" y="3886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Calibri"/>
                <a:hlinkClick r:id="rId2"/>
              </a:rPr>
              <a:t>https://learningapps.org/view28777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Объект 4" descr=""/>
          <p:cNvPicPr/>
          <p:nvPr/>
        </p:nvPicPr>
        <p:blipFill>
          <a:blip r:embed="rId1"/>
          <a:stretch/>
        </p:blipFill>
        <p:spPr>
          <a:xfrm>
            <a:off x="857160" y="1805040"/>
            <a:ext cx="7429680" cy="2165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2"/>
          <a:srcRect l="0" t="-9331" r="6430" b="0"/>
          <a:stretch/>
        </p:blipFill>
        <p:spPr>
          <a:xfrm>
            <a:off x="457200" y="4191120"/>
            <a:ext cx="81993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960" y="237600"/>
            <a:ext cx="822960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useo Sans Cyrl"/>
              </a:rPr>
              <a:t>Comparative and superlative adjectiv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4" descr=""/>
          <p:cNvPicPr/>
          <p:nvPr/>
        </p:nvPicPr>
        <p:blipFill>
          <a:blip r:embed="rId1"/>
          <a:stretch/>
        </p:blipFill>
        <p:spPr>
          <a:xfrm>
            <a:off x="826920" y="2346480"/>
            <a:ext cx="7429680" cy="2165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"/>
          <p:cNvPicPr/>
          <p:nvPr/>
        </p:nvPicPr>
        <p:blipFill>
          <a:blip r:embed="rId2"/>
          <a:srcRect l="0" t="-9331" r="6430" b="0"/>
          <a:stretch/>
        </p:blipFill>
        <p:spPr>
          <a:xfrm>
            <a:off x="442800" y="4867200"/>
            <a:ext cx="81997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063_track3_04.mp3" descr=""/>
          <p:cNvPicPr/>
          <p:nvPr/>
        </p:nvPicPr>
        <p:blipFill>
          <a:blip r:embed="rId1"/>
          <a:stretch/>
        </p:blipFill>
        <p:spPr>
          <a:xfrm>
            <a:off x="4000680" y="2668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2057400" y="1409760"/>
            <a:ext cx="4724280" cy="41450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1569960"/>
            <a:ext cx="335304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 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 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3. 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4.  C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5.  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419720" y="1844640"/>
            <a:ext cx="4495680" cy="31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 mistakes –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-2 mistakes –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-4 mistakes -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and more mistakes -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2T16:54:24Z</dcterms:created>
  <dc:creator>1</dc:creator>
  <dc:description/>
  <dc:language>en-US</dc:language>
  <cp:lastModifiedBy>Дарина</cp:lastModifiedBy>
  <dcterms:modified xsi:type="dcterms:W3CDTF">2023-02-01T16:08:59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