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8561-C0FF-4E3D-B932-B9332934B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9B7D-C743-4031-850A-12FA9626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8EBC-030F-471D-AB6D-21F46BE3D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64A7-7425-4285-A50F-41C5E0E7A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975A-6B52-4704-9040-16BB8EAE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F2D2-BAFB-4BA3-A327-C6614D39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F451-CC5A-4446-A0A3-4A1F3FE8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D9A3-F9E4-4B55-8434-B5244AAF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524F-B9EA-4A82-AA46-E0E53A50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87A6-3100-4E43-878E-0947A567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4D2E-A5C3-4FD1-8CA4-040D4C84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8D33-1CAB-47DF-B126-33625023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FF3C-8AFD-4875-A45D-50A0BC5E80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learningapps.org/view28777494" TargetMode="External"/><Relationship Id="rId2" Type="http://schemas.openxmlformats.org/officeDocument/2006/relationships/hyperlink" Target="https://learningapps.org/view28777768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723960" y="1444680"/>
            <a:ext cx="7696080" cy="393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mework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B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. 64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.</a:t>
            </a:r>
            <a:r>
              <a:rPr b="0" lang="it-IT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,2,6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. 134 ex. 1,2,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286000"/>
            <a:ext cx="83059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txBody>
          <a:bodyPr anchor="t">
            <a:normAutofit fontScale="86000"/>
          </a:bodyPr>
          <a:p>
            <a:pPr>
              <a:lnSpc>
                <a:spcPct val="107000"/>
              </a:lnSpc>
              <a:spcBef>
                <a:spcPts val="11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wo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iny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igers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ake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wo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axis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o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own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286000"/>
            <a:ext cx="83059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txBody>
          <a:bodyPr anchor="t">
            <a:normAutofit fontScale="86000"/>
          </a:bodyPr>
          <a:p>
            <a:pPr>
              <a:lnSpc>
                <a:spcPct val="107000"/>
              </a:lnSpc>
              <a:spcBef>
                <a:spcPts val="11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wo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iny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igers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ake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wo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axis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o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own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"/>
          <p:cNvSpPr/>
          <p:nvPr/>
        </p:nvSpPr>
        <p:spPr>
          <a:xfrm>
            <a:off x="3886200" y="274680"/>
            <a:ext cx="1447920" cy="1099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0" lang="en-US" sz="6600" spc="-1" strike="noStrike">
                <a:solidFill>
                  <a:srgbClr val="ff0000"/>
                </a:solidFill>
                <a:latin typeface="Calibri"/>
                <a:ea typeface="Calibri"/>
              </a:rPr>
              <a:t>[t</a:t>
            </a:r>
            <a:r>
              <a:rPr b="0" lang="ru-RU" sz="6600" spc="-1" strike="noStrike">
                <a:solidFill>
                  <a:srgbClr val="ff0000"/>
                </a:solidFill>
                <a:latin typeface="Calibri"/>
                <a:ea typeface="Calibri"/>
              </a:rPr>
              <a:t>]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838080" y="14367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learningapps.org/view287774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838080" y="38862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Calibri"/>
                <a:hlinkClick r:id="rId2"/>
              </a:rPr>
              <a:t>https://learningapps.org/view287777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Объект 4" descr=""/>
          <p:cNvPicPr/>
          <p:nvPr/>
        </p:nvPicPr>
        <p:blipFill>
          <a:blip r:embed="rId1"/>
          <a:stretch/>
        </p:blipFill>
        <p:spPr>
          <a:xfrm>
            <a:off x="857160" y="1805040"/>
            <a:ext cx="7429680" cy="21654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"/>
          <p:cNvPicPr/>
          <p:nvPr/>
        </p:nvPicPr>
        <p:blipFill>
          <a:blip r:embed="rId2"/>
          <a:srcRect l="0" t="-9331" r="6430" b="0"/>
          <a:stretch/>
        </p:blipFill>
        <p:spPr>
          <a:xfrm>
            <a:off x="457200" y="4191120"/>
            <a:ext cx="819936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6960" y="237600"/>
            <a:ext cx="822960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useo Sans Cyrl"/>
              </a:rPr>
              <a:t>Comparative and superlative adjectiv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Объект 4" descr=""/>
          <p:cNvPicPr/>
          <p:nvPr/>
        </p:nvPicPr>
        <p:blipFill>
          <a:blip r:embed="rId1"/>
          <a:stretch/>
        </p:blipFill>
        <p:spPr>
          <a:xfrm>
            <a:off x="826920" y="2346480"/>
            <a:ext cx="7429680" cy="21650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6" descr=""/>
          <p:cNvPicPr/>
          <p:nvPr/>
        </p:nvPicPr>
        <p:blipFill>
          <a:blip r:embed="rId2"/>
          <a:srcRect l="0" t="-9331" r="6430" b="0"/>
          <a:stretch/>
        </p:blipFill>
        <p:spPr>
          <a:xfrm>
            <a:off x="442800" y="4867200"/>
            <a:ext cx="819972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063_track3_04.mp3" descr=""/>
          <p:cNvPicPr/>
          <p:nvPr/>
        </p:nvPicPr>
        <p:blipFill>
          <a:blip r:embed="rId1"/>
          <a:stretch/>
        </p:blipFill>
        <p:spPr>
          <a:xfrm>
            <a:off x="4000680" y="26686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4"/>
          <p:cNvSpPr/>
          <p:nvPr/>
        </p:nvSpPr>
        <p:spPr>
          <a:xfrm>
            <a:off x="2057400" y="1409760"/>
            <a:ext cx="4724280" cy="41450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09480" y="1569960"/>
            <a:ext cx="3353040" cy="3718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1. 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2.  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3. 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4.  C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5.  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4419720" y="1844640"/>
            <a:ext cx="4495680" cy="31413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 mistakes –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-2 mistakes –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-4 mistakes - 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 and more mistakes -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2T16:54:24Z</dcterms:created>
  <dc:creator>1</dc:creator>
  <dc:description/>
  <dc:language>en-US</dc:language>
  <cp:lastModifiedBy>Дарина</cp:lastModifiedBy>
  <dcterms:modified xsi:type="dcterms:W3CDTF">2023-02-01T16:08:59Z</dcterms:modified>
  <cp:revision>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