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2899-F3E7-4BBA-AD1B-F9E42CAF9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A156-D9D9-45DE-8380-17D7F3DF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B9AF-758E-4320-849F-FDC752753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F919-2D8F-4565-A1E1-F78DC72F1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F1B5-9227-44F8-8D7F-DB65658E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53D8-D7ED-44A5-BC5F-435341DB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5CCC-87D3-4923-B7CD-5666EB16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8289-A763-4510-8CE7-8D80A742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997C-F1CA-422C-927A-F6F18E58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9B4A-C366-4239-98D4-EB41B652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499A-ABBD-47D6-A8E7-F9B59732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A1EE-2CAD-4E27-BBFC-3E37632A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BF08-908B-4474-9AF0-84FC27B57F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4;&#1088;&#1076;&#1077;&#1085;_&#1050;&#1088;&#1072;&#1089;&#1085;&#1086;&#1081;_&#1047;&#1074;&#1077;&#1079;&#1076;&#1099;" TargetMode="External"/><Relationship Id="rId2" Type="http://schemas.openxmlformats.org/officeDocument/2006/relationships/hyperlink" Target="https://ru.wikipedia.org/wiki/&#1048;&#1083;-2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upload.wikimedia.org/wikipedia/commons/e/ef/Hero_of_the_Soviet_Union_medal.png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Medal_for_Valor_USSR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4;&#1088;&#1076;&#1077;&#1085;_&#1051;&#1077;&#1085;&#1080;&#1085;&#1072;" TargetMode="External"/><Relationship Id="rId2" Type="http://schemas.openxmlformats.org/officeDocument/2006/relationships/hyperlink" Target="https://ru.wikipedia.org/wiki/&#1054;&#1088;&#1076;&#1077;&#1085;_&#1054;&#1090;&#1077;&#1095;&#1077;&#1089;&#1090;&#1074;&#1077;&#1085;&#1085;&#1086;&#1081;_&#1074;&#1086;&#1081;&#1085;&#1099;" TargetMode="External"/><Relationship Id="rId3" Type="http://schemas.openxmlformats.org/officeDocument/2006/relationships/hyperlink" Target="https://ru.wikipedia.org/wiki/&#1052;&#1077;&#1076;&#1072;&#1083;&#1100;_&#171;&#1047;&#1072;_&#1086;&#1090;&#1074;&#1072;&#1075;&#1091;&#187;_(&#1057;&#1057;&#1057;&#1056;)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71280" y="2133360"/>
            <a:ext cx="5937480" cy="17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урок мужества:</a:t>
            </a:r>
            <a:br>
              <a:rPr sz="3600"/>
            </a:br>
            <a:r>
              <a:rPr b="1" lang="ru-RU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Дети – герои вой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6" descr="Картинки по запросу картинки по великой отечественной войне"/>
          <p:cNvPicPr/>
          <p:nvPr/>
        </p:nvPicPr>
        <p:blipFill>
          <a:blip r:embed="rId1"/>
          <a:stretch/>
        </p:blipFill>
        <p:spPr>
          <a:xfrm>
            <a:off x="971640" y="115920"/>
            <a:ext cx="7056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714840" y="142920"/>
            <a:ext cx="521496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чишки. Девчонки. На их хрупкие плечи легла тяжесть невзгод, бедствий, горя военных лет. И не согнулись они под этой тяжестью, стали сильнее духом, мужественнее, выносливее. Маленькие герои большой войны. Они сражались рядом со старшими – отцами, брать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571560" y="285480"/>
            <a:ext cx="535788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жались повсюд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бе, как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каша Камани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артизанском отряде, как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ня Голик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рестской крепости, как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я Зенки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дполье, как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я Богдан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и на миг не дрогнули юные сердца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анин Аркад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й молодой лётчик Второй мировой войны, самостоятельно начал летать в четырнадцать ле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http://www.school-13.edusite.ru/images/vov7"/>
          <p:cNvPicPr/>
          <p:nvPr/>
        </p:nvPicPr>
        <p:blipFill>
          <a:blip r:embed="rId2"/>
          <a:srcRect l="0" t="0" r="3382" b="3023"/>
          <a:stretch/>
        </p:blipFill>
        <p:spPr>
          <a:xfrm>
            <a:off x="4643280" y="1143000"/>
            <a:ext cx="4071960" cy="45720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357360" y="142920"/>
            <a:ext cx="578628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5 лет Аркадий был удостоен своей первой боевой награды - 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ордена Красной Звезд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за спасение пилота разбившегося на нейтральной полосе штурмовика 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Ил-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зднее был награжден вторым орденом Красной Звезды, а затем и орденом Красного Знамени. К концу апреля 1945 года он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совершил более 650 вылетов и  и налетал 283 часа"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C:\Documents and Settings\Admin\Мои документы\Мои рисунки\150px-Order_of_Red_Banner.png"/>
          <p:cNvPicPr/>
          <p:nvPr/>
        </p:nvPicPr>
        <p:blipFill>
          <a:blip r:embed="rId3"/>
          <a:stretch/>
        </p:blipFill>
        <p:spPr>
          <a:xfrm>
            <a:off x="7429680" y="4929120"/>
            <a:ext cx="1371600" cy="1582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http://www.art-apple.ru/albums/userpics/10001/nagr3a.jpg"/>
          <p:cNvPicPr/>
          <p:nvPr/>
        </p:nvPicPr>
        <p:blipFill>
          <a:blip r:embed="rId4"/>
          <a:stretch/>
        </p:blipFill>
        <p:spPr>
          <a:xfrm>
            <a:off x="1000080" y="642960"/>
            <a:ext cx="198432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ёня Голи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C:\Documents and Settings\Admin\Мои документы\Мои рисунки\4088d59e295508d2f6d43da3d8281352216681.jpg"/>
          <p:cNvPicPr/>
          <p:nvPr/>
        </p:nvPicPr>
        <p:blipFill>
          <a:blip r:embed="rId1"/>
          <a:stretch/>
        </p:blipFill>
        <p:spPr>
          <a:xfrm>
            <a:off x="4357800" y="2143080"/>
            <a:ext cx="4143240" cy="375768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62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ой Советского Союза (посмертн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9" descr="Файл:Hero of the Soviet Union medal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85920" y="357120"/>
            <a:ext cx="136512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499920" y="500040"/>
            <a:ext cx="564372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летний бригадный разведчик 67 отряда четвёртой ленинградской партизанской бригады, действовавшей на территории Новгородской и Псковской областей. Участвовал в 27 боевых операциях. Особенно отличился при разгроме немецких гарнизонов в деревнях Апросово, Сосницы, Север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5" descr="Medal for Valor USS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57200" y="571680"/>
            <a:ext cx="11908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499920" y="428760"/>
            <a:ext cx="564372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им уничтожено: 78 немцев, 2 железнодорожных и 12 шоссейных мостов, 2 продовольственно - фуражных склада и 10 автомашин с боеприпасами. Сопровождал обоз с продовольствием (250 подвод) в блокадный Ленинград. За доблесть и отвагу награждён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орденом Лени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орденом Отечественной войны I степен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медалью «За отвагу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 медалью Партизану Отечественной войны II степен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7" descr="Order of Lenin.jpg"/>
          <p:cNvPicPr/>
          <p:nvPr/>
        </p:nvPicPr>
        <p:blipFill>
          <a:blip r:embed="rId4"/>
          <a:stretch/>
        </p:blipFill>
        <p:spPr>
          <a:xfrm>
            <a:off x="785880" y="285840"/>
            <a:ext cx="1425600" cy="27781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8" descr="Partisan Medal 1st.jpg"/>
          <p:cNvPicPr/>
          <p:nvPr/>
        </p:nvPicPr>
        <p:blipFill>
          <a:blip r:embed="rId5"/>
          <a:stretch/>
        </p:blipFill>
        <p:spPr>
          <a:xfrm>
            <a:off x="2286000" y="285840"/>
            <a:ext cx="1425600" cy="27194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9" descr="Order of the Patriotic War (1st class).png"/>
          <p:cNvPicPr/>
          <p:nvPr/>
        </p:nvPicPr>
        <p:blipFill>
          <a:blip r:embed="rId6"/>
          <a:stretch/>
        </p:blipFill>
        <p:spPr>
          <a:xfrm>
            <a:off x="7358040" y="4857840"/>
            <a:ext cx="142560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785880" y="214200"/>
            <a:ext cx="400032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января 1943 года в неравном бою в селе Острая Лука Псковской области Леонид Голиков погиб. В Нижнем Новгороде ему установлен памятни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C:\Documents and Settings\Admin\Мои документы\Мои рисунки\583.jpg"/>
          <p:cNvPicPr/>
          <p:nvPr/>
        </p:nvPicPr>
        <p:blipFill>
          <a:blip r:embed="rId1"/>
          <a:stretch/>
        </p:blipFill>
        <p:spPr>
          <a:xfrm>
            <a:off x="4929120" y="214200"/>
            <a:ext cx="4000680" cy="55720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я Зенк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571920" y="1143000"/>
            <a:ext cx="55720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стская крепость первой приняла на себя удар врага.  Валю фашисты заставили под огнём пробираться в крепость, чтобы передать её защитникам требование сдаться в плен. Валя в крепость пробралась, рассказала о зверствах фашистов, объяснила, какие у них орудия, указала место их расположения и осталась помогать нашим бойц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3" descr="http://www.school-13.edusite.ru/images/vov5"/>
          <p:cNvPicPr/>
          <p:nvPr/>
        </p:nvPicPr>
        <p:blipFill>
          <a:blip r:embed="rId1"/>
          <a:stretch/>
        </p:blipFill>
        <p:spPr>
          <a:xfrm>
            <a:off x="857160" y="214200"/>
            <a:ext cx="2500560" cy="30481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714480" y="500040"/>
            <a:ext cx="542916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перевязывала раненых, собирала патроны и подносила их бойцам. В крепости не хватало воды, её делили по глотку. Пить хотелось мучительно, но Валя снова и снова отказывалась от своего глотка: вода нужна ранены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Documents and Settings\Admin\Мои документы\Мои рисунки\16-16-.jpg"/>
          <p:cNvPicPr/>
          <p:nvPr/>
        </p:nvPicPr>
        <p:blipFill>
          <a:blip r:embed="rId1"/>
          <a:stretch/>
        </p:blipFill>
        <p:spPr>
          <a:xfrm>
            <a:off x="857160" y="214200"/>
            <a:ext cx="271476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214440" y="500040"/>
            <a:ext cx="57862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йна вошла в жизнь нашего народа ненавистным воем вражеских бомб, разрушенными городами и селами, миллионами убитых на фронтах, угнанных в рабство, замученных в лагерях смерти. На защиту Родины становился весь наш народ. В сердце каждого закипала ненависть к враг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642840" y="928800"/>
            <a:ext cx="5286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командование Брестской крепости приняло решение вывести детей и женщин из-под огня, переправить на другой берег реки Мухавец - иной возможности спасти их жизнь не было, - маленькая санитарка Валя Зенкина просила оставить её с бойцами. Но приказ есть приказ, и тогда она поклялась продолжить борьбу с врагом до полной побе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D:\Мои рисунки1\9 мая.jpg"/>
          <p:cNvPicPr/>
          <p:nvPr/>
        </p:nvPicPr>
        <p:blipFill>
          <a:blip r:embed="rId1"/>
          <a:stretch/>
        </p:blipFill>
        <p:spPr>
          <a:xfrm>
            <a:off x="714240" y="285840"/>
            <a:ext cx="30481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928680" y="-360"/>
            <a:ext cx="507204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аля клятву сдержала. Разные испытания выпали на её долю. Но она выдержала. Выстояла. И свою борьбу продолжила уже в партизанском отря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вала смело, наравне со взрослыми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гра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твагу и мужество Валя была награждена орденом Красной Звез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http://www.art-apple.ru/albums/userpics/10001/nagr3a.jpg"/>
          <p:cNvPicPr/>
          <p:nvPr/>
        </p:nvPicPr>
        <p:blipFill>
          <a:blip r:embed="rId1"/>
          <a:stretch/>
        </p:blipFill>
        <p:spPr>
          <a:xfrm>
            <a:off x="1357200" y="642960"/>
            <a:ext cx="198432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я Богдан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571560" y="1214280"/>
            <a:ext cx="53578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она стала разведчицей в партизанском отряде, ей не было ещё и десяти лет. Маленькая, худенькая, она, прикидываясь нищенкой, бродила среди фашистов, всё подмечая, всё запоминая, и приносила в отряд ценнейшие сведения. А потом вместе с бойцами-партизанами взрывала фашистский штаб, пускала под откос эшелон с военным снаряжением, минировала объек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Содержимое 3" descr="http://www.school-13.edusite.ru/images/vov4"/>
          <p:cNvPicPr/>
          <p:nvPr/>
        </p:nvPicPr>
        <p:blipFill>
          <a:blip r:embed="rId1"/>
          <a:srcRect l="0" t="0" r="2494" b="3900"/>
          <a:stretch/>
        </p:blipFill>
        <p:spPr>
          <a:xfrm>
            <a:off x="928800" y="214200"/>
            <a:ext cx="2428920" cy="2928960"/>
          </a:xfrm>
          <a:prstGeom prst="rect">
            <a:avLst/>
          </a:prstGeom>
          <a:ln w="1908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Содержимое 3" descr="http://www.school-13.edusite.ru/images/vov4"/>
          <p:cNvPicPr/>
          <p:nvPr/>
        </p:nvPicPr>
        <p:blipFill>
          <a:blip r:embed="rId1"/>
          <a:stretch/>
        </p:blipFill>
        <p:spPr>
          <a:xfrm>
            <a:off x="1500120" y="285840"/>
            <a:ext cx="2428920" cy="27860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85" name=""/>
          <p:cNvSpPr txBox="1"/>
          <p:nvPr/>
        </p:nvSpPr>
        <p:spPr>
          <a:xfrm>
            <a:off x="4142880" y="571320"/>
            <a:ext cx="500076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раз её схватили, когда вместе с Ваней Звонцовым вывесила она 7 ноября 1941 года красный флаг в оккупированном врагом Витебске. Били шомполами, пытали, а когда привели ко рву - расстреливать, сил у неё уже не оставалось - упала в ров, на мгновение, опередив пулю. Ваня погиб, а Надю партизаны нашли во рву живой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571560" y="642600"/>
            <a:ext cx="535788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раз её схватили в конце 43-го. И снова пытки: её обливали на морозе ледяной водой, выжигали на спине пятиконечную звезду. Считая разведчицу мёртвой, гитлеровцы, когда партизаны атаковали Карасёво, бросили её. Выходили её, парализованную и почти слепую, местные жители. После войны в Одессе академик В.П.Филатов вернул Наде зр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714480" y="642960"/>
            <a:ext cx="507204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я Богданова, награждена орденами Красного Знамени, Отечественной войны 1 степени, медал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C:\Documents and Settings\Admin\Мои документы\Мои рисунки\150px-Order_of_Red_Banner.png"/>
          <p:cNvPicPr/>
          <p:nvPr/>
        </p:nvPicPr>
        <p:blipFill>
          <a:blip r:embed="rId1"/>
          <a:stretch/>
        </p:blipFill>
        <p:spPr>
          <a:xfrm>
            <a:off x="6929280" y="3857760"/>
            <a:ext cx="1371600" cy="1582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C:\Documents and Settings\Admin\Мои документы\Мои рисунки\150px-Order_of_the_Patriotic_War-1st_class-.png"/>
          <p:cNvPicPr/>
          <p:nvPr/>
        </p:nvPicPr>
        <p:blipFill>
          <a:blip r:embed="rId2"/>
          <a:stretch/>
        </p:blipFill>
        <p:spPr>
          <a:xfrm>
            <a:off x="4071960" y="3643200"/>
            <a:ext cx="1905120" cy="20066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8" descr="Partisan Medal 1st.jpg"/>
          <p:cNvPicPr/>
          <p:nvPr/>
        </p:nvPicPr>
        <p:blipFill>
          <a:blip r:embed="rId3"/>
          <a:stretch/>
        </p:blipFill>
        <p:spPr>
          <a:xfrm>
            <a:off x="1285920" y="285840"/>
            <a:ext cx="142560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да Вашке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57400" y="1356840"/>
            <a:ext cx="47862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куя жизнью, помогала вести борьбу с фашистами: Лида награждена медалью «Партизану Отечественной войны» 1 степ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е Гродно, оккупированном фашистами, действовало коммунистическое подполье. Одной из групп руководил отец Лид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3" descr="Partisan Medal 1st.jpg"/>
          <p:cNvPicPr/>
          <p:nvPr/>
        </p:nvPicPr>
        <p:blipFill>
          <a:blip r:embed="rId1"/>
          <a:stretch/>
        </p:blipFill>
        <p:spPr>
          <a:xfrm>
            <a:off x="1857240" y="285840"/>
            <a:ext cx="142560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643200" y="214200"/>
            <a:ext cx="521496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ему приходили связные подпольщиков, партизан, и каждый раз у дома дежурила дочь командира. Со стороны поглядеть – играла. А она зорко всматривалась, вслушивалась, не приближаются ли полицаи, патруль и, если нужно, подавала знак отцу. Опасно? Очень. Но по сравнению с другими заданиями это и было почти игр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Documents and Settings\Admin\Мои документы\Мои рисунки\Vachkevich-01.jpg"/>
          <p:cNvPicPr/>
          <p:nvPr/>
        </p:nvPicPr>
        <p:blipFill>
          <a:blip r:embed="rId1"/>
          <a:stretch/>
        </p:blipFill>
        <p:spPr>
          <a:xfrm>
            <a:off x="928800" y="285840"/>
            <a:ext cx="23572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да Вашке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714480" y="1428840"/>
            <a:ext cx="497196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да добывала бумагу для листовок, скупая по паре листочков в разных магазинах, часто с помощью своих друзей. Наберётся пачка – упрячет её девочка на дно чёрной сумки и доставит в условленное место. А на другой день весь город читает слова правды о победах Красной Армии под Москвой, Сталинградом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" descr="C:\Documents and Settings\Admin\Мои документы\Мои рисунки\lida.jpg"/>
          <p:cNvPicPr/>
          <p:nvPr/>
        </p:nvPicPr>
        <p:blipFill>
          <a:blip r:embed="rId1"/>
          <a:stretch/>
        </p:blipFill>
        <p:spPr>
          <a:xfrm>
            <a:off x="1214280" y="285840"/>
            <a:ext cx="228780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929040" y="428760"/>
            <a:ext cx="430056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очка предупреждала народных мстителей об облавах, обходя явочные квартиры. Ездила поездом со станции на станцию, чтобы передать важное сообщение партизанам, подпольщикам. Проносила взрывчатку мимо фашистских постов всё в той же чёрной сумке, засыпав её картошк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428640" y="214200"/>
            <a:ext cx="542916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Великой Отечественной войны против гитлеровских оккупантов действовала целая армия мальчишек и девчонок. Только в оккупированной Белоруссии не менее 74500 мальчишек и девчонок, юношей и девушек воевали в партизанских отрядах. В Большой Советской Энциклопедии написано, что в годы Великой Отечественной войны более 35 тыс.  юных защитников Родины - было награждено боевыми орденами и медал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13880" y="714240"/>
            <a:ext cx="400068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мотрите на лица этих героев! Запомните их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2" descr="http://122012.imgbb.ru/user/31/314772/1/b892acb4eb014e916d6b05ec4a38bd6d.jpg"/>
          <p:cNvPicPr/>
          <p:nvPr/>
        </p:nvPicPr>
        <p:blipFill>
          <a:blip r:embed="rId1"/>
          <a:stretch/>
        </p:blipFill>
        <p:spPr>
          <a:xfrm>
            <a:off x="5000760" y="428760"/>
            <a:ext cx="3492360" cy="521496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Содержимое 6" descr="http://mtdata.ru/u26/photo41D1/20532245881-0/big.jpeg#20532245881"/>
          <p:cNvPicPr/>
          <p:nvPr/>
        </p:nvPicPr>
        <p:blipFill>
          <a:blip r:embed="rId1"/>
          <a:stretch/>
        </p:blipFill>
        <p:spPr>
          <a:xfrm>
            <a:off x="857160" y="214200"/>
            <a:ext cx="4038840" cy="307188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pic>
        <p:nvPicPr>
          <p:cNvPr id="103" name="Содержимое 7" descr="http://mtdata.ru/u1/photoBA07/20341384486-0/big.jpeg#20341384486"/>
          <p:cNvPicPr/>
          <p:nvPr/>
        </p:nvPicPr>
        <p:blipFill>
          <a:blip r:embed="rId2"/>
          <a:stretch/>
        </p:blipFill>
        <p:spPr>
          <a:xfrm>
            <a:off x="5214960" y="285840"/>
            <a:ext cx="3643200" cy="542916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Содержимое 4" descr="http://mtdata.ru/u30/photo750E/20310761922-0/big.jpeg#20310761922"/>
          <p:cNvPicPr/>
          <p:nvPr/>
        </p:nvPicPr>
        <p:blipFill>
          <a:blip r:embed="rId1"/>
          <a:stretch/>
        </p:blipFill>
        <p:spPr>
          <a:xfrm>
            <a:off x="6000840" y="857160"/>
            <a:ext cx="2949480" cy="452592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pic>
        <p:nvPicPr>
          <p:cNvPr id="105" name="Содержимое 5" descr="http://mtdata.ru/u16/photoBBB4/20125967278-0/big.jpeg#20125967278"/>
          <p:cNvPicPr/>
          <p:nvPr/>
        </p:nvPicPr>
        <p:blipFill>
          <a:blip r:embed="rId2"/>
          <a:stretch/>
        </p:blipFill>
        <p:spPr>
          <a:xfrm>
            <a:off x="3143160" y="214200"/>
            <a:ext cx="2700360" cy="350064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Содержимое 5" descr="http://mtdata.ru/u28/photo2F72/20547557163-0/big.jpeg#20547557163"/>
          <p:cNvPicPr/>
          <p:nvPr/>
        </p:nvPicPr>
        <p:blipFill>
          <a:blip r:embed="rId1"/>
          <a:stretch/>
        </p:blipFill>
        <p:spPr>
          <a:xfrm>
            <a:off x="785880" y="214200"/>
            <a:ext cx="3025800" cy="431172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pic>
        <p:nvPicPr>
          <p:cNvPr id="107" name="Рисунок 6" descr="http://s15.radikal.ru/i189/1109/5f/4e95ec51747e.jpg"/>
          <p:cNvPicPr/>
          <p:nvPr/>
        </p:nvPicPr>
        <p:blipFill>
          <a:blip r:embed="rId2"/>
          <a:stretch/>
        </p:blipFill>
        <p:spPr>
          <a:xfrm>
            <a:off x="4857840" y="142920"/>
            <a:ext cx="3643200" cy="571500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Содержимое 4" descr="http://mtdata.ru/u30/photo6A7C/20831875140-0/big.jpeg#20831875140"/>
          <p:cNvPicPr/>
          <p:nvPr/>
        </p:nvPicPr>
        <p:blipFill>
          <a:blip r:embed="rId1"/>
          <a:stretch/>
        </p:blipFill>
        <p:spPr>
          <a:xfrm>
            <a:off x="4286160" y="357120"/>
            <a:ext cx="4143600" cy="550080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pic>
        <p:nvPicPr>
          <p:cNvPr id="109" name="Содержимое 5" descr="http://mtdata.ru/u17/photo3D96/20802841466-0/big.jpeg#20802841466"/>
          <p:cNvPicPr/>
          <p:nvPr/>
        </p:nvPicPr>
        <p:blipFill>
          <a:blip r:embed="rId2"/>
          <a:stretch/>
        </p:blipFill>
        <p:spPr>
          <a:xfrm>
            <a:off x="1357200" y="214200"/>
            <a:ext cx="2143080" cy="307188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Содержимое 4" descr="http://mtdata.ru/u26/photoF5F1/20610391181-0/big.jpeg#20610391181"/>
          <p:cNvPicPr/>
          <p:nvPr/>
        </p:nvPicPr>
        <p:blipFill>
          <a:blip r:embed="rId1"/>
          <a:stretch/>
        </p:blipFill>
        <p:spPr>
          <a:xfrm>
            <a:off x="5214960" y="571680"/>
            <a:ext cx="3500280" cy="514332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pic>
        <p:nvPicPr>
          <p:cNvPr id="111" name="Содержимое 5" descr="http://mtdata.ru/u28/photo9022/20393914713-0/big.jpeg#20393914713"/>
          <p:cNvPicPr/>
          <p:nvPr/>
        </p:nvPicPr>
        <p:blipFill>
          <a:blip r:embed="rId2"/>
          <a:stretch/>
        </p:blipFill>
        <p:spPr>
          <a:xfrm>
            <a:off x="857160" y="285840"/>
            <a:ext cx="4038840" cy="278604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Содержимое 4" descr="http://i026.radikal.ru/1109/ce/056b77c62144.jpg"/>
          <p:cNvPicPr/>
          <p:nvPr/>
        </p:nvPicPr>
        <p:blipFill>
          <a:blip r:embed="rId1"/>
          <a:stretch/>
        </p:blipFill>
        <p:spPr>
          <a:xfrm>
            <a:off x="785880" y="214200"/>
            <a:ext cx="3006720" cy="424044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pic>
        <p:nvPicPr>
          <p:cNvPr id="113" name="Содержимое 7" descr="http://i013.radikal.ru/1109/9b/296f8b5360b8.jpg"/>
          <p:cNvPicPr/>
          <p:nvPr/>
        </p:nvPicPr>
        <p:blipFill>
          <a:blip r:embed="rId2"/>
          <a:stretch/>
        </p:blipFill>
        <p:spPr>
          <a:xfrm>
            <a:off x="4786200" y="214200"/>
            <a:ext cx="3500640" cy="535788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Содержимое 5" descr="http://s40.radikal.ru/i089/1109/41/a1bc71f1076d.jpg"/>
          <p:cNvPicPr/>
          <p:nvPr/>
        </p:nvPicPr>
        <p:blipFill>
          <a:blip r:embed="rId1"/>
          <a:stretch/>
        </p:blipFill>
        <p:spPr>
          <a:xfrm>
            <a:off x="3357720" y="1071720"/>
            <a:ext cx="5572080" cy="392904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6" descr="http://mtdata.ru/u4/photo1C95/20725755426-0/big.jpeg#20725755426"/>
          <p:cNvPicPr/>
          <p:nvPr/>
        </p:nvPicPr>
        <p:blipFill>
          <a:blip r:embed="rId1"/>
          <a:srcRect l="4685" t="17711" r="8591" b="11454"/>
          <a:stretch/>
        </p:blipFill>
        <p:spPr>
          <a:xfrm>
            <a:off x="785880" y="214200"/>
            <a:ext cx="79293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37160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357360" y="214200"/>
            <a:ext cx="550044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чишки и девчонки не дожидались, пока их «призовут» взрослые, – начали действовать с первых дней оккупации. Рисковали смертельно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-то находил разбросанные с самолетов листовки и распространял их в своем райцентре или деревне. Полоцкий мальчиш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ня Косач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рал на местах сражений 45 винтовок, 2 ручных пулемета, несколько корзин патронов и гранат и надежно спрятал все это; представился случай – передал партизана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499920" y="214200"/>
            <a:ext cx="564372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надцатилетни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я Корнее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крал у немецкого офицера пистолет с патронами и стал искать людей, которые помогли бы ему выйти на партизан. Летом 1942 года мальчик преуспел в этом, встретив свою одноклассницу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ю Демеш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ая к тому времени уже была членом одного из отрядов. А когда в отряд старшие ребята привели 9-летнег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ору Юзо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 командир в шутку спросил: «А этого малого кто будет нянчить?», мальчишка, помимо пистолета, выложил перед ним четыре гранаты: «Вот кто меня будет нянчить!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500280" y="285480"/>
            <a:ext cx="542952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жа Росленк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лет помимо собирания оружия на свой страх и риск вел разведку: найдется, кому передать сведения! И нашел. Откуда-то у детей появлялось и понятие о конспирации. Шестиклассник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я Пашкевич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нью 1941 года организует в оккупированном фашистами Борисове подобие краснодонской «Молодой гвардии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714480" y="571320"/>
            <a:ext cx="542916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я Пашкевич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го команда выносили с вражеских складов оружие и боеприпасы, помогали устраивать подпольщикам побеги военнопленных из концлагерей, термитными зажигательными гранатами сожгли вражеский склад с обмундированием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642840" y="356760"/>
            <a:ext cx="507204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войны это были самые обыкновенные мальчишки и девчонки. Учились, помогали старшим, играли, бегали, прыгали, разбивали носы и коленки. Их имена знали только родные, одноклассники да друзь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643200" y="356760"/>
            <a:ext cx="521496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ШЕЛ ЧАС – ОНИ ПОКАЗАЛИ, КАКИМ ОГРОМНЫМ МОЖЕТ СТАТЬ МАЛЕНЬКОЕ ДЕТСКОЕ СЕРДЦЕ, КОГДА РАЗГОРАЕТСЯ В НЁМ СВЯЩЕННАЯ ЛЮБОВЬ К РОДИНЕ И НЕНАВИСТЬ К ЕЁ ВРАГАМ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30T08:21:16Z</dcterms:created>
  <dc:creator>Admin</dc:creator>
  <dc:description/>
  <dc:language>en-US</dc:language>
  <cp:lastModifiedBy>Пользователь</cp:lastModifiedBy>
  <dcterms:modified xsi:type="dcterms:W3CDTF">2016-12-09T02:14:16Z</dcterms:modified>
  <cp:revision>241</cp:revision>
  <dc:subject/>
  <dc:title>Дети – герои войны</dc:title>
</cp:coreProperties>
</file>