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BCF-0B99-44EF-9790-001CBAC7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E57-A8E2-4994-B217-315405B1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206-FFA6-44ED-A361-DA661FD2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B5A-D847-4077-BF6B-C90338E2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F74-E750-4064-A1A1-036FE96D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3C9-CE6D-48EB-AC23-427B3211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E69-17FF-4CE9-B24F-AB3C79C9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C4C-0BED-480F-AE6D-F47B701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368-E94D-4191-A879-6BED942B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9FD-7DD7-4446-B21D-EC47195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1F6-A47D-4910-826E-7CA30397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27D-5290-43DF-9575-1E0AE557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1741-81F6-454C-AAF4-6A16683A1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4;&#1088;&#1076;&#1077;&#1085;_&#1050;&#1088;&#1072;&#1089;&#1085;&#1086;&#1081;_&#1047;&#1074;&#1077;&#1079;&#1076;&#1099;" TargetMode="External"/><Relationship Id="rId2" Type="http://schemas.openxmlformats.org/officeDocument/2006/relationships/hyperlink" Target="https://ru.wikipedia.org/wiki/&#1048;&#1083;-2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upload.wikimedia.org/wikipedia/commons/e/ef/Hero_of_the_Soviet_Union_medal.pn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edal_for_Valor_USSR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4;&#1088;&#1076;&#1077;&#1085;_&#1051;&#1077;&#1085;&#1080;&#1085;&#1072;" TargetMode="External"/><Relationship Id="rId2" Type="http://schemas.openxmlformats.org/officeDocument/2006/relationships/hyperlink" Target="https://ru.wikipedia.org/wiki/&#1054;&#1088;&#1076;&#1077;&#1085;_&#1054;&#1090;&#1077;&#1095;&#1077;&#1089;&#1090;&#1074;&#1077;&#1085;&#1085;&#1086;&#1081;_&#1074;&#1086;&#1081;&#1085;&#1099;" TargetMode="External"/><Relationship Id="rId3" Type="http://schemas.openxmlformats.org/officeDocument/2006/relationships/hyperlink" Target="https://ru.wikipedia.org/wiki/&#1052;&#1077;&#1076;&#1072;&#1083;&#1100;_&#171;&#1047;&#1072;_&#1086;&#1090;&#1074;&#1072;&#1075;&#1091;&#187;_(&#1057;&#1057;&#1057;&#1056;)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2133360"/>
            <a:ext cx="593748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рок мужества:</a:t>
            </a:r>
            <a:br>
              <a:rPr sz="3600"/>
            </a:b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ети – герои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Картинки по запросу картинки по великой отечественной войне"/>
          <p:cNvPicPr/>
          <p:nvPr/>
        </p:nvPicPr>
        <p:blipFill>
          <a:blip r:embed="rId1"/>
          <a:stretch/>
        </p:blipFill>
        <p:spPr>
          <a:xfrm>
            <a:off x="971640" y="115920"/>
            <a:ext cx="705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14840" y="142920"/>
            <a:ext cx="5214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 Маленькие герои большой войны. Они сражались рядом со старшими – отцами, брат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71560" y="285480"/>
            <a:ext cx="5357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жались повсю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аша Каман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тизанском отряде, как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я Голи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естской крепости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 Зенк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полье, ка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 на миг не дрогнули юные сердц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анин Аркад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молодой лётчик Второй мировой войны, самостоятельно начал летать в четырнадцать 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http://www.school-13.edusite.ru/images/vov7"/>
          <p:cNvPicPr/>
          <p:nvPr/>
        </p:nvPicPr>
        <p:blipFill>
          <a:blip r:embed="rId2"/>
          <a:srcRect l="0" t="0" r="3382" b="3023"/>
          <a:stretch/>
        </p:blipFill>
        <p:spPr>
          <a:xfrm>
            <a:off x="4643280" y="1143000"/>
            <a:ext cx="4071960" cy="4572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57360" y="142920"/>
            <a:ext cx="578628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5 лет Аркадий был удостоен своей первой боевой награды -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рдена Красной Звез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 спасение пилота разбившегося на нейтральной полосе штурмовика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Ил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зднее был награжден вторым орденом Красной Звезды, а затем и орденом Красного Знамени. К концу апреля 1945 года он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вершил более 650 вылетов и  и налетал 283 часа"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Documents and Settings\Admin\Мои документы\Мои рисунки\150px-Order_of_Red_Banner.png"/>
          <p:cNvPicPr/>
          <p:nvPr/>
        </p:nvPicPr>
        <p:blipFill>
          <a:blip r:embed="rId3"/>
          <a:stretch/>
        </p:blipFill>
        <p:spPr>
          <a:xfrm>
            <a:off x="7429680" y="4929120"/>
            <a:ext cx="1371600" cy="158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ttp://www.art-apple.ru/albums/userpics/10001/nagr3a.jpg"/>
          <p:cNvPicPr/>
          <p:nvPr/>
        </p:nvPicPr>
        <p:blipFill>
          <a:blip r:embed="rId4"/>
          <a:stretch/>
        </p:blipFill>
        <p:spPr>
          <a:xfrm>
            <a:off x="1000080" y="642960"/>
            <a:ext cx="198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ня Гол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Admin\Мои документы\Мои рисунки\4088d59e295508d2f6d43da3d8281352216681.jpg"/>
          <p:cNvPicPr/>
          <p:nvPr/>
        </p:nvPicPr>
        <p:blipFill>
          <a:blip r:embed="rId1"/>
          <a:stretch/>
        </p:blipFill>
        <p:spPr>
          <a:xfrm>
            <a:off x="4357800" y="2143080"/>
            <a:ext cx="4143240" cy="3757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 Советского Союза (посмер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9" descr="Файл:Hero of the Soviet Union medal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85920" y="357120"/>
            <a:ext cx="13651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499920" y="500040"/>
            <a:ext cx="5643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летний бригадный разведчик 67 отряда четвёртой ленинградской партизанской бригады, действовавшей на территории Новгородской и Псковской областей. Участвовал в 27 боевых операциях. Особенно отличился при разгроме немецких гарнизонов в деревнях Апросово, Сосницы, Севе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Medal for Valor USS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571680"/>
            <a:ext cx="1190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499920" y="428760"/>
            <a:ext cx="5643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им уничтожено: 78 немцев, 2 железнодорожных и 12 шоссейных мостов, 2 продовольственно - фуражных склада и 10 автомашин с боеприпасами. Сопровождал обоз с продовольствием (250 подвод) в блокадный Ленинград. За доблесть и отвагу награждё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рденом Лен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орденом Отечественной войны I степ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медалью «За отвагу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медалью Партизану Отечественной войны II степе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7" descr="Order of Lenin.jpg"/>
          <p:cNvPicPr/>
          <p:nvPr/>
        </p:nvPicPr>
        <p:blipFill>
          <a:blip r:embed="rId4"/>
          <a:stretch/>
        </p:blipFill>
        <p:spPr>
          <a:xfrm>
            <a:off x="785880" y="285840"/>
            <a:ext cx="1425600" cy="2778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Partisan Medal 1st.jpg"/>
          <p:cNvPicPr/>
          <p:nvPr/>
        </p:nvPicPr>
        <p:blipFill>
          <a:blip r:embed="rId5"/>
          <a:stretch/>
        </p:blipFill>
        <p:spPr>
          <a:xfrm>
            <a:off x="2286000" y="285840"/>
            <a:ext cx="1425600" cy="2719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Order of the Patriotic War (1st class).png"/>
          <p:cNvPicPr/>
          <p:nvPr/>
        </p:nvPicPr>
        <p:blipFill>
          <a:blip r:embed="rId6"/>
          <a:stretch/>
        </p:blipFill>
        <p:spPr>
          <a:xfrm>
            <a:off x="7358040" y="4857840"/>
            <a:ext cx="1425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85880" y="214200"/>
            <a:ext cx="400032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января 1943 года в неравном бою в селе Острая Лука Псковской области Леонид Голиков погиб. В Нижнем Новгороде ему установлен памят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Documents and Settings\Admin\Мои документы\Мои рисунки\583.jpg"/>
          <p:cNvPicPr/>
          <p:nvPr/>
        </p:nvPicPr>
        <p:blipFill>
          <a:blip r:embed="rId1"/>
          <a:stretch/>
        </p:blipFill>
        <p:spPr>
          <a:xfrm>
            <a:off x="4929120" y="214200"/>
            <a:ext cx="4000680" cy="5572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 Зенк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1920" y="1143000"/>
            <a:ext cx="5572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стская крепость первой приняла на себя удар врага.  Валю фашисты заставили под огнём пробираться в крепость, чтобы передать её защитникам требование сдаться в плен. Валя в крепость пробралась, рассказала о зверствах фашистов, объяснила, какие у них орудия, указала место их расположения и осталась помогать нашим бойц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http://www.school-13.edusite.ru/images/vov5"/>
          <p:cNvPicPr/>
          <p:nvPr/>
        </p:nvPicPr>
        <p:blipFill>
          <a:blip r:embed="rId1"/>
          <a:stretch/>
        </p:blipFill>
        <p:spPr>
          <a:xfrm>
            <a:off x="857160" y="214200"/>
            <a:ext cx="2500560" cy="3048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714480" y="500040"/>
            <a:ext cx="5429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еревязывала раненых, собирала патроны и подносила их бойцам. В крепости не хватало воды, её делили по глотку. Пить хотелось мучительно, но Валя снова и снова отказывалась от своего глотка: вода нужна ране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Мои документы\Мои рисунки\16-16-.jpg"/>
          <p:cNvPicPr/>
          <p:nvPr/>
        </p:nvPicPr>
        <p:blipFill>
          <a:blip r:embed="rId1"/>
          <a:stretch/>
        </p:blipFill>
        <p:spPr>
          <a:xfrm>
            <a:off x="857160" y="214200"/>
            <a:ext cx="27147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14440" y="500040"/>
            <a:ext cx="57862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вошла в жизнь нашего народа ненавистным воем вражеских бомб, разрушенными городами и селами, миллионами убитых на фронтах, угнанных в рабство, замученных в лагерях смерти. На защиту Родины становился весь наш народ. В сердце каждого закипала ненависть к враг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642840" y="928800"/>
            <a:ext cx="5286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D:\Мои рисунки1\9 мая.jpg"/>
          <p:cNvPicPr/>
          <p:nvPr/>
        </p:nvPicPr>
        <p:blipFill>
          <a:blip r:embed="rId1"/>
          <a:stretch/>
        </p:blipFill>
        <p:spPr>
          <a:xfrm>
            <a:off x="714240" y="285840"/>
            <a:ext cx="3048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28680" y="-360"/>
            <a:ext cx="50720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аля клятву сдержала. Разные испытания выпали на её долю. Но она выдержала. Выстояла. И свою борьбу продолжила уже в партизанском отря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вала смело, наравне со взрослым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вагу и мужество Валя была награждена орденом Красной Звез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art-apple.ru/albums/userpics/10001/nagr3a.jpg"/>
          <p:cNvPicPr/>
          <p:nvPr/>
        </p:nvPicPr>
        <p:blipFill>
          <a:blip r:embed="rId1"/>
          <a:stretch/>
        </p:blipFill>
        <p:spPr>
          <a:xfrm>
            <a:off x="1357200" y="642960"/>
            <a:ext cx="1984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1560" y="1214280"/>
            <a:ext cx="5357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она стала разведчицей в партизанском отряде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http://www.school-13.edusite.ru/images/vov4"/>
          <p:cNvPicPr/>
          <p:nvPr/>
        </p:nvPicPr>
        <p:blipFill>
          <a:blip r:embed="rId1"/>
          <a:srcRect l="0" t="0" r="2494" b="3900"/>
          <a:stretch/>
        </p:blipFill>
        <p:spPr>
          <a:xfrm>
            <a:off x="928800" y="214200"/>
            <a:ext cx="2428920" cy="292896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http://www.school-13.edusite.ru/images/vov4"/>
          <p:cNvPicPr/>
          <p:nvPr/>
        </p:nvPicPr>
        <p:blipFill>
          <a:blip r:embed="rId1"/>
          <a:stretch/>
        </p:blipFill>
        <p:spPr>
          <a:xfrm>
            <a:off x="1500120" y="285840"/>
            <a:ext cx="2428920" cy="2786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4142880" y="571320"/>
            <a:ext cx="5000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571560" y="642600"/>
            <a:ext cx="53578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ё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714480" y="642960"/>
            <a:ext cx="5072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я Богданова, награждена орденами Красного Знамени, Отечественной войны 1 степени, меда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:\Documents and Settings\Admin\Мои документы\Мои рисунки\150px-Order_of_Red_Banner.png"/>
          <p:cNvPicPr/>
          <p:nvPr/>
        </p:nvPicPr>
        <p:blipFill>
          <a:blip r:embed="rId1"/>
          <a:stretch/>
        </p:blipFill>
        <p:spPr>
          <a:xfrm>
            <a:off x="6929280" y="3857760"/>
            <a:ext cx="1371600" cy="158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Admin\Мои документы\Мои рисунки\150px-Order_of_the_Patriotic_War-1st_class-.png"/>
          <p:cNvPicPr/>
          <p:nvPr/>
        </p:nvPicPr>
        <p:blipFill>
          <a:blip r:embed="rId2"/>
          <a:stretch/>
        </p:blipFill>
        <p:spPr>
          <a:xfrm>
            <a:off x="4071960" y="3643200"/>
            <a:ext cx="1905120" cy="2006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Partisan Medal 1st.jpg"/>
          <p:cNvPicPr/>
          <p:nvPr/>
        </p:nvPicPr>
        <p:blipFill>
          <a:blip r:embed="rId3"/>
          <a:stretch/>
        </p:blipFill>
        <p:spPr>
          <a:xfrm>
            <a:off x="1285920" y="285840"/>
            <a:ext cx="14256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Ваш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57400" y="1356840"/>
            <a:ext cx="47862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уя жизнью, помогала вести борьбу с фашистами: Лида награждена медалью «Партизану Отечественной войны» 1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Гродно, оккупированном фашистами, действовало коммунистическое подполье. Одной из групп руководил отец Ли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Partisan Medal 1st.jpg"/>
          <p:cNvPicPr/>
          <p:nvPr/>
        </p:nvPicPr>
        <p:blipFill>
          <a:blip r:embed="rId1"/>
          <a:stretch/>
        </p:blipFill>
        <p:spPr>
          <a:xfrm>
            <a:off x="1857240" y="285840"/>
            <a:ext cx="14256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643200" y="214200"/>
            <a:ext cx="5214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приходили связные подпольщиков, партизан, и каждый раз у дома дежурила дочь командира. Со стороны поглядеть – играла. А она зорко всматривалась, вслушивалась, не приближаются ли полицаи, патруль и, если нужно, подавала знак отцу. Опасно? Очень. Но по сравнению с другими заданиями это и было почти игр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\Мои документы\Мои рисунки\Vachkevich-01.jpg"/>
          <p:cNvPicPr/>
          <p:nvPr/>
        </p:nvPicPr>
        <p:blipFill>
          <a:blip r:embed="rId1"/>
          <a:stretch/>
        </p:blipFill>
        <p:spPr>
          <a:xfrm>
            <a:off x="928800" y="285840"/>
            <a:ext cx="2357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Ваш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14480" y="1428840"/>
            <a:ext cx="4971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а добывала бумагу для листовок, скупая по паре листочков в разных магазинах, часто с помощью своих друзей. Наберётся пачка – упрячет её девочка на дно чёрной сумки и доставит в условленное место. А на другой день весь город читает слова правды о победах Красной Армии под Москвой, Сталинградо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C:\Documents and Settings\Admin\Мои документы\Мои рисунки\lida.jpg"/>
          <p:cNvPicPr/>
          <p:nvPr/>
        </p:nvPicPr>
        <p:blipFill>
          <a:blip r:embed="rId1"/>
          <a:stretch/>
        </p:blipFill>
        <p:spPr>
          <a:xfrm>
            <a:off x="1214280" y="285840"/>
            <a:ext cx="2287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29040" y="428760"/>
            <a:ext cx="43005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предупреждала народных мстителей об облавах, обходя явочные квартиры. Ездила поездом со станции на станцию, чтобы передать важное сообщение партизанам, подпольщикам. Проносила взрывчатку мимо фашистских постов всё в той же чёрной сумке, засыпав её картош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8640" y="214200"/>
            <a:ext cx="5429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еликой Отечественной войны против гитлеровских оккупантов действовала целая армия мальчишек и девчонок. Только в оккупированной Белоруссии не менее 74500 мальчишек и девчонок, юношей и девушек воевали в партизанских отрядах. В Большой Советской Энциклопедии написано, что в годы Великой Отечественной войны более 35 тыс.  юных защитников Родины - было награждено боевыми орденами и медал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13880" y="714240"/>
            <a:ext cx="40006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мотрите на лица этих героев! Запомните 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http://122012.imgbb.ru/user/31/314772/1/b892acb4eb014e916d6b05ec4a38bd6d.jpg"/>
          <p:cNvPicPr/>
          <p:nvPr/>
        </p:nvPicPr>
        <p:blipFill>
          <a:blip r:embed="rId1"/>
          <a:stretch/>
        </p:blipFill>
        <p:spPr>
          <a:xfrm>
            <a:off x="5000760" y="428760"/>
            <a:ext cx="3492360" cy="52149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6" descr="http://mtdata.ru/u26/photo41D1/20532245881-0/big.jpeg#20532245881"/>
          <p:cNvPicPr/>
          <p:nvPr/>
        </p:nvPicPr>
        <p:blipFill>
          <a:blip r:embed="rId1"/>
          <a:stretch/>
        </p:blipFill>
        <p:spPr>
          <a:xfrm>
            <a:off x="857160" y="214200"/>
            <a:ext cx="4038840" cy="3071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3" name="Содержимое 7" descr="http://mtdata.ru/u1/photoBA07/20341384486-0/big.jpeg#20341384486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4291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http://mtdata.ru/u30/photo750E/20310761922-0/big.jpeg#20310761922"/>
          <p:cNvPicPr/>
          <p:nvPr/>
        </p:nvPicPr>
        <p:blipFill>
          <a:blip r:embed="rId1"/>
          <a:stretch/>
        </p:blipFill>
        <p:spPr>
          <a:xfrm>
            <a:off x="6000840" y="857160"/>
            <a:ext cx="2949480" cy="45259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5" name="Содержимое 5" descr="http://mtdata.ru/u16/photoBBB4/20125967278-0/big.jpeg#20125967278"/>
          <p:cNvPicPr/>
          <p:nvPr/>
        </p:nvPicPr>
        <p:blipFill>
          <a:blip r:embed="rId2"/>
          <a:stretch/>
        </p:blipFill>
        <p:spPr>
          <a:xfrm>
            <a:off x="3143160" y="214200"/>
            <a:ext cx="2700360" cy="35006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5" descr="http://mtdata.ru/u28/photo2F72/20547557163-0/big.jpeg#20547557163"/>
          <p:cNvPicPr/>
          <p:nvPr/>
        </p:nvPicPr>
        <p:blipFill>
          <a:blip r:embed="rId1"/>
          <a:stretch/>
        </p:blipFill>
        <p:spPr>
          <a:xfrm>
            <a:off x="785880" y="214200"/>
            <a:ext cx="3025800" cy="43117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7" name="Рисунок 6" descr="http://s15.radikal.ru/i189/1109/5f/4e95ec51747e.jpg"/>
          <p:cNvPicPr/>
          <p:nvPr/>
        </p:nvPicPr>
        <p:blipFill>
          <a:blip r:embed="rId2"/>
          <a:stretch/>
        </p:blipFill>
        <p:spPr>
          <a:xfrm>
            <a:off x="4857840" y="142920"/>
            <a:ext cx="3643200" cy="57150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http://mtdata.ru/u30/photo6A7C/20831875140-0/big.jpeg#20831875140"/>
          <p:cNvPicPr/>
          <p:nvPr/>
        </p:nvPicPr>
        <p:blipFill>
          <a:blip r:embed="rId1"/>
          <a:stretch/>
        </p:blipFill>
        <p:spPr>
          <a:xfrm>
            <a:off x="4286160" y="357120"/>
            <a:ext cx="4143600" cy="55008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09" name="Содержимое 5" descr="http://mtdata.ru/u17/photo3D96/20802841466-0/big.jpeg#20802841466"/>
          <p:cNvPicPr/>
          <p:nvPr/>
        </p:nvPicPr>
        <p:blipFill>
          <a:blip r:embed="rId2"/>
          <a:stretch/>
        </p:blipFill>
        <p:spPr>
          <a:xfrm>
            <a:off x="1357200" y="214200"/>
            <a:ext cx="2143080" cy="3071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4" descr="http://mtdata.ru/u26/photoF5F1/20610391181-0/big.jpeg#20610391181"/>
          <p:cNvPicPr/>
          <p:nvPr/>
        </p:nvPicPr>
        <p:blipFill>
          <a:blip r:embed="rId1"/>
          <a:stretch/>
        </p:blipFill>
        <p:spPr>
          <a:xfrm>
            <a:off x="5214960" y="571680"/>
            <a:ext cx="3500280" cy="51433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11" name="Содержимое 5" descr="http://mtdata.ru/u28/photo9022/20393914713-0/big.jpeg#20393914713"/>
          <p:cNvPicPr/>
          <p:nvPr/>
        </p:nvPicPr>
        <p:blipFill>
          <a:blip r:embed="rId2"/>
          <a:stretch/>
        </p:blipFill>
        <p:spPr>
          <a:xfrm>
            <a:off x="857160" y="285840"/>
            <a:ext cx="4038840" cy="2786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http://i026.radikal.ru/1109/ce/056b77c62144.jpg"/>
          <p:cNvPicPr/>
          <p:nvPr/>
        </p:nvPicPr>
        <p:blipFill>
          <a:blip r:embed="rId1"/>
          <a:stretch/>
        </p:blipFill>
        <p:spPr>
          <a:xfrm>
            <a:off x="785880" y="214200"/>
            <a:ext cx="3006720" cy="42404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113" name="Содержимое 7" descr="http://i013.radikal.ru/1109/9b/296f8b5360b8.jpg"/>
          <p:cNvPicPr/>
          <p:nvPr/>
        </p:nvPicPr>
        <p:blipFill>
          <a:blip r:embed="rId2"/>
          <a:stretch/>
        </p:blipFill>
        <p:spPr>
          <a:xfrm>
            <a:off x="4786200" y="214200"/>
            <a:ext cx="3500640" cy="53578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5" descr="http://s40.radikal.ru/i089/1109/41/a1bc71f1076d.jpg"/>
          <p:cNvPicPr/>
          <p:nvPr/>
        </p:nvPicPr>
        <p:blipFill>
          <a:blip r:embed="rId1"/>
          <a:stretch/>
        </p:blipFill>
        <p:spPr>
          <a:xfrm>
            <a:off x="3357720" y="1071720"/>
            <a:ext cx="5572080" cy="39290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6" descr="http://mtdata.ru/u4/photo1C95/20725755426-0/big.jpeg#20725755426"/>
          <p:cNvPicPr/>
          <p:nvPr/>
        </p:nvPicPr>
        <p:blipFill>
          <a:blip r:embed="rId1"/>
          <a:srcRect l="4685" t="17711" r="8591" b="11454"/>
          <a:stretch/>
        </p:blipFill>
        <p:spPr>
          <a:xfrm>
            <a:off x="785880" y="214200"/>
            <a:ext cx="7929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160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357360" y="214200"/>
            <a:ext cx="55004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шки и девчонки не дожидались, пока их «призовут» взрослые, – начали действовать с первых дней оккупации. Рисковали смертель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находил разбросанные с самолетов листовки и распространял их в своем райцентре или деревне. Полоцкий мальчиш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я Коса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л на местах сражений 45 винтовок, 2 ручных пулемета, несколько корзин патронов и гранат и надежно спрятал все это; представился случай – передал партизан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499920" y="214200"/>
            <a:ext cx="56437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надцатилетн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я Корн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рал у немецкого офицера пистолет с патронами и стал искать людей, которые помогли бы ему выйти на партизан. Летом 1942 года мальчик преуспел в этом, встретив свою одноклассниц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ю Деме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к тому времени уже была членом одного из отрядов. А когда в отряд старшие ребята привели 9-летне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ру Юз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командир в шутку спросил: «А этого малого кто будет нянчить?», мальчишка, помимо пистолета, выложил перед ним четыре гранаты: «Вот кто меня будет нянчить!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00280" y="285480"/>
            <a:ext cx="54295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жа Росленк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лет помимо собирания оружия на свой страх и риск вел разведку: найдется, кому передать сведения! И нашел. Откуда-то у детей появлялось и понятие о конспирации. Шестиклассни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Пашкевич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1941 года организует в оккупированном фашистами Борисове подобие краснодонской «Молодой гварди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14480" y="571320"/>
            <a:ext cx="54291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Пашкевич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го команда выносили с вражеских складов оружие и боеприпасы, помогали устраивать подпольщикам побеги военнопленных из концлагерей, термитными зажигательными гранатами сожгли вражеский склад с обмундирование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642840" y="356760"/>
            <a:ext cx="5072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ойны это были самые обыкновенные мальчишки и девчонки. Учились, помогали старшим, играли, бегали, прыгали, разбивали носы и коленки. Их имена знали только родные, одноклассники да друз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643200" y="356760"/>
            <a:ext cx="5214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ЕЛ ЧАС – ОНИ ПОКАЗАЛИ, КАКИМ ОГРОМНЫМ МОЖЕТ СТАТЬ МАЛЕНЬКОЕ ДЕТСКОЕ СЕРДЦЕ, КОГДА РАЗГОРАЕТСЯ В НЁМ СВЯЩЕННАЯ ЛЮБОВЬ К РОДИНЕ И НЕНАВИСТЬ К ЕЁ ВРАГА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08:21:16Z</dcterms:created>
  <dc:creator>Admin</dc:creator>
  <dc:description/>
  <dc:language>en-US</dc:language>
  <cp:lastModifiedBy>Пользователь</cp:lastModifiedBy>
  <dcterms:modified xsi:type="dcterms:W3CDTF">2016-12-09T02:14:16Z</dcterms:modified>
  <cp:revision>241</cp:revision>
  <dc:subject/>
  <dc:title>Дети – герои войны</dc:title>
</cp:coreProperties>
</file>