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103-A00F-4C47-AEA6-79AB6A4C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1EB-459B-404A-96D0-6B9418A2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00C-9F4E-4FB8-9819-05558D36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3CB-71E9-4F62-AD81-FBBEF5D2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9EDDE-4D51-4766-B78B-F10270E9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9EFC0-330A-4CEC-A5BE-7055DF0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87E56-708B-41EF-A4CF-1D827F4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7D009-C07F-4155-9195-2EA51BA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C9BB-9700-463C-95FF-25BCC685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31EB4-DA22-4ACF-9B9D-863154FC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5FD94-2BE0-43D6-9149-023A6C1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1B7-6F7E-47C0-82B4-B342595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BAF9A-010F-4467-8D16-21148392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7A8C3-7A22-428E-9959-B09285B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8366-2027-46DD-AD38-B307E776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E635-82B7-4672-9F86-19F1C8BE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0D35A-7050-4132-B749-608BD041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345-1C5B-41E4-B0CE-9180E326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D16-F56D-4FB6-9677-38FF2DBD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333-FE64-4B4E-849C-2C03B81C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B16-6832-407D-A215-00F44ACC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A8A-79AF-496A-8C09-BFF55086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B05-59F5-4530-ACB8-25168F1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251-E26C-4A66-AC54-AA400FA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DC93-1504-4642-8D74-DAEBAC5B1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9466-DA92-4FD1-8005-C9E19AE9BF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СЛЕДОВАТЕЛЬСКАЯ РАБОТА ПО ЛИТЕРАТУР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: ЧУМАКИНА АНАСТА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КЛАС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А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УМАКИНА М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кдот, по определению В.И.Даля – э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короткий по содержанию сжатый по форме в изложении рассказ о замечательном и забавном случае; байка, баутка.»  Синонимом слова анекдот является слово прибаска. Несколько позже анекдот из устного жанра перешёл в литературный. Литературный анекдот возник в России  в конце 19—начале 20 ве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бывают анекдот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Анекдоты о поручике Ржевск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Анекдоты о Василии Ивановиче Чапаеве, Петьке и Анк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Анекдоты о Штирл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Анекдоты про Вовочку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«Армянское радио спрашивают…»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мянское радио спрашивают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Есть ли жизнь на Марсе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оже н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бывают анекдот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Семейные с основными темами «муж возвращается из командировки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Анекдоты об олигархах («о новых русских»)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Я купил себе галстук за пять с половиной тысяч долларов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Не хочу тебя огорчать, но я такие же точно видел по восемь с половиной тыся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.О Винни Пухе и Пятачке (иногда — Ослик Иа, Сова)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.О Чебурашке и крокодиле Гене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Чебурашку забрали в армию. Когда он вернулся, Гена спросил его: «Кем служил»? Чебурашка: «Радаро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.Детские (детсадовские) анекдоты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.Студен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3.Анекдоты о блондинках: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дставляешь! Говорят, что этот Новый год выпадет на пятницу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— Да-а! Только бы не на тринадцато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6.Абсурдные анекдо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ели два крокодила. Один красный, другой в Африк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другого спрашивает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Сколько стоит килограмм жареных гвоздей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ой отвечает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Зачем мне холодильник, когда я некурящий?!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7.Школьны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i (7)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 же создаются анекдоты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Если есть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омашние 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озяйки, значит, где-то должны быть и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икие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чера на балкон вышел, хотел белье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весить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потом передумал…расстреля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магазине: «У вас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ветные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 телевизоры есть? Дайте мне красны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03600" y="3243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 же создаются анекдот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ыгрывается нелепость какой-то ситу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апа, как писать правильно: «Зимой люди в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альте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 или в 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льта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иши, сынок, лучше про ле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ос среднего зве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вовало в опросе- 19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Что такое анекдот?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ткуда он к нам пришёл?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Какие бывают анекдоты?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Есть ли у вас любимый анекдот?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Как вы относитесь к анекдотам?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Я узнала историю анекдота(Греция 550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Рассмотрела виды анекдотов (раз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опыталась понять строение анекдо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Провела опрос о роли анекдота среди учащихся среднего звена моей школы и выяснила, что анекдоты – излюбленный жанр на все случаи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а: «Анекдоты любят все или не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i"/>
          <p:cNvPicPr/>
          <p:nvPr/>
        </p:nvPicPr>
        <p:blipFill>
          <a:blip r:embed="rId1"/>
          <a:stretch/>
        </p:blipFill>
        <p:spPr>
          <a:xfrm>
            <a:off x="1692360" y="1052640"/>
            <a:ext cx="719928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1403280" y="907920"/>
            <a:ext cx="5397480" cy="335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ктуальность темы заключается в том, что  об анекдотах у людей имеется лишь поверхностное представление и минимум знаний. Хочется восполнить этот проб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цель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принять попытку разобраться, является  ли анекдот одним из излюбленных жанров современного общества, или это заблужд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 поставила перед собой следующие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Изучить теоретический материал по вопрос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Выяснить, какие бывают анекд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Проанализировать языковые явления, лежащие в основе создания комического эффекта в жанре анекдо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Понять, какой тематике отдают предпочтение современные школьн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КДОТ 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греч. anekdotos - «неизданный»), короткий рассказ о вымышленном событии злободневного бытового или общественно-политического содержания, с шутливой или сатирической окраской и неожиданной остроумной концов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i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о «анекдот»от греческого происхождения и впервые встречается  у византийского историка Прокопия Кесарийского в книге под названием «Тайная история». Эта книга, написанная в 550 году, содержало скандальную хронику императорского двора. В переводе с греческого «анекдот» означает неизданное, то, что не должно получить огласку. Современники Прокопия воспринимали слово анекдот как всевозможные городские сплетни, слухи, толки.   Позже анекдотом стали называться рассказы о знаменитых людях, их необычных поступках, фразах, смешных ситуациях, в которые им пришлось побыв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шего времени сохранилось собрание анекдотов 5 века, автором которых является александрийский филолог Гиерок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Франции это были небольшие рассказы из жизни знати, написанные в стихотворной форм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поху Возрождения в Италии это была фацеция – устный смешной рассказ. В Россию этот жанр пришёл из Польши в 17 веке и назывался шутк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10:53:01Z</dcterms:created>
  <dc:creator>1</dc:creator>
  <dc:description/>
  <dc:language>en-US</dc:language>
  <cp:lastModifiedBy>User</cp:lastModifiedBy>
  <dcterms:modified xsi:type="dcterms:W3CDTF">2023-02-02T09:16:37Z</dcterms:modified>
  <cp:revision>3</cp:revision>
  <dc:subject/>
  <dc:title>ИССЛЕДОВАТЕЛЬСКАЯ РАБОТА ПО ЛЕТЕРАТУРЕ ИССЛЕДОВАТЕЛЬСКАЯ РАБОТА ПО ЛЕТЕРАТУРЕ</dc:title>
</cp:coreProperties>
</file>