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F21-C1DA-4C31-89F6-1F8DB19A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73C-2739-425B-B309-0425BBC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B66-3746-48B3-8781-3B26693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2A4-288E-4D4C-A310-6B4E766D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9E1A-93C8-442A-AAB5-C0D0D0CD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67C15-CAE4-4C39-9371-6967078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6DE0-C488-49FB-AC49-5735857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365B-A43A-4EC1-B759-BE1D458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58F5D-BF2B-49C6-B13B-3519AE4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4ECAA-4A8F-4B73-9ED9-A6D1B17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D9A04-FBC4-4534-93DB-918E234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DDB-FCEE-4D8C-B87B-1397323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DC8AE-ED4C-460B-8881-7C3D195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F7D4-8EC8-4400-965E-32B9336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BC805-F1A5-48A4-AD7C-968107E4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8DB2A-2120-49F2-B42B-53876204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B0DD-F510-4F52-ACF4-3B2B3C76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304-0DAA-47F7-8B44-0CAD521D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9E0-B417-4BFE-8CB0-98D7DE1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5D-2FD1-47A0-9E4F-C540FBF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A84-3B4D-4E0E-9BC8-B97DB3A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96E-69B4-4232-9DAC-393117B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DEB-C3AF-43B7-B129-5F4C8BF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7F1-1013-4C07-973C-793D933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62E-BBF3-435F-9B59-CBC56B890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7F0D-53B0-4C33-8497-83D9722899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СЛЕДОВАТЕЛЬСКАЯ РАБОТА ПО ЛИТЕРАТУР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ЧУМАКИНА АНАСТА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КЛАС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А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МАКИНА М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кдот, по определению В.И.Даля – э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короткий по содержанию сжатый по форме в изложении рассказ о замечательном и забавном случае; байка, баутка.»  Синонимом слова анекдот является слово прибаска. Несколько позже анекдот из устного жанра перешёл в литературный. Литературный анекдот возник в России  в конце 19—начале 20 ве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бывают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Анекдоты о поручике Ржевск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Анекдоты о Василии Ивановиче Чапаеве, Петьке и Анк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Анекдоты о Штир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Анекдоты про Вовочку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«Армянское радио спрашивают…»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мянское радио спрашиваю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Есть ли жизнь на Марс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оже 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бывают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Семейные с основными темами «муж возвращается из командировки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Анекдоты об олигархах («о новых русских»)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Я купил себе галстук за пять с половиной тысяч долларов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Не хочу тебя огорчать, но я такие же точно видел по восемь с половиной тыся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.О Винни Пухе и Пятачке (иногда — Ослик Иа, Сова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.О Чебурашке и крокодиле Гене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ебурашку забрали в армию. Когда он вернулся, Гена спросил его: «Кем служил»? Чебурашка: «Радар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.Детские (детсадовские) анекдоты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.Студен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3.Анекдоты о блондинках: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дставляешь! Говорят, что этот Новый год выпадет на пятницу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Да-а! Только бы не на тринадцато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6.Абсурдные анекдо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ели два крокодила. Один красный, другой в Африк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другого спрашивае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Сколько стоит килограмм жареных гвоздей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ой отвечае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Зачем мне холодильник, когда я некурящий?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7.Школь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 (7)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же создаются анекдоты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Если есть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машние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озяйки, значит, где-то должны быть и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ики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чера на балкон вышел, хотел белье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весить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потом передумал…расстреля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магазине: «У вас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ветны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 телевизоры есть? Дайте мне красны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03600" y="3243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же создаются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ыгрывается нелепость какой-то ситу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апа, как писать правильно: «Зимой люди в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льт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 или в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ьта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иши, сынок, лучше про ле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ос среднего зве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вовало в опросе- 19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Что такое анекдот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ткуда он к нам пришёл?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Какие бывают анекдоты?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Есть ли у вас любимый анекдот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Как вы относитесь к анекдотам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Я узнала историю анекдота(Греция 550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Рассмотрела виды анекдотов (раз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пыталась понять строение анекдо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овела опрос о роли анекдота среди учащихся среднего звена моей школы и выяснила, что анекдоты – излюбленный жанр на все случаи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а: «Анекдоты любят все или не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i"/>
          <p:cNvPicPr/>
          <p:nvPr/>
        </p:nvPicPr>
        <p:blipFill>
          <a:blip r:embed="rId1"/>
          <a:stretch/>
        </p:blipFill>
        <p:spPr>
          <a:xfrm>
            <a:off x="1692360" y="1052640"/>
            <a:ext cx="719928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1403280" y="907920"/>
            <a:ext cx="5397480" cy="335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ктуальность темы заключается в том, что  об анекдотах у людей имеется лишь поверхностное представление и минимум знаний. Хочется восполнить этот проб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ринять попытку разобраться, является  ли анекдот одним из излюбленных жанров современного общества, или это заблужд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поставила перед собой следующие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Изучить теоретический материал по вопрос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Выяснить, какие бывают анекд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Проанализировать языковые явления, лежащие в основе создания комического эффекта в жанре анекдо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Понять, какой тематике отдают предпочтение современные школьн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КДОТ 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греч. anekdotos - «неизданный»), короткий рассказ о вымышленном событии злободневного бытового или общественно-политического содержания, с шутливой или сатирической окраской и неожиданной остроумной концов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i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о «анекдот»от греческого происхождения и впервые встречается  у византийского историка Прокопия Кесарийского в книге под названием «Тайная история». Эта книга, написанная в 550 году, содержало скандальную хронику императорского двора. В переводе с греческого «анекдот» означает неизданное, то, что не должно получить огласку. Современники Прокопия воспринимали слово анекдот как всевозможные городские сплетни, слухи, толки.   Позже анекдотом стали называться рассказы о знаменитых людях, их необычных поступках, фразах, смешных ситуациях, в которые им пришлось побыв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шего времени сохранилось собрание анекдотов 5 века, автором которых является александрийский филолог Гиерок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Франции это были небольшие рассказы из жизни знати, написанные в стихотворной фор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поху Возрождения в Италии это была фацеция – устный смешной рассказ. В Россию этот жанр пришёл из Польши в 17 веке и назывался шутк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10:53:01Z</dcterms:created>
  <dc:creator>1</dc:creator>
  <dc:description/>
  <dc:language>en-US</dc:language>
  <cp:lastModifiedBy>User</cp:lastModifiedBy>
  <dcterms:modified xsi:type="dcterms:W3CDTF">2023-02-02T09:16:37Z</dcterms:modified>
  <cp:revision>3</cp:revision>
  <dc:subject/>
  <dc:title>ИССЛЕДОВАТЕЛЬСКАЯ РАБОТА ПО ЛЕТЕРАТУРЕ ИССЛЕДОВАТЕЛЬСКАЯ РАБОТА ПО ЛЕТЕРАТУРЕ</dc:title>
</cp:coreProperties>
</file>