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6.gif" ContentType="image/gif"/>
  <Override PartName="/ppt/media/image29.gif" ContentType="image/gif"/>
  <Override PartName="/ppt/media/image5.jpeg" ContentType="image/jpeg"/>
  <Override PartName="/ppt/media/image20.wmf" ContentType="image/x-wmf"/>
  <Override PartName="/ppt/media/image26.jpeg" ContentType="image/jpeg"/>
  <Override PartName="/ppt/media/image4.wmf" ContentType="image/x-wmf"/>
  <Override PartName="/ppt/media/image13.jpeg" ContentType="image/jpeg"/>
  <Override PartName="/ppt/media/image27.gif" ContentType="image/gif"/>
  <Override PartName="/ppt/media/image25.png" ContentType="image/png"/>
  <Override PartName="/ppt/media/image22.wmf" ContentType="image/x-wmf"/>
  <Override PartName="/ppt/media/image24.png" ContentType="image/png"/>
  <Override PartName="/ppt/media/image19.gif" ContentType="image/gif"/>
  <Override PartName="/ppt/media/image18.jpeg" ContentType="image/jpeg"/>
  <Override PartName="/ppt/media/image21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38F8-FB7B-4627-AC81-CA47A51A5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858-E2E2-4556-94D4-9EC447DE0C4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D275-6BE9-4541-828F-893A90E25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497-11CB-4B26-9767-F177C699AE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63C-615E-43E8-AD05-BDDDC30D6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323B-CD1B-4BE6-8B79-FE1BDC250D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D02-9F88-40D9-83CE-5E4049AEE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E88-B9C3-4A45-B4A1-34699169CB3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543-96BA-48A5-88D9-B0F2D9D7E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5D0-E06C-4592-90C5-559FBAAE7F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92F-AC0A-4172-8959-E89F95B9BB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28B-778A-4A7C-B8F8-33AE47CA4E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D5E-72A5-4CB3-9E0A-8739773DB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4A7-83A4-4495-9872-4F6919F8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45A-43F9-4ECB-B431-07F22D2F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BA8-8D23-4356-AF45-9E287760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B2D-2F7C-4B05-A7F6-32FC471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295-C726-4110-A463-CC0C888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5FE8-93DD-4CB5-AB26-B643830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2767-EC2D-41A4-BE16-B0DE260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C0A-7957-49AE-9C9B-0C38694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7847-3807-44F9-AE09-90E5349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35BE-217E-4F46-89C5-FEE9626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0DA8-FD87-4398-987B-E16D744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B4D-25DF-407F-A183-DBDFD6F2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5F44-C7D8-4774-B3C6-D3D1ACB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938-0072-4953-91E4-76EF09E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E2B6-4BBC-420E-A691-3E0852E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FDC-DCB2-4857-AFBF-30C2C418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1F40-A0D3-4F87-8AAA-02D8F879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C641-9B3A-471E-991D-7732D77E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403B-3FD3-444A-8ED9-0F6FF7F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D9CF-4B51-44A8-8D5C-7A70CCB3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D991-92A9-489A-8250-3684CF87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F01E-A41C-419F-9ECC-B768F0B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53C-2078-4541-B46A-DD43D41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F259-416E-4B89-82FE-6E7DE48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67B0-18A8-4CEB-9B27-A284ADA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6CC9-0A98-41D8-92CD-68F2A08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ECFD-B031-41B9-90A0-851A422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24E0-416E-49AB-9D57-DE420FF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E936-9A50-4DAE-A81F-3E1F4088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1445-E3F1-4146-A349-56C48B6F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E1A9-D5F6-4BAD-BAE4-357C1594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4090-2D18-417F-B307-9A8E338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4DEB-A7CE-4104-83A0-9B0A15B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DA2-AEFB-4FD2-92C6-68F772B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3E39-0F5E-4AC6-9D0D-27B8AA6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371F-90A7-425A-9A5A-99E1554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D4D4-BC65-4EC6-A074-2243F34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5012-00B1-4573-B074-EFE88EA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ED7A-8E1A-479F-BC5F-315E3B1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97CF-D6E7-4113-A4F6-C024762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E644-7D52-42BF-A12A-9873577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1D54-BEBD-4E77-B3BE-98237704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6058-9325-455B-95EC-0B94DB74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E460-9381-4AE5-AE77-9CC8138C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1AE-51AE-4D53-B4AF-8406F6A8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F3F1-9C1F-40C5-9D53-F367FACE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BE4C-687B-43A8-921A-C3D0D5D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3ED8-DB15-4EAC-BEB8-7BBFACD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23FA-858A-47DD-A8D6-263D312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17AB-ABC2-49FC-A3C9-297F6618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08B2-AFB9-4875-8641-46EE2EA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9E1E-B339-4BC3-99DD-A46D54FF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2424-52D6-4E4B-AA97-451ACA5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03EB4-C985-45F8-B508-2F7BDF3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4B0D-B574-4C14-9F22-841988FB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42E-2F23-489C-8AE3-97C08B92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945E-3284-4254-84E4-3C69823F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C476-D1E0-4661-B861-5DF760FB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729D-B859-4F83-81DD-DD04701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A1C8-77C0-425B-8866-B4394A38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024F4-7292-435D-8180-A5BCAE2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884F-12ED-4856-A4EA-82960FF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22F6-0AD3-4F8A-AE9C-2B320B21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3939-4F5B-46BD-82C7-A2BED11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37DDD-4539-4BC7-8E01-6095782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61D1-F527-42F7-A488-D0B42100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197-7E56-4B16-938B-D2CC4A38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76944-6415-47FA-8423-1C427C9E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70CB-6244-45F8-9F0A-22546DD2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DEA8-383F-4B10-9EC8-CEE8BD49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C24D-BC2C-4D42-80D3-2AE0BD9F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6ADA-74EC-4987-ADEE-3C1CAFC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C890A-0685-4407-83DF-AF1C123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56D9-B807-44BA-BDF8-029F693D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FFC5-9FD6-4CFD-B5CA-DB6B5F3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1F4C-72B2-4FD9-878F-AD60BE97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3DB5-823B-4B12-B8D9-D9E5B20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A7D-2D9F-4CE6-90B7-703C624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E06E-7DB6-438E-9CA9-5FAC38C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8643-41A4-4EA7-9596-A3FB984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A9DC1-4108-4D75-AD98-3B383B8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3D79-2A70-490D-918C-C7A6577C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3EE2-87AB-46CD-B841-5C4AD516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C44-95CB-47D6-B64E-982C735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DFE-AA0C-465C-9896-FA62B71969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22B-E189-431E-A64B-D64E4D91FA6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9608-EAF1-429A-AF40-D52BD314D6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A17-78B0-4B82-8600-C775BA8B6B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9399-1773-4E7F-862A-99E727C9DF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0FF-3343-477C-A223-7C02006DA0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0776-5154-4526-BF91-52A0C58E94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9" descr="j0285698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343" name="WordArt 7"/>
          <p:cNvSpPr txBox="1"/>
          <p:nvPr/>
        </p:nvSpPr>
        <p:spPr>
          <a:xfrm>
            <a:off x="684360" y="765000"/>
            <a:ext cx="784836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8" descr="j0301480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j0199036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j0297551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424160" y="5370480"/>
            <a:ext cx="55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МОУ «СОШ №3 им.С.В.Ише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г.Ясногор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Зотова 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392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Заповеди здорового образа жизни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для детей: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4" descr="смайл"/>
          <p:cNvPicPr/>
          <p:nvPr/>
        </p:nvPicPr>
        <p:blipFill>
          <a:blip r:embed="rId1"/>
          <a:stretch/>
        </p:blipFill>
        <p:spPr>
          <a:xfrm>
            <a:off x="2714760" y="2428920"/>
            <a:ext cx="6429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Рисунок5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00" name="Picture 6" descr="roza_014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e7fc"/>
                </a:solidFill>
                <a:latin typeface="Arial Black"/>
                <a:ea typeface="Arial"/>
              </a:rPr>
              <a:t>«</a:t>
            </a:r>
            <a:r>
              <a:rPr b="1" lang="ru-RU" sz="4000" spc="-1" strike="noStrike">
                <a:solidFill>
                  <a:srgbClr val="c6e7fc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ru-RU" sz="1800" spc="-1" strike="noStrike">
                <a:solidFill>
                  <a:srgbClr val="c6e7fc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c6e7fc"/>
                </a:solidFill>
                <a:latin typeface="Arial Black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ежим дн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4584d3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Режим, одно из главных слагаемых  здорового образа жизни.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6" name="Picture 37" descr="фото8"/>
          <p:cNvPicPr/>
          <p:nvPr/>
        </p:nvPicPr>
        <p:blipFill>
          <a:blip r:embed="rId2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7" name="Picture 39" descr="фото9"/>
          <p:cNvPicPr/>
          <p:nvPr/>
        </p:nvPicPr>
        <p:blipFill>
          <a:blip r:embed="rId3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8" name="Picture 51" descr="фото17"/>
          <p:cNvPicPr/>
          <p:nvPr/>
        </p:nvPicPr>
        <p:blipFill>
          <a:blip r:embed="rId4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9" name="Picture 50" descr="фото16"/>
          <p:cNvPicPr/>
          <p:nvPr/>
        </p:nvPicPr>
        <p:blipFill>
          <a:blip r:embed="rId5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0" name="Picture 52" descr="фото19"/>
          <p:cNvPicPr/>
          <p:nvPr/>
        </p:nvPicPr>
        <p:blipFill>
          <a:blip r:embed="rId6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1" name="Picture 48" descr="фото14"/>
          <p:cNvPicPr/>
          <p:nvPr/>
        </p:nvPicPr>
        <p:blipFill>
          <a:blip r:embed="rId7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2" name="Picture 45" descr="фото12"/>
          <p:cNvPicPr/>
          <p:nvPr/>
        </p:nvPicPr>
        <p:blipFill>
          <a:blip r:embed="rId8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3" name="Picture 42" descr="фото10"/>
          <p:cNvPicPr/>
          <p:nvPr/>
        </p:nvPicPr>
        <p:blipFill>
          <a:blip r:embed="rId9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64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РЕЖИ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369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88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380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1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ff"/>
                </a:solidFill>
                <a:latin typeface="Arial"/>
                <a:ea typeface="Arial"/>
              </a:rPr>
              <a:t>Чистота -</a:t>
            </a:r>
            <a:r>
              <a:rPr b="1" lang="ru-RU" sz="2800" spc="-1" strike="noStrike">
                <a:solidFill>
                  <a:srgbClr val="c6e7f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400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ff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школа</cp:lastModifiedBy>
  <dcterms:modified xsi:type="dcterms:W3CDTF">2023-01-24T10:27:06Z</dcterms:modified>
  <cp:revision>144</cp:revision>
  <dc:subject/>
  <dc:title>Презентация PowerPoint</dc:title>
</cp:coreProperties>
</file>