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6.gif" ContentType="image/gif"/>
  <Override PartName="/ppt/media/image29.gif" ContentType="image/gif"/>
  <Override PartName="/ppt/media/image5.jpeg" ContentType="image/jpeg"/>
  <Override PartName="/ppt/media/image20.wmf" ContentType="image/x-wmf"/>
  <Override PartName="/ppt/media/image26.jpeg" ContentType="image/jpeg"/>
  <Override PartName="/ppt/media/image4.wmf" ContentType="image/x-wmf"/>
  <Override PartName="/ppt/media/image13.jpeg" ContentType="image/jpeg"/>
  <Override PartName="/ppt/media/image27.gif" ContentType="image/gif"/>
  <Override PartName="/ppt/media/image25.png" ContentType="image/png"/>
  <Override PartName="/ppt/media/image22.wmf" ContentType="image/x-wmf"/>
  <Override PartName="/ppt/media/image24.png" ContentType="image/png"/>
  <Override PartName="/ppt/media/image19.gif" ContentType="image/gif"/>
  <Override PartName="/ppt/media/image18.jpeg" ContentType="image/jpeg"/>
  <Override PartName="/ppt/media/image21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B81-616D-4E9A-A06A-2161F485D0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4E3-5EDC-416B-9BAF-CFC16863E6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059-CBFD-4ABF-BA46-6A61F55C8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9B97-93B3-441D-8765-11D3E67CF8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BD1-3472-4C26-B12B-FB58943EF1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849-4E6C-46D4-AD62-E704D6CCFA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69A-437F-4AA9-AA17-BE98AF871D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AEEA-D742-4032-B5C6-2FC994E259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37C8-C0F0-44CE-9081-95BD3E3386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4FE7-89A7-40C9-BF15-F6DE6CFF48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C6D-2FE4-4AA1-B2AE-20D5012EC1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1C4-B211-4308-9FA5-4B64876FEB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DB6-E3B3-49A7-9EAB-2BC3DE3F8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A1D-91F5-41F4-A3EE-4B02AA1E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D8A-B8E2-47FE-9CB2-20563AD8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30A-53FE-4D96-865D-D42B79B0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BA6-33C2-4DA1-8D17-77ADB4FD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50DA-AC66-4570-8697-CC73DEE4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CB61-7265-4FCA-A226-F7C4419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59F5-668E-49AC-A671-A38D0D8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4DDC-52A5-42A3-80AF-8FDB160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A0D-1C1D-45ED-940A-6B9B6BA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F05-1B99-499D-A435-4ABE4986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14D5-CBAE-4437-AF49-432FEDF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FB7-5D5E-48DB-97A6-754DE13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7AC-7C6F-45E9-864C-F3B973D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C418-11CC-47E8-AE74-F47DD28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959-D61C-4C14-A8C2-6373A5F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3F25-5C2B-4DFD-A6B4-607369CB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3E59-136D-4B2C-B857-E80F671E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A386-EBAF-451A-823B-894C0EC4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97AF-B5A9-4901-AB3D-286EBDD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5C08-FABA-44B9-9177-94835AF1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113E-1273-4D38-B998-D9ABC1A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4E19-EEF8-4296-9E05-CDAE7B6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EB4-8306-44F2-94DE-4392F46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FF38-A0AC-4DC2-9EAF-00721B8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86CF-7C94-4B2B-B3DD-0675A7E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2DB6-0ACE-4FAA-94E6-EF3201B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4B83-FF88-4F5E-A161-ADAB190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9A59-83CC-4B92-B13E-0367DD9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D1E7-DC49-43B4-AC27-D6508C33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CE10-36F8-410B-B7AA-17DDFA8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8DCC-418D-4586-BE88-B9EBB5B4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DD1D-6D71-42B9-B75A-B45FE3FC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FA99-513A-4CFF-B8DC-4B4BA5CB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E4-D111-4FC8-9F08-A8C177E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AD4D-EFB6-45B2-868B-072E3706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0BA5-30EA-47A1-9545-D8623C7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9516-6CED-4ED6-A133-286B65F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87F2-5504-464C-8FD9-0A36EAC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20AD-9494-4D26-91FC-F69415A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AB36-3096-41AB-83CA-E025855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0F7B-F5E2-4A23-B844-6CED078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C846-4621-4B15-81A2-5452BB1C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BAF2-5CC8-4549-88A4-A7C5D383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E51E-9364-460D-BFA4-EEDE1B16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A00-38A6-4F7A-9EE7-F86E3C8F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0799-1811-489A-A251-E2C9AD4C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F349-37D3-4F61-885C-A9102BDE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EBD6-3DA0-4E17-8FFC-90390174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F2A2E-1700-4D7C-A760-FB85C5F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1082-3582-46D3-A94B-7D13F43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A917-AB4B-4D52-B824-4F6820D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ED1C-0700-43DC-BB35-5795B67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0D9D-3D09-4CEC-AD39-FA1D96AE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5934-CE62-436B-89EE-1043417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845A-A2BF-4218-A13F-2986DEE2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AEA-3DFB-4EFE-A76E-830C184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2DA38-377F-4088-BC50-9C62A15A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2805D-F802-47FD-98CE-A6D23F6C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FD85-7085-431A-BB67-DC5F12DA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F48DC-7816-4ED9-B55F-95B722F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9E8C-5350-41C9-AAB6-D0CAB42C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EBF65-9881-43F8-9F45-398F88E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285E8-1F36-49E3-A024-AD697C4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02AF9-B090-4EC8-952B-B6E5444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E66F-DA1E-4717-9117-96493AF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66C2-4702-4460-8620-04C98A17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5FD-0BCB-45DF-9CD3-CD4225A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6CF72-A6C1-4327-8751-5A96388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F541-1A9C-4195-AA98-6CCC4662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3B4B-99E3-47E0-A865-6AA6CD28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B315-0C2C-4573-B775-4D61E6A1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78A9-D479-4117-B4C9-A6E8CBE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89263-EBFB-4354-8DDE-132AAF7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17B9-17C4-4FB2-AFD3-F3E7C7C1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C3CA-AC13-4098-9812-BA151B6E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6922-A162-4627-81CD-4411E8D0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BD11-D501-42D7-8FEB-214AC5B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B4-90D2-4538-8C8D-C84B8992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D0C2A-7278-4047-AD08-F4166890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65DBA-CE92-47A3-8CAA-1302F12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642C-DC6F-4F02-81EC-1BD1AB4D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D043F-AAC2-41B5-9CE6-B4C60F4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A89EA-58A1-4C36-9C8A-BFAE3243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BF7-CB92-4A1A-BA7B-109F1BCB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878-19CF-4971-81B2-185990B76B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729-4E63-474C-B2F0-0487E2860F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C6A-874B-4E09-88D1-0D6CDADAD7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F6F-12E7-4C9D-8835-AD77E74241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2763-6216-451F-9012-DA9CF43754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EF5-CDFA-493E-A903-0DE869B55A5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C955-2CA5-4FBA-995D-1F6779ACE3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9" descr="j0285698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343" name="WordArt 7"/>
          <p:cNvSpPr txBox="1"/>
          <p:nvPr/>
        </p:nvSpPr>
        <p:spPr>
          <a:xfrm>
            <a:off x="684360" y="765000"/>
            <a:ext cx="784836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8" descr="j0301480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j0199036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j0297551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424160" y="5370480"/>
            <a:ext cx="55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МОУ «СОШ №3 им.С.В.Ише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г.Ясногор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2139"/>
                </a:solidFill>
                <a:latin typeface="Candara"/>
              </a:rPr>
              <a:t>Зотова 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392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Заповеди здорового образа жизни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для детей: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4" descr="смайл"/>
          <p:cNvPicPr/>
          <p:nvPr/>
        </p:nvPicPr>
        <p:blipFill>
          <a:blip r:embed="rId1"/>
          <a:stretch/>
        </p:blipFill>
        <p:spPr>
          <a:xfrm>
            <a:off x="2714760" y="2428920"/>
            <a:ext cx="6429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Рисунок5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00" name="Picture 6" descr="roza_014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6e7fc"/>
                </a:solidFill>
                <a:latin typeface="Arial Black"/>
                <a:ea typeface="Arial"/>
              </a:rPr>
              <a:t>«</a:t>
            </a:r>
            <a:r>
              <a:rPr b="1" lang="ru-RU" sz="4000" spc="-1" strike="noStrike">
                <a:solidFill>
                  <a:srgbClr val="c6e7fc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ru-RU" sz="1800" spc="-1" strike="noStrike">
                <a:solidFill>
                  <a:srgbClr val="c6e7fc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c6e7fc"/>
                </a:solidFill>
                <a:latin typeface="Arial Black"/>
                <a:ea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Режим дн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4584d3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Режим, одно из главных слагаемых  здорового образа жизни.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6" name="Picture 37" descr="фото8"/>
          <p:cNvPicPr/>
          <p:nvPr/>
        </p:nvPicPr>
        <p:blipFill>
          <a:blip r:embed="rId2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7" name="Picture 39" descr="фото9"/>
          <p:cNvPicPr/>
          <p:nvPr/>
        </p:nvPicPr>
        <p:blipFill>
          <a:blip r:embed="rId3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8" name="Picture 51" descr="фото17"/>
          <p:cNvPicPr/>
          <p:nvPr/>
        </p:nvPicPr>
        <p:blipFill>
          <a:blip r:embed="rId4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9" name="Picture 50" descr="фото16"/>
          <p:cNvPicPr/>
          <p:nvPr/>
        </p:nvPicPr>
        <p:blipFill>
          <a:blip r:embed="rId5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0" name="Picture 52" descr="фото19"/>
          <p:cNvPicPr/>
          <p:nvPr/>
        </p:nvPicPr>
        <p:blipFill>
          <a:blip r:embed="rId6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1" name="Picture 48" descr="фото14"/>
          <p:cNvPicPr/>
          <p:nvPr/>
        </p:nvPicPr>
        <p:blipFill>
          <a:blip r:embed="rId7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2" name="Picture 45" descr="фото12"/>
          <p:cNvPicPr/>
          <p:nvPr/>
        </p:nvPicPr>
        <p:blipFill>
          <a:blip r:embed="rId8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63" name="Picture 42" descr="фото10"/>
          <p:cNvPicPr/>
          <p:nvPr/>
        </p:nvPicPr>
        <p:blipFill>
          <a:blip r:embed="rId9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64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РЕЖИМ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369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88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380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1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ff"/>
                </a:solidFill>
                <a:latin typeface="Arial"/>
                <a:ea typeface="Arial"/>
              </a:rPr>
              <a:t>Чистота -</a:t>
            </a:r>
            <a:r>
              <a:rPr b="1" lang="ru-RU" sz="2800" spc="-1" strike="noStrike">
                <a:solidFill>
                  <a:srgbClr val="c6e7f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400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ff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школа</cp:lastModifiedBy>
  <dcterms:modified xsi:type="dcterms:W3CDTF">2023-01-24T10:27:06Z</dcterms:modified>
  <cp:revision>144</cp:revision>
  <dc:subject/>
  <dc:title>Презентация PowerPoint</dc:title>
</cp:coreProperties>
</file>