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804-4D0D-4702-8B7E-883AA4C8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49E-5796-4DEF-909A-B64D2754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AE3-A0E6-4E0C-8ED3-CB1C1737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685-D7E6-4726-B122-3244A9F4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259B-D212-4F7A-A42E-9DD154C2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C793-549F-4F7C-BA70-955D847E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BD9D-E527-48D7-93B1-4F519E02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E911-B127-4695-9F79-A9961EE6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E77E-89D6-4016-954E-878BEB44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FFE4-50AC-4D0F-BAD4-328F0139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9ABD-2E2F-4DBB-8E2A-653879D9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3691-227C-46B8-80F7-CF8FD657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452E-7D38-469F-87D7-31814C02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14E8-3EE0-43AB-B871-35A3BE6D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941A-3279-4EA0-852B-1988CF4C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35D1-4059-496F-BB30-FB5A783F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4260-BCFC-443B-8188-88F4FD26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BF26-76C8-43DE-8B6C-01DFC419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F245-B3AD-4B95-9B18-D0CD629B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D7074-2240-4C7A-AE36-A9C521F3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79A0B-7668-478E-9D6D-0E62B15E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395B-64F3-4186-BAD4-F59752FB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EA6-20DF-4CB1-BB1F-18EF54F3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6F1D6-2289-409B-BDF6-A0F6A452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79FE-965B-4A1A-A84D-6159A28A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C4D2-ED7A-4BC0-8278-AF9D97A7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93DEE-B9D8-4EBF-A0D1-19B7257B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3BB3-8B81-4740-B4F6-3F15D2BE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E8E2-B2E9-462C-A856-EC9AE094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DD8F-A038-4E59-9AF2-5919305D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4295-7EB3-4B8C-ADDC-6C4F8D43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332D8-8A4A-4B7E-B4D5-D80BCAFB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68C9B-565A-468B-867C-C5B0F443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BA1-C2D7-4803-BCDF-02DCBCC5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CB8F3-91E3-4727-9662-F2FF5610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4E04-8C79-46BD-A99E-3DA74310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721B-8A43-4D7A-95C0-F07E67DB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BA4A5-9754-412D-B4CB-1554896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7B732-9BFC-409B-917E-C0E17828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2DDAE-3D55-462F-9994-CECC17CA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E907-FB10-4986-B0EA-56598C5D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1366C-3503-4310-BE79-F2287C4D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16757-11AB-4C8A-A304-2D797D42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1475F-9962-4FAC-9326-89993FE9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01C-4A7D-449B-BC1B-22047E7A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D6C21-CC6C-4586-A581-67320B5A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12B5E-176F-4CF6-905D-C392F854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2BCA6-59C4-4F77-8BDD-9D1C97DE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0600C-B0AF-4087-BE04-E0BC26D4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594CE-0663-4A74-8C04-4089BB65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BBCE1-F1D7-4DCA-9C07-CC2353A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C62A6-B027-49E9-84EB-E830E60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790C3-C950-4C2C-8AF0-44403E0C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642FB-1264-4175-96F1-5FCE6924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F6AB7-3FF7-4EB9-A883-C9BF2737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764-D6DB-433D-90F5-E613F584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0D884-1E67-4275-B51D-234D95CB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013-93F5-46A4-AF7C-B4D85FBE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951-8257-429A-A66E-B15B7219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32D-D232-4428-AF40-AE9C102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42D0-8346-4759-9160-E02E04E904A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D989-FA32-4214-B72E-82B6D19B6CE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2B3B-3ED5-49E4-8415-764E9F94204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FB87-ED96-4DA3-8CAD-D279E12F559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A6A3-0144-4BEF-9D79-684D3E36C63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Синдром  эмоционального выгорания педагога: способы профилактики.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 ВО «Борисоглебский ЗРЦДПОВ «Журавлик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дагог-психолог В.В. Клинов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713880" y="1999800"/>
            <a:ext cx="8001000" cy="2614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ффективность реализации оздоровительных программ возрастает, когда педагоги сами начинают заниматься своим здоровьем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ой из профессиональных проблем связанных со здоровьем педагогов, является так называемое «выгорание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сто его называют  «эмоциональным» или «профессиональным выгоранием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ндром эмоционального выгорания (СЭВ) – понятие, введённое в психологию американским психиатром Фрейденбергом в 1974 году, проявляющееся нарастающим  эмоциональным истощени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Признаки эмоционального выгора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500040" y="428760"/>
            <a:ext cx="814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ный эмоциональный фон, эмоциональная вялость и тупость, отстраненность в общении с окружающими и т.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е, подчас циничное отношение как к субъектам профессиональной деятельности (учащимся), так и к коллег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стающее безразличие к своим должностным обязанностям, снижение трудовой активности и мотив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собственной профессиональной несостоятельности и неудовлетворенности работ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 результатов профессиональной деятельности и снижение персональной ответственности за 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тивированная или неадекватная агрессивность, недовольство собой и окружающи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удшение соматического состояния, головные боли, нарушения сн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ачества жизни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едотвратить возникновение синдрома эмоционального выгорания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642960" y="656280"/>
            <a:ext cx="8072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ие краткосрочных и долгосрочных ц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йм-ауто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что необходимо для обеспечения психического и физического благополучия (отдых от рабо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владение умениями и навыками саморегуляции (релаксация,  положительная внутренняя реч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е развитие и самосовершенств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ход от ненужной конкурен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ое общ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держание хорошей физической ф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направленной профилактики СЭВ следуе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 рассчитывать и обдуманно распределять свои нагруз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переключаться с одного вида деятельности на друго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е относиться к конфликтам на работ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ытаться быть лучшим всегда и во всем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8:01:43Z</dcterms:created>
  <dc:creator>N15</dc:creator>
  <dc:description/>
  <dc:language>en-US</dc:language>
  <cp:lastModifiedBy>Windows User</cp:lastModifiedBy>
  <dcterms:modified xsi:type="dcterms:W3CDTF">2023-01-31T09:35:23Z</dcterms:modified>
  <cp:revision>78</cp:revision>
  <dc:subject/>
  <dc:title>Слайд 1</dc:title>
</cp:coreProperties>
</file>