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F8F0C-D968-4FAC-A54B-9923C7608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983A4-CCD6-4CD2-AC86-835AD238D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99D95-E671-4D86-8461-E93882F96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CAE90-D164-4B22-83AA-E11213FAD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40E69-A9F1-466F-8FB6-C8475B71A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AE204-8903-492D-B8A8-A8CE11F11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52FFA-74D1-4595-B27A-D12273CEE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39901-C623-4A1E-90A4-583974029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43421-D002-4DC1-AA1E-FCF3DBEBB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5CEB7-1354-49A9-BBF2-93C517EAB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E0C91-01E2-4C59-8B68-B203104B5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7CD3A-8E8E-4F77-AD32-8D24F4A98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D9305-3E6C-4F2B-BBC3-6F9D0C986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9B827-63CD-463B-A21C-62E9358F1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7529E-5658-462C-ABAD-1BFF662E5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8E5B7-9234-4F71-B20B-23836B5F0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1CD89-5980-4BD0-8D60-A24ADF132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CFFD18-1EAA-435E-A0E6-80C622E53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E6BDBC-08D2-41FC-A316-7E583A68F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B9C57B-065D-4BE0-BFE8-020AEA362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59D9BE-8704-4C94-9F51-856844265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D53DF3-CE2E-4776-A1F4-89C754C0F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CAC4B-8234-4110-B015-5E9F02D81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12E78A-3C38-46D5-A3B4-D6A5FDF1E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43A031-90CD-46B7-B606-EC40063EC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566B6F-1019-481B-BD8F-4944336B2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9586C8-197A-497D-923E-C476E7D6C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D33043-65A2-4BDF-95CA-B4D28A251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7F76FD-6B61-42F9-82D0-21C2F2948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796CED-C83C-4C12-9027-FD6E296A4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1A95F1-52AF-49BB-AF32-1113FB346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1EE76A-A311-4991-99D7-FFE34AD4D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EA8847-B199-4382-BFAF-FBA559071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2F881-5C40-4AE9-AF59-9019229DB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42F735-B413-49A4-BC6B-B93E31A6A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250041-D9B0-4886-8623-C4D5DF040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3D5F91-C90F-4599-95A0-DCABEEDFB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57F2E9-8EAF-43B6-895D-06A316955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59E3EC-8643-4581-B9FB-C93BB3595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FAE961-9C17-4525-9872-ED414F010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E49209-6758-4A9C-997B-DF5172D9F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1C9FAC-E46B-46D9-AC0F-5301FAA65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A16E6D-5257-4256-8B98-E0747011E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76901E-3F40-4EBD-8ACA-61F3BD830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7DE86-9D3D-4392-BCB7-C4C1471DA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23D980-31BF-4D2A-8E6F-787A89FBC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B80100-0FAA-4C87-A593-40F8BE6DF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46AA17-BB1E-4379-8C09-C1224D90D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5104C0-F56D-4537-B879-4368AD531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F392EB-A030-478E-84F5-7221FAA48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26A19B-ADD8-4D7F-81E2-CBFDEF326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B42DC8-F606-4ADF-BDDE-FA127650D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E6738C-4109-42E4-8E71-43A01237D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F62775-5EF4-4351-A058-84C6DC3F8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518BD2-00B0-415B-924C-AD547CD05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FE327-13B7-4E1A-AE76-EF1360E52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018FC2-91DC-40C7-9D47-547D1CD8F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9AE7B-FDC6-414C-8D74-9EA0DB448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D90EA-85EA-4B65-97F8-D993DE079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C14CB-E4C0-467E-9008-26B335B61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71644-FA16-4370-8E91-3AE6957BB7DC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ADF98-F785-42ED-861C-71A82ABB38D8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BD744-0AEA-4F85-BE7C-2E06DD966316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823ED-ED33-4D19-8229-5E65F81E80DE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79E14-3EAB-4948-BB1F-EACC523402AD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22160" y="18208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000000"/>
                </a:solidFill>
                <a:latin typeface="Verdana"/>
              </a:rPr>
              <a:t>Синдром  эмоционального выгорания педагога: способы профилактики.</a:t>
            </a:r>
            <a:endParaRPr b="1" lang="en-US" sz="41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722160" y="3684600"/>
            <a:ext cx="7772400" cy="23875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0" bIns="46800" anchor="t">
            <a:noAutofit/>
          </a:bodyPr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КУ ВО «Борисоглебский ЗРЦДПОВ «Журавлик»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Педагог-психолог В.В. Клинова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68360" y="4928760"/>
            <a:ext cx="8183520" cy="67644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асибо за внимание!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68360" y="5624640"/>
            <a:ext cx="8183520" cy="420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b95c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713880" y="1999800"/>
            <a:ext cx="8001000" cy="2614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Эффективность реализации оздоровительных программ возрастает, когда педагоги сами начинают заниматься своим здоровьем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дной из профессиональных проблем связанных со здоровьем педагогов, является так называемое «выгорание»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Часто его называют  «эмоциональным» или «профессиональным выгоранием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.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 algn="ctr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индром эмоционального выгорания (СЭВ) – понятие, введённое в психологию американским психиатром Фрейденбергом в 1974 году, проявляющееся нарастающим  эмоциональным истощением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28760" y="20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Verdana"/>
              </a:rPr>
              <a:t>Признаки эмоционального выгорания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8" name="Прямоугольник 2"/>
          <p:cNvSpPr/>
          <p:nvPr/>
        </p:nvSpPr>
        <p:spPr>
          <a:xfrm>
            <a:off x="500040" y="428760"/>
            <a:ext cx="81439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иженный эмоциональный фон, эмоциональная вялость и тупость, отстраненность в общении с окружающими и т.п.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гативное, подчас циничное отношение как к субъектам профессиональной деятельности (учащимся), так и к коллега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астающее безразличие к своим должностным обязанностям, снижение трудовой активности и мотиваци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щущение собственной профессиональной несостоятельности и неудовлетворенности работо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адекватная самооценка результатов профессиональной деятельности и снижение персональной ответственности за них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мотивированная или неадекватная агрессивность, недовольство собой и окружающим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худшение соматического состояния, головные боли, нарушения сна и т.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ижение качества жизни в цел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предотвратить возникновение синдрома эмоционального выгорания?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2" name="Rectangle 1"/>
          <p:cNvSpPr/>
          <p:nvPr/>
        </p:nvSpPr>
        <p:spPr>
          <a:xfrm>
            <a:off x="642960" y="656280"/>
            <a:ext cx="80722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ределение краткосрочных и долгосрочных цел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Использование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«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тайм-аутов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»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, что необходимо для обеспечения психического и физического благополучия (отдых от работы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Овладение умениями и навыками саморегуляции (релаксация,  положительная внутренняя речь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фессиональное развитие и самосовершенствовани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Уход от ненужной конкуренци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Эмоциональное общени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ддержание хорошей физической форм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00040" y="785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514440" indent="-51444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целях направленной профилактики СЭВ следует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раться рассчитывать и обдуманно распределять свои нагрузки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ься переключаться с одного вида деятельности на другой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ще относиться к конфликтам на работе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пытаться быть лучшим всегда и во всем»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7T08:01:43Z</dcterms:created>
  <dc:creator>N15</dc:creator>
  <dc:description/>
  <dc:language>en-US</dc:language>
  <cp:lastModifiedBy>Windows User</cp:lastModifiedBy>
  <dcterms:modified xsi:type="dcterms:W3CDTF">2023-01-31T09:35:23Z</dcterms:modified>
  <cp:revision>78</cp:revision>
  <dc:subject/>
  <dc:title>Слайд 1</dc:title>
</cp:coreProperties>
</file>