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AB0-BA1D-479C-A7D0-17398763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52B-3B75-4839-9C63-41636DE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093-89C2-4BEB-A6A2-6B2ADB06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908-F697-489C-B25F-0BD63E12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8B6B-5C16-4BC9-B033-B2C2E91A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CD90-439C-4077-BB3E-7324F438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2DA-4A56-4819-BEB7-9B836B7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F057-8801-4BC5-A030-D2FF2E1C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5E81-0FA8-4896-ADBF-00DD82C0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13EF-A15E-4BBE-8344-F4EC351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9EF6-4181-487D-AAAE-98C2ADB3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F96-54F6-4446-BE08-C2204512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25A-EA42-4730-A816-E66B6F9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0FC-B89B-4F36-B36B-E3463A0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55A7-2C20-430A-9950-E724B73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7342-5343-4E1E-A87D-76DEB1CF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F367-8200-43BA-AE66-922BEF4D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B357-E23A-4414-9752-4B92A366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5C0B-7116-4190-AE5A-140A6FB4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3E6A-3024-4442-997D-BD406B81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7000-69FC-43D9-9604-BCDE5CA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1254-EFDA-4FF2-843F-36BE1749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9F9-D4F6-4975-BED8-DE30D079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5FB4-650A-41D9-A89F-34CB419D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D09F-F8EF-4324-84D7-4BA120F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C034-3189-459A-831B-24773E1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E732-E6A0-4031-96B3-42344EB3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5D63-08E5-48AF-8822-6403544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52FC-C8E1-42D2-979D-1990A045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5CA61-C33B-4887-8591-4CF38F65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EEAB-DF25-412E-8541-36813F45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9D84-D9C0-455F-B3B9-626FFA1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E9AF8-8010-48FA-974C-592E6744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5DF-8B55-463A-8C78-37786409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4227-5266-4C35-9A6F-56C3E020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CDA3-3C73-4D3C-8C09-6CB27EE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DFE7-43B9-467C-98FB-27A48F1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A7EA-FE4B-462D-BC99-2E40ED6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E0F4-A759-4266-9A51-72208D7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C5D3-288E-460F-9FAA-ECF4D72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E02F-696A-4BF8-89BF-985EC98D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B19D-8CEE-4ECF-8461-5BF87F2D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1F88-3681-4E2D-870F-A06B3F8E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AB3-0CE9-4CEA-81F6-46A1A7FE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D9E-AAC3-44F4-ACB0-BBAC18DE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AFC-5A4F-4CD3-90E3-0D9228F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352-2802-4B48-B3FD-1A9C6BA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E18-069A-4640-AC66-D6399144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5D074A-3D1D-4FDD-B835-99660C75E8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97935B-C36C-44CF-A570-D5FC3CCD2BB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325307-6D2B-4F63-9532-812A8EF241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445376-37B1-4AE9-A6F6-BAB8F4B2A2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5280" y="2781360"/>
            <a:ext cx="8353080" cy="239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404040"/>
                </a:solidFill>
                <a:latin typeface="Arial"/>
              </a:rPr>
              <a:t>Урок изобразительного искус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40404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1410480" y="882720"/>
            <a:ext cx="63345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1"/>
                </a:solidFill>
                <a:latin typeface="Arial"/>
              </a:rPr>
              <a:t>Витрины магази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4739400" y="4725000"/>
            <a:ext cx="300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учитель изо МБОУ «СШ 22» Гафиева Зифа Расих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3007800" cy="151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ные витрин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32848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когда в витрине выставляются единичные комплекты товаров, которыми торгует магазин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варные витрины демонстрируют прохожим часть ассортимента.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кондитерск.jpg"/>
          <p:cNvPicPr/>
          <p:nvPr/>
        </p:nvPicPr>
        <p:blipFill>
          <a:blip r:embed="rId1"/>
          <a:stretch/>
        </p:blipFill>
        <p:spPr>
          <a:xfrm>
            <a:off x="2928960" y="428760"/>
            <a:ext cx="5643360" cy="597348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4642920" cy="36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ная витри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24714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хлеба нам купить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ь подарок подарить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умку мы с тобой берем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на улицу идем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проходим вдоль витри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заходим в магазин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3" descr="хдебобул 5.jpg"/>
          <p:cNvPicPr/>
          <p:nvPr/>
        </p:nvPicPr>
        <p:blipFill>
          <a:blip r:embed="rId1"/>
          <a:stretch/>
        </p:blipFill>
        <p:spPr>
          <a:xfrm>
            <a:off x="3564000" y="1052640"/>
            <a:ext cx="5113080" cy="511308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61456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но-сюжетная витри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779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 ассортимента выставляется неожиданным и оригинальным способом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оварно-сюжетных, помимо демонстрации товара наблюдается сцен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5" descr="sears mannequin"/>
          <p:cNvPicPr/>
          <p:nvPr/>
        </p:nvPicPr>
        <p:blipFill>
          <a:blip r:embed="rId1"/>
          <a:stretch/>
        </p:blipFill>
        <p:spPr>
          <a:xfrm>
            <a:off x="3708360" y="1268280"/>
            <a:ext cx="5040000" cy="4957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240" cy="178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южет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итрины акцентируют внимание не на товарах, а на придуманной дизайнером сцене с элементами украшения. Дизайнерская работа привлекает внимание прохожих. Дизайнеры создают целую сцену, выставляя в витрине не столько товары, сколько идеи, образ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4" descr="капгшрощлщз.jpg"/>
          <p:cNvPicPr/>
          <p:nvPr/>
        </p:nvPicPr>
        <p:blipFill>
          <a:blip r:embed="rId1"/>
          <a:stretch/>
        </p:blipFill>
        <p:spPr>
          <a:xfrm>
            <a:off x="4284720" y="3213000"/>
            <a:ext cx="4539960" cy="30412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18"/>
          <p:cNvPicPr/>
          <p:nvPr/>
        </p:nvPicPr>
        <p:blipFill>
          <a:blip r:embed="rId2"/>
          <a:stretch/>
        </p:blipFill>
        <p:spPr>
          <a:xfrm>
            <a:off x="108000" y="3213000"/>
            <a:ext cx="4032000" cy="300780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20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укционные витрины – это витрины, сообщающие о скидках и распродажах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001_12"/>
          <p:cNvPicPr/>
          <p:nvPr/>
        </p:nvPicPr>
        <p:blipFill>
          <a:blip r:embed="rId1"/>
          <a:stretch/>
        </p:blipFill>
        <p:spPr>
          <a:xfrm>
            <a:off x="684360" y="1413000"/>
            <a:ext cx="3180960" cy="2385720"/>
          </a:xfrm>
          <a:prstGeom prst="rect">
            <a:avLst/>
          </a:prstGeom>
          <a:ln w="9525">
            <a:noFill/>
          </a:ln>
        </p:spPr>
      </p:pic>
      <p:pic>
        <p:nvPicPr>
          <p:cNvPr id="210" name="Picture 5" descr="002"/>
          <p:cNvPicPr/>
          <p:nvPr/>
        </p:nvPicPr>
        <p:blipFill>
          <a:blip r:embed="rId2"/>
          <a:stretch/>
        </p:blipFill>
        <p:spPr>
          <a:xfrm>
            <a:off x="4643280" y="1916280"/>
            <a:ext cx="3901680" cy="2927160"/>
          </a:xfrm>
          <a:prstGeom prst="rect">
            <a:avLst/>
          </a:prstGeom>
          <a:ln w="9525">
            <a:noFill/>
          </a:ln>
        </p:spPr>
      </p:pic>
      <p:pic>
        <p:nvPicPr>
          <p:cNvPr id="211" name="Picture 6" descr="9_5"/>
          <p:cNvPicPr/>
          <p:nvPr/>
        </p:nvPicPr>
        <p:blipFill>
          <a:blip r:embed="rId3"/>
          <a:stretch/>
        </p:blipFill>
        <p:spPr>
          <a:xfrm>
            <a:off x="1332000" y="4221000"/>
            <a:ext cx="3041280" cy="20887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ое в искусстве оформления витри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ус, смелость, профессионализм, хорошая иде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видиосалон у гнома.jpg"/>
          <p:cNvPicPr/>
          <p:nvPr/>
        </p:nvPicPr>
        <p:blipFill>
          <a:blip r:embed="rId1"/>
          <a:stretch/>
        </p:blipFill>
        <p:spPr>
          <a:xfrm>
            <a:off x="395280" y="1197000"/>
            <a:ext cx="4214520" cy="5214600"/>
          </a:xfrm>
          <a:prstGeom prst="rect">
            <a:avLst/>
          </a:prstGeom>
          <a:ln w="9525">
            <a:noFill/>
          </a:ln>
        </p:spPr>
      </p:pic>
      <p:pic>
        <p:nvPicPr>
          <p:cNvPr id="214" name="Содержимое 3" descr="6777.jpg"/>
          <p:cNvPicPr/>
          <p:nvPr/>
        </p:nvPicPr>
        <p:blipFill>
          <a:blip r:embed="rId2"/>
          <a:stretch/>
        </p:blipFill>
        <p:spPr>
          <a:xfrm>
            <a:off x="4859280" y="1197000"/>
            <a:ext cx="3714480" cy="51908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3285720" cy="512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трина любит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3214440" cy="54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ытных художников-оформителей с хорошим вкусом, фантазией и чувством мер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умное сочетание цветов. Яркое, красивое оформление.</a:t>
            </a:r>
            <a:br>
              <a:rPr sz="20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640"/>
          <p:cNvPicPr/>
          <p:nvPr/>
        </p:nvPicPr>
        <p:blipFill>
          <a:blip r:embed="rId1"/>
          <a:stretch/>
        </p:blipFill>
        <p:spPr>
          <a:xfrm>
            <a:off x="3851280" y="3429000"/>
            <a:ext cx="4536720" cy="307296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6" descr="f_16764220"/>
          <p:cNvPicPr/>
          <p:nvPr/>
        </p:nvPicPr>
        <p:blipFill>
          <a:blip r:embed="rId2"/>
          <a:stretch/>
        </p:blipFill>
        <p:spPr>
          <a:xfrm>
            <a:off x="4284720" y="333360"/>
            <a:ext cx="3819240" cy="27032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5219640" y="5300640"/>
            <a:ext cx="3495240" cy="12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хоженный опрятный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15920"/>
            <a:ext cx="4355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оформления магазина с его стилем и содерж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866120" y="981000"/>
            <a:ext cx="37944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новых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50920" y="3357720"/>
            <a:ext cx="46080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ее осв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оригинального на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blogs_0012"/>
          <p:cNvPicPr/>
          <p:nvPr/>
        </p:nvPicPr>
        <p:blipFill>
          <a:blip r:embed="rId1"/>
          <a:stretch/>
        </p:blipFill>
        <p:spPr>
          <a:xfrm>
            <a:off x="395280" y="4149720"/>
            <a:ext cx="3960360" cy="253476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10" descr="21"/>
          <p:cNvPicPr/>
          <p:nvPr/>
        </p:nvPicPr>
        <p:blipFill>
          <a:blip r:embed="rId2"/>
          <a:stretch/>
        </p:blipFill>
        <p:spPr>
          <a:xfrm>
            <a:off x="4788000" y="1700280"/>
            <a:ext cx="4188960" cy="345888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11" descr="2"/>
          <p:cNvPicPr/>
          <p:nvPr/>
        </p:nvPicPr>
        <p:blipFill>
          <a:blip r:embed="rId3"/>
          <a:stretch/>
        </p:blipFill>
        <p:spPr>
          <a:xfrm>
            <a:off x="468360" y="1341360"/>
            <a:ext cx="3816000" cy="208080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04360" y="188640"/>
            <a:ext cx="835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4360" y="441720"/>
            <a:ext cx="7571880" cy="25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знаний о разнообразии декоративного оформления витрин магазинов, основах диза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994200" y="620640"/>
            <a:ext cx="1345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01"/>
          <p:cNvPicPr/>
          <p:nvPr/>
        </p:nvPicPr>
        <p:blipFill>
          <a:blip r:embed="rId1"/>
          <a:stretch/>
        </p:blipFill>
        <p:spPr>
          <a:xfrm>
            <a:off x="684360" y="2781360"/>
            <a:ext cx="7632360" cy="355716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11280" y="1268280"/>
            <a:ext cx="8064000" cy="7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83560" y="260280"/>
            <a:ext cx="2881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Задач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Nucleo"/>
          <p:cNvPicPr/>
          <p:nvPr/>
        </p:nvPicPr>
        <p:blipFill>
          <a:blip r:embed="rId1"/>
          <a:stretch/>
        </p:blipFill>
        <p:spPr>
          <a:xfrm>
            <a:off x="2124000" y="3429000"/>
            <a:ext cx="4897080" cy="3155760"/>
          </a:xfrm>
          <a:prstGeom prst="rect">
            <a:avLst/>
          </a:prstGeom>
          <a:ln w="9525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324000" y="907920"/>
            <a:ext cx="8640360" cy="246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 Ознакомить с разнообразием декоративно оформленных витрин магазинов на улицах города и ролью художника- дизайнера в городской сре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 Дать представление о соответствии художественного вкуса и стиля в оформлении витрин профилю магазина, облику здания, ул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ac090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160" cy="1425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азин начинается с витрины, которая призвана превратить просто прохожих в посетителей магазина, а лучше в покупателей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476280"/>
            <a:ext cx="3816000" cy="412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ки, маркеры, блокноты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репки и футляры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любезно предоставя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агазине-канцелярские това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3" descr="журналы.jpg"/>
          <p:cNvPicPr/>
          <p:nvPr/>
        </p:nvPicPr>
        <p:blipFill>
          <a:blip r:embed="rId1"/>
          <a:stretch/>
        </p:blipFill>
        <p:spPr>
          <a:xfrm>
            <a:off x="4389480" y="1628640"/>
            <a:ext cx="4231800" cy="46400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240" cy="21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трина – это застеклённый ящик, шкаф или окно, приспособленное для показа разных предмет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трина должна привлекать внимание прохожих, объяснять назначение магазина и в то же время подробно рассказывать, что там продаётся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out_fasad026_1"/>
          <p:cNvPicPr/>
          <p:nvPr/>
        </p:nvPicPr>
        <p:blipFill>
          <a:blip r:embed="rId1"/>
          <a:stretch/>
        </p:blipFill>
        <p:spPr>
          <a:xfrm>
            <a:off x="4716360" y="3500280"/>
            <a:ext cx="3973320" cy="281736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5" descr="1232634950_ds_10b"/>
          <p:cNvPicPr/>
          <p:nvPr/>
        </p:nvPicPr>
        <p:blipFill>
          <a:blip r:embed="rId2"/>
          <a:stretch/>
        </p:blipFill>
        <p:spPr>
          <a:xfrm>
            <a:off x="468360" y="3500280"/>
            <a:ext cx="4032000" cy="2808000"/>
          </a:xfrm>
          <a:prstGeom prst="rect">
            <a:avLst/>
          </a:prstGeom>
          <a:ln w="9525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вание витр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4" descr="обувь.jpg"/>
          <p:cNvPicPr/>
          <p:nvPr/>
        </p:nvPicPr>
        <p:blipFill>
          <a:blip r:embed="rId1"/>
          <a:stretch/>
        </p:blipFill>
        <p:spPr>
          <a:xfrm>
            <a:off x="3635280" y="692280"/>
            <a:ext cx="1658520" cy="2828520"/>
          </a:xfrm>
          <a:prstGeom prst="rect">
            <a:avLst/>
          </a:prstGeom>
          <a:ln w="9525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кан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порттовар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етский мир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грушк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дежда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орепродукт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ижутерия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анцтовар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электроника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бувь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12"/>
          <p:cNvPicPr/>
          <p:nvPr/>
        </p:nvPicPr>
        <p:blipFill>
          <a:blip r:embed="rId2"/>
          <a:stretch/>
        </p:blipFill>
        <p:spPr>
          <a:xfrm>
            <a:off x="4140360" y="3860640"/>
            <a:ext cx="4281120" cy="269028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6" descr="gycfbaf2"/>
          <p:cNvPicPr/>
          <p:nvPr/>
        </p:nvPicPr>
        <p:blipFill>
          <a:blip r:embed="rId3"/>
          <a:stretch/>
        </p:blipFill>
        <p:spPr>
          <a:xfrm>
            <a:off x="5867280" y="1197000"/>
            <a:ext cx="2842920" cy="21362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900560" cy="72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конструкции витрины бывают открытого и закрытого тип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2952360" cy="396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трины открытого типа (витрины «на просмотр») - это когда через стекло виден весь магазин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купателя "впускают" внутрь магазина еще до того, как он решит, входить или не входить. 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3" descr="витрины1.jpg"/>
          <p:cNvPicPr/>
          <p:nvPr/>
        </p:nvPicPr>
        <p:blipFill>
          <a:blip r:embed="rId1"/>
          <a:stretch/>
        </p:blipFill>
        <p:spPr>
          <a:xfrm>
            <a:off x="3276720" y="1268280"/>
            <a:ext cx="5384520" cy="41461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778440" cy="63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трины закрытого тип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30078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трину от зала отделяет специальная перегородка и прохожим не видны "внутренности" магазина. Общая стилистика таких витрин просто обязана совпадать с внутренним убранством магазина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3" descr="витрина2.jpg"/>
          <p:cNvPicPr/>
          <p:nvPr/>
        </p:nvPicPr>
        <p:blipFill>
          <a:blip r:embed="rId1"/>
          <a:stretch/>
        </p:blipFill>
        <p:spPr>
          <a:xfrm>
            <a:off x="4732200" y="1341360"/>
            <a:ext cx="3619080" cy="489708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трины бывают сюжетными, товарными и товарно-сюжетным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джемы.jpg"/>
          <p:cNvPicPr/>
          <p:nvPr/>
        </p:nvPicPr>
        <p:blipFill>
          <a:blip r:embed="rId1"/>
          <a:stretch/>
        </p:blipFill>
        <p:spPr>
          <a:xfrm>
            <a:off x="285840" y="1357200"/>
            <a:ext cx="4071600" cy="4960440"/>
          </a:xfrm>
          <a:prstGeom prst="rect">
            <a:avLst/>
          </a:prstGeom>
          <a:ln w="9525">
            <a:noFill/>
          </a:ln>
        </p:spPr>
      </p:pic>
      <p:pic>
        <p:nvPicPr>
          <p:cNvPr id="195" name="Содержимое 4" descr="межа.jpg"/>
          <p:cNvPicPr/>
          <p:nvPr/>
        </p:nvPicPr>
        <p:blipFill>
          <a:blip r:embed="rId2"/>
          <a:stretch/>
        </p:blipFill>
        <p:spPr>
          <a:xfrm>
            <a:off x="4479840" y="2214720"/>
            <a:ext cx="4520880" cy="400032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  <Words>305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5:02:20Z</dcterms:created>
  <dc:creator>1</dc:creator>
  <dc:description/>
  <dc:language>en-US</dc:language>
  <cp:lastModifiedBy>Ильнур</cp:lastModifiedBy>
  <dcterms:modified xsi:type="dcterms:W3CDTF">2023-01-17T18:23:26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