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450-C396-41B2-9DB1-9A8B5FF7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462-D798-436C-BECD-697810B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473-FF62-459C-AE4A-60899FCF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969-4AA9-4EE8-9FFF-13AA2018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CE2E-1CDB-4866-B7BF-4896D68B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4D36-DD9D-43F4-8C8A-B4E5A89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8F6-D66D-416D-A1C6-F061208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1265-A78F-4F5C-B3A3-9D23D58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867-E736-4130-A207-A93151F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F66-431E-4C1B-AFDD-09856976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31D-925E-440C-9C83-CFA5B08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A61-EB0E-40D9-A076-51F574B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9EBF-E43E-4E2E-A75D-1996C66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106-0E4F-457C-9878-9FF1C5A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2BAE-2788-43FE-964B-E83C0F7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494A-9CC4-4DB9-B451-48088957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562F-D62E-4480-86FF-F522EAC8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79F4-FA75-400D-875D-940AC77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4D83-1B3D-47BE-907F-F13DC4D9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D231-F975-4153-88BA-80974063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CB29-07EF-43DF-841C-3885E4EC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8E6B-341D-4724-9F0D-DDEC68A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B15-9D28-4CFE-BE11-3D71864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F904-DAAF-40A8-8EBD-B248BB18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0C45-23F9-499E-9517-060BF4D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4F36-6EED-4FF9-BDB0-ECD3515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776E-5594-44AB-95CC-89575F1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84A4-F356-462B-8915-52F7E8F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E4BB-5024-4545-8936-621E1197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4B0B-269B-4EBB-92F8-6019E687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BF68-12D5-47A9-88AF-2A9D3E96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1575-4288-4971-8D4A-B40C55A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D935-9E45-4C86-9A5C-44857F5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1D-B4E8-47D1-9306-576E397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5D5B-87A3-4DD0-96A1-EFDFB11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91D49-E70D-4AF6-9212-C1BE800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E673-0FC9-42AE-BE11-3690B18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8FFE-F36B-4893-82B7-8077063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0314-1B05-4500-AA7C-45114BA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8510-C6F1-4CAC-A1D1-39C17E8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9D28-F92E-4166-A6F2-AFBF252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C500-A3A8-472F-A057-82638157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ECB8-7E56-4B8E-8EA6-7DC87EA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803-074A-46DC-B20C-F8EA8AE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26E-48E7-4C39-9181-2885469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6A1-E26E-4423-AEDF-DAA2D39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A88-D420-4E90-BF5A-E357CAF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6C2-F81A-46C5-A60C-B84E69A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5785E5-802F-488E-AF3F-6DC9A9587B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498E06-509B-4F46-9FFD-FF098BAC566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9C8696-E7FF-4372-8590-F4E73322998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976BCD-FC70-4D98-8A39-FE5086F47A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5280" y="2781360"/>
            <a:ext cx="8353080" cy="239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404040"/>
                </a:solidFill>
                <a:latin typeface="Arial"/>
              </a:rPr>
              <a:t>Урок изобразительного искус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40404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1410480" y="882720"/>
            <a:ext cx="63345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Arial"/>
              </a:rPr>
              <a:t>Витрины магази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4739400" y="4725000"/>
            <a:ext cx="300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учитель изо МБОУ «СШ 22» Гафиева Зифа Расих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3007800" cy="15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ные витрин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32848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когда в витрине выставляются единичные комплекты товаров, которыми торгует магазин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ные витрины демонстрируют прохожим часть ассортимента.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кондитерск.jpg"/>
          <p:cNvPicPr/>
          <p:nvPr/>
        </p:nvPicPr>
        <p:blipFill>
          <a:blip r:embed="rId1"/>
          <a:stretch/>
        </p:blipFill>
        <p:spPr>
          <a:xfrm>
            <a:off x="2928960" y="428760"/>
            <a:ext cx="5643360" cy="597348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4642920" cy="36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ная витри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24714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хлеба нам купить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ь подарок подарить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умку мы с тобой берем,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на улицу идем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проходим вдоль витри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заходим в магазин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3" descr="хдебобул 5.jpg"/>
          <p:cNvPicPr/>
          <p:nvPr/>
        </p:nvPicPr>
        <p:blipFill>
          <a:blip r:embed="rId1"/>
          <a:stretch/>
        </p:blipFill>
        <p:spPr>
          <a:xfrm>
            <a:off x="3564000" y="1052640"/>
            <a:ext cx="5113080" cy="511308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6145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варно-сюжетная витри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779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 ассортимента выставляется неожиданным и оригинальным способом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оварно-сюжетных, помимо демонстрации товара наблюдается сцен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5" descr="sears mannequin"/>
          <p:cNvPicPr/>
          <p:nvPr/>
        </p:nvPicPr>
        <p:blipFill>
          <a:blip r:embed="rId1"/>
          <a:stretch/>
        </p:blipFill>
        <p:spPr>
          <a:xfrm>
            <a:off x="3708360" y="1268280"/>
            <a:ext cx="5040000" cy="4957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24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южет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итрины акцентируют внимание не на товарах, а на придуманной дизайнером сцене с элементами украшения. Дизайнерская работа привлекает внимание прохожих. Дизайнеры создают целую сцену, выставляя в витрине не столько товары, сколько идеи, образ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4" descr="капгшрощлщз.jpg"/>
          <p:cNvPicPr/>
          <p:nvPr/>
        </p:nvPicPr>
        <p:blipFill>
          <a:blip r:embed="rId1"/>
          <a:stretch/>
        </p:blipFill>
        <p:spPr>
          <a:xfrm>
            <a:off x="4284720" y="3213000"/>
            <a:ext cx="4539960" cy="30412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18"/>
          <p:cNvPicPr/>
          <p:nvPr/>
        </p:nvPicPr>
        <p:blipFill>
          <a:blip r:embed="rId2"/>
          <a:stretch/>
        </p:blipFill>
        <p:spPr>
          <a:xfrm>
            <a:off x="108000" y="3213000"/>
            <a:ext cx="4032000" cy="300780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20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кционные витрины – это витрины, сообщающие о скидках и распродажах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001_12"/>
          <p:cNvPicPr/>
          <p:nvPr/>
        </p:nvPicPr>
        <p:blipFill>
          <a:blip r:embed="rId1"/>
          <a:stretch/>
        </p:blipFill>
        <p:spPr>
          <a:xfrm>
            <a:off x="684360" y="1413000"/>
            <a:ext cx="3180960" cy="2385720"/>
          </a:xfrm>
          <a:prstGeom prst="rect">
            <a:avLst/>
          </a:prstGeom>
          <a:ln w="9525">
            <a:noFill/>
          </a:ln>
        </p:spPr>
      </p:pic>
      <p:pic>
        <p:nvPicPr>
          <p:cNvPr id="210" name="Picture 5" descr="002"/>
          <p:cNvPicPr/>
          <p:nvPr/>
        </p:nvPicPr>
        <p:blipFill>
          <a:blip r:embed="rId2"/>
          <a:stretch/>
        </p:blipFill>
        <p:spPr>
          <a:xfrm>
            <a:off x="4643280" y="1916280"/>
            <a:ext cx="3901680" cy="2927160"/>
          </a:xfrm>
          <a:prstGeom prst="rect">
            <a:avLst/>
          </a:prstGeom>
          <a:ln w="9525">
            <a:noFill/>
          </a:ln>
        </p:spPr>
      </p:pic>
      <p:pic>
        <p:nvPicPr>
          <p:cNvPr id="211" name="Picture 6" descr="9_5"/>
          <p:cNvPicPr/>
          <p:nvPr/>
        </p:nvPicPr>
        <p:blipFill>
          <a:blip r:embed="rId3"/>
          <a:stretch/>
        </p:blipFill>
        <p:spPr>
          <a:xfrm>
            <a:off x="1332000" y="4221000"/>
            <a:ext cx="3041280" cy="20887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ое в искусстве оформления витри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, смелость, профессионализм, хорошая иде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видиосалон у гнома.jpg"/>
          <p:cNvPicPr/>
          <p:nvPr/>
        </p:nvPicPr>
        <p:blipFill>
          <a:blip r:embed="rId1"/>
          <a:stretch/>
        </p:blipFill>
        <p:spPr>
          <a:xfrm>
            <a:off x="395280" y="1197000"/>
            <a:ext cx="4214520" cy="5214600"/>
          </a:xfrm>
          <a:prstGeom prst="rect">
            <a:avLst/>
          </a:prstGeom>
          <a:ln w="9525">
            <a:noFill/>
          </a:ln>
        </p:spPr>
      </p:pic>
      <p:pic>
        <p:nvPicPr>
          <p:cNvPr id="214" name="Содержимое 3" descr="6777.jpg"/>
          <p:cNvPicPr/>
          <p:nvPr/>
        </p:nvPicPr>
        <p:blipFill>
          <a:blip r:embed="rId2"/>
          <a:stretch/>
        </p:blipFill>
        <p:spPr>
          <a:xfrm>
            <a:off x="4859280" y="1197000"/>
            <a:ext cx="3714480" cy="51908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3285720" cy="512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трина любит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3214440" cy="54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ытных художников-оформителей с хорошим вкусом, фантазией и чувством мер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умное сочетание цветов. Яркое, красивое оформление.</a:t>
            </a: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640"/>
          <p:cNvPicPr/>
          <p:nvPr/>
        </p:nvPicPr>
        <p:blipFill>
          <a:blip r:embed="rId1"/>
          <a:stretch/>
        </p:blipFill>
        <p:spPr>
          <a:xfrm>
            <a:off x="3851280" y="3429000"/>
            <a:ext cx="4536720" cy="307296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6" descr="f_16764220"/>
          <p:cNvPicPr/>
          <p:nvPr/>
        </p:nvPicPr>
        <p:blipFill>
          <a:blip r:embed="rId2"/>
          <a:stretch/>
        </p:blipFill>
        <p:spPr>
          <a:xfrm>
            <a:off x="4284720" y="333360"/>
            <a:ext cx="3819240" cy="27032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5219640" y="5300640"/>
            <a:ext cx="3495240" cy="12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хоженный опрятный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15920"/>
            <a:ext cx="4355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оформления магазина с его стилем и содерж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866120" y="981000"/>
            <a:ext cx="37944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новых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50920" y="3357720"/>
            <a:ext cx="460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ее осв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оригинального на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blogs_0012"/>
          <p:cNvPicPr/>
          <p:nvPr/>
        </p:nvPicPr>
        <p:blipFill>
          <a:blip r:embed="rId1"/>
          <a:stretch/>
        </p:blipFill>
        <p:spPr>
          <a:xfrm>
            <a:off x="395280" y="4149720"/>
            <a:ext cx="3960360" cy="253476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10" descr="21"/>
          <p:cNvPicPr/>
          <p:nvPr/>
        </p:nvPicPr>
        <p:blipFill>
          <a:blip r:embed="rId2"/>
          <a:stretch/>
        </p:blipFill>
        <p:spPr>
          <a:xfrm>
            <a:off x="4788000" y="1700280"/>
            <a:ext cx="4188960" cy="345888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11" descr="2"/>
          <p:cNvPicPr/>
          <p:nvPr/>
        </p:nvPicPr>
        <p:blipFill>
          <a:blip r:embed="rId3"/>
          <a:stretch/>
        </p:blipFill>
        <p:spPr>
          <a:xfrm>
            <a:off x="468360" y="1341360"/>
            <a:ext cx="3816000" cy="20808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04360" y="188640"/>
            <a:ext cx="835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4360" y="441720"/>
            <a:ext cx="7571880" cy="25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знаний о разнообразии декоративного оформления витрин магазинов, основах диза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994200" y="620640"/>
            <a:ext cx="1345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01"/>
          <p:cNvPicPr/>
          <p:nvPr/>
        </p:nvPicPr>
        <p:blipFill>
          <a:blip r:embed="rId1"/>
          <a:stretch/>
        </p:blipFill>
        <p:spPr>
          <a:xfrm>
            <a:off x="684360" y="2781360"/>
            <a:ext cx="7632360" cy="355716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11280" y="1268280"/>
            <a:ext cx="8064000" cy="7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83560" y="260280"/>
            <a:ext cx="2881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Задач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Nucleo"/>
          <p:cNvPicPr/>
          <p:nvPr/>
        </p:nvPicPr>
        <p:blipFill>
          <a:blip r:embed="rId1"/>
          <a:stretch/>
        </p:blipFill>
        <p:spPr>
          <a:xfrm>
            <a:off x="2124000" y="3429000"/>
            <a:ext cx="4897080" cy="3155760"/>
          </a:xfrm>
          <a:prstGeom prst="rect">
            <a:avLst/>
          </a:prstGeom>
          <a:ln w="9525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324000" y="907920"/>
            <a:ext cx="8640360" cy="246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 Ознакомить с разнообразием декоративно оформленных витрин магазинов на улицах города и ролью художника- дизайнера в городской сре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 Дать представление о соответствии художественного вкуса и стиля в оформлении витрин профилю магазина, облику здания, ул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ac090"/>
            </a:gs>
            <a:gs pos="100000">
              <a:srgbClr val="cac7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160" cy="1425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азин начинается с витрины, которая призвана превратить просто прохожих в посетителей магазина, а лучше в покупателей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476280"/>
            <a:ext cx="3816000" cy="412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ки, маркеры, блокнот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репки и футляр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любезно предоставя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агазине-канцелярские това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3" descr="журналы.jpg"/>
          <p:cNvPicPr/>
          <p:nvPr/>
        </p:nvPicPr>
        <p:blipFill>
          <a:blip r:embed="rId1"/>
          <a:stretch/>
        </p:blipFill>
        <p:spPr>
          <a:xfrm>
            <a:off x="4389480" y="1628640"/>
            <a:ext cx="4231800" cy="46400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240" cy="21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а – это застеклённый ящик, шкаф или окно, приспособленное для показа разных предмет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а должна привлекать внимание прохожих, объяснять назначение магазина и в то же время подробно рассказывать, что там продаётся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out_fasad026_1"/>
          <p:cNvPicPr/>
          <p:nvPr/>
        </p:nvPicPr>
        <p:blipFill>
          <a:blip r:embed="rId1"/>
          <a:stretch/>
        </p:blipFill>
        <p:spPr>
          <a:xfrm>
            <a:off x="4716360" y="3500280"/>
            <a:ext cx="3973320" cy="281736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5" descr="1232634950_ds_10b"/>
          <p:cNvPicPr/>
          <p:nvPr/>
        </p:nvPicPr>
        <p:blipFill>
          <a:blip r:embed="rId2"/>
          <a:stretch/>
        </p:blipFill>
        <p:spPr>
          <a:xfrm>
            <a:off x="468360" y="3500280"/>
            <a:ext cx="4032000" cy="2808000"/>
          </a:xfrm>
          <a:prstGeom prst="rect">
            <a:avLst/>
          </a:prstGeom>
          <a:ln w="9525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вание витр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4" descr="обувь.jpg"/>
          <p:cNvPicPr/>
          <p:nvPr/>
        </p:nvPicPr>
        <p:blipFill>
          <a:blip r:embed="rId1"/>
          <a:stretch/>
        </p:blipFill>
        <p:spPr>
          <a:xfrm>
            <a:off x="3635280" y="692280"/>
            <a:ext cx="1658520" cy="2828520"/>
          </a:xfrm>
          <a:prstGeom prst="rect">
            <a:avLst/>
          </a:prstGeom>
          <a:ln w="9525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кан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порттовар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етский мир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грушк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дежд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орепродукт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ижутерия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анцтовары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электроник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бувь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12"/>
          <p:cNvPicPr/>
          <p:nvPr/>
        </p:nvPicPr>
        <p:blipFill>
          <a:blip r:embed="rId2"/>
          <a:stretch/>
        </p:blipFill>
        <p:spPr>
          <a:xfrm>
            <a:off x="4140360" y="3860640"/>
            <a:ext cx="4281120" cy="269028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6" descr="gycfbaf2"/>
          <p:cNvPicPr/>
          <p:nvPr/>
        </p:nvPicPr>
        <p:blipFill>
          <a:blip r:embed="rId3"/>
          <a:stretch/>
        </p:blipFill>
        <p:spPr>
          <a:xfrm>
            <a:off x="5867280" y="1197000"/>
            <a:ext cx="2842920" cy="213624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900560" cy="72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конструкции витрины бывают открытого и закрытого тип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2952360" cy="396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трины открытого типа (витрины «на просмотр») - это когда через стекло виден весь магазин.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купателя "впускают" внутрь магазина еще до того, как он решит, входить или не входить. 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витрины1.jpg"/>
          <p:cNvPicPr/>
          <p:nvPr/>
        </p:nvPicPr>
        <p:blipFill>
          <a:blip r:embed="rId1"/>
          <a:stretch/>
        </p:blipFill>
        <p:spPr>
          <a:xfrm>
            <a:off x="3276720" y="1268280"/>
            <a:ext cx="5384520" cy="414612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778440" cy="63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трины закрытого тип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30078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трину от зала отделяет специальная перегородка и прохожим не видны "внутренности" магазина. Общая стилистика таких витрин просто обязана совпадать с внутренним убранством магазина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3" descr="витрина2.jpg"/>
          <p:cNvPicPr/>
          <p:nvPr/>
        </p:nvPicPr>
        <p:blipFill>
          <a:blip r:embed="rId1"/>
          <a:stretch/>
        </p:blipFill>
        <p:spPr>
          <a:xfrm>
            <a:off x="4732200" y="1341360"/>
            <a:ext cx="3619080" cy="4897080"/>
          </a:xfrm>
          <a:prstGeom prst="rect">
            <a:avLst/>
          </a:prstGeom>
          <a:ln w="9525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трины бывают сюжетными, товарными и товарно-сюжетным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джемы.jpg"/>
          <p:cNvPicPr/>
          <p:nvPr/>
        </p:nvPicPr>
        <p:blipFill>
          <a:blip r:embed="rId1"/>
          <a:stretch/>
        </p:blipFill>
        <p:spPr>
          <a:xfrm>
            <a:off x="285840" y="1357200"/>
            <a:ext cx="4071600" cy="4960440"/>
          </a:xfrm>
          <a:prstGeom prst="rect">
            <a:avLst/>
          </a:prstGeom>
          <a:ln w="9525">
            <a:noFill/>
          </a:ln>
        </p:spPr>
      </p:pic>
      <p:pic>
        <p:nvPicPr>
          <p:cNvPr id="195" name="Содержимое 4" descr="межа.jpg"/>
          <p:cNvPicPr/>
          <p:nvPr/>
        </p:nvPicPr>
        <p:blipFill>
          <a:blip r:embed="rId2"/>
          <a:stretch/>
        </p:blipFill>
        <p:spPr>
          <a:xfrm>
            <a:off x="4479840" y="2214720"/>
            <a:ext cx="4520880" cy="400032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  <Words>305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5:02:20Z</dcterms:created>
  <dc:creator>1</dc:creator>
  <dc:description/>
  <dc:language>en-US</dc:language>
  <cp:lastModifiedBy>Ильнур</cp:lastModifiedBy>
  <dcterms:modified xsi:type="dcterms:W3CDTF">2023-01-17T18:23:26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