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4F79-D4FB-40B8-BFC9-CBAEEC259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9825-94B3-470D-A614-EFAC340FC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3FEC-16BB-4E98-B59A-7F59F1AD4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7A3F-9C73-4C85-B212-7A4064402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EBB7D-6F53-4A9C-9985-C12963388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D1D1C-3EA3-4563-9017-E9B5B835B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26D54-30E0-4679-A88F-9061FCFA9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AC1BD-7904-4CAB-8267-61DA008C9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2F03C-0CEA-4874-8BBE-2D761AC71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F8024-76EC-44B6-9EF7-C6390BCC1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F6C43-9C9E-4487-BE17-573063B11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8AE0-7135-4D54-83FE-44F5A7334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7AB52-6D5D-4AE0-BB4C-DFED8F65D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0F403-D027-46DA-ADA2-7DC13806F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4912F-EF82-44CA-B33A-E3F2E00E7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A6FF7-9D40-4DD9-A056-762C0F9C0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8FBEF-A1CB-464F-9169-B959AE417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560E7F-8D59-4300-A22C-30BA78A54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6163F1-027D-4A1B-975F-89F85ECEF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53446F-605B-4A1D-BF3F-8F03B9688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1ED56F-13C1-4CC6-AA5B-CEA3AB3D4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F05E37-D220-4E22-836E-294BBF31F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4AB3-D106-48CE-A664-5B4703514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AD0818-B939-40FD-9BC0-673BC50FB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769978-3A51-4CEC-9C16-D0856807C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C3BA0A-6B90-4736-B7C2-FAFAC0270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326D97-8F09-4EBC-ADD8-948A492D6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31F41D-38C4-4E97-83DC-8665DBA64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56CDA1-452E-4806-93F7-B2C017901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0616BA-A977-4251-9D3B-57142C002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CE49E1-4EFC-4CF6-AF25-69D738F31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B00A9D-6E61-4A30-9C98-351E2A834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245CFC-07AF-4134-BE4E-926676CA6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9764-F942-4961-8213-45A28776E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0603B5-6936-4EDA-98F2-779D8B9B4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C22506-91A4-4AA4-BFFC-93B286584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E0A3E6-AED2-4CB4-AF4B-FB9C78476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034231-7F1B-4039-BA2D-73141CCFA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CE9BE2-6060-4C9D-A6CE-762B5E0CB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55B2A5-F6EA-492C-A912-21C57D94D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6F8CA0-245E-4B95-81C4-3DD2FA78A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BD423D-8834-4BC3-B5AE-31E30CF7A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0BFFED-2381-4281-A02C-18E912A7C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D719-1053-43B9-8468-4910C087A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1192-56DA-4EAE-9F45-509FBB44A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BB45-B800-49B6-94A1-85B423018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B153-4CED-44F0-AD55-2729E5C0F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D6BE-E16C-4330-B526-D15D9C33F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0bd0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9dd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9dd9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60943-A0F6-4083-BC4A-651A7466FEB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22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Прямоугольник 23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Прямоугольник 24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009dd9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Прямоугольник 25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009dd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Прямоугольник 26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009dd9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Скругленный прямоугольник 29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Скругленный прямоугольник 3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Прямоугольник 6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Прямоугольник 9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Прямоугольник 10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Прямоугольник 1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0bd0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9dd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9dd9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4708C-AA0B-4E7B-97F3-134EBCAC72A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0bd0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9dd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9dd9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81EE3-6416-4300-9844-293423AF22B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0bd0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9dd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9dd9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8D2DA-9063-4ABB-862D-17EA80C7923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ru.encydia.com/en/&#1061;&#1088;&#1086;&#1085;&#1080;&#1095;&#1077;&#1089;&#1082;&#1072;&#1103;_&#1086;&#1073;&#1089;&#1090;&#1088;&#1091;&#1082;&#1090;&#1080;&#1074;&#1085;&#1072;&#1103;_&#1073;&#1086;&#1083;&#1077;&#1079;&#1085;&#1100;_&#1083;&#1077;&#1075;&#1082;&#1080;&#1093;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Неинфекционные заболевания</a:t>
            </a:r>
            <a:endParaRPr b="0" lang="en-US" sz="44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191120" y="407196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3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Arial"/>
              </a:rPr>
              <a:t>Учитель ОБЖ- Жилкин А.Ю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rebuchet MS"/>
              </a:rPr>
              <a:t>Примеры: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35520" indent="-23508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Много типов сердечно-сосудистых заболевание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35520" indent="-23508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e2d700"/>
                </a:solidFill>
                <a:uFillTx/>
                <a:latin typeface="Georgia"/>
                <a:hlinkClick r:id="rId1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Хроническая обструктивная болезнь легких вызванная, курением табака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35520" indent="-23508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Тип 2-ого сахарного диабета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35520" indent="-23508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Боль в пояснице  вызванная слишком небольшим осуществлением физ. деятельности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35520" indent="-23508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Недоедание, вызванное слишком небольшим количеством еды, или едой неправильных видов (например, цинга от нехватки Витамина С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35520" indent="-23508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Рак кожи вызван радиацией от солнца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1" dur="20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6" dur="20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1" dur="20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6" dur="2000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1" dur="2000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6" dur="2000"/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Trebuchet MS"/>
              </a:rPr>
              <a:t>Неинфекционные болезни</a:t>
            </a:r>
            <a:r>
              <a:rPr b="0" lang="en-US" sz="4000" spc="-1" strike="noStrike">
                <a:solidFill>
                  <a:srgbClr val="04617b"/>
                </a:solidFill>
                <a:latin typeface="Trebuchet MS"/>
              </a:rPr>
              <a:t> 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Georgia"/>
              </a:rPr>
              <a:t>Неинфекционные болезни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 - те болезни, которые не вызваны болезнетворным микроорганизмом и не могут быть переданы от одного человека другому. 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wheel spokes="8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8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8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8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6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28760" y="9997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Trebuchet MS"/>
              </a:rPr>
              <a:t>ЗНАЧИМОСТЬ ПРОБЛЕМЫ РАЗВИТИЯ ХРОНИЧЕСКИХ НЕИНФЕКЦИОННЫХ ЗАБОЛЕВАНИЙ</a:t>
            </a:r>
            <a:endParaRPr b="0" lang="en-US" sz="32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28400" y="2428920"/>
            <a:ext cx="8258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35520" indent="-235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В ХХ веке в России, как и в других индустриальных странах, на смену инфекционным заболеваниям пришли неинфекционные заболевания Статистические данные свидетельствуют о том, что в структуре заболеваемости, ранней инвалидности и преждевременной смертности населения России основное место занимают неинфекционные заболевания - 96% против 4%, приходящихся на долю инфекционных болезней. 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57120" y="7855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Trebuchet MS"/>
              </a:rPr>
              <a:t>Чем могут быть вызваны неинфекционные болезни</a:t>
            </a:r>
            <a:endParaRPr b="0" lang="en-US" sz="36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окружающей средой, 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пищевыми дефицитами,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выбором образа жизни,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генетическими наследованиями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28760" y="7855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rebuchet MS"/>
              </a:rPr>
              <a:t>Социально-значимых неинфекционных заболевания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39480" indent="-237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сердечно-сосудистые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(гипертоническая болезнь, инфаркт миокарда, инсульт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39480" indent="-237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желудочно-кишечные 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(язвенная болезнь желудка, панкреатит, гепатит, дисбактериоз, нарушение функции тонкого и толстого кишечника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39480" indent="-237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Онкологические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39480" indent="-237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нервно-психические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39480" indent="-237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болезни органов дыхания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39480" indent="-237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болезни обмена веществ 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(атеросклероз, избыточная масса тела, ожирение) 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39480" indent="-237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8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3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8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3" dur="5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8" dur="500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3" dur="500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1680" y="1285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Trebuchet MS"/>
              </a:rPr>
              <a:t>ОСНОВНЫЕ ФАКТОРЫ РИСКА И ПРОФИЛАКТИКА РАЗВИТИЯ ХРОНИЧЕСКИХ НЕИНФЕКЦИОННЫХ ЗАБОЛЕВАНИЙ</a:t>
            </a:r>
            <a:endParaRPr b="0" lang="en-US" sz="36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00040" y="314316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Georgia"/>
              </a:rPr>
              <a:t>Факторы риска - </a:t>
            </a:r>
            <a:r>
              <a:rPr b="0" i="1" lang="en-US" sz="3600" spc="-1" strike="noStrike">
                <a:solidFill>
                  <a:srgbClr val="000000"/>
                </a:solidFill>
                <a:latin typeface="Georgia"/>
              </a:rPr>
              <a:t>это агенты, которые сами не в состоянии вызвать болезнь, но способствуют ее формированию и клиническому проявлению.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8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8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8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8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0" y="500040"/>
            <a:ext cx="4495680" cy="62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46680" indent="-2426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Georgia"/>
              </a:rPr>
              <a:t>Фактор риска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Курение табака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Georgia"/>
              </a:rPr>
              <a:t>Злоупотребление алкоголем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Georgia"/>
              </a:rPr>
              <a:t>Низкий уровень потребления овощей и фруктов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Georgia"/>
              </a:rPr>
              <a:t>Малоподвижный образ жизни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648320" y="428760"/>
            <a:ext cx="4209840" cy="634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61080" indent="-2527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eorgia"/>
              </a:rPr>
              <a:t>Заболевание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Хронические болезни легких, рак легких,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Сердечно-сосудистые заболевания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Нарушения, связанные с употреблением алкоголя,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Внешние причины смерти,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Депрессивные психические расстройства,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Сердечно-сосудистые заболевания,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Рак легких,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Сердечно-сосудистые заболевания,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2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2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2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2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2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2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2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2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22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2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2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22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22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2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2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Trebuchet MS"/>
              </a:rPr>
              <a:t>Унаследованные болезни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57480" indent="-250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Georgia"/>
              </a:rPr>
              <a:t>Генетические отклонения вызваны ошибками в генетической информации, которые производят болезни у затронутых людей. Эти ошибки могут включать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Изменение в числах хромосомы, таких как синдром Дауна,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Дефект в единственном гене вызван мутацией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Перестановка генетической информации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9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8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9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9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0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Trebuchet MS"/>
              </a:rPr>
              <a:t>Экологические болезни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Экологическая болезнь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 - очень широкая категория. Это включает преодолимые и неизбежные условия, вызванные внешними факторами, такими как солнечный свет, еда, загрязнение, и выбор образа жизни. 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Болезни богатсва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 - неинфекционные болезни с экологическими причинами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23-02-02T08:53:49Z</dcterms:modified>
  <cp:revision>18</cp:revision>
  <dc:subject/>
  <dc:title>Неинфекционные заболевания</dc:title>
</cp:coreProperties>
</file>