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F2B-B1FD-4270-91DD-8F11FCCC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D86-C45F-4261-AD8C-3CA1361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3DB-2546-426A-A311-ECF12806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9CB-9A15-4137-A1C5-0A6AF99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729-EF3E-495E-874B-11744885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A02-0AC3-4864-8714-ACFE5E1A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FF26-FF1B-4798-A9BA-7450959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6389-8C44-4625-91BE-AE765F4D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A768-5902-44A6-9518-BF7D81C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08F7-2BD9-4D83-BA07-CB9AF2B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AF91-F212-46E6-9900-F8CFB89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6B4-2E3B-43C2-8CDF-6A2E842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3C0-67DF-470E-AB55-876A48C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D0A6-0A01-4189-82BB-832F1653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FF60-83CE-44DA-B95E-95542893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BC89-0240-4790-B69B-62569116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1FB6-4B4B-4B6F-8802-A80BB9E2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290BD-1905-46D2-B03E-0B651761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5BF2E-CF30-43C1-BA2B-5CF47617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FEDD1-390A-409C-9116-2442E4D7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51CBF-FCF2-4791-945C-9F9E820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8552C-24B1-47D3-92FD-6477718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347-FF35-467F-B217-626A5FB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D32CC-CED2-45EC-A16C-36C024E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B0EFB-A2E7-42F1-B5FB-B876792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427AB-3B2D-46BB-B4DA-D17AF4F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48C74-D1E7-42DB-B622-64FC1C0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76C1A-DD20-4897-A0FD-C12BC01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480CC-321A-450A-AB23-A0B0D3E0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B92BF-F0ED-4BBD-B775-AFAB2810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9C8A-2E86-472B-BF8F-18DECB7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4CAD-492A-42FD-8950-9B40735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BCCC-6469-40C8-A1C2-1850C03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7EE-3D47-4048-A617-A25EA51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1415-76AC-4B0A-8375-5D0A8D4C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C744-F8D2-4E6A-BDC3-6D4E19A8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44B6-835B-4E41-8A69-50CE84E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E2190-E439-4067-9194-056457E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28A8-C4ED-40A3-933D-77B388F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ADA8-CF90-4A92-9190-D4D621A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8BF3-5C84-4D1D-AEA9-29AA32B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4881-0FA7-40DA-B453-D2B399E3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0DF5-25F3-4A03-9821-35975B6B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00A-0666-41CB-B801-E490642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6C4-F928-4FCA-941C-18290E5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321-7CE4-4730-A88A-E8A3B14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578-0D4C-47A9-8D9D-0AEB2D0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4CE-D74F-4A45-874E-5FD4210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D7D-51EF-41FB-960C-915FAF64C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3FA-3367-4FD4-96D2-BDC5BB8A8B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69D-527D-4787-AC3D-CE8DEE015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6B9E-FFF9-464E-8811-BEBAC27CC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encydia.com/en/&#1061;&#1088;&#1086;&#1085;&#1080;&#1095;&#1077;&#1089;&#1082;&#1072;&#1103;_&#1086;&#1073;&#1089;&#1090;&#1088;&#1091;&#1082;&#1090;&#1080;&#1074;&#1085;&#1072;&#1103;_&#1073;&#1086;&#1083;&#1077;&#1079;&#1085;&#1100;_&#1083;&#1077;&#1075;&#1082;&#1080;&#1093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Неинфекционные заболевания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91120" y="40719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Учитель ОБЖ- Жилкин А.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Примеры: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ного типов сердечно-сосудистых заболева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Georgia"/>
                <a:hlinkClick r:id="rId1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Хроническая обструктивная болезнь легких вызванная, курением таба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ип 2-ого сахарного диабе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оль в пояснице  вызванная слишком небольшим осуществлением физ. деятельност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доедание, вызванное слишком небольшим количеством еды, или едой неправильных видов (например, цинга от нехватки Витамина С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к кожи вызван радиацией от солнц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Неинфекционные болезни</a:t>
            </a: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 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Неинфекционные болезн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- те болезни, которые не вызваны болезнетворным микроорганизмом и не могут быть переданы от одного человека другому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ЗНАЧИМОСТЬ ПРОБЛЕМЫ РАЗВИТИЯ ХРОНИЧЕСКИХ НЕИНФЕКЦИОННЫХ ЗАБОЛЕВАНИЙ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400" y="2428920"/>
            <a:ext cx="825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В ХХ веке в России, как и в других индустриальных странах, на смену инфекционным заболеваниям пришли неинфекционные заболевания Статистические данные свидетельствуют о том, что в структуре заболеваемости, ранней инвалидности и преждевременной смертности населения России основное место занимают неинфекционные заболевания - 96% против 4%, приходящихся на долю инфекционных болезней.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Чем могут быть вызваны неинфекционные болезни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кружающей средой,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ищевыми дефицитам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бором образа жизн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енетическими наследования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Социально-значимых неинфекционных заболеван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ердечно-сосудист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гипертоническая болезнь, инфаркт миокарда, инсульт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елудочно-кишечные 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язвенная болезнь желудка, панкреатит, гепатит, дисбактериоз, нарушение функции тонкого и толстого кишечник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кологическ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рвно-психическ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лезни органов дых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лезни обмена веществ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атеросклероз, избыточная масса тела, ожирение)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ОСНОВНЫЕ ФАКТОРЫ РИСКА И ПРОФИЛАКТИКА РАЗВИТИЯ ХРОНИЧЕСКИХ НЕИНФЕКЦИОННЫХ ЗАБОЛЕВАНИЙ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3143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Факторы риска -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это агенты, которые сами не в состоянии вызвать болезнь, но способствуют ее формированию и клиническому проявлению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500040"/>
            <a:ext cx="4495680" cy="62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Фактор рис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Курение таба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Злоупотребление алкоголем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Низкий уровень потребления овощей и фрукто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Малоподвижный образ жизн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428760"/>
            <a:ext cx="4209840" cy="63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Заболева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Хронические болезни легких, рак легких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Нарушения, связанные с употреблением алкогол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нешние причины смерти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Депрессивные психические расстройства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Рак легких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Унаследованные болезн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Генетические отклонения вызваны ошибками в генетической информации, которые производят болезни у затронутых людей. Эти ошибки могут включ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зменение в числах хромосомы, таких как синдром Даун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ефект в единственном гене вызван мутаци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ерестановка генетической информ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Экологические болезн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кологическая болезн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- очень широкая категория. Это включает преодолимые и неизбежные условия, вызванные внешними факторами, такими как солнечный свет, еда, загрязнение, и выбор образа жизни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езни богатс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- неинфекционные болезни с экологическими причи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2-02T08:53:49Z</dcterms:modified>
  <cp:revision>18</cp:revision>
  <dc:subject/>
  <dc:title>Неинфекционные заболевания</dc:title>
</cp:coreProperties>
</file>