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7490-46E3-430D-81AA-320D9C98A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B87-A0CF-4EED-9143-51C10F408AB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897-58D8-46E8-ADC5-59A5FEC6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5DE-B94E-4BD2-BECF-FD099A12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E14-892C-44D6-8A07-47A7DA59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122-A9BE-4FD0-A5A0-9A9D077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413-C3C1-400E-BAE4-0E44A4A1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0FA-1CA9-4B41-A33A-EF690F2C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0EE-FE6C-4153-88DA-F80EC508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E8D-5695-43F0-9C76-97D60FE5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A51-83C6-478B-9D27-ED583985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788-FABC-4943-B542-9A9B3C0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844-5301-4DDF-8154-0188847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8FF-C699-4656-98AE-98F3B63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ACE-F6D8-481C-B25E-B1F07822A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76560" y="4419720"/>
            <a:ext cx="3733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293120" y="2209680"/>
            <a:ext cx="6508440" cy="1861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ультация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«Растим читат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ouship.edusite.ru/images/knigi.png"/>
          <p:cNvPicPr/>
          <p:nvPr/>
        </p:nvPicPr>
        <p:blipFill>
          <a:blip r:embed="rId1"/>
          <a:stretch/>
        </p:blipFill>
        <p:spPr>
          <a:xfrm>
            <a:off x="16002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2360" y="553680"/>
            <a:ext cx="30700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Выделяйте время для чтения каждый д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ть читать надо с первых же месяцев жизни ребенка. Ребенок учится слушать книгу, переворачивать страницы, водить пальчиком слева направо, запоминает слова, которые видит и слыш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бывайте, что ребенку могут почитать дедушка с бабушкой, старший брат или сестра, любой член сем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время обращайтесь к книге и чтению. Купите несколько книг домой, чтобы ваш малыш мог с ними воз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746680" y="488880"/>
            <a:ext cx="294012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ыбирайте книги с осторож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я с ребенком вместе постоянно, вы обязательно заметите: какие книги ему нравится больше, какие он лучше поним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считайте, что все необходимые ребенку книги есть у вас дома – это ошибка многих читающих родителей. Ходите с ребенком в библиотеку и тогда мир книг и библиотека не будет для него неведомой страной. «Как много интересных книг, и все их можно почитать самому»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Так появляется стимул к чт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41-21 копия"/>
          <p:cNvPicPr/>
          <p:nvPr/>
        </p:nvPicPr>
        <p:blipFill>
          <a:blip r:embed="rId1"/>
          <a:stretch/>
        </p:blipFill>
        <p:spPr>
          <a:xfrm>
            <a:off x="3505320" y="1676520"/>
            <a:ext cx="19825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22000" y="620640"/>
            <a:ext cx="372276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Окружите ребенка материалами для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только книги из библиотеки должны быть у ребенка. Должны быть обязательно и свои собственные. Какие? Прежде всего, те, в которых он сможет не только почитать, но и раскрасить картинку, что-то самостоятельно вырезать или смастерить, сделать зап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мастерить и самодельные книги. Помогите своему малышу склеить, подписать или сшить свою собственную книжку, с рисунками, фотографиями и многими другими вещ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73440" y="611280"/>
            <a:ext cx="4113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Читайте снова… и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часто любят слушать одни и те же истории. На ваше предложение почитать или рассказать что-нибудь новенькое, отвечают отказом. Что делать в таком случае? Посмотрите в заголовок этого совета! Да-да! Читайте именно то, что он просит. Это не каприз. Ребенок желает разобраться в книге глубже, процесс познания её происходит медленнее, он получает от чтения удовольствие. Не лишайте его всего эт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д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дет подготовка к будущему вдумчивому и внимательному чтению, воспитание полноценного восприятия кни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30a36f3bdeac"/>
          <p:cNvPicPr/>
          <p:nvPr/>
        </p:nvPicPr>
        <p:blipFill>
          <a:blip r:embed="rId1"/>
          <a:stretch/>
        </p:blipFill>
        <p:spPr>
          <a:xfrm>
            <a:off x="3070080" y="4997520"/>
            <a:ext cx="1203480" cy="130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школа-10"/>
          <p:cNvPicPr/>
          <p:nvPr/>
        </p:nvPicPr>
        <p:blipFill>
          <a:blip r:embed="rId2"/>
          <a:stretch/>
        </p:blipFill>
        <p:spPr>
          <a:xfrm>
            <a:off x="7183440" y="5062680"/>
            <a:ext cx="11001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7520" y="685440"/>
            <a:ext cx="27432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2200" spc="-1" strike="noStrike" u="sng">
                <a:solidFill>
                  <a:srgbClr val="008000"/>
                </a:solidFill>
                <a:uFillTx/>
                <a:latin typeface="Calibri"/>
              </a:rPr>
              <a:t>Читайте везде и всег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ть можно везде и всегда: на прогулке, на пляже, в поезде, ожидая приема врача. Пусть в вашей сумке с детскими принадлежностями, игрушками, бутылочками и сосками обязательно лежит 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41-32 копия"/>
          <p:cNvPicPr/>
          <p:nvPr/>
        </p:nvPicPr>
        <p:blipFill>
          <a:blip r:embed="rId1"/>
          <a:stretch/>
        </p:blipFill>
        <p:spPr>
          <a:xfrm>
            <a:off x="3265560" y="750960"/>
            <a:ext cx="1241280" cy="2982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637160" y="750960"/>
            <a:ext cx="391932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Не заставляйте ребенка 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когда не усаживайте за чтение, если малыши этого не хотят. Выбирайте самые популярные в детской среде темы и книги и готовьтесь к долгому поиску любимых книг, интересных тем и ав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482920" y="4083120"/>
            <a:ext cx="61387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Показывайте ребенку свою заинтересованность в его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 ничего важнее для воспитания читателя, чем воспитание в ребенке любви к чтению. Будьте Великими Проводниками в мир книг, а не Великими Погонщиками и Оценщиками того, что и как читает ваш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41-15 копия"/>
          <p:cNvPicPr/>
          <p:nvPr/>
        </p:nvPicPr>
        <p:blipFill>
          <a:blip r:embed="rId2"/>
          <a:stretch/>
        </p:blipFill>
        <p:spPr>
          <a:xfrm>
            <a:off x="782640" y="4724280"/>
            <a:ext cx="1638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s://cf.ppt-online.org/files1/slide/v/VNMDCWgLYcu5Ui4lIfjyQFOo8XAzqJB01perbsKx26/slide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cf.ppt-online.org/files1/slide/v/VNMDCWgLYcu5Ui4lIfjyQFOo8XAzqJB01perbsKx26/slid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cf.ppt-online.org/files1/slide/v/VNMDCWgLYcu5Ui4lIfjyQFOo8XAzqJB01perbsKx26/slide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19280" y="685800"/>
            <a:ext cx="75103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ние психологов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вить любовь к книге и чтению возможно только до 9 л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же это сделать очень трудно, а подчас и практически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ак ч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основная зад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по воспитанию чит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ложится на плеч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3276720"/>
            <a:ext cx="4114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Все родители мечт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34120" y="1905120"/>
            <a:ext cx="3276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ы хотим 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х детей -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здоро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486400" y="3886200"/>
            <a:ext cx="27432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ы хотим, чтобы они был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счастли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fgbsr.ru/assets/images/for_news/zdorovye-deti-%E2%80%93-zdorovoe-budushhee-1.jpg"/>
          <p:cNvPicPr/>
          <p:nvPr/>
        </p:nvPicPr>
        <p:blipFill>
          <a:blip r:embed="rId1"/>
          <a:stretch/>
        </p:blipFill>
        <p:spPr>
          <a:xfrm>
            <a:off x="1066680" y="3962520"/>
            <a:ext cx="33800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697040" y="750960"/>
            <a:ext cx="55483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ы на вопросы,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е часто возникают у родителей.</a:t>
            </a:r>
            <a:endParaRPr b="0" lang="en-US" sz="25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Схема 4" descr=""/>
          <p:cNvPicPr/>
          <p:nvPr/>
        </p:nvPicPr>
        <p:blipFill>
          <a:blip r:embed="rId1"/>
          <a:stretch/>
        </p:blipFill>
        <p:spPr>
          <a:xfrm>
            <a:off x="433440" y="1676520"/>
            <a:ext cx="57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41-09 копия"/>
          <p:cNvPicPr/>
          <p:nvPr/>
        </p:nvPicPr>
        <p:blipFill>
          <a:blip r:embed="rId2"/>
          <a:stretch/>
        </p:blipFill>
        <p:spPr>
          <a:xfrm>
            <a:off x="6140520" y="2254320"/>
            <a:ext cx="24368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самим, подавая ребенку при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:\cms-image-000018802.jpg"/>
          <p:cNvPicPr/>
          <p:nvPr/>
        </p:nvPicPr>
        <p:blipFill>
          <a:blip r:embed="rId1"/>
          <a:stretch/>
        </p:blipFill>
        <p:spPr>
          <a:xfrm>
            <a:off x="1219320" y="3429000"/>
            <a:ext cx="3344760" cy="220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:\deti-chitajut.jpg"/>
          <p:cNvPicPr/>
          <p:nvPr/>
        </p:nvPicPr>
        <p:blipFill>
          <a:blip r:embed="rId2"/>
          <a:stretch/>
        </p:blipFill>
        <p:spPr>
          <a:xfrm>
            <a:off x="4952880" y="3581280"/>
            <a:ext cx="33656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должны видеть родителей читающи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Сочинение-на-тему-Роль-книги-в-жизни-человека.jpg"/>
          <p:cNvPicPr/>
          <p:nvPr/>
        </p:nvPicPr>
        <p:blipFill>
          <a:blip r:embed="rId1"/>
          <a:stretch/>
        </p:blipFill>
        <p:spPr>
          <a:xfrm>
            <a:off x="4952880" y="1905120"/>
            <a:ext cx="33372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E:\скачанные файлы (1).jpg"/>
          <p:cNvPicPr/>
          <p:nvPr/>
        </p:nvPicPr>
        <p:blipFill>
          <a:blip r:embed="rId2"/>
          <a:stretch/>
        </p:blipFill>
        <p:spPr>
          <a:xfrm>
            <a:off x="838080" y="3200400"/>
            <a:ext cx="403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ывайте у детей культуру чте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E:\4559711660.jpg"/>
          <p:cNvPicPr/>
          <p:nvPr/>
        </p:nvPicPr>
        <p:blipFill>
          <a:blip r:embed="rId1"/>
          <a:stretch/>
        </p:blipFill>
        <p:spPr>
          <a:xfrm>
            <a:off x="762120" y="2514600"/>
            <a:ext cx="3413160" cy="26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children_reading_01.jpg"/>
          <p:cNvPicPr/>
          <p:nvPr/>
        </p:nvPicPr>
        <p:blipFill>
          <a:blip r:embed="rId2"/>
          <a:stretch/>
        </p:blipFill>
        <p:spPr>
          <a:xfrm>
            <a:off x="4114800" y="3200400"/>
            <a:ext cx="3967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доме обязательно должна быть детская библиоте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bib.jpg"/>
          <p:cNvPicPr/>
          <p:nvPr/>
        </p:nvPicPr>
        <p:blipFill>
          <a:blip r:embed="rId1"/>
          <a:stretch/>
        </p:blipFill>
        <p:spPr>
          <a:xfrm>
            <a:off x="838080" y="2514600"/>
            <a:ext cx="262584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:\rebenok_knigochey_03.jpg"/>
          <p:cNvPicPr/>
          <p:nvPr/>
        </p:nvPicPr>
        <p:blipFill>
          <a:blip r:embed="rId2"/>
          <a:stretch/>
        </p:blipFill>
        <p:spPr>
          <a:xfrm>
            <a:off x="4952880" y="228600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E:\50709_original.jpg"/>
          <p:cNvPicPr/>
          <p:nvPr/>
        </p:nvPicPr>
        <p:blipFill>
          <a:blip r:embed="rId3"/>
          <a:stretch/>
        </p:blipFill>
        <p:spPr>
          <a:xfrm>
            <a:off x="1905120" y="4343400"/>
            <a:ext cx="298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431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гда чит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только ребенок родить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ять несколько минут, но каждый ден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учать ребенка «ждать» время для чт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тать в любом ме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только выбирать время, когда ребенок в хорошем расположении духа, но и утешать ребенка, показав красивую книжку, когда он плачет или капризнич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029200" y="1905120"/>
            <a:ext cx="352728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ирать удобное ме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ть наизусть стихи, которые вам самим запомнились с дет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сматривать книжки-карти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ать с выра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ть возможность ребенку самому «выбрать» книг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читывать любимые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676520" y="4800600"/>
            <a:ext cx="209052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18920" y="2187360"/>
            <a:ext cx="48322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3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сказывайте, пойте, играйте с ребенк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ыши с наслаждением слушают вашу речь: когда купаются и одеваются, кушают или засыпают, вечером и на рассвете. Они уже не могут без ваших рассказов  и совместных игр. Говорите с ними обо всех простых для вас, но очень важных для ребенка делах, которые вы делаете каждый день вместе. Комментируйте свои действия: «Моем ручки», «садимся на стул», описывайте то, что видите – так вы готовите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внимательного чита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752480" y="457200"/>
            <a:ext cx="522612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 О В Е Т Ы</a:t>
            </a:r>
            <a:endParaRPr b="0" lang="en-US" sz="33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1371600" y="990720"/>
            <a:ext cx="52959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блиотекарей и психологов</a:t>
            </a:r>
            <a:endParaRPr b="0" lang="en-US" sz="33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7" descr="C41-33 копия"/>
          <p:cNvPicPr/>
          <p:nvPr/>
        </p:nvPicPr>
        <p:blipFill>
          <a:blip r:embed="rId1"/>
          <a:stretch/>
        </p:blipFill>
        <p:spPr>
          <a:xfrm>
            <a:off x="5681520" y="2449440"/>
            <a:ext cx="211932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Алиса</cp:lastModifiedBy>
  <dcterms:modified xsi:type="dcterms:W3CDTF">2023-02-03T06:25:16Z</dcterms:modified>
  <cp:revision>11</cp:revision>
  <dc:subject/>
  <dc:title>Название презентации</dc:title>
</cp:coreProperties>
</file>