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B123-9B93-468D-A9B6-B343590664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F91D-D30F-4E8C-B378-DA973588FB8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BB6-ED4D-4B20-AD47-D890D804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CAA7-908D-4BED-8F67-A1AE189F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590-3DB3-49BD-9399-85216FAB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400-7496-424B-9AC7-B2E7C071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A0F-0B39-4883-868A-1B39CFF7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8AB7-3837-443F-96FB-FCFBC43A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4E99-A3E2-4525-8FDF-7DC80204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C7DD-8895-416F-BB46-C4A56B18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29E-0584-4ACC-A12F-156BC2F7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964-A0B4-48E6-ABC2-85D85107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3FE-F222-466E-ACA2-BFBFC992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1FC-CC31-4227-B885-89312631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AF98-FFAA-4278-B553-8B12D29B0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876560" y="4419720"/>
            <a:ext cx="3733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293120" y="2209680"/>
            <a:ext cx="6508440" cy="1861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сультация для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6228"/>
                </a:solidFill>
                <a:latin typeface="Calibri"/>
              </a:rPr>
              <a:t>«Растим читател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douship.edusite.ru/images/knigi.png"/>
          <p:cNvPicPr/>
          <p:nvPr/>
        </p:nvPicPr>
        <p:blipFill>
          <a:blip r:embed="rId1"/>
          <a:stretch/>
        </p:blipFill>
        <p:spPr>
          <a:xfrm>
            <a:off x="160020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22360" y="553680"/>
            <a:ext cx="307008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200" spc="-1" strike="noStrike" u="sng">
                <a:solidFill>
                  <a:srgbClr val="008000"/>
                </a:solidFill>
                <a:uFillTx/>
                <a:latin typeface="Calibri"/>
              </a:rPr>
              <a:t>Выделяйте время для чтения каждый ден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чинать читать надо с первых же месяцев жизни ребенка. Ребенок учится слушать книгу, переворачивать страницы, водить пальчиком слева направо, запоминает слова, которые видит и слыши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забывайте, что ребенку могут почитать дедушка с бабушкой, старший брат или сестра, любой член семь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время обращайтесь к книге и чтению. Купите несколько книг домой, чтобы ваш малыш мог с ними воз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746680" y="488880"/>
            <a:ext cx="2940120" cy="61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Выбирайте книги с осторож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итая с ребенком вместе постоянно, вы обязательно заметите: какие книги ему нравится больше, какие он лучше поним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 считайте, что все необходимые ребенку книги есть у вас дома – это ошибка многих читающих родителей. Ходите с ребенком в библиотеку и тогда мир книг и библиотека не будет для него неведомой страной. «Как много интересных книг, и все их можно почитать самому».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Так появляется стимул к чт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C41-21 копия"/>
          <p:cNvPicPr/>
          <p:nvPr/>
        </p:nvPicPr>
        <p:blipFill>
          <a:blip r:embed="rId1"/>
          <a:stretch/>
        </p:blipFill>
        <p:spPr>
          <a:xfrm>
            <a:off x="3505320" y="1676520"/>
            <a:ext cx="198252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22000" y="620640"/>
            <a:ext cx="372276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2200" spc="-1" strike="noStrike" u="sng">
                <a:solidFill>
                  <a:srgbClr val="008000"/>
                </a:solidFill>
                <a:uFillTx/>
                <a:latin typeface="Calibri"/>
              </a:rPr>
              <a:t>Окружите ребенка материалами для чт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только книги из библиотеки должны быть у ребенка. Должны быть обязательно и свои собственные. Какие? Прежде всего, те, в которых он сможет не только почитать, но и раскрасить картинку, что-то самостоятельно вырезать или смастерить, сделать запис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но мастерить и самодельные книги. Помогите своему малышу склеить, подписать или сшить свою собственную книжку, с рисунками, фотографиями и многими другими вещ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573440" y="611280"/>
            <a:ext cx="411336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Читайте снова… и сн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ти часто любят слушать одни и те же истории. На ваше предложение почитать или рассказать что-нибудь новенькое, отвечают отказом. Что делать в таком случае? Посмотрите в заголовок этого совета! Да-да! Читайте именно то, что он просит. Это не каприз. Ребенок желает разобраться в книге глубже, процесс познания её происходит медленнее, он получает от чтения удовольствие. Не лишайте его всего эт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д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идет подготовка к будущему вдумчивому и внимательному чтению, воспитание полноценного восприятия кни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30a36f3bdeac"/>
          <p:cNvPicPr/>
          <p:nvPr/>
        </p:nvPicPr>
        <p:blipFill>
          <a:blip r:embed="rId1"/>
          <a:stretch/>
        </p:blipFill>
        <p:spPr>
          <a:xfrm>
            <a:off x="3070080" y="4997520"/>
            <a:ext cx="1203480" cy="1306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школа-10"/>
          <p:cNvPicPr/>
          <p:nvPr/>
        </p:nvPicPr>
        <p:blipFill>
          <a:blip r:embed="rId2"/>
          <a:stretch/>
        </p:blipFill>
        <p:spPr>
          <a:xfrm>
            <a:off x="7183440" y="5062680"/>
            <a:ext cx="11001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87520" y="685440"/>
            <a:ext cx="274320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ru-RU" sz="2200" spc="-1" strike="noStrike" u="sng">
                <a:solidFill>
                  <a:srgbClr val="008000"/>
                </a:solidFill>
                <a:uFillTx/>
                <a:latin typeface="Calibri"/>
              </a:rPr>
              <a:t>Читайте везде и всег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тать можно везде и всегда: на прогулке, на пляже, в поезде, ожидая приема врача. Пусть в вашей сумке с детскими принадлежностями, игрушками, бутылочками и сосками обязательно лежит кни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C41-32 копия"/>
          <p:cNvPicPr/>
          <p:nvPr/>
        </p:nvPicPr>
        <p:blipFill>
          <a:blip r:embed="rId1"/>
          <a:stretch/>
        </p:blipFill>
        <p:spPr>
          <a:xfrm>
            <a:off x="3265560" y="750960"/>
            <a:ext cx="1241280" cy="29829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4637160" y="750960"/>
            <a:ext cx="3919320" cy="22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. 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Не заставляйте ребенка чит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икогда не усаживайте за чтение, если малыши этого не хотят. Выбирайте самые популярные в детской среде темы и книги и готовьтесь к долгому поиску любимых книг, интересных тем и ав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482920" y="4083120"/>
            <a:ext cx="61387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. 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Показывайте ребенку свою заинтересованность в его чт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т ничего важнее для воспитания читателя, чем воспитание в ребенке любви к чтению. Будьте Великими Проводниками в мир книг, а не Великими Погонщиками и Оценщиками того, что и как читает ваш 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C41-15 копия"/>
          <p:cNvPicPr/>
          <p:nvPr/>
        </p:nvPicPr>
        <p:blipFill>
          <a:blip r:embed="rId2"/>
          <a:stretch/>
        </p:blipFill>
        <p:spPr>
          <a:xfrm>
            <a:off x="782640" y="4724280"/>
            <a:ext cx="163836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s://cf.ppt-online.org/files1/slide/v/VNMDCWgLYcu5Ui4lIfjyQFOo8XAzqJB01perbsKx26/slide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s://cf.ppt-online.org/files1/slide/v/VNMDCWgLYcu5Ui4lIfjyQFOo8XAzqJB01perbsKx26/slide-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cf.ppt-online.org/files1/slide/v/VNMDCWgLYcu5Ui4lIfjyQFOo8XAzqJB01perbsKx26/slide-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719280" y="685800"/>
            <a:ext cx="75103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ение психологов: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вить любовь к книге и чтению возможно только до 9 ле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же это сделать очень трудно, а подчас и практически 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ак ч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ru-RU" sz="2400" spc="-1" strike="noStrike">
                <a:solidFill>
                  <a:srgbClr val="4f6228"/>
                </a:solidFill>
                <a:latin typeface="Arial"/>
              </a:rPr>
              <a:t>основная зада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Arial"/>
              </a:rPr>
              <a:t>по воспитанию чита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Arial"/>
              </a:rPr>
              <a:t>ложится на плечи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990720" y="3276720"/>
            <a:ext cx="4114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Все родители мечт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334120" y="1905120"/>
            <a:ext cx="32763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ы хотим 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оих детей -</a:t>
            </a:r>
            <a:r>
              <a:rPr b="0" lang="ru-RU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здоров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5486400" y="3886200"/>
            <a:ext cx="27432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ы хотим, чтобы они были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счастлив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s://fgbsr.ru/assets/images/for_news/zdorovye-deti-%E2%80%93-zdorovoe-budushhee-1.jpg"/>
          <p:cNvPicPr/>
          <p:nvPr/>
        </p:nvPicPr>
        <p:blipFill>
          <a:blip r:embed="rId1"/>
          <a:stretch/>
        </p:blipFill>
        <p:spPr>
          <a:xfrm>
            <a:off x="1066680" y="3962520"/>
            <a:ext cx="338004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1697040" y="750960"/>
            <a:ext cx="554832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веты на вопросы,</a:t>
            </a:r>
            <a:endParaRPr b="0" lang="en-US" sz="25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торые часто возникают у родителей.</a:t>
            </a:r>
            <a:endParaRPr b="0" lang="en-US" sz="25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Схема 4" descr=""/>
          <p:cNvPicPr/>
          <p:nvPr/>
        </p:nvPicPr>
        <p:blipFill>
          <a:blip r:embed="rId1"/>
          <a:stretch/>
        </p:blipFill>
        <p:spPr>
          <a:xfrm>
            <a:off x="433440" y="1676520"/>
            <a:ext cx="5748120" cy="457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C41-09 копия"/>
          <p:cNvPicPr/>
          <p:nvPr/>
        </p:nvPicPr>
        <p:blipFill>
          <a:blip r:embed="rId2"/>
          <a:stretch/>
        </p:blipFill>
        <p:spPr>
          <a:xfrm>
            <a:off x="6140520" y="2254320"/>
            <a:ext cx="243684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 род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самим, подавая ребенку прим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:\cms-image-000018802.jpg"/>
          <p:cNvPicPr/>
          <p:nvPr/>
        </p:nvPicPr>
        <p:blipFill>
          <a:blip r:embed="rId1"/>
          <a:stretch/>
        </p:blipFill>
        <p:spPr>
          <a:xfrm>
            <a:off x="1219320" y="3429000"/>
            <a:ext cx="3344760" cy="220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E:\deti-chitajut.jpg"/>
          <p:cNvPicPr/>
          <p:nvPr/>
        </p:nvPicPr>
        <p:blipFill>
          <a:blip r:embed="rId2"/>
          <a:stretch/>
        </p:blipFill>
        <p:spPr>
          <a:xfrm>
            <a:off x="4952880" y="3581280"/>
            <a:ext cx="336564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09480" y="457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ти должны видеть родителей читающи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E:\Сочинение-на-тему-Роль-книги-в-жизни-человека.jpg"/>
          <p:cNvPicPr/>
          <p:nvPr/>
        </p:nvPicPr>
        <p:blipFill>
          <a:blip r:embed="rId1"/>
          <a:stretch/>
        </p:blipFill>
        <p:spPr>
          <a:xfrm>
            <a:off x="4952880" y="1905120"/>
            <a:ext cx="333720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E:\скачанные файлы (1).jpg"/>
          <p:cNvPicPr/>
          <p:nvPr/>
        </p:nvPicPr>
        <p:blipFill>
          <a:blip r:embed="rId2"/>
          <a:stretch/>
        </p:blipFill>
        <p:spPr>
          <a:xfrm>
            <a:off x="838080" y="3200400"/>
            <a:ext cx="4035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520" y="837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ывайте у детей культуру чтен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E:\4559711660.jpg"/>
          <p:cNvPicPr/>
          <p:nvPr/>
        </p:nvPicPr>
        <p:blipFill>
          <a:blip r:embed="rId1"/>
          <a:stretch/>
        </p:blipFill>
        <p:spPr>
          <a:xfrm>
            <a:off x="762120" y="2514600"/>
            <a:ext cx="3413160" cy="2639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E:\children_reading_01.jpg"/>
          <p:cNvPicPr/>
          <p:nvPr/>
        </p:nvPicPr>
        <p:blipFill>
          <a:blip r:embed="rId2"/>
          <a:stretch/>
        </p:blipFill>
        <p:spPr>
          <a:xfrm>
            <a:off x="4114800" y="3200400"/>
            <a:ext cx="3967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доме обязательно должна быть детская библиоте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E:\bib.jpg"/>
          <p:cNvPicPr/>
          <p:nvPr/>
        </p:nvPicPr>
        <p:blipFill>
          <a:blip r:embed="rId1"/>
          <a:stretch/>
        </p:blipFill>
        <p:spPr>
          <a:xfrm>
            <a:off x="838080" y="2514600"/>
            <a:ext cx="2625840" cy="1752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E:\rebenok_knigochey_03.jpg"/>
          <p:cNvPicPr/>
          <p:nvPr/>
        </p:nvPicPr>
        <p:blipFill>
          <a:blip r:embed="rId2"/>
          <a:stretch/>
        </p:blipFill>
        <p:spPr>
          <a:xfrm>
            <a:off x="4952880" y="2286000"/>
            <a:ext cx="3302280" cy="2476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E:\50709_original.jpg"/>
          <p:cNvPicPr/>
          <p:nvPr/>
        </p:nvPicPr>
        <p:blipFill>
          <a:blip r:embed="rId3"/>
          <a:stretch/>
        </p:blipFill>
        <p:spPr>
          <a:xfrm>
            <a:off x="1905120" y="4343400"/>
            <a:ext cx="2981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431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3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гда чита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только ребенок родить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делять несколько минут, но каждый ден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учать ребенка «ждать» время для чт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тать в любом мес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только выбирать время, когда ребенок в хорошем расположении духа, но и утешать ребенка, показав красивую книжку, когда он плачет или капризнич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029200" y="1905120"/>
            <a:ext cx="352728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 чит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бирать удобное мес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итать наизусть стихи, которые вам самим запомнились с дет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сматривать книжки-картин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итать с выраж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авать возможность ребенку самому «выбрать» книг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ечитывать любимые кни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676520" y="4800600"/>
            <a:ext cx="2090520" cy="15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18920" y="2187360"/>
            <a:ext cx="483228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3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Рассказывайте, пойте, играйте с ребенк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лыши с наслаждением слушают вашу речь: когда купаются и одеваются, кушают или засыпают, вечером и на рассвете. Они уже не могут без ваших рассказов  и совместных игр. Говорите с ними обо всех простых для вас, но очень важных для ребенка делах, которые вы делаете каждый день вместе. Комментируйте свои действия: «Моем ручки», «садимся на стул», описывайте то, что видите – так вы готовите </a:t>
            </a: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внимательного читате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WordArt 5"/>
          <p:cNvSpPr txBox="1"/>
          <p:nvPr/>
        </p:nvSpPr>
        <p:spPr>
          <a:xfrm>
            <a:off x="1752480" y="457200"/>
            <a:ext cx="522612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 О В Е Т Ы</a:t>
            </a:r>
            <a:endParaRPr b="0" lang="en-US" sz="33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9" name="WordArt 6"/>
          <p:cNvSpPr txBox="1"/>
          <p:nvPr/>
        </p:nvSpPr>
        <p:spPr>
          <a:xfrm>
            <a:off x="1371600" y="990720"/>
            <a:ext cx="52959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иблиотекарей и психологов</a:t>
            </a:r>
            <a:endParaRPr b="0" lang="en-US" sz="33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Picture 7" descr="C41-33 копия"/>
          <p:cNvPicPr/>
          <p:nvPr/>
        </p:nvPicPr>
        <p:blipFill>
          <a:blip r:embed="rId1"/>
          <a:stretch/>
        </p:blipFill>
        <p:spPr>
          <a:xfrm>
            <a:off x="5681520" y="2449440"/>
            <a:ext cx="211932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Алиса</cp:lastModifiedBy>
  <dcterms:modified xsi:type="dcterms:W3CDTF">2023-02-03T06:25:16Z</dcterms:modified>
  <cp:revision>11</cp:revision>
  <dc:subject/>
  <dc:title>Название презентации</dc:title>
</cp:coreProperties>
</file>