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74D-B02D-407D-9485-3D2E498C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1F6-16E8-442C-8819-DDC4D7C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CF5-B280-43E6-A277-595C5A0B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EFB-0315-4B8F-B297-0A4957AA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A12-CE14-44CA-8406-78D10A1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C58-C3D2-49A4-98E2-6BC8228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11E-6CE6-478D-93F3-93D546C9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D67-0F93-4213-9910-3D882E9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0AE-955E-4631-806C-C396EA3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03E-1F90-44F9-8C05-73E4C57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F56-57DB-4085-97E3-14DA462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9A4-783B-4250-AB64-4D259F0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F15-FBB3-46BD-BA85-F2CFE0B66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2/10/konstruktor111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nattik.ru/wp-content/uploads/2012/10/konstruktor112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nattik.ru/wp-content/uploads/2012/10/konstruktor113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nattik.ru/wp-content/uploads/2012/10/konstruktor5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2/10/konstruktor11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nattik.ru/wp-content/uploads/2012/10/konstruktor115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nattik.ru/wp-content/uploads/2012/10/konstruktor116.jpg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0" y="360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PROcompany\Desktop\Картотека. Математика с элементамиконструирования. Попова Д. А\07.jpg"/>
          <p:cNvPicPr/>
          <p:nvPr/>
        </p:nvPicPr>
        <p:blipFill>
          <a:blip r:embed="rId3"/>
          <a:stretch/>
        </p:blipFill>
        <p:spPr>
          <a:xfrm>
            <a:off x="571680" y="71424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PROcompany\Desktop\Картотека. Математика с элементамиконструирования. Попова Д. А\08.jpg"/>
          <p:cNvPicPr/>
          <p:nvPr/>
        </p:nvPicPr>
        <p:blipFill>
          <a:blip r:embed="rId3"/>
          <a:stretch/>
        </p:blipFill>
        <p:spPr>
          <a:xfrm>
            <a:off x="571680" y="71424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ROcompany\Desktop\Картотека. Математика с элементамиконструирования. Попова Д. А\09.jpg"/>
          <p:cNvPicPr/>
          <p:nvPr/>
        </p:nvPicPr>
        <p:blipFill>
          <a:blip r:embed="rId3"/>
          <a:stretch/>
        </p:blipFill>
        <p:spPr>
          <a:xfrm>
            <a:off x="642960" y="64296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onstruktor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571680"/>
            <a:ext cx="29466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konstruktor1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560" y="357120"/>
            <a:ext cx="4762440" cy="339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928600" y="1356840"/>
            <a:ext cx="204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71680" y="6143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 типа Л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konstruktor1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2786040"/>
            <a:ext cx="3357360" cy="3371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5429160" y="35719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на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нструктор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konstruktor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4000680"/>
            <a:ext cx="3071880" cy="23605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4768200" y="6072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урны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konstruktor1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552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286080" y="285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на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onstruktor1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286080"/>
            <a:ext cx="3857760" cy="3210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355680" y="61437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товые констру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277560" y="292896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ы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konstruktor1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85716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konstruktor4"/>
          <p:cNvPicPr/>
          <p:nvPr/>
        </p:nvPicPr>
        <p:blipFill>
          <a:blip r:embed="rId7"/>
          <a:stretch/>
        </p:blipFill>
        <p:spPr>
          <a:xfrm>
            <a:off x="4900680" y="3500280"/>
            <a:ext cx="424332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2"/>
          <p:cNvSpPr/>
          <p:nvPr/>
        </p:nvSpPr>
        <p:spPr>
          <a:xfrm>
            <a:off x="4909320" y="607212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 – трансфо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214200" y="27860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– на основе электро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konstruktor8"/>
          <p:cNvPicPr/>
          <p:nvPr/>
        </p:nvPicPr>
        <p:blipFill>
          <a:blip r:embed="rId1"/>
          <a:stretch/>
        </p:blipFill>
        <p:spPr>
          <a:xfrm>
            <a:off x="285840" y="3286080"/>
            <a:ext cx="435744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konstruktor117"/>
          <p:cNvPicPr/>
          <p:nvPr/>
        </p:nvPicPr>
        <p:blipFill>
          <a:blip r:embed="rId2"/>
          <a:stretch/>
        </p:blipFill>
        <p:spPr>
          <a:xfrm>
            <a:off x="5072040" y="0"/>
            <a:ext cx="3834000" cy="2768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4292640" y="12859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onstruktor118"/>
          <p:cNvPicPr/>
          <p:nvPr/>
        </p:nvPicPr>
        <p:blipFill>
          <a:blip r:embed="rId3"/>
          <a:stretch/>
        </p:blipFill>
        <p:spPr>
          <a:xfrm>
            <a:off x="285840" y="500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1600200" y="35712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5286240" y="571500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-лабири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konstruktor119"/>
          <p:cNvPicPr/>
          <p:nvPr/>
        </p:nvPicPr>
        <p:blipFill>
          <a:blip r:embed="rId4"/>
          <a:stretch/>
        </p:blipFill>
        <p:spPr>
          <a:xfrm>
            <a:off x="5356080" y="3357720"/>
            <a:ext cx="3787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атематических способностей с помощью конструкто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10713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ориентироваться в простран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о количестве, счете, форме, величине, цве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знания о пропорции, симметрии, понятии части и цел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ошкольников интерес к моделированию и конструированию, к техническому творчеств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управлять готовыми моделями с помощью простейших компьютерных програм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посылки учебной деятельности: умение и желание трудиться, выполнять задания в соответствии с инструкцией и поставленной целью, планировать будущую работу, доводить начатое дело до кон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активность детей, воображение, фантазию, творческую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иалогическую и монологическую речь, расширять словарный запа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амять, вним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работать совместно с детьми и педагогом в процессе создания коллективной постро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 счет (Формирование представлений о числе и количеств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(Развитие представлений о величин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фор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ой ориентир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риентировки во вр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детьми можно использовать следу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ронталь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в п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в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PROcompany\Desktop\Картотека. Математика с элементамиконструирования. Попова Д. А\02.jpg"/>
          <p:cNvPicPr/>
          <p:nvPr/>
        </p:nvPicPr>
        <p:blipFill>
          <a:blip r:embed="rId2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PROcompany\Desktop\Картотека. Математика с элементамиконструирования. Попова Д. А\03.jpg"/>
          <p:cNvPicPr/>
          <p:nvPr/>
        </p:nvPicPr>
        <p:blipFill>
          <a:blip r:embed="rId3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PROcompany\Desktop\Картотека. Математика с элементамиконструирования. Попова Д. А\04.jpg"/>
          <p:cNvPicPr/>
          <p:nvPr/>
        </p:nvPicPr>
        <p:blipFill>
          <a:blip r:embed="rId3"/>
          <a:stretch/>
        </p:blipFill>
        <p:spPr>
          <a:xfrm>
            <a:off x="71424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PROcompany\Desktop\Картотека. Математика с элементамиконструирования. Попова Д. А\05.jpg"/>
          <p:cNvPicPr/>
          <p:nvPr/>
        </p:nvPicPr>
        <p:blipFill>
          <a:blip r:embed="rId3"/>
          <a:stretch/>
        </p:blipFill>
        <p:spPr>
          <a:xfrm>
            <a:off x="571680" y="78588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PROcompany\Desktop\Картотека. Математика с элементамиконструирования. Попова Д. А\06.jpg"/>
          <p:cNvPicPr/>
          <p:nvPr/>
        </p:nvPicPr>
        <p:blipFill>
          <a:blip r:embed="rId3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1:04:19Z</dcterms:created>
  <dc:creator>PROcompany</dc:creator>
  <dc:description/>
  <dc:language>en-US</dc:language>
  <cp:lastModifiedBy>Татьяна</cp:lastModifiedBy>
  <dcterms:modified xsi:type="dcterms:W3CDTF">2023-02-03T16:19:31Z</dcterms:modified>
  <cp:revision>32</cp:revision>
  <dc:subject/>
  <dc:title>КАРТОТЕКА ИГР ПО  МАТЕМАТИКЕ       С ИСПОЛЬЗОВАНИЕМ КОНСТРУКТОРА старшая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1d0000000000010292010207f7000400038000</vt:lpwstr>
  </property>
</Properties>
</file>