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AF31-4327-47E7-80F4-5222DF3D0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B831-5154-4DE8-A2D4-05E29D4B9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7BF8-74E0-424F-A8BA-8BC6056A3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C5DB-7E21-4536-A60C-79E60F2E7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2531-E5AF-4F49-B992-C366E89AE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E3F5-C5B8-49A6-97DB-2E5B513C6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CAF0-69CC-452D-AC06-7B937756B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ECA2-DF02-4A8D-BA72-FADD33FB4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D09F-99B7-450F-9033-788A90100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B997-BD7E-46B9-A8C3-C8A7F0B84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AA52-BDE4-49AA-9AD2-8ECF389C7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4CA3-FCCF-4A6D-964C-1E196AF55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F6714-7B17-4EFB-A1FA-04D4EBE79E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nattik.ru/wp-content/uploads/2012/10/konstruktor111.jpg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nattik.ru/wp-content/uploads/2012/10/konstruktor112.jpg" TargetMode="External"/><Relationship Id="rId4" Type="http://schemas.openxmlformats.org/officeDocument/2006/relationships/image" Target="../media/image18.jpeg"/><Relationship Id="rId5" Type="http://schemas.openxmlformats.org/officeDocument/2006/relationships/hyperlink" Target="http://nattik.ru/wp-content/uploads/2012/10/konstruktor113.jpg" TargetMode="External"/><Relationship Id="rId6" Type="http://schemas.openxmlformats.org/officeDocument/2006/relationships/image" Target="../media/image19.jpeg"/><Relationship Id="rId7" Type="http://schemas.openxmlformats.org/officeDocument/2006/relationships/hyperlink" Target="http://nattik.ru/wp-content/uploads/2012/10/konstruktor5.jpg" TargetMode="External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nattik.ru/wp-content/uploads/2012/10/konstruktor114.jpg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nattik.ru/wp-content/uploads/2012/10/konstruktor115.jpg" TargetMode="External"/><Relationship Id="rId4" Type="http://schemas.openxmlformats.org/officeDocument/2006/relationships/image" Target="../media/image22.jpeg"/><Relationship Id="rId5" Type="http://schemas.openxmlformats.org/officeDocument/2006/relationships/hyperlink" Target="http://nattik.ru/wp-content/uploads/2012/10/konstruktor116.jpg" TargetMode="External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2"/>
          <a:stretch/>
        </p:blipFill>
        <p:spPr>
          <a:xfrm>
            <a:off x="0" y="360360"/>
            <a:ext cx="914400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C:\Users\PROcompany\Desktop\Картотека. Математика с элементамиконструирования. Попова Д. А\07.jpg"/>
          <p:cNvPicPr/>
          <p:nvPr/>
        </p:nvPicPr>
        <p:blipFill>
          <a:blip r:embed="rId3"/>
          <a:stretch/>
        </p:blipFill>
        <p:spPr>
          <a:xfrm>
            <a:off x="571680" y="714240"/>
            <a:ext cx="8019720" cy="56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C:\Users\PROcompany\Desktop\Картотека. Математика с элементамиконструирования. Попова Д. А\08.jpg"/>
          <p:cNvPicPr/>
          <p:nvPr/>
        </p:nvPicPr>
        <p:blipFill>
          <a:blip r:embed="rId3"/>
          <a:stretch/>
        </p:blipFill>
        <p:spPr>
          <a:xfrm>
            <a:off x="571680" y="714240"/>
            <a:ext cx="8019720" cy="56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C:\Users\PROcompany\Desktop\Картотека. Математика с элементамиконструирования. Попова Д. А\09.jpg"/>
          <p:cNvPicPr/>
          <p:nvPr/>
        </p:nvPicPr>
        <p:blipFill>
          <a:blip r:embed="rId3"/>
          <a:stretch/>
        </p:blipFill>
        <p:spPr>
          <a:xfrm>
            <a:off x="642960" y="642960"/>
            <a:ext cx="8020080" cy="56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konstruktor11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4200" y="571680"/>
            <a:ext cx="2946600" cy="2286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konstruktor11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381560" y="357120"/>
            <a:ext cx="4762440" cy="33908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2928600" y="1356840"/>
            <a:ext cx="2043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би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571680" y="6143760"/>
            <a:ext cx="43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рукторы типа Ле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konstruktor113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71680" y="2786040"/>
            <a:ext cx="3357360" cy="3371760"/>
          </a:xfrm>
          <a:prstGeom prst="rect">
            <a:avLst/>
          </a:prstGeom>
          <a:ln w="0">
            <a:noFill/>
          </a:ln>
        </p:spPr>
      </p:pic>
      <p:sp>
        <p:nvSpPr>
          <p:cNvPr id="75" name="TextBox 4"/>
          <p:cNvSpPr/>
          <p:nvPr/>
        </p:nvSpPr>
        <p:spPr>
          <a:xfrm>
            <a:off x="5429160" y="3571920"/>
            <a:ext cx="32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ительный набо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конструкторов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5" descr="konstruktor5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715000" y="4000680"/>
            <a:ext cx="3071880" cy="236052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9"/>
          <p:cNvSpPr/>
          <p:nvPr/>
        </p:nvSpPr>
        <p:spPr>
          <a:xfrm>
            <a:off x="4768200" y="6072120"/>
            <a:ext cx="394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урные конструктор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konstruktor11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72040" y="0"/>
            <a:ext cx="4071960" cy="3552840"/>
          </a:xfrm>
          <a:prstGeom prst="rect">
            <a:avLst/>
          </a:prstGeom>
          <a:ln w="0">
            <a:noFill/>
          </a:ln>
        </p:spPr>
      </p:pic>
      <p:sp>
        <p:nvSpPr>
          <p:cNvPr id="80" name="TextBox 3"/>
          <p:cNvSpPr/>
          <p:nvPr/>
        </p:nvSpPr>
        <p:spPr>
          <a:xfrm>
            <a:off x="3286080" y="28584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тические наб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konstruktor11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14200" y="3286080"/>
            <a:ext cx="3857760" cy="321012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5"/>
          <p:cNvSpPr/>
          <p:nvPr/>
        </p:nvSpPr>
        <p:spPr>
          <a:xfrm>
            <a:off x="355680" y="6143760"/>
            <a:ext cx="367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товые конструкт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7"/>
          <p:cNvSpPr/>
          <p:nvPr/>
        </p:nvSpPr>
        <p:spPr>
          <a:xfrm>
            <a:off x="277560" y="2928960"/>
            <a:ext cx="400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гнитные конструктор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konstruktor11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57120" y="857160"/>
            <a:ext cx="2928960" cy="21970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konstruktor4"/>
          <p:cNvPicPr/>
          <p:nvPr/>
        </p:nvPicPr>
        <p:blipFill>
          <a:blip r:embed="rId7"/>
          <a:stretch/>
        </p:blipFill>
        <p:spPr>
          <a:xfrm>
            <a:off x="4900680" y="3500280"/>
            <a:ext cx="4243320" cy="257184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12"/>
          <p:cNvSpPr/>
          <p:nvPr/>
        </p:nvSpPr>
        <p:spPr>
          <a:xfrm>
            <a:off x="4909320" y="6072120"/>
            <a:ext cx="423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руктор – трансформ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5"/>
          <p:cNvSpPr/>
          <p:nvPr/>
        </p:nvSpPr>
        <p:spPr>
          <a:xfrm>
            <a:off x="214200" y="2786040"/>
            <a:ext cx="63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нные – на основе электросх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konstruktor8"/>
          <p:cNvPicPr/>
          <p:nvPr/>
        </p:nvPicPr>
        <p:blipFill>
          <a:blip r:embed="rId1"/>
          <a:stretch/>
        </p:blipFill>
        <p:spPr>
          <a:xfrm>
            <a:off x="285840" y="3286080"/>
            <a:ext cx="4357440" cy="3048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konstruktor117"/>
          <p:cNvPicPr/>
          <p:nvPr/>
        </p:nvPicPr>
        <p:blipFill>
          <a:blip r:embed="rId2"/>
          <a:stretch/>
        </p:blipFill>
        <p:spPr>
          <a:xfrm>
            <a:off x="5072040" y="0"/>
            <a:ext cx="3834000" cy="276876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7"/>
          <p:cNvSpPr/>
          <p:nvPr/>
        </p:nvSpPr>
        <p:spPr>
          <a:xfrm>
            <a:off x="4292640" y="128592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став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konstruktor118"/>
          <p:cNvPicPr/>
          <p:nvPr/>
        </p:nvPicPr>
        <p:blipFill>
          <a:blip r:embed="rId3"/>
          <a:stretch/>
        </p:blipFill>
        <p:spPr>
          <a:xfrm>
            <a:off x="285840" y="50004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9"/>
          <p:cNvSpPr/>
          <p:nvPr/>
        </p:nvSpPr>
        <p:spPr>
          <a:xfrm>
            <a:off x="1600200" y="357120"/>
            <a:ext cx="337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ягкие конструктор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11"/>
          <p:cNvSpPr/>
          <p:nvPr/>
        </p:nvSpPr>
        <p:spPr>
          <a:xfrm>
            <a:off x="5286240" y="5715000"/>
            <a:ext cx="350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рукторы-лабири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konstruktor119"/>
          <p:cNvPicPr/>
          <p:nvPr/>
        </p:nvPicPr>
        <p:blipFill>
          <a:blip r:embed="rId4"/>
          <a:stretch/>
        </p:blipFill>
        <p:spPr>
          <a:xfrm>
            <a:off x="5356080" y="3357720"/>
            <a:ext cx="378792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2876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14200" y="213840"/>
            <a:ext cx="871560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математических способностей с помощью конструктора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14200" y="1071360"/>
            <a:ext cx="8715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ть умение ориентироваться в пространств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ть представления о количестве, счете, форме, величине, цвет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ть знания о пропорции, симметрии, понятии части и целого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у дошкольников интерес к моделированию и конструированию, к техническому творчеству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ировать умение управлять готовыми моделями с помощью простейших компьютерных программ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ть предпосылки учебной деятельности: умение и желание трудиться, выполнять задания в соответствии с инструкцией и поставленной целью, планировать будущую работу, доводить начатое дело до конц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познавательную активность детей, воображение, фантазию, творческую инициативу, самостоятельность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диалогическую и монологическую речь, расширять словарный запас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мелкую моторику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память, внимани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ировать умение работать совместно с детьми и педагогом в процессе создания коллективной постройк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28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ия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и счет (Формирование представлений о числе и количестве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чина (Развитие представлений о величине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представлений о форм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пространственной ориентиров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ориентировки во времен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аботе с детьми можно использовать следующие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организации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ой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еятельност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2143080"/>
            <a:ext cx="82296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ронтальна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бота в пара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руппова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PROcompany\Desktop\Картотека. Математика с элементамиконструирования. Попова Д. А\02.jpg"/>
          <p:cNvPicPr/>
          <p:nvPr/>
        </p:nvPicPr>
        <p:blipFill>
          <a:blip r:embed="rId2"/>
          <a:stretch/>
        </p:blipFill>
        <p:spPr>
          <a:xfrm>
            <a:off x="642960" y="714240"/>
            <a:ext cx="8020080" cy="56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C:\Users\PROcompany\Desktop\Картотека. Математика с элементамиконструирования. Попова Д. А\03.jpg"/>
          <p:cNvPicPr/>
          <p:nvPr/>
        </p:nvPicPr>
        <p:blipFill>
          <a:blip r:embed="rId3"/>
          <a:stretch/>
        </p:blipFill>
        <p:spPr>
          <a:xfrm>
            <a:off x="642960" y="714240"/>
            <a:ext cx="8020080" cy="56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PROcompany\Desktop\Картотека. Математика с элементамиконструирования. Попова Д. А\04.jpg"/>
          <p:cNvPicPr/>
          <p:nvPr/>
        </p:nvPicPr>
        <p:blipFill>
          <a:blip r:embed="rId3"/>
          <a:stretch/>
        </p:blipFill>
        <p:spPr>
          <a:xfrm>
            <a:off x="714240" y="714240"/>
            <a:ext cx="8020080" cy="56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:\Users\PROcompany\Desktop\Картотека. Математика с элементамиконструирования. Попова Д. А\05.jpg"/>
          <p:cNvPicPr/>
          <p:nvPr/>
        </p:nvPicPr>
        <p:blipFill>
          <a:blip r:embed="rId3"/>
          <a:stretch/>
        </p:blipFill>
        <p:spPr>
          <a:xfrm>
            <a:off x="571680" y="785880"/>
            <a:ext cx="8019720" cy="56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Users\PROcompany\Desktop\Картотека. Математика с элементамиконструирования. Попова Д. А\06.jpg"/>
          <p:cNvPicPr/>
          <p:nvPr/>
        </p:nvPicPr>
        <p:blipFill>
          <a:blip r:embed="rId3"/>
          <a:stretch/>
        </p:blipFill>
        <p:spPr>
          <a:xfrm>
            <a:off x="642960" y="714240"/>
            <a:ext cx="8020080" cy="56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11T01:04:19Z</dcterms:created>
  <dc:creator>PROcompany</dc:creator>
  <dc:description/>
  <dc:language>en-US</dc:language>
  <cp:lastModifiedBy>Татьяна</cp:lastModifiedBy>
  <dcterms:modified xsi:type="dcterms:W3CDTF">2023-02-03T16:19:31Z</dcterms:modified>
  <cp:revision>32</cp:revision>
  <dc:subject/>
  <dc:title>КАРТОТЕКА ИГР ПО  МАТЕМАТИКЕ       С ИСПОЛЬЗОВАНИЕМ КОНСТРУКТОРА старшая групп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a1d0000000000010292010207f7000400038000</vt:lpwstr>
  </property>
</Properties>
</file>