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63B-17DE-48CB-986A-6612625831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6AEB-AFAA-447C-8DD0-CF1106B95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ADBA-B6C8-41FA-9102-139FE5786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EF72-B281-43DA-A406-A0C9E1C2A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AB5F-1F37-40D5-944D-305C866F9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34AF-2513-45D1-A7F3-5672B2B866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671B-6679-4680-99F2-3AD6D1788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6CC3-4E50-49EB-AE68-5328312D7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6761-D4C8-4B8B-908D-8F4A9A727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145-34D0-463B-BA52-ED8C11F2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ADE-94A0-4EB2-A090-3285454B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217-8140-4945-9531-F8B4630E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93F-08E3-4813-B043-D955EBF4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B16-9547-4310-A71E-590C8EF8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33B-2471-4379-8FB5-A0498586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114-895A-40CA-B8D2-2070167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2F3-8D8F-462C-A9D7-99EF4434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DEC-CA10-4AE7-8859-2857E108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080-19AE-45F6-8F73-95795E74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05D-27FC-454A-A7C8-26E26CD8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F44-3BFA-416F-97B9-E3E92BD4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B2DF-1A8B-469D-BB2E-E53E9E23F2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4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3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4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2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9680"/>
            <a:ext cx="8280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800000"/>
                </a:solidFill>
                <a:latin typeface="Calibri"/>
              </a:rPr>
              <a:t>«Мнемотехника</a:t>
            </a:r>
            <a:br>
              <a:rPr sz="4300"/>
            </a:br>
            <a:r>
              <a:rPr b="0" lang="ru-RU" sz="4300" spc="-1" strike="noStrike">
                <a:solidFill>
                  <a:srgbClr val="800000"/>
                </a:solidFill>
                <a:latin typeface="Calibri"/>
              </a:rPr>
              <a:t>в развитии связной речи  дошкольников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1296798275_vesna.jpg"/>
          <p:cNvPicPr/>
          <p:nvPr/>
        </p:nvPicPr>
        <p:blipFill>
          <a:blip r:embed="rId1"/>
          <a:stretch/>
        </p:blipFill>
        <p:spPr>
          <a:xfrm>
            <a:off x="2286000" y="2643120"/>
            <a:ext cx="478620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Примером мнемотехники в ДОУ могут быть таблицы, построенные на изображении последовательности процессов умывания, мытья рук, одевания, сервировки стола. Маленькому ребенку сложно запомнить весь алгоритм действий, придуманный взрослыми, поэтому наглядные картинки, расшифрованные на занятиях и самостоятельно пересказанные, позволят ребенку, каждый раз подходя к умывальнику или шкафчику с вещами, легко воспроизвести этап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acer\Desktop\mnemotehnika_v_detskom_sadu_ris.1.jpg"/>
          <p:cNvPicPr/>
          <p:nvPr/>
        </p:nvPicPr>
        <p:blipFill>
          <a:blip r:embed="rId1"/>
          <a:stretch/>
        </p:blipFill>
        <p:spPr>
          <a:xfrm>
            <a:off x="1857240" y="2714760"/>
            <a:ext cx="5156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Использование мнемотаблиц в младшей группе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Развитие речи – одна из главных задач обучения детей. Как сделать этот процесс увлекательным и интересным для детей? Мы в своей работе широко используем мнемотаблицы, которые позволяют развивать связную, монологическую речь малыша, активизировать все мыслительные процессы. Начинать можно с составления рассказов из 2-3 предложени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мт 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643120"/>
            <a:ext cx="6858000" cy="2357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428760" y="51436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 небе светило солнце. И вдруг пошёл дождь. После дождя на небе появилась красивая раду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евочки и мальчики посадили на грядке – картошку, помидоры, огурцы. Поливают их водой. Овощи выросли большие и вкусны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мт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2571840"/>
            <a:ext cx="5643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Наступила осень. Девочки и мальчики одевают теплые вещи. Небо покрыто серыми тучами и часто идет дождь. После дождя появляются в лесу много съедобных грибов. В лесу после дождя вырастают ядовитые грибы. Дикие животные делают запасы на зим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мт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8880" y="2433600"/>
            <a:ext cx="5715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Пошел сильный дождь. После дождя в лесу выросли грибы. Девочки и мальчики собирают грибы в корзину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мт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1214280"/>
            <a:ext cx="6715080" cy="3643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85840" y="52862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олнце светит ярко. Вдруг пошел сильный дождь. Девочки и мальчики вышли гулять на улицу с зон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c00000"/>
                </a:solidFill>
                <a:latin typeface="Calibri"/>
              </a:rPr>
              <a:t>Зима</a:t>
            </a:r>
            <a:br>
              <a:rPr sz="2500"/>
            </a:b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Наступила зима. Небо закрыто серыми темными тучами. Часто идет холодный снег. Девочки и мальчики идут гулять на улицу. Они лепят из снега снежки и снежную бабу. Зимой ребята катаются на санках и коньках.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tabl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954160"/>
            <a:ext cx="2857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Calibri"/>
              </a:rPr>
              <a:t>Лето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Наступило лето. Солнце светит ярко и греет. Мальчики и девочки купаются в речке. Играют в мяч и бадминтон. Из песка строят башни, замки. Летом поспевают вкусные фрукты, ягоды и полезные овощ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tabl-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214720"/>
            <a:ext cx="6500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Calibri"/>
              </a:rPr>
              <a:t>Осень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Наступила осень. Солнце светит мало и не греет. Оно скрыто за серыми тучами. Часто идет дождь. Мы идем в детский сад под зонтом. Дует сильный ветер. И с деревьев слетает листва. Листья покрывают все вокруг красивым, красочным ковром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tabl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2286000"/>
            <a:ext cx="6572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Calibri"/>
              </a:rPr>
              <a:t>Весна</a:t>
            </a:r>
            <a:br>
              <a:rPr sz="22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Наступила весна. Солнце пригревает сильнее и становится тепло. На улице тает снег, и бегут ручьи. Девочки и мальчики пускают кораблики по воде. На деревьях распускаются первые почки и появляются первые цветы. Из жарких стран прилетают птиц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tabl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95520"/>
            <a:ext cx="6786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тихотво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C:\Users\x61\Downloads\0238360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56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1. Дать понятие мнемотехники, раскрыть актуальность, познакомить с особенностями, принципами технологии, этапами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2. Дать рекомендации педагогам по использованию карточек – схем на занятиях, образцы некоторых опорных схем, познакомить с литературой по данной те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707080" cy="4303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3708360" y="2895480"/>
            <a:ext cx="52563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тихотв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bonisad.ru/obrazovatelnie_marshruti/zanyatiya_po_mnemotehnike/mnemotehnika1.gif?rand=41837173540028"/>
          <p:cNvPicPr/>
          <p:nvPr/>
        </p:nvPicPr>
        <p:blipFill>
          <a:blip r:embed="rId1"/>
          <a:stretch/>
        </p:blipFill>
        <p:spPr>
          <a:xfrm>
            <a:off x="1258920" y="1413000"/>
            <a:ext cx="763416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maaam.ru/upload/blogs/84937f88c18d2b776f48115ae0016fd7.jpg.jpg"/>
          <p:cNvPicPr/>
          <p:nvPr/>
        </p:nvPicPr>
        <p:blipFill>
          <a:blip r:embed="rId1"/>
          <a:stretch/>
        </p:blipFill>
        <p:spPr>
          <a:xfrm>
            <a:off x="971640" y="189000"/>
            <a:ext cx="691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estival.1september.ru/articles/594284/img4.jpg"/>
          <p:cNvPicPr/>
          <p:nvPr/>
        </p:nvPicPr>
        <p:blipFill>
          <a:blip r:embed="rId1"/>
          <a:stretch/>
        </p:blipFill>
        <p:spPr>
          <a:xfrm>
            <a:off x="1476360" y="2276640"/>
            <a:ext cx="6335640" cy="3946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619200" y="263520"/>
            <a:ext cx="76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пис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</a:rPr>
              <a:t>Волк живёт в лесу. Он дикое животное. У него четыре ноги. Тело покрыто густой серой шерстью. Своих детёнышей волчица выкармливает молочком. Волк хищник, у него острые зу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Стоял в поле теремок. Мимо бежала мышка-норушка, стала она в теремке жить.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Затем прибежала в теремок лягушка-квакушка, за ней зайчик-побегайчик.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Затем прибежала лисичка-сестричка, волк – зубами щёлк, а потом пришёл медведь.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Теремок не выдержал, взял и развалился. Тут и сказке конец, а кто слушал – молодец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festival.1september.ru/articles/594284/img6.jpg"/>
          <p:cNvPicPr/>
          <p:nvPr/>
        </p:nvPicPr>
        <p:blipFill>
          <a:blip r:embed="rId1"/>
          <a:stretch/>
        </p:blipFill>
        <p:spPr>
          <a:xfrm>
            <a:off x="2214720" y="2644920"/>
            <a:ext cx="421452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ереск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SL382663"/>
          <p:cNvPicPr/>
          <p:nvPr/>
        </p:nvPicPr>
        <p:blipFill>
          <a:blip r:embed="rId1"/>
          <a:stretch/>
        </p:blipFill>
        <p:spPr>
          <a:xfrm>
            <a:off x="324000" y="2205000"/>
            <a:ext cx="367164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L382664"/>
          <p:cNvPicPr/>
          <p:nvPr/>
        </p:nvPicPr>
        <p:blipFill>
          <a:blip r:embed="rId2"/>
          <a:stretch/>
        </p:blipFill>
        <p:spPr>
          <a:xfrm>
            <a:off x="4859280" y="2276640"/>
            <a:ext cx="3962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абота на занятиях по мнемотаблицам состоит из трех этапов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 этап: Рассматривание таблицы и разбор того, что на ней изображе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 этап: Осуществляется перекодирование информации, т.е. преобразование из абстрактных символов в обра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 этап: После перекодирования осуществляется пересказ сказки или рассказ по заданной те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младших группах с помощью воспитателя, в старших – дети должны уметь самостоятельно (более подробно описано у Назаровой И. И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800000"/>
                </a:solidFill>
                <a:latin typeface="Calibri"/>
              </a:rPr>
              <a:t>Последовательность работы с мнемотаблицам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1. Введение элементов символов (формы, величины, действия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. Использование опорных схем  на всех видах занятий, различных видов деятельности (для выработки у ребёнка привыкания, понимания, что символ универсале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. Введение отриц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4. Сочетание символов, чтение цепочки 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5. Самостоятельный поиск детьми изображений, символизирующих какое-либо качество. (Задача этого этапа - активный поиск изображений, умение аргументировать свой выбо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6. Творческое создание детьми опорных сх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circl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езульт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 детей увеличивается круг знаний об окружающем ми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является желание пересказывать тексты, придумывать интересные ист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оявляется интерес к заучиванию стихов и потеш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ловарный запас выходит на более высокий уров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ети преодолевают робость, застенчивость, учатся свободно держаться перед аудитор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4000">
    <p:checke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К . Д. Ушинский писа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«Учите ребёнка каким-нибудь неизвестным ему пяти словам- он будет долго и напрасно мучиться, но свяжите двадцать таких слов с картинками, и он усвоит на лету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Проблемы речи детей дошкольного возрас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143000"/>
            <a:ext cx="86421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Односложная, состоящая лишь из простых предложений речь. Неспособность грамматически правильно построить предло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Бедность речи. Недостаточный словарный запа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Употребление нелитературных слов и выра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Бедная диалогическая речь: неспособность грамотно и доступно сформулировать вопрос, построить краткий или развёрнут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Неспособность построить монолог: например, сюжетный или описательный рассказ на предложенную тему, пересказ текста своими слов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Отсутствие логического обоснования своих утверждений и выво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Отсутствие навыков культуры речи: неумение использовать интонации, регулировать громкость голоса и темп речи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Плохая дик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3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3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3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3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немотехника </a:t>
            </a:r>
            <a:br>
              <a:rPr sz="3200"/>
            </a:b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В переводе с греческого - «искусство запоминания».</a:t>
            </a:r>
            <a:br>
              <a:rPr sz="3200"/>
            </a:b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Это система методов и приемов, обеспечивающих успешное запоминание, сохранение и воспроизведение информации, знаний об особенностях объектов природы, об окружающем мире, эффективное запоминание структуры рассказа, и, конечно, развитие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Отличительные особенности технолог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-имеет чёткое теоретическое и экспериментальное обосн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-приемы запоминания индивидуализиров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-широко используются образные код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обеспечивающие быстрое запомин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-введено понятие ”навык запоминания” и разработана точная система контроля навыка запоми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14200" y="76608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800000"/>
                </a:solidFill>
                <a:latin typeface="Calibri"/>
                <a:ea typeface="Times New Roman"/>
              </a:rPr>
              <a:t>Мнемотехника помогает развивать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ассоциативное мышл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реч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зрительную и слуховую памя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зрительное и слуховое вним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воображе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2203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  <a:ea typeface="Times New Roman"/>
              </a:rPr>
              <a:t>Цель обуче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 развитие связной ре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  преобразование абстрактных символов в образы (перекодирование информаци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развитие мелкой моторики ру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 развитие основных психических процессов – памяти, внимания, образного мыш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-  помогает овладение приёмами работы с мнемотаблицами и сокращает время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57120" y="5716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Как любая работа, мнемотехника строится от простого к сложному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немоквад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немодорож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Мнемо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3840" y="214200"/>
            <a:ext cx="8572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одержание мнемотаблицы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 - это графическое или частично графическое изображение персонажей сказки, явлений природы, некоторых действий и др. путем выделения главных смысловых звеньев сюжета рассказа. Главное – нужно передать условно-наглядную схему, изобразить так, чтобы нарисованное было понятно дет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 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хемы служат своеобразным зрительным планом для создания монологов, помогают детям выстраи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- строение рассказ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- последовательность рассказ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- лексико-грамматическую наполняемость расска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60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7:00:28Z</dcterms:created>
  <dc:creator>Admin</dc:creator>
  <dc:description/>
  <dc:language>en-US</dc:language>
  <cp:lastModifiedBy>W7</cp:lastModifiedBy>
  <dcterms:modified xsi:type="dcterms:W3CDTF">2022-02-13T10:26:05Z</dcterms:modified>
  <cp:revision>54</cp:revision>
  <dc:subject/>
  <dc:title>«Мнемотехника в развитии связной речи у дошкольников»</dc:title>
</cp:coreProperties>
</file>