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5D1F-81EB-4A3D-9874-F93244223B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4941-2630-43CC-86C8-C1485848A4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D2CD-38B9-46FA-B08D-8FE5755B24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3A5B-6BF8-43B7-808E-04FFC36CF6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3330-36E6-461C-BCA7-8D4C6DD58D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7297-63DB-4BB3-B0B7-2056A2B351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66DF-935F-45A7-A815-FD35C8101E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DDFA-CCC0-4B64-ACC5-69E04E3F15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102E-A8E8-432B-9DA5-F008A01E52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D1A7-94E8-4A48-A39B-0C2C940F6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F639-AA7A-4079-BA6C-EA77B636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0BA4-74DE-477A-8A6D-64EF90471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DB46-DADA-420F-83F4-8C0DAC8F5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3FAC-9BEF-4E37-BCD1-C995BA52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843D-180E-4831-9DC7-161214C9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B947-5402-4C8A-A8A1-4D82B09B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3DCF-225F-4523-9C65-92768D49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CB16-DCA9-4BA3-9F69-78F26C6E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8D99-974A-4BF5-BF59-6CB98813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548D-271F-4605-ADC4-43806F97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C67D-96A8-4F33-ABE2-9C511DFC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7C42-6C24-46E9-84CE-D808E853B9C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bebygarden.ru/wp-content/uploads/2013/10/mt-4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bebygarden.ru/wp-content/uploads/2013/10/mt-5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bebygarden.ru/wp-content/uploads/2013/10/mt-1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bebygarden.ru/wp-content/uploads/2013/10/mt-2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bebygarden.ru/wp-content/uploads/2013/08/tabl-31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bebygarden.ru/wp-content/uploads/2013/08/tabl-41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bebygarden.ru/wp-content/uploads/2013/08/tabl-11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bebygarden.ru/wp-content/uploads/2013/08/tabl-21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499680"/>
            <a:ext cx="828036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800000"/>
                </a:solidFill>
                <a:latin typeface="Calibri"/>
              </a:rPr>
              <a:t>«Мнемотехника</a:t>
            </a:r>
            <a:br>
              <a:rPr sz="4300"/>
            </a:br>
            <a:r>
              <a:rPr b="0" lang="ru-RU" sz="4300" spc="-1" strike="noStrike">
                <a:solidFill>
                  <a:srgbClr val="800000"/>
                </a:solidFill>
                <a:latin typeface="Calibri"/>
              </a:rPr>
              <a:t>в развитии связной речи  дошкольников»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1296798275_vesna.jpg"/>
          <p:cNvPicPr/>
          <p:nvPr/>
        </p:nvPicPr>
        <p:blipFill>
          <a:blip r:embed="rId1"/>
          <a:stretch/>
        </p:blipFill>
        <p:spPr>
          <a:xfrm>
            <a:off x="2286000" y="2643120"/>
            <a:ext cx="4786200" cy="342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43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alibri"/>
              </a:rPr>
              <a:t>Примером мнемотехники в ДОУ могут быть таблицы, построенные на изображении последовательности процессов умывания, мытья рук, одевания, сервировки стола. Маленькому ребенку сложно запомнить весь алгоритм действий, придуманный взрослыми, поэтому наглядные картинки, расшифрованные на занятиях и самостоятельно пересказанные, позволят ребенку, каждый раз подходя к умывальнику или шкафчику с вещами, легко воспроизвести этапы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acer\Desktop\mnemotehnika_v_detskom_sadu_ris.1.jpg"/>
          <p:cNvPicPr/>
          <p:nvPr/>
        </p:nvPicPr>
        <p:blipFill>
          <a:blip r:embed="rId1"/>
          <a:stretch/>
        </p:blipFill>
        <p:spPr>
          <a:xfrm>
            <a:off x="1857240" y="2714760"/>
            <a:ext cx="51562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3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alibri"/>
              </a:rPr>
              <a:t>Использование мнемотаблиц в младшей группе</a:t>
            </a:r>
            <a:br>
              <a:rPr sz="1800"/>
            </a:br>
            <a:r>
              <a:rPr b="0" lang="ru-RU" sz="1800" spc="-1" strike="noStrike">
                <a:solidFill>
                  <a:srgbClr val="800000"/>
                </a:solidFill>
                <a:latin typeface="Calibri"/>
              </a:rPr>
              <a:t>Развитие речи – одна из главных задач обучения детей. Как сделать этот процесс увлекательным и интересным для детей? Мы в своей работе широко используем мнемотаблицы, которые позволяют развивать связную, монологическую речь малыша, активизировать все мыслительные процессы. Начинать можно с составления рассказов из 2-3 предложени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3" descr="мт 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85920" y="2643120"/>
            <a:ext cx="6858000" cy="2357640"/>
          </a:xfrm>
          <a:prstGeom prst="rect">
            <a:avLst/>
          </a:prstGeom>
          <a:ln w="0">
            <a:noFill/>
          </a:ln>
        </p:spPr>
      </p:pic>
      <p:sp>
        <p:nvSpPr>
          <p:cNvPr id="63" name="TextBox 6"/>
          <p:cNvSpPr/>
          <p:nvPr/>
        </p:nvSpPr>
        <p:spPr>
          <a:xfrm>
            <a:off x="428760" y="5143680"/>
            <a:ext cx="85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На небе светило солнце. И вдруг пошёл дождь. После дождя на небе появилась красивая радуг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Девочки и мальчики посадили на грядке – картошку, помидоры, огурцы. Поливают их водой. Овощи выросли большие и вкусные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3" descr="мт 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00120" y="2571840"/>
            <a:ext cx="5643720" cy="25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3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Наступила осень. Девочки и мальчики одевают теплые вещи. Небо покрыто серыми тучами и часто идет дождь. После дождя появляются в лесу много съедобных грибов. В лесу после дождя вырастают ядовитые грибы. Дикие животные делают запасы на зиму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3" descr="мт 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28880" y="2433600"/>
            <a:ext cx="57150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Пошел сильный дождь. После дождя в лесу выросли грибы. Девочки и мальчики собирают грибы в корзину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3" descr="мт 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71720" y="1214280"/>
            <a:ext cx="6715080" cy="364356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285840" y="528624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Солнце светит ярко. Вдруг пошел сильный дождь. Девочки и мальчики вышли гулять на улицу с зонт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c00000"/>
                </a:solidFill>
                <a:latin typeface="Calibri"/>
              </a:rPr>
              <a:t>Зима</a:t>
            </a:r>
            <a:br>
              <a:rPr sz="2500"/>
            </a:br>
            <a:r>
              <a:rPr b="0" lang="ru-RU" sz="2500" spc="-1" strike="noStrike">
                <a:solidFill>
                  <a:srgbClr val="c00000"/>
                </a:solidFill>
                <a:latin typeface="Calibri"/>
              </a:rPr>
              <a:t>Наступила зима. Небо закрыто серыми темными тучами. Часто идет холодный снег. Девочки и мальчики идут гулять на улицу. Они лепят из снега снежки и снежную бабу. Зимой ребята катаются на санках и коньках.</a:t>
            </a:r>
            <a:br>
              <a:rPr sz="40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3" descr="tabl-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2954160"/>
            <a:ext cx="285768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c00000"/>
                </a:solidFill>
                <a:latin typeface="Calibri"/>
              </a:rPr>
              <a:t>Лето</a:t>
            </a:r>
            <a:br>
              <a:rPr sz="2200"/>
            </a:b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Наступило лето. Солнце светит ярко и греет. Мальчики и девочки купаются в речке. Играют в мяч и бадминтон. Из песка строят башни, замки. Летом поспевают вкусные фрукты, ягоды и полезные овощи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3" descr="tabl-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57200" y="2214720"/>
            <a:ext cx="65008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c00000"/>
                </a:solidFill>
                <a:latin typeface="Calibri"/>
              </a:rPr>
              <a:t>Осень</a:t>
            </a:r>
            <a:br>
              <a:rPr sz="2200"/>
            </a:b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Наступила осень. Солнце светит мало и не греет. Оно скрыто за серыми тучами. Часто идет дождь. Мы идем в детский сад под зонтом. Дует сильный ветер. И с деревьев слетает листва. Листья покрывают все вокруг красивым, красочным ковром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3" descr="tabl-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8840" y="2286000"/>
            <a:ext cx="657216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c00000"/>
                </a:solidFill>
                <a:latin typeface="Calibri"/>
              </a:rPr>
              <a:t>Весна</a:t>
            </a:r>
            <a:br>
              <a:rPr sz="2200"/>
            </a:b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Наступила весна. Солнце пригревает сильнее и становится тепло. На улице тает снег, и бегут ручьи. Девочки и мальчики пускают кораблики по воде. На деревьях распускаются первые почки и появляются первые цветы. Из жарких стран прилетают птиц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3" descr="tabl-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2495520"/>
            <a:ext cx="678672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Стихотвор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Содержимое 3" descr="C:\Users\x61\Downloads\0238360.jpg"/>
          <p:cNvPicPr/>
          <p:nvPr/>
        </p:nvPicPr>
        <p:blipFill>
          <a:blip r:embed="rId1"/>
          <a:stretch/>
        </p:blipFill>
        <p:spPr>
          <a:xfrm>
            <a:off x="1187280" y="1197000"/>
            <a:ext cx="705672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Calibri"/>
              </a:rPr>
              <a:t>Задачи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1. Дать понятие мнемотехники, раскрыть актуальность, познакомить с особенностями, принципами технологии, этапами рабо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2. Дать рекомендации педагогам по использованию карточек – схем на занятиях, образцы некоторых опорных схем, познакомить с литературой по данной тем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5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5707080" cy="4303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3708360" y="2895480"/>
            <a:ext cx="5256360" cy="39625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Стихотвор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bonisad.ru/obrazovatelnie_marshruti/zanyatiya_po_mnemotehnike/mnemotehnika1.gif?rand=41837173540028"/>
          <p:cNvPicPr/>
          <p:nvPr/>
        </p:nvPicPr>
        <p:blipFill>
          <a:blip r:embed="rId1"/>
          <a:stretch/>
        </p:blipFill>
        <p:spPr>
          <a:xfrm>
            <a:off x="1258920" y="1413000"/>
            <a:ext cx="7634160" cy="48592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http://www.maaam.ru/upload/blogs/84937f88c18d2b776f48115ae0016fd7.jpg.jpg"/>
          <p:cNvPicPr/>
          <p:nvPr/>
        </p:nvPicPr>
        <p:blipFill>
          <a:blip r:embed="rId1"/>
          <a:stretch/>
        </p:blipFill>
        <p:spPr>
          <a:xfrm>
            <a:off x="971640" y="189000"/>
            <a:ext cx="69134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festival.1september.ru/articles/594284/img4.jpg"/>
          <p:cNvPicPr/>
          <p:nvPr/>
        </p:nvPicPr>
        <p:blipFill>
          <a:blip r:embed="rId1"/>
          <a:stretch/>
        </p:blipFill>
        <p:spPr>
          <a:xfrm>
            <a:off x="1476360" y="2276640"/>
            <a:ext cx="6335640" cy="394632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2"/>
          <p:cNvSpPr/>
          <p:nvPr/>
        </p:nvSpPr>
        <p:spPr>
          <a:xfrm>
            <a:off x="619200" y="263520"/>
            <a:ext cx="7632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Описа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Times New Roman"/>
              </a:rPr>
              <a:t>Волк живёт в лесу. Он дикое животное. У него четыре ноги. Тело покрыто густой серой шерстью. Своих детёнышей волчица выкармливает молочком. Волк хищник, у него острые зуб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Стоял в поле теремок. Мимо бежала мышка-норушка, стала она в теремке жить.</a:t>
            </a:r>
            <a:br>
              <a:rPr sz="1800"/>
            </a:b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Затем прибежала в теремок лягушка-квакушка, за ней зайчик-побегайчик.</a:t>
            </a:r>
            <a:br>
              <a:rPr sz="1800"/>
            </a:b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Затем прибежала лисичка-сестричка, волк – зубами щёлк, а потом пришёл медведь. </a:t>
            </a:r>
            <a:br>
              <a:rPr sz="1800"/>
            </a:b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Теремок не выдержал, взял и развалился. Тут и сказке конец, а кто слушал – молодец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http://festival.1september.ru/articles/594284/img6.jpg"/>
          <p:cNvPicPr/>
          <p:nvPr/>
        </p:nvPicPr>
        <p:blipFill>
          <a:blip r:embed="rId1"/>
          <a:stretch/>
        </p:blipFill>
        <p:spPr>
          <a:xfrm>
            <a:off x="2214720" y="2644920"/>
            <a:ext cx="4214520" cy="39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Переска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SL382663"/>
          <p:cNvPicPr/>
          <p:nvPr/>
        </p:nvPicPr>
        <p:blipFill>
          <a:blip r:embed="rId1"/>
          <a:stretch/>
        </p:blipFill>
        <p:spPr>
          <a:xfrm>
            <a:off x="324000" y="2205000"/>
            <a:ext cx="3671640" cy="3816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SL382664"/>
          <p:cNvPicPr/>
          <p:nvPr/>
        </p:nvPicPr>
        <p:blipFill>
          <a:blip r:embed="rId2"/>
          <a:stretch/>
        </p:blipFill>
        <p:spPr>
          <a:xfrm>
            <a:off x="4859280" y="2276640"/>
            <a:ext cx="39625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3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Работа на занятиях по мнемотаблицам состоит из трех этапов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1 этап: Рассматривание таблицы и разбор того, что на ней изображе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2 этап: Осуществляется перекодирование информации, т.е. преобразование из абстрактных символов в образ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3 этап: После перекодирования осуществляется пересказ сказки или рассказ по заданной тем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В младших группах с помощью воспитателя, в старших – дети должны уметь самостоятельно (более подробно описано у Назаровой И. И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800000"/>
                </a:solidFill>
                <a:latin typeface="Calibri"/>
              </a:rPr>
              <a:t>Последовательность работы с мнемотаблицам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50560" y="1268280"/>
            <a:ext cx="84358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1. Введение элементов символов (формы, величины, действия)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2. Использование опорных схем  на всех видах занятий, различных видов деятельности (для выработки у ребёнка привыкания, понимания, что символ универсален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3. Введение отрица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4. Сочетание символов, чтение цепочки и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5. Самостоятельный поиск детьми изображений, символизирующих какое-либо качество. (Задача этого этапа - активный поиск изображений, умение аргументировать свой выбор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6. Творческое создание детьми опорных сх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0000">
    <p:circl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2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Результа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у детей увеличивается круг знаний об окружающем мир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появляется желание пересказывать тексты, придумывать интересные истор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появляется интерес к заучиванию стихов и потеше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словарный запас выходит на более высокий урове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дети преодолевают робость, застенчивость, учатся свободно держаться перед аудитори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24000">
    <p:checker dir="vert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Calibri"/>
              </a:rPr>
              <a:t>К . Д. Ушинский писал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Calibri"/>
              </a:rPr>
              <a:t>«Учите ребёнка каким-нибудь неизвестным ему пяти словам- он будет долго и напрасно мучиться, но свяжите двадцать таких слов с картинками, и он усвоит на лету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mb dir="vert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Проблемы речи детей дошкольного возрас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0920" y="1143000"/>
            <a:ext cx="86421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Calibri"/>
              </a:rPr>
              <a:t>Односложная, состоящая лишь из простых предложений речь. Неспособность грамматически правильно построить предлож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Calibri"/>
              </a:rPr>
              <a:t>Бедность речи. Недостаточный словарный запа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Calibri"/>
              </a:rPr>
              <a:t>Употребление нелитературных слов и выраж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Calibri"/>
              </a:rPr>
              <a:t>Бедная диалогическая речь: неспособность грамотно и доступно сформулировать вопрос, построить краткий или развёрнутый отв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Calibri"/>
              </a:rPr>
              <a:t>Неспособность построить монолог: например, сюжетный или описательный рассказ на предложенную тему, пересказ текста своими слов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Calibri"/>
              </a:rPr>
              <a:t>Отсутствие логического обоснования своих утверждений и вывод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Calibri"/>
              </a:rPr>
              <a:t>Отсутствие навыков культуры речи: неумение использовать интонации, регулировать громкость голоса и темп речи и т. 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Calibri"/>
              </a:rPr>
              <a:t>Плохая дикц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5000">
    <p:randomBar dir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3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3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3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3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3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3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3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3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Мнемотехника </a:t>
            </a:r>
            <a:br>
              <a:rPr sz="3200"/>
            </a:b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В переводе с греческого - «искусство запоминания».</a:t>
            </a:r>
            <a:br>
              <a:rPr sz="3200"/>
            </a:b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Это система методов и приемов, обеспечивающих успешное запоминание, сохранение и воспроизведение информации, знаний об особенностях объектов природы, об окружающем мире, эффективное запоминание структуры рассказа, и, конечно, развитие ре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Calibri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Отличительные особенности технологи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-имеет чёткое теоретическое и экспериментальное обосно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-приемы запоминания индивидуализирова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-широко используются образные коды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обеспечивающие быстрое запомин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-введено понятие ”навык запоминания” и разработана точная система контроля навыка запомин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214200" y="766080"/>
            <a:ext cx="857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3600" spc="-1" strike="noStrike">
                <a:solidFill>
                  <a:srgbClr val="800000"/>
                </a:solidFill>
                <a:latin typeface="Calibri"/>
                <a:ea typeface="Times New Roman"/>
              </a:rPr>
              <a:t>Мнемотехника помогает развивать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c00000"/>
                </a:solidFill>
                <a:latin typeface="Calibri"/>
                <a:ea typeface="Times New Roman"/>
              </a:rPr>
              <a:t>ассоциативное мышле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c00000"/>
                </a:solidFill>
                <a:latin typeface="Calibri"/>
                <a:ea typeface="Times New Roman"/>
              </a:rPr>
              <a:t>реч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  <a:ea typeface="Times New Roman"/>
              </a:rPr>
              <a:t>- зрительную и слуховую памят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  <a:ea typeface="Times New Roman"/>
              </a:rPr>
              <a:t>- зрительное и слуховое внимани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  <a:ea typeface="Times New Roman"/>
              </a:rPr>
              <a:t>- воображени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0" y="22032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Calibri"/>
                <a:ea typeface="Times New Roman"/>
              </a:rPr>
              <a:t>Цель обучения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  <a:ea typeface="Times New Roman"/>
              </a:rPr>
              <a:t>-  развитие связной реч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  <a:ea typeface="Times New Roman"/>
              </a:rPr>
              <a:t>-  преобразование абстрактных символов в образы (перекодирование информации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  <a:ea typeface="Times New Roman"/>
              </a:rPr>
              <a:t>- развитие мелкой моторики ру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  <a:ea typeface="Times New Roman"/>
              </a:rPr>
              <a:t>-  развитие основных психических процессов – памяти, внимания, образного мышл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  <a:ea typeface="Times New Roman"/>
              </a:rPr>
              <a:t>-  помогает овладение приёмами работы с мнемотаблицами и сокращает время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57120" y="57168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Как любая работа, мнемотехника строится от простого к сложному 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spcBef>
                <a:spcPts val="7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Мнемоквадр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Мнемодорож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Мнемотаблиц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13840" y="214200"/>
            <a:ext cx="8572680" cy="607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60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Содержание мнемотаблицы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 - это графическое или частично графическое изображение персонажей сказки, явлений природы, некоторых действий и др. путем выделения главных смысловых звеньев сюжета рассказа. Главное – нужно передать условно-наглядную схему, изобразить так, чтобы нарисованное было понятно детя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spcBef>
                <a:spcPts val="60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spcBef>
                <a:spcPts val="60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  </a:t>
            </a: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Схемы служат своеобразным зрительным планом для создания монологов, помогают детям выстраива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spcBef>
                <a:spcPts val="60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- строение рассказ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spcBef>
                <a:spcPts val="60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- последовательность рассказ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spcBef>
                <a:spcPts val="60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- лексико-грамматическую наполняемость рассказ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60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07:00:28Z</dcterms:created>
  <dc:creator>Admin</dc:creator>
  <dc:description/>
  <dc:language>en-US</dc:language>
  <cp:lastModifiedBy>W7</cp:lastModifiedBy>
  <dcterms:modified xsi:type="dcterms:W3CDTF">2022-02-13T10:26:05Z</dcterms:modified>
  <cp:revision>54</cp:revision>
  <dc:subject/>
  <dc:title>«Мнемотехника в развитии связной речи у дошкольников»</dc:title>
</cp:coreProperties>
</file>