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DA5B-EA56-4F33-9DD4-4D3DEF3ACF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2E01-2070-4F86-8EF5-07F139ADD8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A19-0E3C-4FFE-B67E-753AF27F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C90-3B31-457C-903B-BE8681C4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3CD-678B-4F01-9790-CA9F7992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BC8-8014-4F40-9BAC-0BA5E11B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E78-2B2C-4918-9768-EA6E2D7F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9EE-8AFF-411A-AA31-45BC3EC5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5D9-DF0E-4199-A840-FD4D4362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C7A-E787-4E65-8B6C-7F3BC1F1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DE3-61BD-4FA4-82ED-15C4D6B9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075-95CD-4E60-A178-00A63979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855-C25F-41B6-8AB9-84CE4BD8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18D-3FD1-4032-BECE-B4B2FD92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7b2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081B-91BB-4066-8E74-A291AFCB2892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5"/>
          <p:cNvSpPr/>
          <p:nvPr/>
        </p:nvSpPr>
        <p:spPr>
          <a:xfrm>
            <a:off x="380880" y="2590920"/>
            <a:ext cx="4038840" cy="3352680"/>
          </a:xfrm>
          <a:prstGeom prst="rect">
            <a:avLst/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2400" spc="-1" strike="noStrike">
                <a:solidFill>
                  <a:srgbClr val="666666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666666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666666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УЗЫКАЛЬНО-ДИДАКТИЧЕСКИЕ ИГРЫ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СРЕДСТВО РАЗВИТИЯ МУЗЫКАЛЬНЫХ СПОСОБНОСТЕЙ ДОШКОЛЬНИКОВ»</a:t>
            </a:r>
            <a:br>
              <a:rPr sz="4500"/>
            </a:b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5029200" y="2179080"/>
            <a:ext cx="36576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Кривченко Ольг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м</a:t>
            </a:r>
            <a:r>
              <a:rPr b="1" lang="ru-RU" sz="2400" spc="-1" strike="noStrike">
                <a:solidFill>
                  <a:srgbClr val="75005f"/>
                </a:solidFill>
                <a:latin typeface="Times New Roman"/>
              </a:rPr>
              <a:t>узыкальный руковод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</a:rPr>
              <a:t>МБДОУ «Детский сад» № 6 «Почему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</a:rPr>
              <a:t>п.Ново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</a:rPr>
              <a:t>Оренбург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Users\1\Downloads\_muz.-didakt.igri_5ecea54bbeda9.jpg"/>
          <p:cNvPicPr/>
          <p:nvPr/>
        </p:nvPicPr>
        <p:blipFill>
          <a:blip r:embed="rId1"/>
          <a:stretch/>
        </p:blipFill>
        <p:spPr>
          <a:xfrm>
            <a:off x="304920" y="2438280"/>
            <a:ext cx="419076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33520" y="609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Музыкально – дидактические игры на определение характера музыки: «Песня, танец, марш»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«Три цветка», «Музыкальный куб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DSC04366.JPG"/>
          <p:cNvPicPr/>
          <p:nvPr/>
        </p:nvPicPr>
        <p:blipFill>
          <a:blip r:embed="rId1"/>
          <a:stretch/>
        </p:blipFill>
        <p:spPr>
          <a:xfrm>
            <a:off x="2895480" y="4038480"/>
            <a:ext cx="3311640" cy="2484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DSC04367.JPG"/>
          <p:cNvPicPr/>
          <p:nvPr/>
        </p:nvPicPr>
        <p:blipFill>
          <a:blip r:embed="rId2"/>
          <a:stretch/>
        </p:blipFill>
        <p:spPr>
          <a:xfrm>
            <a:off x="304920" y="1905120"/>
            <a:ext cx="3311280" cy="2484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DSC04369.JPG"/>
          <p:cNvPicPr/>
          <p:nvPr/>
        </p:nvPicPr>
        <p:blipFill>
          <a:blip r:embed="rId3"/>
          <a:stretch/>
        </p:blipFill>
        <p:spPr>
          <a:xfrm>
            <a:off x="5257800" y="1981080"/>
            <a:ext cx="3311640" cy="24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Arial"/>
              </a:rPr>
              <a:t>Диагностика развития музыкально – сенсорных способностей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7" name="Содержимое 5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609480" y="125820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Дошкольный возраст чрезвычайно важен для развития музыкально-сенсорных способностей ребенка. Развитие у каждого ребенка этих способностей должно быть постоянно в поле зрения у воспитателя, музыкального руководителя, осуществляться различными методами и средствами, в том числе с помощью музыкально-дидактических пособий и 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57200" y="1143000"/>
            <a:ext cx="83818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762120" y="1066680"/>
            <a:ext cx="777240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90062"/>
                </a:solidFill>
                <a:latin typeface="Times New Roman"/>
              </a:rPr>
              <a:t>Список литературы: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e90062"/>
                </a:solidFill>
                <a:latin typeface="Times New Roman"/>
              </a:rPr>
              <a:t>1. Ветлугина Н. А. Развитие музыкальных способностей дошкольников в процессе музыкальных игр. М., 1958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e90062"/>
                </a:solidFill>
                <a:latin typeface="Times New Roman"/>
              </a:rPr>
              <a:t>2. Комиссарова Л. Н., Костина Э. П. Наглядные средства в музыкальном воспитании дошкольников / Пособие для воспитателей и музыкальных руководителей детских садов. М.: Просвещение, 1986. - 141с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e90062"/>
                </a:solidFill>
                <a:latin typeface="Times New Roman"/>
              </a:rPr>
              <a:t>3. Кононова Н. Г. Музыкально – дидактические игры для дошкольников: Из опыта работы муз. руководителя. – М.: Просвещение, 1982. – 96с., ил.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e90062"/>
                </a:solidFill>
                <a:latin typeface="Times New Roman"/>
              </a:rPr>
              <a:t> 4. Янковская О. П. Дидактические игры в детском саду: Научно – методическое пособие. К.: Сов. школа, 1985 </a:t>
            </a:r>
            <a:br>
              <a:rPr sz="2000"/>
            </a:br>
            <a:br>
              <a:rPr sz="16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i="1" lang="ru-RU" sz="1800" spc="-1" strike="noStrike" u="sng">
                <a:solidFill>
                  <a:srgbClr val="9c007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800" spc="-1" strike="noStrike" u="sng">
                <a:solidFill>
                  <a:srgbClr val="9c007f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ru-RU" sz="2000" spc="-1" strike="noStrike" u="sng">
                <a:solidFill>
                  <a:srgbClr val="9c007f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 Развитие музыкальных способностей дошкольников посредством  музыкально - дидактических пособий и игр</a:t>
            </a:r>
            <a:r>
              <a:rPr b="0" lang="ru-RU" sz="2000" spc="-1" strike="noStrike">
                <a:solidFill>
                  <a:srgbClr val="9c007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160" y="24379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c007f"/>
                </a:solidFill>
                <a:uFillTx/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c007f"/>
                </a:solidFill>
                <a:latin typeface="Times New Roman"/>
              </a:rPr>
              <a:t>Приобщать детей к музыкальной культуре, расширять их музыкальный кругозо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c007f"/>
                </a:solidFill>
                <a:latin typeface="Times New Roman"/>
              </a:rPr>
              <a:t>Развивать музыкально-сенсорные способности, активизировать слуховое восприятие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c007f"/>
                </a:solidFill>
                <a:latin typeface="Times New Roman"/>
              </a:rPr>
              <a:t>Формировать знания о средствах музыкальной выразительности и свойствах музыкального звука (высота, тембр, громкость, длительность), умение различать их в предлагаемых музыкальных произвед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c007f"/>
                </a:solidFill>
                <a:latin typeface="Times New Roman"/>
              </a:rPr>
              <a:t>Прививать интерес к самостоятельной музыкальной деятельности (игровой, исследовательской, исполнительской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4c99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843200" y="838080"/>
            <a:ext cx="46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Типы дидактических иг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2065320" y="1523880"/>
            <a:ext cx="22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подви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133000" y="220968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хоровод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142000" y="2819520"/>
            <a:ext cx="23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насто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1066680" y="41911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Ценным в этих играх является то, что в основу взят синтез музыки и дви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80880" y="12236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Характерным для каждой дидактической      игры является наличие в 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442600" y="2666880"/>
            <a:ext cx="350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обучающей за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446200" y="335268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содерж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38280" y="411624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прави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2460960" y="4724280"/>
            <a:ext cx="33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0062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90062"/>
                </a:solidFill>
                <a:latin typeface="Times New Roman"/>
              </a:rPr>
              <a:t>игровых 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80880" y="685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Виды музыкально-дидактических иг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хема 7" descr=""/>
          <p:cNvPicPr/>
          <p:nvPr/>
        </p:nvPicPr>
        <p:blipFill>
          <a:blip r:embed="rId1"/>
          <a:stretch/>
        </p:blipFill>
        <p:spPr>
          <a:xfrm>
            <a:off x="1432080" y="1371600"/>
            <a:ext cx="627372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533520" y="4615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Все пособия условно разделены на три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60948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Пособия, цель которых дать детям представление о характере музыки (весёлая, грустная), музыкальных жанрах (песня, танец, мар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09480" y="3429000"/>
            <a:ext cx="746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Пособия, которые дают представление о содержании музыки, о музыкальных образах</a:t>
            </a:r>
            <a:r>
              <a:rPr b="0" lang="ru-RU" sz="28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85800" y="45720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Пособия, которые формируют у детей представление о средствах музыкальной вырази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533520" y="533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Применение музыкально-дидактических пособий и иг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304920" y="2286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e9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в процессе п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304920" y="29725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e9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в процессе слушания музы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4920" y="38106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e9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в процессе ритмических дви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04920" y="472500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e9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в процессе игры на детских музыкальн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533520" y="7621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Для развития  звуковысотного слуха были изготовлены игры: «Музыкальные птенчики», «Три медведя», «Пчёлки»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DSC04365.JPG"/>
          <p:cNvPicPr/>
          <p:nvPr/>
        </p:nvPicPr>
        <p:blipFill>
          <a:blip r:embed="rId1"/>
          <a:stretch/>
        </p:blipFill>
        <p:spPr>
          <a:xfrm>
            <a:off x="685800" y="2514600"/>
            <a:ext cx="2187720" cy="2916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DSC04368.JPG"/>
          <p:cNvPicPr/>
          <p:nvPr/>
        </p:nvPicPr>
        <p:blipFill>
          <a:blip r:embed="rId2"/>
          <a:stretch/>
        </p:blipFill>
        <p:spPr>
          <a:xfrm>
            <a:off x="6019920" y="2438280"/>
            <a:ext cx="2187360" cy="2916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DSC04371.JPG"/>
          <p:cNvPicPr/>
          <p:nvPr/>
        </p:nvPicPr>
        <p:blipFill>
          <a:blip r:embed="rId3"/>
          <a:stretch/>
        </p:blipFill>
        <p:spPr>
          <a:xfrm>
            <a:off x="2971800" y="434340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80880" y="838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Для развития чувства ритма были изготовлены следующие иг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«Рыбки», «Лягушка», «Гусени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DSC04370.JPG"/>
          <p:cNvPicPr/>
          <p:nvPr/>
        </p:nvPicPr>
        <p:blipFill>
          <a:blip r:embed="rId1"/>
          <a:stretch/>
        </p:blipFill>
        <p:spPr>
          <a:xfrm>
            <a:off x="380880" y="20574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DSC04372.JPG"/>
          <p:cNvPicPr/>
          <p:nvPr/>
        </p:nvPicPr>
        <p:blipFill>
          <a:blip r:embed="rId2"/>
          <a:stretch/>
        </p:blipFill>
        <p:spPr>
          <a:xfrm>
            <a:off x="2438280" y="437364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DSC04373.JPG"/>
          <p:cNvPicPr/>
          <p:nvPr/>
        </p:nvPicPr>
        <p:blipFill>
          <a:blip r:embed="rId3"/>
          <a:stretch/>
        </p:blipFill>
        <p:spPr>
          <a:xfrm>
            <a:off x="5257800" y="1981080"/>
            <a:ext cx="3311640" cy="24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1</cp:lastModifiedBy>
  <dcterms:modified xsi:type="dcterms:W3CDTF">2023-02-02T11:02:40Z</dcterms:modified>
  <cp:revision>66</cp:revision>
  <dc:subject/>
  <dc:title>Слайд 1</dc:title>
</cp:coreProperties>
</file>