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787-29A2-43B9-A3F2-504DC4FFE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D2D-1C00-4C71-8A38-2D46D6555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D15-47B3-4F24-AB6F-FF19BFED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F3F-6175-4C9E-B1A0-8DC4A48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252-9703-47A4-936C-3F1AFFF2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0DB-7920-40DF-95ED-F1C0253C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393-8511-4A2F-9D9D-C9F0115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068-DA1C-41C8-A2CE-C396D5E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8B7-5D61-4E6D-ABD4-5C45B7F7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F63-5A22-46A1-BA3E-BC5C570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0FF-9004-4EBE-ABD1-FFFF3F4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DDE-5668-4358-AB57-1FB86F54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B26-F280-402F-A184-8003BB3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696-FFCA-4BFA-9F9B-C5F3884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B97B-378A-4AC9-9B31-1CB914595FC4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80880" y="2590920"/>
            <a:ext cx="4038840" cy="3352680"/>
          </a:xfrm>
          <a:prstGeom prst="rect">
            <a:avLst/>
          </a:prstGeom>
          <a:gradFill rotWithShape="0">
            <a:gsLst>
              <a:gs pos="0">
                <a:srgbClr val="ff87b2"/>
              </a:gs>
              <a:gs pos="100000">
                <a:srgbClr val="ffdce6"/>
              </a:gs>
            </a:gsLst>
            <a:lin ang="5400000"/>
          </a:gradFill>
          <a:ln w="424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ЗЫКАЛЬНО-ДИДАКТИЧЕСКИЕ ИГРЫ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СРЕДСТВО РАЗВИТИЯ МУЗЫКАЛЬНЫХ СПОСОБНОСТЕЙ ДОШКОЛЬНИКОВ»</a:t>
            </a:r>
            <a:br>
              <a:rPr sz="4500"/>
            </a:b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5029200" y="2179080"/>
            <a:ext cx="365760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Кривченко Ольг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5005f"/>
                </a:solidFill>
                <a:latin typeface="Times New Roman"/>
                <a:ea typeface="Times New Roman"/>
              </a:rPr>
              <a:t>м</a:t>
            </a: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узыкальный руко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МБДОУ «Детский сад» № 6 «Почему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п.Ново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Оренбург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1\Downloads\_muz.-didakt.igri_5ecea54bbeda9.jpg"/>
          <p:cNvPicPr/>
          <p:nvPr/>
        </p:nvPicPr>
        <p:blipFill>
          <a:blip r:embed="rId1"/>
          <a:stretch/>
        </p:blipFill>
        <p:spPr>
          <a:xfrm>
            <a:off x="304920" y="2438280"/>
            <a:ext cx="41907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33520" y="609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Музыкально – дидактические игры на определение характера музыки: «Песня, танец, марш»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«Три цветка», «Музыкальный куб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DSC04366.JPG"/>
          <p:cNvPicPr/>
          <p:nvPr/>
        </p:nvPicPr>
        <p:blipFill>
          <a:blip r:embed="rId1"/>
          <a:stretch/>
        </p:blipFill>
        <p:spPr>
          <a:xfrm>
            <a:off x="2895480" y="4038480"/>
            <a:ext cx="3311640" cy="2484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DSC043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DSC04369.JPG"/>
          <p:cNvPicPr/>
          <p:nvPr/>
        </p:nvPicPr>
        <p:blipFill>
          <a:blip r:embed="rId3"/>
          <a:stretch/>
        </p:blipFill>
        <p:spPr>
          <a:xfrm>
            <a:off x="5257800" y="198108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Arial"/>
              </a:rPr>
              <a:t>Диагностика развития музыкально – сенсорных способностей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7" name="Содержимое 5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09480" y="12582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Дошкольный возраст чрезвычайно важен для развития музыкально-сенсорных способностей ребенка. Развитие у каждого ребенка этих способностей должно быть постоянно в поле зрения у воспитателя, музыкального руководителя, осуществляться различными методами и средствами, в том числе с помощью музыкально-дидактических пособий и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1143000"/>
            <a:ext cx="8381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762120" y="1066680"/>
            <a:ext cx="7772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Список литературы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1. Ветлугина Н. А. Развитие музыкальных способностей дошкольников в процессе музыкальных игр. М., 1958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2. Комиссарова Л. Н., Костина Э. П. Наглядные средства в музыкальном воспитании дошкольников / Пособие для воспитателей и музыкальных руководителей детских садов. М.: Просвещение, 1986. - 141с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3. Кононова Н. Г. Музыкально – дидактические игры для дошкольников: Из опыта работы муз. руководителя. – М.: Просвещение, 1982. – 96с., ил.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e90062"/>
                </a:solidFill>
                <a:latin typeface="Times New Roman"/>
              </a:rPr>
              <a:t> 4. Янковская О. П. Дидактические игры в детском саду: Научно – методическое пособие. К.: Сов. школа, 1985 </a:t>
            </a:r>
            <a:br>
              <a:rPr sz="2000"/>
            </a:br>
            <a:br>
              <a:rPr sz="16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ru-RU" sz="18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000" spc="-1" strike="noStrike" u="sng">
                <a:solidFill>
                  <a:srgbClr val="9c007f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 Развитие музыкальных способностей дошкольников посредством  музыкально - дидактических пособий и игр</a:t>
            </a:r>
            <a:r>
              <a:rPr b="0" lang="ru-RU" sz="2000" spc="-1" strike="noStrike">
                <a:solidFill>
                  <a:srgbClr val="9c007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160" y="2437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c007f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Приобщать детей к музыкальной культуре, расширять их музыкальный кругозо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Развивать музыкально-сенсорные способности, активизировать слуховое восприятие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Формировать знания о средствах музыкальной выразительности и свойствах музыкального звука (высота, тембр, громкость, длительность), умение различать их в предлагаемых музыкальных произведен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c007f"/>
                </a:solidFill>
                <a:latin typeface="Times New Roman"/>
              </a:rPr>
              <a:t>Прививать интерес к самостоятельной музыкальной деятельности (игровой, исследовательской, исполнительско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4c99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843200" y="83808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Типы дидактических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2065320" y="1523880"/>
            <a:ext cx="22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подв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133000" y="220968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хоровод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142000" y="2819520"/>
            <a:ext cx="23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c00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</a:rPr>
              <a:t>наст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066680" y="4191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Ценным в этих играх является то, что в основу взят синтез музыки и дви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80880" y="12236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Характерным для каждой дидактической      игры является наличие в 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442600" y="2666880"/>
            <a:ext cx="35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обучающей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446200" y="335268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содерж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8280" y="411624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прав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460960" y="4724280"/>
            <a:ext cx="33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900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006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90062"/>
                </a:solidFill>
                <a:latin typeface="Times New Roman"/>
              </a:rPr>
              <a:t>игровы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иды музыкально-дидактических иг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7" descr=""/>
          <p:cNvPicPr/>
          <p:nvPr/>
        </p:nvPicPr>
        <p:blipFill>
          <a:blip r:embed="rId1"/>
          <a:stretch/>
        </p:blipFill>
        <p:spPr>
          <a:xfrm>
            <a:off x="1432080" y="1371600"/>
            <a:ext cx="627372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33520" y="4615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Все пособия условно разделены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0948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цель которых дать детям представление о характере музыки (весёлая, грустная), музыкальных жанрах (песня, танец, мар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09480" y="3429000"/>
            <a:ext cx="746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которые дают представление о содержании музыки, о музыкальных образах</a:t>
            </a: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85800" y="45720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особия, которые формируют у детей представление о средствах музыкальной вырази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3520" y="533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Применение музыкально-дидактических пособий и иг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304920" y="2286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п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2972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слушания музы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3810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ритмических дви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4920" y="47250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e9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в процессе игры на детских музыкальных инстру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533520" y="7621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Для развития  звуковысотного слуха были изготовлены игры: «Музыкальные птенчики», «Три медведя», «Пчёлки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DSC04365.JPG"/>
          <p:cNvPicPr/>
          <p:nvPr/>
        </p:nvPicPr>
        <p:blipFill>
          <a:blip r:embed="rId1"/>
          <a:stretch/>
        </p:blipFill>
        <p:spPr>
          <a:xfrm>
            <a:off x="685800" y="2514600"/>
            <a:ext cx="218772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DSC04368.JPG"/>
          <p:cNvPicPr/>
          <p:nvPr/>
        </p:nvPicPr>
        <p:blipFill>
          <a:blip r:embed="rId2"/>
          <a:stretch/>
        </p:blipFill>
        <p:spPr>
          <a:xfrm>
            <a:off x="6019920" y="2438280"/>
            <a:ext cx="2187360" cy="2916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DSC04371.JPG"/>
          <p:cNvPicPr/>
          <p:nvPr/>
        </p:nvPicPr>
        <p:blipFill>
          <a:blip r:embed="rId3"/>
          <a:stretch/>
        </p:blipFill>
        <p:spPr>
          <a:xfrm>
            <a:off x="2971800" y="43434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80880" y="838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Для развития чувства ритма были изготовлены следующие иг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«Рыбки», «Лягушка», «Гусен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DSC04370.JPG"/>
          <p:cNvPicPr/>
          <p:nvPr/>
        </p:nvPicPr>
        <p:blipFill>
          <a:blip r:embed="rId1"/>
          <a:stretch/>
        </p:blipFill>
        <p:spPr>
          <a:xfrm>
            <a:off x="380880" y="20574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DSC04372.JPG"/>
          <p:cNvPicPr/>
          <p:nvPr/>
        </p:nvPicPr>
        <p:blipFill>
          <a:blip r:embed="rId2"/>
          <a:stretch/>
        </p:blipFill>
        <p:spPr>
          <a:xfrm>
            <a:off x="2438280" y="4373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04373.JPG"/>
          <p:cNvPicPr/>
          <p:nvPr/>
        </p:nvPicPr>
        <p:blipFill>
          <a:blip r:embed="rId3"/>
          <a:stretch/>
        </p:blipFill>
        <p:spPr>
          <a:xfrm>
            <a:off x="5257800" y="198108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1</cp:lastModifiedBy>
  <dcterms:modified xsi:type="dcterms:W3CDTF">2023-02-02T11:02:40Z</dcterms:modified>
  <cp:revision>66</cp:revision>
  <dc:subject/>
  <dc:title>Слайд 1</dc:title>
</cp:coreProperties>
</file>