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26.jpeg" ContentType="image/jpeg"/>
  <Override PartName="/ppt/media/image4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1077-ED6D-4FE1-9936-BF4E13F9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5DEB-2AFE-4F73-93BB-856816D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9246-237A-4537-BEAF-42C4C239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3920-8DD8-4B56-96FD-F74EDC61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D8CE-DDE3-4E00-941B-E0B66E7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54D7-947D-41A8-9C69-A95A00B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557B-8FFB-4D5D-BB4F-C3811582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684F-7D06-4921-A895-72CDABA4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C02F-97FB-4297-BEA7-B65ADF5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B876-690E-42DA-A614-88F2845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3EA1-FC43-4997-AA3F-B26F732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4495-A4B9-4CC7-A449-608EA0C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33B6-4C26-4971-8CF5-D76AF1186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-1440"/>
            <a:ext cx="676728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1627200"/>
            <a:ext cx="8210520" cy="176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2880" y="401760"/>
            <a:ext cx="5565960" cy="87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73360" y="3645000"/>
            <a:ext cx="39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  <a:ea typeface="DejaVu Sans"/>
              </a:rPr>
              <a:t>Республики Коми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595008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0513"/>
                </a:solidFill>
                <a:latin typeface="Calibri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5b0513"/>
                </a:solidFill>
                <a:latin typeface="Calibri"/>
                <a:ea typeface="DejaVu Sans"/>
              </a:rPr>
              <a:t>Подготовил Воспитатель детского сада: Классен Тамара Юрье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914760" y="0"/>
            <a:ext cx="48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  <a:ea typeface="DejaVu Sans"/>
              </a:rPr>
              <a:t>МДОУ «Детский сад №3 пгт. Троицко-Печорск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7462440" y="630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DejaVu Sans"/>
              </a:rPr>
              <a:t>Ноябрь 2022г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60600" y="0"/>
            <a:ext cx="223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  <a:ea typeface="DejaVu Sans"/>
              </a:rPr>
              <a:t>гриб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8931" b="0"/>
          <a:stretch/>
        </p:blipFill>
        <p:spPr>
          <a:xfrm>
            <a:off x="324000" y="4149720"/>
            <a:ext cx="3024000" cy="249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274" t="0" r="11356" b="0"/>
          <a:stretch/>
        </p:blipFill>
        <p:spPr>
          <a:xfrm>
            <a:off x="5867280" y="4221000"/>
            <a:ext cx="2737080" cy="234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80836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0" r="9710" b="0"/>
          <a:stretch/>
        </p:blipFill>
        <p:spPr>
          <a:xfrm>
            <a:off x="6012000" y="189000"/>
            <a:ext cx="2663640" cy="196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64000" y="4869000"/>
            <a:ext cx="2232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ый гриб(Боровик)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ёт в сосновых, берёзовых, еловы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781360"/>
            <a:ext cx="316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берёзов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Часто встречается в берёзовых рощах за ,что и получил своё назван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125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осинов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бычно встречается в местах где растёт оси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4936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ый грузд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ёт в елово – сосново - берёзовом  лесу , иногда встречается довольно большими группам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23680" y="0"/>
            <a:ext cx="21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Calibri"/>
                <a:ea typeface="DejaVu Sans"/>
              </a:rPr>
              <a:t>ягод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493560" cy="37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5877000"/>
            <a:ext cx="762120" cy="78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028000" y="3500280"/>
            <a:ext cx="444600" cy="48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6720" y="0"/>
            <a:ext cx="8101080" cy="1755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968560"/>
            <a:ext cx="755784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9449" t="14925" r="22822" b="0"/>
          <a:stretch/>
        </p:blipFill>
        <p:spPr>
          <a:xfrm>
            <a:off x="684360" y="90792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2664" t="0" r="18717" b="0"/>
          <a:stretch/>
        </p:blipFill>
        <p:spPr>
          <a:xfrm>
            <a:off x="6227640" y="1773360"/>
            <a:ext cx="2665440" cy="35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30320" y="-171360"/>
            <a:ext cx="50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  <a:ea typeface="DejaVu Sans"/>
              </a:rPr>
              <a:t>Животный мир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98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л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Хищное животное семейства псовы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2781360"/>
            <a:ext cx="223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л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мелкий, красивый и ловкий зверёк с вытянутым телом и очень пушистым хвост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5445000"/>
            <a:ext cx="4681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урый медвед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ильный и осторожный хищник, У него изумительный  слух, отличное зрение , огромная физическая сил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7514" b="14569"/>
          <a:stretch/>
        </p:blipFill>
        <p:spPr>
          <a:xfrm>
            <a:off x="250920" y="4005360"/>
            <a:ext cx="4022640" cy="260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61" t="0" r="10309" b="0"/>
          <a:stretch/>
        </p:blipFill>
        <p:spPr>
          <a:xfrm>
            <a:off x="250920" y="836640"/>
            <a:ext cx="3384360" cy="262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5902" t="0" r="27945" b="0"/>
          <a:stretch/>
        </p:blipFill>
        <p:spPr>
          <a:xfrm>
            <a:off x="6227640" y="1989000"/>
            <a:ext cx="2737080" cy="27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1280" y="981000"/>
            <a:ext cx="46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Лис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одно из самых красивых животных. Ловкий и великолепный охотник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5229360"/>
            <a:ext cx="47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Лось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DejaVu San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амое благородное животное наших лесов. Он умный и сильны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питается листвой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2205000"/>
            <a:ext cx="26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Заяц-руса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симпатичный грызун. Зимой он белы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летом серый. У зайцев очень хорошо развит слу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31160" y="0"/>
            <a:ext cx="23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  <a:ea typeface="DejaVu Sans"/>
              </a:rPr>
              <a:t>Птиц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9236" t="16775" r="15391" b="0"/>
          <a:stretch/>
        </p:blipFill>
        <p:spPr>
          <a:xfrm>
            <a:off x="395280" y="4221000"/>
            <a:ext cx="2952720" cy="238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20072" t="18502" r="27160" b="0"/>
          <a:stretch/>
        </p:blipFill>
        <p:spPr>
          <a:xfrm>
            <a:off x="6227640" y="3716280"/>
            <a:ext cx="264960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20072" t="14560" r="24009" b="21648"/>
          <a:stretch/>
        </p:blipFill>
        <p:spPr>
          <a:xfrm>
            <a:off x="6084720" y="189000"/>
            <a:ext cx="2735280" cy="2081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720" y="83664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Глухар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Имеет округлый, как у индюка хвост и отличается удлинёнными перьями в виде бородки на горл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56536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Утка (чирок)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Птица не пугливая, полёт лёгкий, бесшумный. Очень быстрый взлетает вертикально с воды и зем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4653000"/>
            <a:ext cx="2592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Дятел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птичка не большого размера, у него короткие ножки , острые когти и очень крепкий и сильный клю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541840" y="2349360"/>
            <a:ext cx="360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едров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большая птица, чуть меньше галки и с более тонким и длинным клюв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30440" y="0"/>
            <a:ext cx="207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  <a:ea typeface="DejaVu Sans"/>
              </a:rPr>
              <a:t>Рыб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4176720" cy="21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14725" r="0" b="0"/>
          <a:stretch/>
        </p:blipFill>
        <p:spPr>
          <a:xfrm>
            <a:off x="5076720" y="4365720"/>
            <a:ext cx="38880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13064" r="0" b="8576"/>
          <a:stretch/>
        </p:blipFill>
        <p:spPr>
          <a:xfrm>
            <a:off x="179280" y="260280"/>
            <a:ext cx="334800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35640" y="189000"/>
            <a:ext cx="3479760" cy="202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43280" y="3500280"/>
            <a:ext cx="468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Хариус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Хищная рыба, известная своей красотой. Обитает в пресных  водоём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060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Налим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битает, как правило в реках и озёрах с чистой и прозрачной водой  каменистым и песчаным дном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45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Ёрш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Имеет своеобразный внешний вид с наличием очень колючих плавников, что защищает его от хищник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3141720"/>
            <a:ext cx="468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Окун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речная и озёрная рыба, Отличается от других окрасом и очень мелкой и острой чешуёй. Поперёк рыбы тёмные полос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40960" y="620640"/>
            <a:ext cx="30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233440" cy="2822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024440"/>
            <a:ext cx="2016360" cy="2671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-9129" t="-16282" r="32911" b="0"/>
          <a:stretch/>
        </p:blipFill>
        <p:spPr>
          <a:xfrm>
            <a:off x="0" y="-243000"/>
            <a:ext cx="1949400" cy="403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73708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68880" y="0"/>
            <a:ext cx="621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Calibri"/>
                <a:ea typeface="DejaVu Sans"/>
              </a:rPr>
              <a:t>Растительный мир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1557360"/>
            <a:ext cx="2374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Осин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Является родственником тополя . У осины прямой ствол, напоминающий колонну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93372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ерёз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Одно из самых красивых деревьев, это быстрорастущие, светолюбивое дерево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933720"/>
            <a:ext cx="21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ихт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ое дерево до 30м высотой. Хвоя не колючая, ароматная, плоская, блестящая. Шишки торчат ввер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1484280"/>
            <a:ext cx="1944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Ель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Это изящное стройное дерево, крона имеет форму низкого конуса, верхушка всегда остра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1080" y="-243000"/>
            <a:ext cx="85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Лекарственные расте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10804" b="0"/>
          <a:stretch/>
        </p:blipFill>
        <p:spPr>
          <a:xfrm>
            <a:off x="179280" y="692280"/>
            <a:ext cx="2700360" cy="197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9305" t="6206" r="4655" b="0"/>
          <a:stretch/>
        </p:blipFill>
        <p:spPr>
          <a:xfrm>
            <a:off x="6012000" y="1052640"/>
            <a:ext cx="2663640" cy="217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1828800" cy="235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0" t="0" r="10937" b="0"/>
          <a:stretch/>
        </p:blipFill>
        <p:spPr>
          <a:xfrm>
            <a:off x="4643280" y="4365720"/>
            <a:ext cx="2737080" cy="2303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86200" y="32846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рапив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Цветковое растение. Стебли и листья покрыты жгучими волосками. Достигает высоты в 2 и более метров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4221000"/>
            <a:ext cx="2232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Зверобой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растение. Стебли высотой до 80см. Для лечения используют цветки, листья и стебл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708280"/>
            <a:ext cx="468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агульн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ый кустарник высотой до 15м , и очень сильно пахнущий. Для лечения используют молодые стебли и листь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69228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Подорожник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травянистое , очень полезное растение. Растёт около дорог и домов, на пустырях и луг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4035" t="0" r="5035" b="0"/>
          <a:stretch/>
        </p:blipFill>
        <p:spPr>
          <a:xfrm>
            <a:off x="250920" y="981000"/>
            <a:ext cx="2952720" cy="2884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4621" t="0" r="0" b="0"/>
          <a:stretch/>
        </p:blipFill>
        <p:spPr>
          <a:xfrm>
            <a:off x="3708360" y="620640"/>
            <a:ext cx="2103480" cy="460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2047" t="0" r="3739" b="0"/>
          <a:stretch/>
        </p:blipFill>
        <p:spPr>
          <a:xfrm>
            <a:off x="6156360" y="3429000"/>
            <a:ext cx="2808360" cy="314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01920" y="-243000"/>
            <a:ext cx="650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  <a:ea typeface="DejaVu Sans"/>
              </a:rPr>
              <a:t>Ядовитые растения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076640"/>
            <a:ext cx="2844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роний глаз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Растение с невысоким стеблем, с крупными листьями и одной сине-чёрной ягодой посередине. Ядовито всё растени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5300640"/>
            <a:ext cx="273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олчье лыко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высокий куст до 1м в высоту. Кора и ягоды этого растения ядовит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981000"/>
            <a:ext cx="30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Вех ядовитый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растение. Встречается по болотистым местам, по тонким берегам. Ядовиты все органы растения, особенно корневищ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0560" y="0"/>
            <a:ext cx="22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  <a:ea typeface="DejaVu Sans"/>
              </a:rPr>
              <a:t>ягоды</a:t>
            </a:r>
            <a:endParaRPr b="0" lang="en-US" sz="6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6041" r="0" b="9424"/>
          <a:stretch/>
        </p:blipFill>
        <p:spPr>
          <a:xfrm>
            <a:off x="5724360" y="4005360"/>
            <a:ext cx="3151440" cy="266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3168720" cy="256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6536" t="0" r="0" b="0"/>
          <a:stretch/>
        </p:blipFill>
        <p:spPr>
          <a:xfrm>
            <a:off x="250920" y="404640"/>
            <a:ext cx="2712960" cy="217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67280" y="404640"/>
            <a:ext cx="3157560" cy="2133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92360" y="4149720"/>
            <a:ext cx="2087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Морош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Небольшое многолетнее травянистое растение , растёт на моховых болот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614920" y="2781360"/>
            <a:ext cx="352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Голуби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Сильноветвистый кустарник. Встречается торфяных болотах, в сыроватых хвойных и смешанны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836640"/>
            <a:ext cx="26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Брусник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Вечнозелёный полукустарник. Ягоды сидят плотной гроздью, в которой бывает от 2 до 9 шт. Растёт в смешанных и сухих лесах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565360"/>
            <a:ext cx="309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  <a:ea typeface="DejaVu Sans"/>
              </a:rPr>
              <a:t>Клюква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Многолетнее вечнозелёный полу куст со стелющимися побегами. Растёт на болот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6T12:59:22Z</dcterms:created>
  <dc:creator>asus</dc:creator>
  <dc:description/>
  <dc:language>en-US</dc:language>
  <cp:lastModifiedBy>word</cp:lastModifiedBy>
  <dcterms:modified xsi:type="dcterms:W3CDTF">2023-02-03T07:44:41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