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26.jpeg" ContentType="image/jpeg"/>
  <Override PartName="/ppt/media/image4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2517D-FC2B-4117-B58F-D7C75E41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590B-A189-4054-BD0D-DC470A7D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AAC22-C218-4D00-8C10-556F2368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AF19-80DD-4766-B3D7-124634F2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CFA00-7474-48B6-BF2A-65AE65A2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E03EF-37BB-486A-9D79-BA905654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A434-7564-466F-943D-1FF3BE09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C209-2F77-44F1-9AD4-E9EC1765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CD2AB-F025-4219-823C-369D364B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B9C4B-0E66-44B1-B894-C0E0D5AA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544DA-BEAA-4409-A9E7-4F6BD7EF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264E1-F3E6-45FB-B05D-774A48B6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E62F-1AA0-4AA8-A5BF-355A2E7D1C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32000" y="-1440"/>
            <a:ext cx="676728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9480" y="1627200"/>
            <a:ext cx="8210520" cy="1762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42880" y="401760"/>
            <a:ext cx="5565960" cy="877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73360" y="3645000"/>
            <a:ext cx="399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  <a:ea typeface="DejaVu Sans"/>
              </a:rPr>
              <a:t>Республики Коми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595008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0513"/>
                </a:solidFill>
                <a:latin typeface="Calibri"/>
                <a:ea typeface="DejaVu Sans"/>
              </a:rPr>
              <a:t> </a:t>
            </a:r>
            <a:r>
              <a:rPr b="1" lang="ru-RU" sz="2000" spc="-1" strike="noStrike">
                <a:solidFill>
                  <a:srgbClr val="5b0513"/>
                </a:solidFill>
                <a:latin typeface="Calibri"/>
                <a:ea typeface="DejaVu Sans"/>
              </a:rPr>
              <a:t>Подготовил Воспитатель детского сада: Классен Тамара Юрьевн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"/>
          <p:cNvSpPr/>
          <p:nvPr/>
        </p:nvSpPr>
        <p:spPr>
          <a:xfrm>
            <a:off x="914760" y="0"/>
            <a:ext cx="48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  <a:ea typeface="DejaVu Sans"/>
              </a:rPr>
              <a:t>МДОУ «Детский сад №3 пгт. Троицко-Печорск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"/>
          <p:cNvSpPr/>
          <p:nvPr/>
        </p:nvSpPr>
        <p:spPr>
          <a:xfrm>
            <a:off x="7462440" y="630864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DejaVu Sans"/>
              </a:rPr>
              <a:t>Ноябрь 2022г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360600" y="0"/>
            <a:ext cx="223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  <a:ea typeface="DejaVu Sans"/>
              </a:rPr>
              <a:t>грибы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8931" b="0"/>
          <a:stretch/>
        </p:blipFill>
        <p:spPr>
          <a:xfrm>
            <a:off x="324000" y="4149720"/>
            <a:ext cx="3024000" cy="2492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2274" t="0" r="11356" b="0"/>
          <a:stretch/>
        </p:blipFill>
        <p:spPr>
          <a:xfrm>
            <a:off x="5867280" y="4221000"/>
            <a:ext cx="2737080" cy="2349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2808360" cy="2095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rcRect l="0" t="0" r="9710" b="0"/>
          <a:stretch/>
        </p:blipFill>
        <p:spPr>
          <a:xfrm>
            <a:off x="6012000" y="189000"/>
            <a:ext cx="2663640" cy="1965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564000" y="4869000"/>
            <a:ext cx="2232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Белый гриб(Боровик)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Растёт в сосновых, берёзовых, еловых леса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2781360"/>
            <a:ext cx="3168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Подберёзовик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Часто встречается в берёзовых рощах за ,что и получил своё названи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1125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Подосиновик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Обычно встречается в местах где растёт осин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4936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Белый груздь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Растёт в елово – сосново - берёзовом  лесу , иногда встречается довольно большими группам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623680" y="0"/>
            <a:ext cx="214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f0"/>
                </a:solidFill>
                <a:latin typeface="Calibri"/>
                <a:ea typeface="DejaVu Sans"/>
              </a:rPr>
              <a:t>ягоды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6165720"/>
            <a:ext cx="493560" cy="37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588000" y="5877000"/>
            <a:ext cx="762120" cy="787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8028000" y="3500280"/>
            <a:ext cx="444600" cy="481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96720" y="0"/>
            <a:ext cx="8101080" cy="1755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24000" y="2968560"/>
            <a:ext cx="7557840" cy="21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9449" t="14925" r="22822" b="0"/>
          <a:stretch/>
        </p:blipFill>
        <p:spPr>
          <a:xfrm>
            <a:off x="684360" y="907920"/>
            <a:ext cx="3095640" cy="246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12664" t="0" r="18717" b="0"/>
          <a:stretch/>
        </p:blipFill>
        <p:spPr>
          <a:xfrm>
            <a:off x="6227640" y="1773360"/>
            <a:ext cx="2665440" cy="352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30320" y="-171360"/>
            <a:ext cx="50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46c0a"/>
                </a:solidFill>
                <a:latin typeface="Calibri"/>
                <a:ea typeface="DejaVu Sans"/>
              </a:rPr>
              <a:t>Животный мир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98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Волк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Хищное животное семейства псовы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2781360"/>
            <a:ext cx="2232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Белк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Это мелкий, красивый и ловкий зверёк с вытянутым телом и очень пушистым хвостом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5445000"/>
            <a:ext cx="46814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Бурый медведь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Сильный и осторожный хищник, У него изумительный  слух, отличное зрение , огромная физическая сил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7514" b="14569"/>
          <a:stretch/>
        </p:blipFill>
        <p:spPr>
          <a:xfrm>
            <a:off x="250920" y="4005360"/>
            <a:ext cx="4022640" cy="260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861" t="0" r="10309" b="0"/>
          <a:stretch/>
        </p:blipFill>
        <p:spPr>
          <a:xfrm>
            <a:off x="250920" y="836640"/>
            <a:ext cx="3384360" cy="262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5902" t="0" r="27945" b="0"/>
          <a:stretch/>
        </p:blipFill>
        <p:spPr>
          <a:xfrm>
            <a:off x="6227640" y="1989000"/>
            <a:ext cx="2737080" cy="2757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51280" y="981000"/>
            <a:ext cx="46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Лис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Это одно из самых красивых животных. Ловкий и великолепный охотник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5229360"/>
            <a:ext cx="47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Лось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DejaVu Sans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Самое благородное животное наших лесов. Он умный и сильный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питается листвой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2205000"/>
            <a:ext cx="26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Заяц-русак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Это симпатичный грызун. Зимой он белый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летом серый. У зайцев очень хорошо развит слу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31160" y="0"/>
            <a:ext cx="23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  <a:ea typeface="DejaVu Sans"/>
              </a:rPr>
              <a:t>Птицы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9236" t="16775" r="15391" b="0"/>
          <a:stretch/>
        </p:blipFill>
        <p:spPr>
          <a:xfrm>
            <a:off x="395280" y="4221000"/>
            <a:ext cx="2952720" cy="2382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20072" t="18502" r="27160" b="0"/>
          <a:stretch/>
        </p:blipFill>
        <p:spPr>
          <a:xfrm>
            <a:off x="6227640" y="3716280"/>
            <a:ext cx="2649600" cy="295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rcRect l="20072" t="14560" r="24009" b="21648"/>
          <a:stretch/>
        </p:blipFill>
        <p:spPr>
          <a:xfrm>
            <a:off x="6084720" y="189000"/>
            <a:ext cx="2735280" cy="2081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76720" y="836640"/>
            <a:ext cx="27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Глухарь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Имеет округлый, как у индюка хвост и отличается удлинёнными перьями в виде бородки на горл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256536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Утка (чирок)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Птица не пугливая, полёт лёгкий, бесшумный. Очень быстрый взлетает вертикально с воды и земл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4653000"/>
            <a:ext cx="2592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Дятел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Это птичка не большого размера, у него короткие ножки , острые когти и очень крепкий и сильный клюв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"/>
          <p:cNvSpPr/>
          <p:nvPr/>
        </p:nvSpPr>
        <p:spPr>
          <a:xfrm>
            <a:off x="5541840" y="2349360"/>
            <a:ext cx="360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Кедровк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Небольшая птица, чуть меньше галки и с более тонким и длинным клювом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430440" y="0"/>
            <a:ext cx="207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Calibri"/>
                <a:ea typeface="DejaVu Sans"/>
              </a:rPr>
              <a:t>Рыбы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4508640"/>
            <a:ext cx="4176720" cy="2133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14725" r="0" b="0"/>
          <a:stretch/>
        </p:blipFill>
        <p:spPr>
          <a:xfrm>
            <a:off x="5076720" y="4365720"/>
            <a:ext cx="3888000" cy="2158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rcRect l="0" t="13064" r="0" b="8576"/>
          <a:stretch/>
        </p:blipFill>
        <p:spPr>
          <a:xfrm>
            <a:off x="179280" y="260280"/>
            <a:ext cx="3348000" cy="1728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435640" y="189000"/>
            <a:ext cx="3479760" cy="2027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43280" y="3500280"/>
            <a:ext cx="4681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Хариус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Хищная рыба, известная своей красотой. Обитает в пресных  водоёма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206064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Налим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Обитает, как правило в реках и озёрах с чистой и прозрачной водой  каменистым и песчаным дном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2276640"/>
            <a:ext cx="45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Ёрш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Имеет своеобразный внешний вид с наличием очень колючих плавников, что защищает его от хищников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3141720"/>
            <a:ext cx="4680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Окунь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Это речная и озёрная рыба, Отличается от других окрасом и очень мелкой и острой чешуёй. Поперёк рыбы тёмные полосы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640960" y="620640"/>
            <a:ext cx="300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  <a:ea typeface="DejaVu Sans"/>
              </a:rPr>
              <a:t>Деревья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659640" y="907920"/>
            <a:ext cx="2233440" cy="2822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4024440"/>
            <a:ext cx="2016360" cy="2671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-9129" t="-16282" r="32911" b="0"/>
          <a:stretch/>
        </p:blipFill>
        <p:spPr>
          <a:xfrm>
            <a:off x="0" y="-243000"/>
            <a:ext cx="1949400" cy="403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227640" y="4005360"/>
            <a:ext cx="273708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68880" y="0"/>
            <a:ext cx="621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f0"/>
                </a:solidFill>
                <a:latin typeface="Calibri"/>
                <a:ea typeface="DejaVu Sans"/>
              </a:rPr>
              <a:t>Растительный мир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1557360"/>
            <a:ext cx="23749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Осин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Является родственником тополя . У осины прямой ствол, напоминающий колонну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933720"/>
            <a:ext cx="172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Берёз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Одно из самых красивых деревьев, это быстрорастущие, светолюбивое дерево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3933720"/>
            <a:ext cx="216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Пихт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Вечнозелёное дерево до 30м высотой. Хвоя не колючая, ароматная, плоская, блестящая. Шишки торчат ввер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"/>
          <p:cNvSpPr/>
          <p:nvPr/>
        </p:nvSpPr>
        <p:spPr>
          <a:xfrm>
            <a:off x="1979640" y="1484280"/>
            <a:ext cx="1944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Ель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Это изящное стройное дерево, крона имеет форму низкого конуса, верхушка всегда остра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1080" y="-243000"/>
            <a:ext cx="851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  <a:ea typeface="DejaVu Sans"/>
              </a:rPr>
              <a:t>Лекарственные растения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10804" b="0"/>
          <a:stretch/>
        </p:blipFill>
        <p:spPr>
          <a:xfrm>
            <a:off x="179280" y="692280"/>
            <a:ext cx="2700360" cy="197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9305" t="6206" r="4655" b="0"/>
          <a:stretch/>
        </p:blipFill>
        <p:spPr>
          <a:xfrm>
            <a:off x="6012000" y="1052640"/>
            <a:ext cx="2663640" cy="2176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4005360"/>
            <a:ext cx="1828800" cy="235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rcRect l="0" t="0" r="10937" b="0"/>
          <a:stretch/>
        </p:blipFill>
        <p:spPr>
          <a:xfrm>
            <a:off x="4643280" y="4365720"/>
            <a:ext cx="2737080" cy="2303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86200" y="3284640"/>
            <a:ext cx="43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Крапив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Цветковое растение. Стебли и листья покрыты жгучими волосками. Достигает высоты в 2 и более метров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"/>
          <p:cNvSpPr/>
          <p:nvPr/>
        </p:nvSpPr>
        <p:spPr>
          <a:xfrm>
            <a:off x="2124000" y="4221000"/>
            <a:ext cx="2232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Зверобой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Многолетнее растение. Стебли высотой до 80см. Для лечения используют цветки, листья и стебл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708280"/>
            <a:ext cx="4680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Багульник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Вечнозелёный кустарник высотой до 15м , и очень сильно пахнущий. Для лечения используют молодые стебли и листь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6922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Подорожник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Многолетнее травянистое , очень полезное растение. Растёт около дорог и домов, на пустырях и луга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4035" t="0" r="5035" b="0"/>
          <a:stretch/>
        </p:blipFill>
        <p:spPr>
          <a:xfrm>
            <a:off x="250920" y="981000"/>
            <a:ext cx="2952720" cy="2884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14621" t="0" r="0" b="0"/>
          <a:stretch/>
        </p:blipFill>
        <p:spPr>
          <a:xfrm>
            <a:off x="3708360" y="620640"/>
            <a:ext cx="2103480" cy="4608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2047" t="0" r="3739" b="0"/>
          <a:stretch/>
        </p:blipFill>
        <p:spPr>
          <a:xfrm>
            <a:off x="6156360" y="3429000"/>
            <a:ext cx="2808360" cy="314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01920" y="-243000"/>
            <a:ext cx="650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  <a:ea typeface="DejaVu Sans"/>
              </a:rPr>
              <a:t>Ядовитые растения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076640"/>
            <a:ext cx="2844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Вороний глаз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Растение с невысоким стеблем, с крупными листьями и одной сине-чёрной ягодой посередине. Ядовито всё растени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5300640"/>
            <a:ext cx="273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Волчье лыко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Невысокий куст до 1м в высоту. Кора и ягоды этого растения ядовиты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981000"/>
            <a:ext cx="3024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Вех ядовитый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Многолетнее растение. Встречается по болотистым местам, по тонким берегам. Ядовиты все органы растения, особенно корневищ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30560" y="0"/>
            <a:ext cx="222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  <a:ea typeface="DejaVu Sans"/>
              </a:rPr>
              <a:t>ягоды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6041" r="0" b="9424"/>
          <a:stretch/>
        </p:blipFill>
        <p:spPr>
          <a:xfrm>
            <a:off x="5724360" y="4005360"/>
            <a:ext cx="3151440" cy="2663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3168720" cy="2565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6536" t="0" r="0" b="0"/>
          <a:stretch/>
        </p:blipFill>
        <p:spPr>
          <a:xfrm>
            <a:off x="250920" y="404640"/>
            <a:ext cx="2712960" cy="2176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867280" y="404640"/>
            <a:ext cx="3157560" cy="2133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92360" y="4149720"/>
            <a:ext cx="20876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Морошк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Небольшое многолетнее травянистое растение , растёт на моховых болота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"/>
          <p:cNvSpPr/>
          <p:nvPr/>
        </p:nvSpPr>
        <p:spPr>
          <a:xfrm>
            <a:off x="5614920" y="2781360"/>
            <a:ext cx="3529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Голубик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Сильноветвистый кустарник. Встречается торфяных болотах, в сыроватых хвойных и смешанных леса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836640"/>
            <a:ext cx="266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Брусник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Вечнозелёный полукустарник. Ягоды сидят плотной гроздью, в которой бывает от 2 до 9 шт. Растёт в смешанных и сухих леса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565360"/>
            <a:ext cx="3097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Клюкв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Многолетнее вечнозелёный полу куст со стелющимися побегами. Растёт на болот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6T12:59:22Z</dcterms:created>
  <dc:creator>asus</dc:creator>
  <dc:description/>
  <dc:language>en-US</dc:language>
  <cp:lastModifiedBy>word</cp:lastModifiedBy>
  <dcterms:modified xsi:type="dcterms:W3CDTF">2023-02-03T07:44:41Z</dcterms:modified>
  <cp:revision>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