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3E9-1D92-4324-999E-97683DE835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D05-DE18-4706-AF14-577BCCFD9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C426-BCF9-46C0-A2E0-3AEA3C40FF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8DF-8700-4F05-B7D2-6C0C0C1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143-6F43-4374-A89B-AAD80D87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234-7BE8-4E5A-A07E-444A45E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6DD-868C-4887-BED3-A35E711F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CD3-41F4-4477-845B-C089179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A2D-7503-4451-AD0E-6157A73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300-3FDD-4243-B4E2-3868ADB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361-B302-49E3-A3DA-9B05854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E1D-122D-4C5E-9400-C96E1DD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E1D-0AB5-4974-923F-164155F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986-E9A9-4C2B-B3C4-6603AC7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2EC-2066-41C7-83E0-4E2D47A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B07-3974-49BF-B1E5-9078503324C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826920" y="83664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Родительское собрание во второй младшей группе «Гномик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1258920" y="1773360"/>
            <a:ext cx="74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Trebuchet MS"/>
              </a:rPr>
              <a:t>Тема: «Развитие речи детей младшего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Подготовил :Воспитатель - Классен Тамара Юр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2702520" y="126828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rebuchet MS"/>
              </a:rPr>
              <a:t>МДОУ № 3 Троицко-Печорс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4890240" y="5589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рель 2022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1034280" y="40464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2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ые игры 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(без предмет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Скругленный прямоугольник 18"/>
          <p:cNvSpPr/>
          <p:nvPr/>
        </p:nvSpPr>
        <p:spPr>
          <a:xfrm>
            <a:off x="971640" y="333360"/>
            <a:ext cx="7200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22ждд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lkjhj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90000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rebuchet MS"/>
              </a:rPr>
              <a:t>2.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ые игры </a:t>
            </a: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(без предметов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6" name="Рисунок 7" descr="6й.jpg"/>
          <p:cNvPicPr/>
          <p:nvPr/>
        </p:nvPicPr>
        <p:blipFill>
          <a:blip r:embed="rId2"/>
          <a:stretch/>
        </p:blipFill>
        <p:spPr>
          <a:xfrm>
            <a:off x="1763640" y="1052640"/>
            <a:ext cx="525636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img13.jpg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26920" y="189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«3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ая  игра «Медведь»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( с предметом- медленно засовываем платочек одним пальцем в кулак</a:t>
            </a: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1908000" y="1844640"/>
            <a:ext cx="4967640" cy="32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2195640" y="1989000"/>
            <a:ext cx="432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Лез медведь в свою берлогу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все бока свои помял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эй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скорее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на подмогу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.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Мишка кажется застрял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4292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4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этап- </a:t>
            </a: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Рассказываем стихи пальчик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Рисунок 5" descr="0f4fcc5dc696a6ca8224fdb10b662e85.jpeg"/>
          <p:cNvPicPr/>
          <p:nvPr/>
        </p:nvPicPr>
        <p:blipFill>
          <a:blip r:embed="rId2"/>
          <a:stretch/>
        </p:blipFill>
        <p:spPr>
          <a:xfrm>
            <a:off x="1763640" y="907920"/>
            <a:ext cx="5112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683720" y="333360"/>
            <a:ext cx="65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танция №3 «Игровая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8" name="Рисунок 7" descr="blowing-cloud-20179395.jpg"/>
          <p:cNvPicPr/>
          <p:nvPr/>
        </p:nvPicPr>
        <p:blipFill>
          <a:blip r:embed="rId2"/>
          <a:stretch/>
        </p:blipFill>
        <p:spPr>
          <a:xfrm>
            <a:off x="1908000" y="1413000"/>
            <a:ext cx="5112000" cy="4186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733320" y="162864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1-Речевая игра «Вьюг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90560" y="981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(Игры для формирования звукопроизношени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Скругленный прямоугольник 8">
            <a:hlinkClick r:id="" action="ppaction://hlinkshowjump?jump=nextslide"/>
          </p:cNvPr>
          <p:cNvSpPr/>
          <p:nvPr/>
        </p:nvSpPr>
        <p:spPr>
          <a:xfrm>
            <a:off x="7380360" y="602136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11720" y="47628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rebuchet MS"/>
              </a:rPr>
              <a:t>2-Речевая игра «Насос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5" name="Рисунок 7" descr="1639314483_54-papik-pro-p-klipart-nasos-62.jpg"/>
          <p:cNvPicPr/>
          <p:nvPr/>
        </p:nvPicPr>
        <p:blipFill>
          <a:blip r:embed="rId2"/>
          <a:stretch/>
        </p:blipFill>
        <p:spPr>
          <a:xfrm>
            <a:off x="4284720" y="1413000"/>
            <a:ext cx="2838240" cy="3504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car-wheel-clip-art-28.png"/>
          <p:cNvPicPr/>
          <p:nvPr/>
        </p:nvPicPr>
        <p:blipFill>
          <a:blip r:embed="rId3"/>
          <a:stretch/>
        </p:blipFill>
        <p:spPr>
          <a:xfrm>
            <a:off x="1692360" y="2637000"/>
            <a:ext cx="2601720" cy="26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9" name="Рисунок 6" descr="img7.jpg"/>
          <p:cNvPicPr/>
          <p:nvPr/>
        </p:nvPicPr>
        <p:blipFill>
          <a:blip r:embed="rId2"/>
          <a:stretch/>
        </p:blipFill>
        <p:spPr>
          <a:xfrm>
            <a:off x="1835280" y="262080"/>
            <a:ext cx="5041800" cy="6119640"/>
          </a:xfrm>
          <a:prstGeom prst="rect">
            <a:avLst/>
          </a:prstGeom>
          <a:ln w="0">
            <a:noFill/>
          </a:ln>
        </p:spPr>
      </p:pic>
      <p:sp>
        <p:nvSpPr>
          <p:cNvPr id="160" name="Скругленный прямоугольник 9"/>
          <p:cNvSpPr/>
          <p:nvPr/>
        </p:nvSpPr>
        <p:spPr>
          <a:xfrm>
            <a:off x="2556000" y="620640"/>
            <a:ext cx="208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039400" y="549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3- «Чистоговорки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6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821960" y="260280"/>
            <a:ext cx="52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Станция №4 «Сказочная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1835280" y="981000"/>
            <a:ext cx="518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) Я решил путешествовать по свету и не знал, что путешествие может обернуться неприятностями. Я думал, все кругом такие же добрые как баба и дед. Но оказалось, что в мире живут ещё и злые, жестокие, хитрые. И каждому хочется меня съесть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) Я всю жизнь боялась кошек. А эта пришла и мурлычет, скребётся: мол, помоги мне! Чем же я, маленькая, серенькая, могу помочь кошке? Только чувствую – не обманывает она меня. Выбежала в огород, вижу – и правда моя помощь нужна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) Так и знал, что бедой кончится. Уж больно ветхий я и старый. Сколько лет в поле стою! Мечтал, я конечно, что кто-нибудь во мне поселился да пожил. Но не также много народу! Они влезали, влезали, влезали внутрь. Я не выдержал и рухнул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) Ну и хвост у этой мышки! Ни с ладонью бабы, ни с кулаком деды не сравнить! И надо же было этой мышке выбежать в самый неподходящий момент! Махнула хвостиком – я и разбилось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404880" y="6922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(Сказки- загадк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Скругленный прямоугольник 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Прямоугольник 5" descr=""/>
          <p:cNvPicPr/>
          <p:nvPr/>
        </p:nvPicPr>
        <p:blipFill>
          <a:blip r:embed="rId2"/>
          <a:stretch/>
        </p:blipFill>
        <p:spPr>
          <a:xfrm>
            <a:off x="1474920" y="1054080"/>
            <a:ext cx="59734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img13.jp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2195640" y="33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rebuchet MS"/>
              </a:rPr>
              <a:t>Советы  родителя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826920" y="76500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1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азговаривайте со своим ребенком во время всех видов деятельности(приготовление ед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борка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одевания-раздевания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рогулка 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)Говорите о том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то вы делае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что делает сын(дочь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что делают другие дет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люди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30280" y="191628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2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Говорите спокойно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 нормальном темп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етко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 интонацией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826920" y="2276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3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используя правильно построенные фраз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короткие предложения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826920" y="2924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4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Выдерживайте временную паузу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тобы у ребенка была возможность говорить и отвечать на вопрос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826920" y="35002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чите ребенка понимать и выполнять словесные инструкции сначала просты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потом сложные(Возьми Мишку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озьми Мишку и посади на стульчик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озьми Мишку и посади на стульчик рядом с собачкой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1763640" y="450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6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Не переходите на детский язык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не «сюсюкайте» сами и объясните бабушкам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835280" y="508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7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Игра- основная деятельность ребенка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поэтому больше играй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835280" y="5661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8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Каждый день читайте стих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казк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обсуждайте картинки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Скругленный прямоугольник 1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82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1773360"/>
            <a:ext cx="6413400" cy="2122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466600" y="5805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рель 2022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1640" y="907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крытие значения речи во всестороннем развитии личности ребе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71640" y="191628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Trebuchet MS"/>
              </a:rPr>
              <a:t>Задачи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знакомить родителей с особенностями развития речи детей младшего дошкольного возраста и методами и приемами ее развития; познакомить с речевыми играм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которые полезно играть с ребенком дома; воспитывать культуру общения; вовлечь родителей в педагогический процесс и жизнь группы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877040" y="692280"/>
            <a:ext cx="207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rebuchet MS"/>
              </a:rPr>
              <a:t>Речь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08360" y="981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00b0f0"/>
                </a:solidFill>
                <a:latin typeface="Trebuchet MS"/>
              </a:rPr>
              <a:t>-это форма обще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04280" y="1557360"/>
            <a:ext cx="79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Что помогает развивать речь ребенк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859760" y="256536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Общение ребе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5" name="Прямая со стрелкой 14"/>
          <p:cNvCxnSpPr/>
          <p:nvPr/>
        </p:nvCxnSpPr>
        <p:spPr>
          <a:xfrm>
            <a:off x="4211280" y="213372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6"/>
          <p:cNvCxnSpPr/>
          <p:nvPr/>
        </p:nvCxnSpPr>
        <p:spPr>
          <a:xfrm flipH="1">
            <a:off x="3276000" y="3357360"/>
            <a:ext cx="216360" cy="50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8"/>
          <p:cNvCxnSpPr/>
          <p:nvPr/>
        </p:nvCxnSpPr>
        <p:spPr>
          <a:xfrm>
            <a:off x="5219640" y="3284640"/>
            <a:ext cx="2167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TextBox 22"/>
          <p:cNvSpPr/>
          <p:nvPr/>
        </p:nvSpPr>
        <p:spPr>
          <a:xfrm>
            <a:off x="1439280" y="407664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Со взрослы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589640" y="407664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Сверстник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img13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0872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80800" y="476280"/>
            <a:ext cx="69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Задачи развития реч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3" name="Прямая со стрелкой 6"/>
          <p:cNvCxnSpPr/>
          <p:nvPr/>
        </p:nvCxnSpPr>
        <p:spPr>
          <a:xfrm flipH="1">
            <a:off x="1618560" y="1412640"/>
            <a:ext cx="649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7"/>
          <p:cNvCxnSpPr/>
          <p:nvPr/>
        </p:nvCxnSpPr>
        <p:spPr>
          <a:xfrm>
            <a:off x="6156000" y="1341360"/>
            <a:ext cx="711720" cy="71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1042920" y="2276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Формирование звуковой культуры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6" name="Прямая со стрелкой 10"/>
          <p:cNvCxnSpPr/>
          <p:nvPr/>
        </p:nvCxnSpPr>
        <p:spPr>
          <a:xfrm>
            <a:off x="4284360" y="1267920"/>
            <a:ext cx="1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13"/>
          <p:cNvSpPr/>
          <p:nvPr/>
        </p:nvSpPr>
        <p:spPr>
          <a:xfrm>
            <a:off x="3492360" y="2492280"/>
            <a:ext cx="19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Обогащения словарного запа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12000" y="23493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3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Формирование грамматического строя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9" name="Прямая со стрелкой 15"/>
          <p:cNvCxnSpPr/>
          <p:nvPr/>
        </p:nvCxnSpPr>
        <p:spPr>
          <a:xfrm flipH="1">
            <a:off x="2987280" y="1197000"/>
            <a:ext cx="289440" cy="25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TextBox 17"/>
          <p:cNvSpPr/>
          <p:nvPr/>
        </p:nvSpPr>
        <p:spPr>
          <a:xfrm>
            <a:off x="2050920" y="4149720"/>
            <a:ext cx="20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4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Обучению рассказыванию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связной речью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1" name="Прямая со стрелкой 18"/>
          <p:cNvCxnSpPr/>
          <p:nvPr/>
        </p:nvCxnSpPr>
        <p:spPr>
          <a:xfrm>
            <a:off x="5435280" y="1267920"/>
            <a:ext cx="144720" cy="25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TextBox 20"/>
          <p:cNvSpPr/>
          <p:nvPr/>
        </p:nvSpPr>
        <p:spPr>
          <a:xfrm>
            <a:off x="4643280" y="4149720"/>
            <a:ext cx="22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5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Развитию выразительности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Прямоугольник 19" descr=""/>
          <p:cNvPicPr/>
          <p:nvPr/>
        </p:nvPicPr>
        <p:blipFill>
          <a:blip r:embed="rId2"/>
          <a:stretch/>
        </p:blipFill>
        <p:spPr>
          <a:xfrm>
            <a:off x="1762200" y="981000"/>
            <a:ext cx="52610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Прямоугольник 5" descr=""/>
          <p:cNvPicPr/>
          <p:nvPr/>
        </p:nvPicPr>
        <p:blipFill>
          <a:blip r:embed="rId2"/>
          <a:stretch/>
        </p:blipFill>
        <p:spPr>
          <a:xfrm>
            <a:off x="1401840" y="981000"/>
            <a:ext cx="6327720" cy="523800"/>
          </a:xfrm>
          <a:prstGeom prst="rect">
            <a:avLst/>
          </a:prstGeom>
          <a:ln w="0">
            <a:noFill/>
          </a:ln>
        </p:spPr>
      </p:pic>
      <p:cxnSp>
        <p:nvCxnSpPr>
          <p:cNvPr id="89" name="Прямая со стрелкой 7"/>
          <p:cNvCxnSpPr/>
          <p:nvPr/>
        </p:nvCxnSpPr>
        <p:spPr>
          <a:xfrm flipH="1">
            <a:off x="1834920" y="1557360"/>
            <a:ext cx="613440" cy="720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90" name="TextBox 8"/>
          <p:cNvSpPr/>
          <p:nvPr/>
        </p:nvSpPr>
        <p:spPr>
          <a:xfrm>
            <a:off x="900000" y="227664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4b07"/>
                </a:solidFill>
                <a:latin typeface="Trebuchet MS"/>
              </a:rPr>
              <a:t>Общения ребенка со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940360" y="227664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4b07"/>
                </a:solidFill>
                <a:latin typeface="Trebuchet MS"/>
              </a:rPr>
              <a:t>Строение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195640" y="37162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Развитие мелкой моторик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932360" y="371628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276720" y="227664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Игры ребенка со взрослыми и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5" name="Прямая со стрелкой 17"/>
          <p:cNvCxnSpPr/>
          <p:nvPr/>
        </p:nvCxnSpPr>
        <p:spPr>
          <a:xfrm>
            <a:off x="6249600" y="1543680"/>
            <a:ext cx="439200" cy="742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6" name="Прямая со стрелкой 21"/>
          <p:cNvCxnSpPr/>
          <p:nvPr/>
        </p:nvCxnSpPr>
        <p:spPr>
          <a:xfrm flipH="1">
            <a:off x="4211280" y="1484280"/>
            <a:ext cx="20880" cy="8755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7" name="Прямая со стрелкой 24"/>
          <p:cNvCxnSpPr/>
          <p:nvPr/>
        </p:nvCxnSpPr>
        <p:spPr>
          <a:xfrm flipH="1">
            <a:off x="2607480" y="1560600"/>
            <a:ext cx="661320" cy="2250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8" name="Прямая со стрелкой 27"/>
          <p:cNvCxnSpPr/>
          <p:nvPr/>
        </p:nvCxnSpPr>
        <p:spPr>
          <a:xfrm>
            <a:off x="5245560" y="1556280"/>
            <a:ext cx="734760" cy="2178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img13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1835280" y="404640"/>
            <a:ext cx="532908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Уважаемые родители!!! </a:t>
            </a:r>
            <a:r>
              <a:rPr b="0" lang="ru-RU" sz="3200" spc="-1" strike="noStrike">
                <a:solidFill>
                  <a:srgbClr val="e46c0a"/>
                </a:solidFill>
                <a:latin typeface="Trebuchet MS"/>
              </a:rPr>
              <a:t>Сегодня мы с вами побудем детьми и пройдем все те основные деятельности</a:t>
            </a:r>
            <a:r>
              <a:rPr b="0" lang="en-US" sz="3200" spc="-1" strike="noStrike">
                <a:solidFill>
                  <a:srgbClr val="e46c0a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e46c0a"/>
                </a:solidFill>
                <a:latin typeface="Trebuchet MS"/>
              </a:rPr>
              <a:t>которыми мы обычно занимаемся с ними в детском саду для развития речи</a:t>
            </a:r>
            <a:r>
              <a:rPr b="0" lang="en-US" sz="3200" spc="-1" strike="noStrike">
                <a:solidFill>
                  <a:srgbClr val="e46c0a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img13.jpg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765440" y="33336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танция «Творческая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80880" y="1125360"/>
            <a:ext cx="81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rebuchet MS"/>
              </a:rPr>
              <a:t>Подберите эпитеты к словам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418480" y="242100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Человек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49624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Снег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472120" y="3141720"/>
            <a:ext cx="31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Ветер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2502720" y="3860640"/>
            <a:ext cx="33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Дождь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576160" y="4581360"/>
            <a:ext cx="28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Луна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Рисунок 13" descr="img13.jpg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1540440" y="33336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танция №1 « Творческая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934920" y="981000"/>
            <a:ext cx="743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Подберите эпитеты к слова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2657520" y="177336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Снег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2587680" y="2421000"/>
            <a:ext cx="35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Человек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2662560" y="3068640"/>
            <a:ext cx="301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Дождь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663280" y="3789360"/>
            <a:ext cx="25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Луна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2636640" y="4508640"/>
            <a:ext cx="279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Ветер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Скругленный прямоугольник 2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0656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Станция №2 «Наши руки не знают скук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900000" y="9079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1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Массаж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(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Массируя пальцы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 активировать работу внутренних органов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57040" y="177336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Большой- отвечает за голов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235880" y="21337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Указательный- желуд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298880" y="24922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Средний- пече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271160" y="285264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Безымянный- поч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334520" y="3213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Мизинец-серд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050920" y="3933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Trebuchet MS"/>
              </a:rPr>
              <a:t>Растираем подушечку пальца</a:t>
            </a:r>
            <a:r>
              <a:rPr b="0" lang="en-US" sz="2400" spc="-1" strike="noStrike">
                <a:solidFill>
                  <a:srgbClr val="e46c0a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e46c0a"/>
                </a:solidFill>
                <a:latin typeface="Trebuchet MS"/>
              </a:rPr>
              <a:t> затем медленно опускаемся к запястью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2158200" y="5013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тереть ладони и</a:t>
            </a:r>
            <a:r>
              <a:rPr b="0" lang="en-US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хлопать</a:t>
            </a:r>
            <a:r>
              <a:rPr b="0" lang="en-US" sz="2400" spc="-1" strike="noStrike">
                <a:solidFill>
                  <a:srgbClr val="00b0f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2T18:17:33Z</dcterms:created>
  <dc:creator>asus</dc:creator>
  <dc:description/>
  <dc:language>en-US</dc:language>
  <cp:lastModifiedBy>word</cp:lastModifiedBy>
  <dcterms:modified xsi:type="dcterms:W3CDTF">2023-02-03T07:40:02Z</dcterms:modified>
  <cp:revision>311</cp:revision>
  <dc:subject/>
  <dc:title>Слайд 1</dc:title>
</cp:coreProperties>
</file>