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8F70-FA1D-45BB-90E3-91E59FACAB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3005-D0E7-4FA1-9BB1-6FCC47359C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F42E-1810-4B2A-AD66-B8E9195548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194-4E87-469C-B30A-856AB9C4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913-BCED-46E2-8882-D2A1D890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B85-12C8-4D65-83D5-738726B5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644-959B-4B30-8F3A-2FF62CF8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91A-FB8A-4835-8A85-0F6DC42B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FB6-C36E-4945-B035-72BCF10B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AD8C-0C22-4B76-AA40-8F9F25D6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64F-E158-4FAA-AC87-F9A737EB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EE0-9CB2-47F1-AF7D-47F9A418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C2C-91A0-49CE-A85B-C2386D56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07F-9697-41B3-8B93-8FB09E2F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EC2-745D-4F38-83A8-F1B7699C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BC32-9CB8-4177-A179-4B3B036D9475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Скругленный прямоугольник 15">
            <a:hlinkClick r:id="" action="ppaction://hlinkshowjump?jump=nextslide"/>
          </p:cNvPr>
          <p:cNvSpPr/>
          <p:nvPr/>
        </p:nvSpPr>
        <p:spPr>
          <a:xfrm>
            <a:off x="7380360" y="5877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TextBox 16"/>
          <p:cNvSpPr/>
          <p:nvPr/>
        </p:nvSpPr>
        <p:spPr>
          <a:xfrm>
            <a:off x="826920" y="83664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</a:rPr>
              <a:t>Родительское собрание во второй младшей группе «Гномики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1258920" y="1773360"/>
            <a:ext cx="7489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Trebuchet MS"/>
              </a:rPr>
              <a:t>Тема: «Развитие речи детей младшего дошкольного возраста»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Подготовил :Воспитатель - Классен Тамара Юрьев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TextBox 20"/>
          <p:cNvSpPr/>
          <p:nvPr/>
        </p:nvSpPr>
        <p:spPr>
          <a:xfrm>
            <a:off x="2702520" y="126828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rebuchet MS"/>
              </a:rPr>
              <a:t>МДОУ № 3 Троицко-Печорск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4890240" y="55897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прель 2022г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img13.jpg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32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1034280" y="404640"/>
            <a:ext cx="69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50"/>
                </a:solidFill>
                <a:uFillTx/>
                <a:latin typeface="Trebuchet MS"/>
              </a:rPr>
              <a:t>2.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Trebuchet MS"/>
              </a:rPr>
              <a:t>Этап- Пальчиковые игры </a:t>
            </a:r>
            <a:r>
              <a:rPr b="0" lang="ru-RU" sz="2400" spc="-1" strike="noStrike">
                <a:solidFill>
                  <a:srgbClr val="00b050"/>
                </a:solidFill>
                <a:latin typeface="Trebuchet MS"/>
              </a:rPr>
              <a:t>(без предмет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Скругленный прямоугольник 18"/>
          <p:cNvSpPr/>
          <p:nvPr/>
        </p:nvSpPr>
        <p:spPr>
          <a:xfrm>
            <a:off x="971640" y="333360"/>
            <a:ext cx="720072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222ждд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lkjhj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900000" y="260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Trebuchet MS"/>
              </a:rPr>
              <a:t>2.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Trebuchet MS"/>
              </a:rPr>
              <a:t>этап- Пальчиковые игры </a:t>
            </a:r>
            <a:r>
              <a:rPr b="0" lang="ru-RU" sz="2800" spc="-1" strike="noStrike">
                <a:solidFill>
                  <a:srgbClr val="00b050"/>
                </a:solidFill>
                <a:latin typeface="Trebuchet MS"/>
              </a:rPr>
              <a:t>(без предметов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6" name="Рисунок 7" descr="6й.jpg"/>
          <p:cNvPicPr/>
          <p:nvPr/>
        </p:nvPicPr>
        <p:blipFill>
          <a:blip r:embed="rId2"/>
          <a:stretch/>
        </p:blipFill>
        <p:spPr>
          <a:xfrm>
            <a:off x="1763640" y="1052640"/>
            <a:ext cx="525636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3" descr="img13.jpg"/>
          <p:cNvPicPr/>
          <p:nvPr/>
        </p:nvPicPr>
        <p:blipFill>
          <a:blip r:embed="rId1"/>
          <a:stretch/>
        </p:blipFill>
        <p:spPr>
          <a:xfrm>
            <a:off x="0" y="-81900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826920" y="189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b050"/>
                </a:solidFill>
                <a:uFillTx/>
                <a:latin typeface="Trebuchet MS"/>
              </a:rPr>
              <a:t>«3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Trebuchet MS"/>
              </a:rPr>
              <a:t>.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Trebuchet MS"/>
              </a:rPr>
              <a:t>этап- Пальчиковая  игра «Медведь»</a:t>
            </a:r>
            <a:r>
              <a:rPr b="0" lang="ru-RU" sz="2400" spc="-1" strike="noStrike">
                <a:solidFill>
                  <a:srgbClr val="00b050"/>
                </a:solidFill>
                <a:latin typeface="Trebuchet MS"/>
              </a:rPr>
              <a:t>( с предметом- медленно засовываем платочек одним пальцем в кулак</a:t>
            </a:r>
            <a:r>
              <a:rPr b="0" lang="ru-RU" sz="1800" spc="-1" strike="noStrike">
                <a:solidFill>
                  <a:srgbClr val="00b05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1908000" y="1844640"/>
            <a:ext cx="4967640" cy="32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2195640" y="1989000"/>
            <a:ext cx="432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Лез медведь в свою берлогу</a:t>
            </a:r>
            <a:r>
              <a:rPr b="0" lang="en-US" sz="3200" spc="-1" strike="noStrike">
                <a:solidFill>
                  <a:srgbClr val="7030a0"/>
                </a:solidFill>
                <a:latin typeface="Trebuchet MS"/>
              </a:rPr>
              <a:t>,</a:t>
            </a: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все бока свои помял</a:t>
            </a:r>
            <a:r>
              <a:rPr b="0" lang="en-US" sz="3200" spc="-1" strike="noStrike">
                <a:solidFill>
                  <a:srgbClr val="7030a0"/>
                </a:solidFill>
                <a:latin typeface="Trebuchet MS"/>
              </a:rPr>
              <a:t>,</a:t>
            </a: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эй</a:t>
            </a:r>
            <a:r>
              <a:rPr b="0" lang="en-US" sz="3200" spc="-1" strike="noStrike">
                <a:solidFill>
                  <a:srgbClr val="7030a0"/>
                </a:solidFill>
                <a:latin typeface="Trebuchet MS"/>
              </a:rPr>
              <a:t>,</a:t>
            </a: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скорее</a:t>
            </a:r>
            <a:r>
              <a:rPr b="0" lang="en-US" sz="3200" spc="-1" strike="noStrike">
                <a:solidFill>
                  <a:srgbClr val="7030a0"/>
                </a:solidFill>
                <a:latin typeface="Trebuchet MS"/>
              </a:rPr>
              <a:t>,</a:t>
            </a: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на подмогу</a:t>
            </a:r>
            <a:r>
              <a:rPr b="0" lang="en-US" sz="3200" spc="-1" strike="noStrike">
                <a:solidFill>
                  <a:srgbClr val="7030a0"/>
                </a:solidFill>
                <a:latin typeface="Trebuchet MS"/>
              </a:rPr>
              <a:t>.</a:t>
            </a: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Мишка кажется застрял</a:t>
            </a:r>
            <a:r>
              <a:rPr b="0" lang="en-US" sz="32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3" descr="img13.jpg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042920" y="333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Trebuchet MS"/>
              </a:rPr>
              <a:t>4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Trebuchet MS"/>
              </a:rPr>
              <a:t>.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Trebuchet MS"/>
              </a:rPr>
              <a:t>этап- </a:t>
            </a:r>
            <a:r>
              <a:rPr b="0" lang="ru-RU" sz="2800" spc="-1" strike="noStrike">
                <a:solidFill>
                  <a:srgbClr val="00b050"/>
                </a:solidFill>
                <a:latin typeface="Trebuchet MS"/>
              </a:rPr>
              <a:t>Рассказываем стихи пальчика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5" name="Рисунок 5" descr="0f4fcc5dc696a6ca8224fdb10b662e85.jpeg"/>
          <p:cNvPicPr/>
          <p:nvPr/>
        </p:nvPicPr>
        <p:blipFill>
          <a:blip r:embed="rId2"/>
          <a:stretch/>
        </p:blipFill>
        <p:spPr>
          <a:xfrm>
            <a:off x="1763640" y="907920"/>
            <a:ext cx="511200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img13.jpg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1683720" y="333360"/>
            <a:ext cx="654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Станция №3 «Игровая»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8" name="Рисунок 7" descr="blowing-cloud-20179395.jpg"/>
          <p:cNvPicPr/>
          <p:nvPr/>
        </p:nvPicPr>
        <p:blipFill>
          <a:blip r:embed="rId2"/>
          <a:stretch/>
        </p:blipFill>
        <p:spPr>
          <a:xfrm>
            <a:off x="1908000" y="1413000"/>
            <a:ext cx="5112000" cy="4186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733320" y="1628640"/>
            <a:ext cx="37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rebuchet MS"/>
              </a:rPr>
              <a:t>1-Речевая игра «Вьюга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790560" y="981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rebuchet MS"/>
              </a:rPr>
              <a:t>(Игры для формирования звукопроизношени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Скругленный прямоугольник 8">
            <a:hlinkClick r:id="" action="ppaction://hlinkshowjump?jump=nextslide"/>
          </p:cNvPr>
          <p:cNvSpPr/>
          <p:nvPr/>
        </p:nvSpPr>
        <p:spPr>
          <a:xfrm>
            <a:off x="7380360" y="602136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" descr="img13.jpg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53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711720" y="47628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rebuchet MS"/>
              </a:rPr>
              <a:t>2-Речевая игра «Насос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5" name="Рисунок 7" descr="1639314483_54-papik-pro-p-klipart-nasos-62.jpg"/>
          <p:cNvPicPr/>
          <p:nvPr/>
        </p:nvPicPr>
        <p:blipFill>
          <a:blip r:embed="rId2"/>
          <a:stretch/>
        </p:blipFill>
        <p:spPr>
          <a:xfrm>
            <a:off x="4284720" y="1413000"/>
            <a:ext cx="2838240" cy="35049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car-wheel-clip-art-28.png"/>
          <p:cNvPicPr/>
          <p:nvPr/>
        </p:nvPicPr>
        <p:blipFill>
          <a:blip r:embed="rId3"/>
          <a:stretch/>
        </p:blipFill>
        <p:spPr>
          <a:xfrm>
            <a:off x="1692360" y="2637000"/>
            <a:ext cx="2601720" cy="26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img13.jpg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58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9" name="Рисунок 6" descr="img7.jpg"/>
          <p:cNvPicPr/>
          <p:nvPr/>
        </p:nvPicPr>
        <p:blipFill>
          <a:blip r:embed="rId2"/>
          <a:stretch/>
        </p:blipFill>
        <p:spPr>
          <a:xfrm>
            <a:off x="1835280" y="262080"/>
            <a:ext cx="5041800" cy="6119640"/>
          </a:xfrm>
          <a:prstGeom prst="rect">
            <a:avLst/>
          </a:prstGeom>
          <a:ln w="0">
            <a:noFill/>
          </a:ln>
        </p:spPr>
      </p:pic>
      <p:sp>
        <p:nvSpPr>
          <p:cNvPr id="160" name="Скругленный прямоугольник 9"/>
          <p:cNvSpPr/>
          <p:nvPr/>
        </p:nvSpPr>
        <p:spPr>
          <a:xfrm>
            <a:off x="2556000" y="620640"/>
            <a:ext cx="208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2039400" y="549360"/>
            <a:ext cx="38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rebuchet MS"/>
              </a:rPr>
              <a:t>3- «Чистоговорки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3" descr="img13.jpg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63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1821960" y="260280"/>
            <a:ext cx="52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Станция №4 «Сказочная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Прямоугольник 7"/>
          <p:cNvSpPr/>
          <p:nvPr/>
        </p:nvSpPr>
        <p:spPr>
          <a:xfrm>
            <a:off x="1835280" y="981000"/>
            <a:ext cx="5184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) Я решил путешествовать по свету и не знал, что путешествие может обернуться неприятностями. Я думал, все кругом такие же добрые как баба и дед. Но оказалось, что в мире живут ещё и злые, жестокие, хитрые. И каждому хочется меня съесть…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) Я всю жизнь боялась кошек. А эта пришла и мурлычет, скребётся: мол, помоги мне! Чем же я, маленькая, серенькая, могу помочь кошке? Только чувствую – не обманывает она меня. Выбежала в огород, вижу – и правда моя помощь нужна!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) Так и знал, что бедой кончится. Уж больно ветхий я и старый. Сколько лет в поле стою! Мечтал, я конечно, что кто-нибудь во мне поселился да пожил. Но не также много народу! Они влезали, влезали, влезали внутрь. Я не выдержал и рухнул!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) Ну и хвост у этой мышки! Ни с ладонью бабы, ни с кулаком деды не сравнить! И надо же было этой мышке выбежать в самый неподходящий момент! Махнула хвостиком – я и разбилось!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3404880" y="69228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rebuchet MS"/>
              </a:rPr>
              <a:t>(Сказки- загадки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3" descr="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Скругленный прямоугольник 4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9" name="Прямоугольник 5" descr=""/>
          <p:cNvPicPr/>
          <p:nvPr/>
        </p:nvPicPr>
        <p:blipFill>
          <a:blip r:embed="rId2"/>
          <a:stretch/>
        </p:blipFill>
        <p:spPr>
          <a:xfrm>
            <a:off x="1474920" y="1054080"/>
            <a:ext cx="597348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3" descr="img13.jpg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2195640" y="333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Trebuchet MS"/>
              </a:rPr>
              <a:t>Советы  родителям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826920" y="76500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1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Разговаривайте со своим ребенком во время всех видов деятельности(приготовление еды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уборка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одевания-раздевания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прогулка и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т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д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)Говорите о том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что вы делаете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что делает сын(дочь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что делают другие дети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люди)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530280" y="1916280"/>
            <a:ext cx="74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2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Говорите спокойно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в нормальном темпе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четко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с интонацией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826920" y="2276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rebuchet MS"/>
              </a:rPr>
              <a:t>3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Говорите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используя правильно построенные фразы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короткие предложения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826920" y="29242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4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Выдерживайте временную паузу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чтобы у ребенка была возможность говорить и отвечать на вопросы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826920" y="350028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5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Учите ребенка понимать и выполнять словесные инструкции сначала простые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потом сложные(Возьми Мишку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Возьми Мишку и посади на стульчик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Возьми Мишку и посади на стульчик рядом с собачкой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1763640" y="4508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6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Не переходите на детский язык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не «сюсюкайте» сами и объясните бабушкам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1835280" y="5084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rebuchet MS"/>
              </a:rPr>
              <a:t>7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Игра- основная деятельность ребенка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поэтому больше играйте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1835280" y="56610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8)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Каждый день читайте стихи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сказки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обсуждайте картинки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Скругленный прямоугольник 14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img13.jpg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82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3" name="Прямоугольник 4" descr=""/>
          <p:cNvPicPr/>
          <p:nvPr/>
        </p:nvPicPr>
        <p:blipFill>
          <a:blip r:embed="rId2"/>
          <a:stretch/>
        </p:blipFill>
        <p:spPr>
          <a:xfrm>
            <a:off x="1401840" y="1773360"/>
            <a:ext cx="6413400" cy="2122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5466600" y="5805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прель 2022г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Скругленный прямоугольник 15">
            <a:hlinkClick r:id="" action="ppaction://hlinkshowjump?jump=nextslide"/>
          </p:cNvPr>
          <p:cNvSpPr/>
          <p:nvPr/>
        </p:nvSpPr>
        <p:spPr>
          <a:xfrm>
            <a:off x="7380360" y="5877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971640" y="9079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46c0a"/>
                </a:solidFill>
                <a:uFillTx/>
                <a:latin typeface="Trebuchet MS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скрытие значения речи во всестороннем развитии личности ребенк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971640" y="191628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46c0a"/>
                </a:solidFill>
                <a:uFillTx/>
                <a:latin typeface="Trebuchet MS"/>
              </a:rPr>
              <a:t>Задачи: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знакомить родителей с особенностями развития речи детей младшего дошкольного возраста и методами и приемами ее развития; познакомить с речевыми играм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которые полезно играть с ребенком дома; воспитывать культуру общения; вовлечь родителей в педагогический процесс и жизнь группы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1877040" y="692280"/>
            <a:ext cx="207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rebuchet MS"/>
              </a:rPr>
              <a:t>Речь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3708360" y="981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f0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00b0f0"/>
                </a:solidFill>
                <a:latin typeface="Trebuchet MS"/>
              </a:rPr>
              <a:t>-это форма общени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Скругленный прямоугольник 15">
            <a:hlinkClick r:id="" action="ppaction://hlinkshowjump?jump=nextslide"/>
          </p:cNvPr>
          <p:cNvSpPr/>
          <p:nvPr/>
        </p:nvSpPr>
        <p:spPr>
          <a:xfrm>
            <a:off x="7380360" y="5877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04280" y="1557360"/>
            <a:ext cx="79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Что помогает развивать речь ребенк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1859760" y="2565360"/>
            <a:ext cx="52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Общение ребенк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65" name="Прямая со стрелкой 14"/>
          <p:cNvCxnSpPr/>
          <p:nvPr/>
        </p:nvCxnSpPr>
        <p:spPr>
          <a:xfrm>
            <a:off x="4211280" y="2133720"/>
            <a:ext cx="10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16"/>
          <p:cNvCxnSpPr/>
          <p:nvPr/>
        </p:nvCxnSpPr>
        <p:spPr>
          <a:xfrm flipH="1">
            <a:off x="3276000" y="3357360"/>
            <a:ext cx="216360" cy="50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18"/>
          <p:cNvCxnSpPr/>
          <p:nvPr/>
        </p:nvCxnSpPr>
        <p:spPr>
          <a:xfrm>
            <a:off x="5219640" y="3284640"/>
            <a:ext cx="21672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TextBox 22"/>
          <p:cNvSpPr/>
          <p:nvPr/>
        </p:nvSpPr>
        <p:spPr>
          <a:xfrm>
            <a:off x="1439280" y="407664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rebuchet MS"/>
              </a:rPr>
              <a:t>Со взрослым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4589640" y="407664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rebuchet MS"/>
              </a:rPr>
              <a:t>Сверстникам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img13.jpg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08720" y="5877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180800" y="476280"/>
            <a:ext cx="690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rebuchet MS"/>
              </a:rPr>
              <a:t>Задачи развития речи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73" name="Прямая со стрелкой 6"/>
          <p:cNvCxnSpPr/>
          <p:nvPr/>
        </p:nvCxnSpPr>
        <p:spPr>
          <a:xfrm flipH="1">
            <a:off x="1618560" y="1412640"/>
            <a:ext cx="6498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7"/>
          <p:cNvCxnSpPr/>
          <p:nvPr/>
        </p:nvCxnSpPr>
        <p:spPr>
          <a:xfrm>
            <a:off x="6156000" y="1341360"/>
            <a:ext cx="711720" cy="71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TextBox 9"/>
          <p:cNvSpPr/>
          <p:nvPr/>
        </p:nvSpPr>
        <p:spPr>
          <a:xfrm>
            <a:off x="1042920" y="227664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984807"/>
                </a:solidFill>
                <a:latin typeface="Trebuchet MS"/>
              </a:rPr>
              <a:t>.</a:t>
            </a: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Формирование звуковой культуры реч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76" name="Прямая со стрелкой 10"/>
          <p:cNvCxnSpPr/>
          <p:nvPr/>
        </p:nvCxnSpPr>
        <p:spPr>
          <a:xfrm>
            <a:off x="4284360" y="1267920"/>
            <a:ext cx="108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xtBox 13"/>
          <p:cNvSpPr/>
          <p:nvPr/>
        </p:nvSpPr>
        <p:spPr>
          <a:xfrm>
            <a:off x="3492360" y="2492280"/>
            <a:ext cx="19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984807"/>
                </a:solidFill>
                <a:latin typeface="Trebuchet MS"/>
              </a:rPr>
              <a:t>.</a:t>
            </a: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Обогащения словарного запас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6012000" y="234936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3</a:t>
            </a:r>
            <a:r>
              <a:rPr b="0" lang="en-US" sz="2000" spc="-1" strike="noStrike">
                <a:solidFill>
                  <a:srgbClr val="984807"/>
                </a:solidFill>
                <a:latin typeface="Trebuchet MS"/>
              </a:rPr>
              <a:t>.</a:t>
            </a: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Формирование грамматического строя реч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79" name="Прямая со стрелкой 15"/>
          <p:cNvCxnSpPr/>
          <p:nvPr/>
        </p:nvCxnSpPr>
        <p:spPr>
          <a:xfrm flipH="1">
            <a:off x="2987280" y="1197000"/>
            <a:ext cx="289440" cy="2520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TextBox 17"/>
          <p:cNvSpPr/>
          <p:nvPr/>
        </p:nvSpPr>
        <p:spPr>
          <a:xfrm>
            <a:off x="2050920" y="4149720"/>
            <a:ext cx="208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4</a:t>
            </a:r>
            <a:r>
              <a:rPr b="0" lang="en-US" sz="2000" spc="-1" strike="noStrike">
                <a:solidFill>
                  <a:srgbClr val="984807"/>
                </a:solidFill>
                <a:latin typeface="Trebuchet MS"/>
              </a:rPr>
              <a:t>.</a:t>
            </a: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Обучению рассказыванию</a:t>
            </a:r>
            <a:r>
              <a:rPr b="0" lang="en-US" sz="2000" spc="-1" strike="noStrike">
                <a:solidFill>
                  <a:srgbClr val="984807"/>
                </a:solidFill>
                <a:latin typeface="Trebuchet MS"/>
              </a:rPr>
              <a:t>,</a:t>
            </a: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связной речью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81" name="Прямая со стрелкой 18"/>
          <p:cNvCxnSpPr/>
          <p:nvPr/>
        </p:nvCxnSpPr>
        <p:spPr>
          <a:xfrm>
            <a:off x="5435280" y="1267920"/>
            <a:ext cx="144720" cy="252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TextBox 20"/>
          <p:cNvSpPr/>
          <p:nvPr/>
        </p:nvSpPr>
        <p:spPr>
          <a:xfrm>
            <a:off x="4643280" y="4149720"/>
            <a:ext cx="22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5</a:t>
            </a:r>
            <a:r>
              <a:rPr b="0" lang="en-US" sz="2000" spc="-1" strike="noStrike">
                <a:solidFill>
                  <a:srgbClr val="984807"/>
                </a:solidFill>
                <a:latin typeface="Trebuchet MS"/>
              </a:rPr>
              <a:t>.</a:t>
            </a:r>
            <a:r>
              <a:rPr b="0" lang="ru-RU" sz="2000" spc="-1" strike="noStrike">
                <a:solidFill>
                  <a:srgbClr val="984807"/>
                </a:solidFill>
                <a:latin typeface="Trebuchet MS"/>
              </a:rPr>
              <a:t>Развитию выразительности реч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Скругленный прямоугольник 15">
            <a:hlinkClick r:id="" action="ppaction://hlinkshowjump?jump=nextslide"/>
          </p:cNvPr>
          <p:cNvSpPr/>
          <p:nvPr/>
        </p:nvSpPr>
        <p:spPr>
          <a:xfrm>
            <a:off x="7380360" y="5877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5" name="Прямоугольник 19" descr=""/>
          <p:cNvPicPr/>
          <p:nvPr/>
        </p:nvPicPr>
        <p:blipFill>
          <a:blip r:embed="rId2"/>
          <a:stretch/>
        </p:blipFill>
        <p:spPr>
          <a:xfrm>
            <a:off x="1762200" y="981000"/>
            <a:ext cx="526104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Скругленный прямоугольник 15">
            <a:hlinkClick r:id="" action="ppaction://hlinkshowjump?jump=nextslide"/>
          </p:cNvPr>
          <p:cNvSpPr/>
          <p:nvPr/>
        </p:nvSpPr>
        <p:spPr>
          <a:xfrm>
            <a:off x="7380360" y="5877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8" name="Прямоугольник 5" descr=""/>
          <p:cNvPicPr/>
          <p:nvPr/>
        </p:nvPicPr>
        <p:blipFill>
          <a:blip r:embed="rId2"/>
          <a:stretch/>
        </p:blipFill>
        <p:spPr>
          <a:xfrm>
            <a:off x="1401840" y="981000"/>
            <a:ext cx="6327720" cy="523800"/>
          </a:xfrm>
          <a:prstGeom prst="rect">
            <a:avLst/>
          </a:prstGeom>
          <a:ln w="0">
            <a:noFill/>
          </a:ln>
        </p:spPr>
      </p:pic>
      <p:cxnSp>
        <p:nvCxnSpPr>
          <p:cNvPr id="89" name="Прямая со стрелкой 7"/>
          <p:cNvCxnSpPr/>
          <p:nvPr/>
        </p:nvCxnSpPr>
        <p:spPr>
          <a:xfrm flipH="1">
            <a:off x="1834920" y="1557360"/>
            <a:ext cx="613440" cy="720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90" name="TextBox 8"/>
          <p:cNvSpPr/>
          <p:nvPr/>
        </p:nvSpPr>
        <p:spPr>
          <a:xfrm>
            <a:off x="900000" y="227664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d4b07"/>
                </a:solidFill>
                <a:latin typeface="Trebuchet MS"/>
              </a:rPr>
              <a:t>Общения ребенка со сверстникам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5940360" y="2276640"/>
            <a:ext cx="24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d4b07"/>
                </a:solidFill>
                <a:latin typeface="Trebuchet MS"/>
              </a:rPr>
              <a:t>Строение артикуляционного аппарат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2195640" y="371628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34403"/>
                </a:solidFill>
                <a:latin typeface="Trebuchet MS"/>
              </a:rPr>
              <a:t>Развитие мелкой моторик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4932360" y="371628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34403"/>
                </a:solidFill>
                <a:latin typeface="Trebuchet MS"/>
              </a:rPr>
              <a:t>Чтение художественной литератур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3276720" y="2276640"/>
            <a:ext cx="208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34403"/>
                </a:solidFill>
                <a:latin typeface="Trebuchet MS"/>
              </a:rPr>
              <a:t>Игры ребенка со взрослыми и сверстникам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95" name="Прямая со стрелкой 17"/>
          <p:cNvCxnSpPr/>
          <p:nvPr/>
        </p:nvCxnSpPr>
        <p:spPr>
          <a:xfrm>
            <a:off x="6249600" y="1543680"/>
            <a:ext cx="439200" cy="7423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96" name="Прямая со стрелкой 21"/>
          <p:cNvCxnSpPr/>
          <p:nvPr/>
        </p:nvCxnSpPr>
        <p:spPr>
          <a:xfrm flipH="1">
            <a:off x="4211280" y="1484280"/>
            <a:ext cx="20880" cy="8755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97" name="Прямая со стрелкой 24"/>
          <p:cNvCxnSpPr/>
          <p:nvPr/>
        </p:nvCxnSpPr>
        <p:spPr>
          <a:xfrm flipH="1">
            <a:off x="2607480" y="1560600"/>
            <a:ext cx="661320" cy="2250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98" name="Прямая со стрелкой 27"/>
          <p:cNvCxnSpPr/>
          <p:nvPr/>
        </p:nvCxnSpPr>
        <p:spPr>
          <a:xfrm>
            <a:off x="5245560" y="1556280"/>
            <a:ext cx="734760" cy="217836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img13.jpg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TextBox 19"/>
          <p:cNvSpPr/>
          <p:nvPr/>
        </p:nvSpPr>
        <p:spPr>
          <a:xfrm>
            <a:off x="1835280" y="404640"/>
            <a:ext cx="5329080" cy="472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7030a0"/>
                </a:solidFill>
                <a:uFillTx/>
                <a:latin typeface="Trebuchet MS"/>
              </a:rPr>
              <a:t>Уважаемые родители!!! </a:t>
            </a:r>
            <a:r>
              <a:rPr b="0" lang="ru-RU" sz="3200" spc="-1" strike="noStrike">
                <a:solidFill>
                  <a:srgbClr val="e46c0a"/>
                </a:solidFill>
                <a:latin typeface="Trebuchet MS"/>
              </a:rPr>
              <a:t>Сегодня мы с вами побудем детьми и пройдем все те основные деятельности</a:t>
            </a:r>
            <a:r>
              <a:rPr b="0" lang="en-US" sz="3200" spc="-1" strike="noStrike">
                <a:solidFill>
                  <a:srgbClr val="e46c0a"/>
                </a:solidFill>
                <a:latin typeface="Trebuchet MS"/>
              </a:rPr>
              <a:t>,</a:t>
            </a:r>
            <a:r>
              <a:rPr b="0" lang="ru-RU" sz="3200" spc="-1" strike="noStrike">
                <a:solidFill>
                  <a:srgbClr val="e46c0a"/>
                </a:solidFill>
                <a:latin typeface="Trebuchet MS"/>
              </a:rPr>
              <a:t>которыми мы обычно занимаемся с ними в детском саду для развития речи</a:t>
            </a:r>
            <a:r>
              <a:rPr b="0" lang="en-US" sz="3200" spc="-1" strike="noStrike">
                <a:solidFill>
                  <a:srgbClr val="e46c0a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img13.jpg"/>
          <p:cNvPicPr/>
          <p:nvPr/>
        </p:nvPicPr>
        <p:blipFill>
          <a:blip r:embed="rId1"/>
          <a:stretch/>
        </p:blipFill>
        <p:spPr>
          <a:xfrm>
            <a:off x="0" y="-81900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765440" y="333360"/>
            <a:ext cx="56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.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Станция «Творческая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380880" y="1125360"/>
            <a:ext cx="817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rebuchet MS"/>
              </a:rPr>
              <a:t>Подберите эпитеты к словам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2418480" y="2421000"/>
            <a:ext cx="39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rebuchet MS"/>
              </a:rPr>
              <a:t>-Человек(</a:t>
            </a:r>
            <a:r>
              <a:rPr b="0" lang="en-US" sz="5400" spc="-1" strike="noStrike">
                <a:solidFill>
                  <a:srgbClr val="00b050"/>
                </a:solidFill>
                <a:latin typeface="Trebuchet MS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2496240" y="177336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rebuchet MS"/>
              </a:rPr>
              <a:t>-Снег(</a:t>
            </a:r>
            <a:r>
              <a:rPr b="0" lang="en-US" sz="5400" spc="-1" strike="noStrike">
                <a:solidFill>
                  <a:srgbClr val="00b050"/>
                </a:solidFill>
                <a:latin typeface="Trebuchet MS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2472120" y="3141720"/>
            <a:ext cx="312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rebuchet MS"/>
              </a:rPr>
              <a:t>-Ветер(</a:t>
            </a:r>
            <a:r>
              <a:rPr b="0" lang="en-US" sz="5400" spc="-1" strike="noStrike">
                <a:solidFill>
                  <a:srgbClr val="00b050"/>
                </a:solidFill>
                <a:latin typeface="Trebuchet MS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2502720" y="3860640"/>
            <a:ext cx="336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rebuchet MS"/>
              </a:rPr>
              <a:t>-Дождь(</a:t>
            </a:r>
            <a:r>
              <a:rPr b="0" lang="en-US" sz="5400" spc="-1" strike="noStrike">
                <a:solidFill>
                  <a:srgbClr val="00b050"/>
                </a:solidFill>
                <a:latin typeface="Trebuchet MS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2576160" y="4581360"/>
            <a:ext cx="281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rebuchet MS"/>
              </a:rPr>
              <a:t>-Луна(</a:t>
            </a:r>
            <a:r>
              <a:rPr b="0" lang="en-US" sz="5400" spc="-1" strike="noStrike">
                <a:solidFill>
                  <a:srgbClr val="00b050"/>
                </a:solidFill>
                <a:latin typeface="Trebuchet MS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1" name="Рисунок 13" descr="img13.jpg"/>
          <p:cNvPicPr/>
          <p:nvPr/>
        </p:nvPicPr>
        <p:blipFill>
          <a:blip r:embed="rId2"/>
          <a:stretch/>
        </p:blipFill>
        <p:spPr>
          <a:xfrm>
            <a:off x="0" y="-74772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5"/>
          <p:cNvSpPr/>
          <p:nvPr/>
        </p:nvSpPr>
        <p:spPr>
          <a:xfrm>
            <a:off x="1540440" y="333360"/>
            <a:ext cx="62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Станция №1 « Творческая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934920" y="981000"/>
            <a:ext cx="743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rebuchet MS"/>
              </a:rPr>
              <a:t>Подберите эпитеты к словам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2657520" y="1773360"/>
            <a:ext cx="24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-Снег(</a:t>
            </a: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2587680" y="2421000"/>
            <a:ext cx="355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-Человек(</a:t>
            </a: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9"/>
          <p:cNvSpPr/>
          <p:nvPr/>
        </p:nvSpPr>
        <p:spPr>
          <a:xfrm>
            <a:off x="2662560" y="3068640"/>
            <a:ext cx="301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-Дождь(</a:t>
            </a: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2663280" y="3789360"/>
            <a:ext cx="25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-Луна(</a:t>
            </a: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TextBox 21"/>
          <p:cNvSpPr/>
          <p:nvPr/>
        </p:nvSpPr>
        <p:spPr>
          <a:xfrm>
            <a:off x="2636640" y="4508640"/>
            <a:ext cx="279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-Ветер(</a:t>
            </a: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Скругленный прямоугольник 24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3" descr="img13.jpg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121" name="Скругленный прямоугольник 22">
            <a:hlinkClick r:id="" action="ppaction://hlinkshowjump?jump=nextslide"/>
          </p:cNvPr>
          <p:cNvSpPr/>
          <p:nvPr/>
        </p:nvSpPr>
        <p:spPr>
          <a:xfrm>
            <a:off x="7380360" y="595008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00656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Станция №2 «Наши руки не знают скуки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900000" y="90792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b050"/>
                </a:solidFill>
                <a:uFillTx/>
                <a:latin typeface="Trebuchet MS"/>
              </a:rPr>
              <a:t>1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Trebuchet MS"/>
              </a:rPr>
              <a:t>.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Trebuchet MS"/>
              </a:rPr>
              <a:t>Этап-Массаж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Trebuchet MS"/>
              </a:rPr>
              <a:t>.(</a:t>
            </a:r>
            <a:r>
              <a:rPr b="0" lang="ru-RU" sz="2400" spc="-1" strike="noStrike">
                <a:solidFill>
                  <a:srgbClr val="00b050"/>
                </a:solidFill>
                <a:latin typeface="Trebuchet MS"/>
              </a:rPr>
              <a:t>Массируя пальцы</a:t>
            </a: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b050"/>
                </a:solidFill>
                <a:latin typeface="Trebuchet MS"/>
              </a:rPr>
              <a:t> активировать работу внутренних органов</a:t>
            </a: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.</a:t>
            </a:r>
            <a:r>
              <a:rPr b="0" lang="ru-RU" sz="2400" spc="-1" strike="noStrike">
                <a:solidFill>
                  <a:srgbClr val="00b05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1157040" y="177336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rebuchet MS"/>
              </a:rPr>
              <a:t>Большой- отвечает за голов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1235880" y="213372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rebuchet MS"/>
              </a:rPr>
              <a:t>Указательный- желудок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1298880" y="249228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rebuchet MS"/>
              </a:rPr>
              <a:t>Средний- печен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1271160" y="2852640"/>
            <a:ext cx="32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rebuchet MS"/>
              </a:rPr>
              <a:t>Безымянный- поч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1334520" y="32130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rebuchet MS"/>
              </a:rPr>
              <a:t>Мизинец-сердц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2050920" y="393372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Trebuchet MS"/>
              </a:rPr>
              <a:t>Растираем подушечку пальца</a:t>
            </a:r>
            <a:r>
              <a:rPr b="0" lang="en-US" sz="2400" spc="-1" strike="noStrike">
                <a:solidFill>
                  <a:srgbClr val="e46c0a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e46c0a"/>
                </a:solidFill>
                <a:latin typeface="Trebuchet MS"/>
              </a:rPr>
              <a:t> затем медленно опускаемся к запястью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2158200" y="501336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Потереть ладони и</a:t>
            </a:r>
            <a:r>
              <a:rPr b="0" lang="en-US" sz="2400" spc="-1" strike="noStrike">
                <a:solidFill>
                  <a:srgbClr val="00b0f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похлопать</a:t>
            </a:r>
            <a:r>
              <a:rPr b="0" lang="en-US" sz="2400" spc="-1" strike="noStrike">
                <a:solidFill>
                  <a:srgbClr val="00b0f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02T18:17:33Z</dcterms:created>
  <dc:creator>asus</dc:creator>
  <dc:description/>
  <dc:language>en-US</dc:language>
  <cp:lastModifiedBy>word</cp:lastModifiedBy>
  <dcterms:modified xsi:type="dcterms:W3CDTF">2023-02-03T07:40:02Z</dcterms:modified>
  <cp:revision>311</cp:revision>
  <dc:subject/>
  <dc:title>Слайд 1</dc:title>
</cp:coreProperties>
</file>