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9087-DA90-4DAE-9246-67C1165D9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5E74-39F5-4785-B062-AF9529B1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60DB-0274-4E48-A648-A38C3A78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51D8-1E0E-4DE9-9BF9-55929B564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28FC-1A66-49D9-9E32-E28D82DB8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32C2-7CA6-4CBC-AD0D-09C9EE7A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FD9D-49EA-47EA-8460-5AC09EF5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D6DE-9731-4D28-9A1F-9B7AD02D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0116-54AA-412C-8560-E73D8BBA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FDC0-6D5E-4E64-940E-E8BB6E24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D20C-BE89-4C57-BB22-EED4B391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AA99-CE6A-432A-A624-C37FA378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AAAF-9886-4146-A571-A5A361D2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45EA-9719-475E-B8F6-1FA96C26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4AA5-1E67-4C47-B89D-1EE5FF24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811A-9AD5-427B-B939-0085050E9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313D-B7AD-477E-A99C-AB1A4A546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014463-2605-4258-81D0-E109936AC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E70420-ACDF-4460-9A6E-444D0E72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EE6D8A-27C5-4C5C-99C4-B89D7C0A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D511BC-A3C6-4DE3-84A1-0C6642B9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5E7001-6564-4177-9F35-77C1D536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E040-4837-4F53-A26D-5B6DF063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9C6513-B6ED-42E5-865D-6E74199B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56A9CC-C5B2-4CC0-9903-82650236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4F851B-2CAE-406F-A355-E785F6E9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02BB3F-C72D-4AC4-90AC-441CAE0E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63A1C7-DAE5-4D60-A834-ABBF2B6E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143F05-82CF-477D-94BB-BBB7E4E7B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D86783-22B9-4E6B-A386-3EAA8B476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ACCEF-E890-42B3-8505-AA3810F6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4E605-A4BB-4378-BBDF-18BA323D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0FCA4-CEF4-47BB-80D1-DAA9B9E0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573E-9CD2-4CA8-ACD5-94B32F58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368F3-416A-4D8F-A7B9-A28EA0A1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B2B5E-0789-44CC-B0D1-80F07058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83662-2BB5-4C63-8CEF-42F6DA25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D3DF3-0FAD-4554-A4AA-25B1D398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6BA55-D76E-4976-BE86-05F7CFD0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98D81-6B86-4208-8CE1-01BC43CB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F5A6E-CFC1-4D5D-B5B5-E7F5AFC7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E9D73-D8CB-4BAD-A128-EA9F9AC34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CF9C7-80D6-42BC-940E-9DD5CC528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77AB27-5624-4A53-9230-22886367D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B162-8B9F-47A6-928E-A3CE073B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9FEB70-3190-47F1-934F-3808A160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E4E8AD-F5E4-413F-BE75-BAF03D3F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8D4839-2B66-4327-92B8-D89F6781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107817-321E-4598-91F1-BB1D2252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CF2ADE-EBCD-4484-8A73-78B00F12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FE7F2E-8F1B-4732-B7AD-723CCBEF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C2FF03-6913-427B-8FB0-FDDC1E32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F160CC-A0D8-4EF2-97DB-950CC51A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D00319-EF35-4A70-B54F-09B5B292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2709DA-42AA-4E9D-8DA6-1FD0A7816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1EC5-3820-4126-886F-7C2A6975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248E09-CDA9-4BA3-AA20-851574B7D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06D19C-D3B0-4679-859B-1A5237D54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13A84F-777B-451A-A8FC-D2D4E6CF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585FDC-536F-43EB-8152-67E37254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754074-70FE-48E2-8FCD-6B4CE802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BB16F2-6819-4429-B81E-4AE1C1E2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0041A6-E88F-4D8B-9756-CCFAC528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8152AE-F764-47BD-A8AF-4300D88D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85E082-2884-4596-A090-86138559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A06C0E-F36B-4DB9-A375-7541E42C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D33A-1E8D-495F-8A04-873D9F85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7891A9-8EC8-40C7-937F-DB1F8B4A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D20BFB-AFD6-43CB-BA08-AD2370B72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2DC974-4A34-47D4-ACC4-80A47EAD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BF920B-FDCC-4F06-8919-65B2EAC9A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933ADE-6C8D-45D7-B06F-CE7036B1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D0F783-831E-4009-B05E-AA032F28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8A146E-A4C5-4622-B76E-29838E71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F18404-D851-4C81-A543-F8634494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CD68F5-7538-4E43-950B-2DAB2A5F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7CF8A2-AFF5-46E1-BAC1-02E89D48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2862-FCAD-4B71-9FB5-E53C12B2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8B43D8-A595-4A60-8D7C-0A8086FC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2E8B4C-FB20-4AE7-9B66-6457D997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7C0C45-E05D-4B9D-A97B-7E5B548F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9286A9-4519-4103-8D2B-2B4286BD8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0E89BE-2796-4B7F-BE03-678AA8513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BC3E-5D73-4CD0-9C43-4F51F69B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5b7b1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b8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8563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5b7b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2d6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5b7b1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41F5-6EBE-4C2E-817D-35EBE9A208D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Box 12"/>
          <p:cNvSpPr/>
          <p:nvPr/>
        </p:nvSpPr>
        <p:spPr>
          <a:xfrm>
            <a:off x="6643800" y="650088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fbfbf"/>
                </a:solidFill>
                <a:latin typeface="Arial"/>
              </a:rPr>
              <a:t>Тодораш Л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e5b7b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ed3c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ed3c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7eae9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e5b7b1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7eae9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e5b7b1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e5b7b1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b8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8563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5b7b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2d6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69E0-7135-4ADA-88ED-DCCF4CA42C0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5b7b1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5b7b1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6643800" y="650088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fbfbf"/>
                </a:solidFill>
                <a:latin typeface="Arial"/>
              </a:rPr>
              <a:t>Тодораш Л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b8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8563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5b7b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2d6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D8F9-5A72-4384-9211-8239D32A9FA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e5b7b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ed3c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ed3c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7eae9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e5b7b1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7eae9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e5b7b1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e5b7b1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b8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8563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5b7b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2d6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A693-064F-4FCC-A413-29015F240D4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5b7b1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5b7b1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2"/>
          <p:cNvSpPr/>
          <p:nvPr/>
        </p:nvSpPr>
        <p:spPr>
          <a:xfrm>
            <a:off x="6643800" y="650088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fbfbf"/>
                </a:solidFill>
                <a:latin typeface="Arial"/>
              </a:rPr>
              <a:t>Тодораш Л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b8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8563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5b7b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2d6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52F1-0644-4AC9-8DDE-1C13CEA3997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5b7b1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5b7b1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b8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8563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5b7b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2d6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48DA-5D99-46D2-A868-A6C8C466F4B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5b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b8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8563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5b7b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2d6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CEC7-7A78-48AE-8829-8AE466BECFD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85960" y="1643040"/>
            <a:ext cx="67867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« ТЕХНОЛОГИЯ «ГОВОРЯЩАЯ СРЕДА»</a:t>
            </a:r>
            <a:endParaRPr b="0" lang="en-US" sz="32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2071800" y="5786280"/>
            <a:ext cx="435744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Выполнил: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воспитатель  средней группы №14          Тодораш Л.А</a:t>
            </a:r>
            <a:r>
              <a:rPr b="1" lang="kk-KZ" sz="1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Подзаголовок 2"/>
          <p:cNvSpPr/>
          <p:nvPr/>
        </p:nvSpPr>
        <p:spPr>
          <a:xfrm>
            <a:off x="2571840" y="285840"/>
            <a:ext cx="58579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ДОУ «Детский сад № 250 г. Челябинс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Рисунок 4" descr="E:\Документы\Мои документы\Наши документы\Мамино\фото 23\20230130_100552.jpg"/>
          <p:cNvPicPr/>
          <p:nvPr/>
        </p:nvPicPr>
        <p:blipFill>
          <a:blip r:embed="rId1"/>
          <a:stretch/>
        </p:blipFill>
        <p:spPr>
          <a:xfrm>
            <a:off x="5851440" y="2567160"/>
            <a:ext cx="3090960" cy="39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356920" y="274320"/>
            <a:ext cx="4929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18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51600" y="2110320"/>
            <a:ext cx="1767960" cy="1566000"/>
          </a:xfrm>
          <a:prstGeom prst="rect">
            <a:avLst/>
          </a:prstGeom>
          <a:solidFill>
            <a:srgbClr val="ffe947"/>
          </a:solidFill>
          <a:ln w="25560">
            <a:solidFill>
              <a:srgbClr val="00b0f0"/>
            </a:solidFill>
            <a:miter/>
          </a:ln>
        </p:spPr>
        <p:txBody>
          <a:bodyPr anchor="ctr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ГОС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Прямоугольник 7"/>
          <p:cNvSpPr/>
          <p:nvPr/>
        </p:nvSpPr>
        <p:spPr>
          <a:xfrm>
            <a:off x="4857840" y="1643040"/>
            <a:ext cx="3500280" cy="2928960"/>
          </a:xfrm>
          <a:prstGeom prst="rect">
            <a:avLst/>
          </a:prstGeom>
          <a:solidFill>
            <a:srgbClr val="ffc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Century Schoolbook"/>
              </a:rPr>
              <a:t>Создать  образовательное простран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Century Schoolbook"/>
              </a:rPr>
              <a:t>(способное обеспечить развитие самостоятельности ребёнка, сделать его полноценным субъектом образовательных отношений</a:t>
            </a: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6"/>
          <p:cNvSpPr/>
          <p:nvPr/>
        </p:nvSpPr>
        <p:spPr>
          <a:xfrm>
            <a:off x="3145320" y="21430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10"/>
          <p:cNvSpPr/>
          <p:nvPr/>
        </p:nvSpPr>
        <p:spPr>
          <a:xfrm>
            <a:off x="1071720" y="5286240"/>
            <a:ext cx="60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70be5"/>
                </a:solidFill>
                <a:latin typeface="Times New Roman"/>
                <a:ea typeface="Times New Roman"/>
              </a:rPr>
              <a:t>Развивающая Предметно Пространственная Сре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Стрелка влево 9"/>
          <p:cNvSpPr/>
          <p:nvPr/>
        </p:nvSpPr>
        <p:spPr>
          <a:xfrm rot="16200000">
            <a:off x="6190560" y="4311000"/>
            <a:ext cx="977760" cy="785520"/>
          </a:xfrm>
          <a:prstGeom prst="leftArrow">
            <a:avLst>
              <a:gd name="adj1" fmla="val 50000"/>
              <a:gd name="adj2" fmla="val 50014"/>
            </a:avLst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Стрелка вправо 11"/>
          <p:cNvSpPr/>
          <p:nvPr/>
        </p:nvSpPr>
        <p:spPr>
          <a:xfrm>
            <a:off x="2928960" y="2571840"/>
            <a:ext cx="1857240" cy="91260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entury Schoolbook"/>
              </a:rPr>
              <a:t>Треб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ДИН ИЗ ЭЛЕМЕНТОВ РППС </a:t>
            </a:r>
            <a:endParaRPr b="0" lang="en-US" sz="18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66" name="Овал 3"/>
          <p:cNvSpPr/>
          <p:nvPr/>
        </p:nvSpPr>
        <p:spPr>
          <a:xfrm>
            <a:off x="357120" y="1643040"/>
            <a:ext cx="2428920" cy="19288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ff"/>
                </a:solidFill>
                <a:latin typeface="Century Schoolbook"/>
              </a:rPr>
              <a:t>РПП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Равнобедренный треугольник 6"/>
          <p:cNvSpPr/>
          <p:nvPr/>
        </p:nvSpPr>
        <p:spPr>
          <a:xfrm>
            <a:off x="4429080" y="1285920"/>
            <a:ext cx="3357720" cy="228600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Century Schoolbook"/>
              </a:rPr>
              <a:t>«Говорящая сре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7"/>
          <p:cNvSpPr/>
          <p:nvPr/>
        </p:nvSpPr>
        <p:spPr>
          <a:xfrm>
            <a:off x="4214880" y="3714840"/>
            <a:ext cx="3857400" cy="2786040"/>
          </a:xfrm>
          <a:prstGeom prst="rect">
            <a:avLst/>
          </a:prstGeom>
          <a:solidFill>
            <a:srgbClr val="e3bc92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Century Schoolbook"/>
              </a:rPr>
              <a:t>Ребёнок получая необходимую информацию, имеет широкий выбор для своей деятельности, может по своёму усмотрению конструктивно использовать подготовленный педагогом информационный ресур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Стрелка вправо 8"/>
          <p:cNvSpPr/>
          <p:nvPr/>
        </p:nvSpPr>
        <p:spPr>
          <a:xfrm>
            <a:off x="3071880" y="2071800"/>
            <a:ext cx="1571400" cy="92844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74674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ГОВОРЯЩАЯ» СРЕДА-  ЭТО  ТЕХНОЛОГИЯ</a:t>
            </a:r>
            <a:br>
              <a:rPr sz="1600"/>
            </a:br>
            <a:endParaRPr b="0" lang="en-US" sz="16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928440"/>
            <a:ext cx="7467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Прямоугольник 3"/>
          <p:cNvSpPr/>
          <p:nvPr/>
        </p:nvSpPr>
        <p:spPr>
          <a:xfrm>
            <a:off x="857160" y="1071720"/>
            <a:ext cx="3714840" cy="3071520"/>
          </a:xfrm>
          <a:prstGeom prst="rect">
            <a:avLst/>
          </a:prstGeom>
          <a:solidFill>
            <a:srgbClr val="99ff9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создание условий для полноценного развития дошкольников по всем образовательным областям ФГОС ДО в соответствии с конкретными особенностями и требованиями образовательной программы детского с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4"/>
          <p:cNvSpPr/>
          <p:nvPr/>
        </p:nvSpPr>
        <p:spPr>
          <a:xfrm>
            <a:off x="5072040" y="2357280"/>
            <a:ext cx="3143160" cy="3000600"/>
          </a:xfrm>
          <a:prstGeom prst="rect">
            <a:avLst/>
          </a:prstGeom>
          <a:solidFill>
            <a:srgbClr val="92d05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Задач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5680" algn="ctr">
              <a:lnSpc>
                <a:spcPct val="100000"/>
              </a:lnSpc>
              <a:buClr>
                <a:srgbClr val="66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Создать условия для проявления познавательной активности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5680" algn="ctr">
              <a:lnSpc>
                <a:spcPct val="100000"/>
              </a:lnSpc>
              <a:buClr>
                <a:srgbClr val="66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Создать условия для творческого самовы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5680" algn="ctr">
              <a:lnSpc>
                <a:spcPct val="100000"/>
              </a:lnSpc>
              <a:buClr>
                <a:srgbClr val="66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Создать атмосферу эмоционального комфо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5"/>
          <p:cNvSpPr/>
          <p:nvPr/>
        </p:nvSpPr>
        <p:spPr>
          <a:xfrm>
            <a:off x="1285920" y="4929120"/>
            <a:ext cx="3429000" cy="1343160"/>
          </a:xfrm>
          <a:prstGeom prst="rect">
            <a:avLst/>
          </a:prstGeom>
          <a:solidFill>
            <a:srgbClr val="00b05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Структура техн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5680" algn="just">
              <a:lnSpc>
                <a:spcPct val="100000"/>
              </a:lnSpc>
              <a:buClr>
                <a:srgbClr val="66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Развивающа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5680" algn="just">
              <a:lnSpc>
                <a:spcPct val="100000"/>
              </a:lnSpc>
              <a:buClr>
                <a:srgbClr val="66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Интерактивна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5680" algn="just">
              <a:lnSpc>
                <a:spcPct val="100000"/>
              </a:lnSpc>
              <a:buClr>
                <a:srgbClr val="66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Сенсор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КАК СОЗДАТЬ «ГОВОРЯЩУЮ СРЕДУ»</a:t>
            </a:r>
            <a:br>
              <a:rPr sz="1800"/>
            </a:br>
            <a:endParaRPr b="0" lang="en-US" sz="18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2d6aa"/>
              </a:buClr>
              <a:buSzPct val="68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Прямоугольник 3"/>
          <p:cNvSpPr/>
          <p:nvPr/>
        </p:nvSpPr>
        <p:spPr>
          <a:xfrm>
            <a:off x="3357720" y="2357280"/>
            <a:ext cx="142848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Schoolbook"/>
              </a:rPr>
              <a:t>Ребён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4"/>
          <p:cNvSpPr/>
          <p:nvPr/>
        </p:nvSpPr>
        <p:spPr>
          <a:xfrm>
            <a:off x="857160" y="2357280"/>
            <a:ext cx="1357560" cy="986040"/>
          </a:xfrm>
          <a:prstGeom prst="rect">
            <a:avLst/>
          </a:prstGeom>
          <a:solidFill>
            <a:srgbClr val="6600ff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entury Schoolbook"/>
              </a:rPr>
              <a:t>Педагог</a:t>
            </a: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6"/>
          <p:cNvSpPr/>
          <p:nvPr/>
        </p:nvSpPr>
        <p:spPr>
          <a:xfrm>
            <a:off x="6072120" y="2357280"/>
            <a:ext cx="1357560" cy="914400"/>
          </a:xfrm>
          <a:prstGeom prst="rect">
            <a:avLst/>
          </a:prstGeom>
          <a:solidFill>
            <a:srgbClr val="a70be5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entury Schoolbook"/>
              </a:rPr>
              <a:t>Ма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entury Schoolbook"/>
              </a:rPr>
              <a:t>Пап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люс 10"/>
          <p:cNvSpPr/>
          <p:nvPr/>
        </p:nvSpPr>
        <p:spPr>
          <a:xfrm>
            <a:off x="2357280" y="2428920"/>
            <a:ext cx="914400" cy="914400"/>
          </a:xfrm>
          <a:prstGeom prst="pie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люс 12"/>
          <p:cNvSpPr/>
          <p:nvPr/>
        </p:nvSpPr>
        <p:spPr>
          <a:xfrm>
            <a:off x="5000760" y="2357280"/>
            <a:ext cx="914400" cy="914400"/>
          </a:xfrm>
          <a:prstGeom prst="pie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Выноска со стрелкой вверх 15"/>
          <p:cNvSpPr/>
          <p:nvPr/>
        </p:nvSpPr>
        <p:spPr>
          <a:xfrm>
            <a:off x="1143000" y="3571920"/>
            <a:ext cx="6143760" cy="2571840"/>
          </a:xfrm>
          <a:prstGeom prst="upArrowCallout">
            <a:avLst>
              <a:gd name="adj1" fmla="val 24997"/>
              <a:gd name="adj2" fmla="val 24994"/>
              <a:gd name="adj3" fmla="val 25000"/>
              <a:gd name="adj4" fmla="val 70041"/>
            </a:avLst>
          </a:prstGeom>
          <a:solidFill>
            <a:srgbClr val="99ff9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Демонстрационный материал, игры, игрушки, таблицы, книги, иллюстрации и  пособия, макеты и тренажёры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Все создается детьми, их родителями и педагогами в процессе совместн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ФФЕКТИВНОСТЬ ВНЕДРЕНИЯ «ГОВОРЯЩИЙ СРЕДЫ»</a:t>
            </a:r>
            <a:endParaRPr b="0" lang="en-US" sz="18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928440"/>
            <a:ext cx="7467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Овал 3"/>
          <p:cNvSpPr/>
          <p:nvPr/>
        </p:nvSpPr>
        <p:spPr>
          <a:xfrm>
            <a:off x="3000240" y="1357200"/>
            <a:ext cx="2571840" cy="1571760"/>
          </a:xfrm>
          <a:prstGeom prst="ellipse">
            <a:avLst/>
          </a:prstGeom>
          <a:solidFill>
            <a:srgbClr val="ff00ff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entury Schoolbook"/>
              </a:rPr>
              <a:t>«Говорящая сре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Овал 4"/>
          <p:cNvSpPr/>
          <p:nvPr/>
        </p:nvSpPr>
        <p:spPr>
          <a:xfrm>
            <a:off x="357120" y="2071800"/>
            <a:ext cx="3786120" cy="3286080"/>
          </a:xfrm>
          <a:prstGeom prst="ellipse">
            <a:avLst/>
          </a:prstGeom>
          <a:solidFill>
            <a:srgbClr val="99ff9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Дети знают, что и где расположено в их группе, что, безусловно, помогает им чувствовать себя свободно и комфортно, они могут воплощать все задуманные ид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Овал 5"/>
          <p:cNvSpPr/>
          <p:nvPr/>
        </p:nvSpPr>
        <p:spPr>
          <a:xfrm>
            <a:off x="3857760" y="3143160"/>
            <a:ext cx="3786120" cy="29289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Родителям «говорящая среда» рассказывает, чем наполнена жизнь детей в детском са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Овал 6"/>
          <p:cNvSpPr/>
          <p:nvPr/>
        </p:nvSpPr>
        <p:spPr>
          <a:xfrm>
            <a:off x="4929120" y="1000080"/>
            <a:ext cx="3143160" cy="27147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Педагогу помогает эффективно планировать дальнейшее взаимодействие с дет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ИЛОСОФИЯ «ГОВОРЯЩЕЙ СРЕДЫ»</a:t>
            </a:r>
            <a:r>
              <a:rPr b="1" i="1" lang="ru-RU" sz="3200" spc="-1" strike="noStrike">
                <a:solidFill>
                  <a:srgbClr val="ff33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928440"/>
            <a:ext cx="7467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Овал 6"/>
          <p:cNvSpPr/>
          <p:nvPr/>
        </p:nvSpPr>
        <p:spPr>
          <a:xfrm>
            <a:off x="214200" y="857160"/>
            <a:ext cx="3214800" cy="33577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инструмент, который позволяет необычным образом изменить развивающую предметно-пространственную среду группы детского сада,  в своеобразный живой экр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Овал 7"/>
          <p:cNvSpPr/>
          <p:nvPr/>
        </p:nvSpPr>
        <p:spPr>
          <a:xfrm>
            <a:off x="4071960" y="928800"/>
            <a:ext cx="4071960" cy="22860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даёт возможность взрослому и ребёнку совместно участвовать в создании окружающей среды, которая может изменяться и легко трансформировать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Овал 8"/>
          <p:cNvSpPr/>
          <p:nvPr/>
        </p:nvSpPr>
        <p:spPr>
          <a:xfrm>
            <a:off x="2357280" y="4214880"/>
            <a:ext cx="2714760" cy="2357280"/>
          </a:xfrm>
          <a:prstGeom prst="ellipse">
            <a:avLst/>
          </a:prstGeom>
          <a:solidFill>
            <a:srgbClr val="e3a192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позволяет изменять предметно-пространственную среду с учётом образовательной ситу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Овал 9"/>
          <p:cNvSpPr/>
          <p:nvPr/>
        </p:nvSpPr>
        <p:spPr>
          <a:xfrm>
            <a:off x="2928960" y="2428920"/>
            <a:ext cx="2071800" cy="17143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создаёт условия для игровой, познавательной, творческой активности де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Овал 10"/>
          <p:cNvSpPr/>
          <p:nvPr/>
        </p:nvSpPr>
        <p:spPr>
          <a:xfrm>
            <a:off x="714240" y="4286160"/>
            <a:ext cx="2071800" cy="1285920"/>
          </a:xfrm>
          <a:prstGeom prst="ellipse">
            <a:avLst/>
          </a:prstGeom>
          <a:solidFill>
            <a:srgbClr val="99ff9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беспечивает эмоциональный комфорт для дет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Овал 11"/>
          <p:cNvSpPr/>
          <p:nvPr/>
        </p:nvSpPr>
        <p:spPr>
          <a:xfrm>
            <a:off x="4786200" y="3357720"/>
            <a:ext cx="3286080" cy="278604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развивает внимание, память, мелкую моторику, речь, зрительное и слуховое восприятие, воображение, творческое мышление дошкольник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БЛЕМА ПРИ ОРГАНИЗАЦИИ «ГОВОРЯЩЕЙ СРЕДЫ»</a:t>
            </a:r>
            <a:endParaRPr b="0" lang="en-US" sz="18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6840" y="928440"/>
            <a:ext cx="7467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Двойная волна 3"/>
          <p:cNvSpPr/>
          <p:nvPr/>
        </p:nvSpPr>
        <p:spPr>
          <a:xfrm>
            <a:off x="2571840" y="1071720"/>
            <a:ext cx="3429000" cy="914400"/>
          </a:xfrm>
          <a:custGeom>
            <a:avLst/>
            <a:gdLst>
              <a:gd name="textAreaLeft" fmla="*/ 0 w 3429000"/>
              <a:gd name="textAreaRight" fmla="*/ 3429360 w 3429000"/>
              <a:gd name="textAreaTop" fmla="*/ 114120 h 914400"/>
              <a:gd name="textAreaBottom" fmla="*/ 8002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solidFill>
            <a:srgbClr val="ff00ff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бле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т необходимой площад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Стрелка вправо 4" descr=""/>
          <p:cNvPicPr/>
          <p:nvPr/>
        </p:nvPicPr>
        <p:blipFill>
          <a:blip r:embed="rId1"/>
          <a:stretch/>
        </p:blipFill>
        <p:spPr>
          <a:xfrm>
            <a:off x="3608280" y="2193840"/>
            <a:ext cx="1287720" cy="2762280"/>
          </a:xfrm>
          <a:prstGeom prst="rect">
            <a:avLst/>
          </a:prstGeom>
          <a:ln w="0">
            <a:noFill/>
          </a:ln>
        </p:spPr>
      </p:pic>
      <p:sp>
        <p:nvSpPr>
          <p:cNvPr id="401" name="Горизонтальный свиток 5"/>
          <p:cNvSpPr/>
          <p:nvPr/>
        </p:nvSpPr>
        <p:spPr>
          <a:xfrm>
            <a:off x="2071800" y="4857840"/>
            <a:ext cx="4572000" cy="1428840"/>
          </a:xfrm>
          <a:prstGeom prst="horizontalScroll">
            <a:avLst>
              <a:gd name="adj" fmla="val 12500"/>
            </a:avLst>
          </a:prstGeom>
          <a:solidFill>
            <a:srgbClr val="a70be5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астичный перенос образовательного пространства с горизонтали в вертик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ДВЕДЁМ ИТОГ</a:t>
            </a:r>
            <a:endParaRPr b="0" lang="en-US" sz="18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56760" y="1428480"/>
            <a:ext cx="800100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: развивающая предметно-пространственная среда в дошкольном образовательном учреждении должна соответствовать всем принципам развивающего пространства ДОУ: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d16349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содержательно-насыщенной ;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d16349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ей;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d16349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формируемой;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d16349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функциональной;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d16349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тивной;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d16349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ой и безопасной;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d16349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акже, обязательно, «говорящей»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, проверенная практикой технология, дает огромный положительный результат в решении задач всестороннего развития ребенка — физическом и духовном развитии в целом, будет способствовать формированию познавательных интересов, трудовых навыков, воображения, и просто правильного позитивного человеческого роста и общения! </a:t>
            </a:r>
            <a:br>
              <a:rPr sz="1500"/>
            </a:br>
            <a:r>
              <a:rPr b="1" i="1" lang="ru-RU" sz="1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1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ать с «говорящей средой»  – выбор педагога.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4" name="Рисунок 4" descr="E:\Документы\Мои документы\Наши документы\Мамино\фото 23\2023\5728553706024752806.jpg"/>
          <p:cNvPicPr/>
          <p:nvPr/>
        </p:nvPicPr>
        <p:blipFill>
          <a:blip r:embed="rId1"/>
          <a:stretch/>
        </p:blipFill>
        <p:spPr>
          <a:xfrm>
            <a:off x="4425840" y="2279520"/>
            <a:ext cx="379728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08:11:38Z</dcterms:created>
  <dc:creator>555</dc:creator>
  <dc:description/>
  <dc:language>en-US</dc:language>
  <cp:lastModifiedBy>Владимир</cp:lastModifiedBy>
  <dcterms:modified xsi:type="dcterms:W3CDTF">2023-02-03T09:51:32Z</dcterms:modified>
  <cp:revision>273</cp:revision>
  <dc:subject/>
  <dc:title>Управление педагогическим  процессом  в деятельности старшего воспитателя.</dc:title>
</cp:coreProperties>
</file>