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B97C-E02A-477A-B7F0-9E76D71F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EA7D-1772-47B3-8952-8AD4BE87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C019-0AC0-44EC-9DA4-BB2F2976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5B5A-2D62-47F8-B448-2EA168B9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65FF-9AAE-4C67-B75C-A38A4036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029E-549B-4E4F-805B-C0A06265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B61E-EB9B-40A5-8C9C-237802B6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61BE-8899-4CE7-A99C-9130FA5D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F0CF-72B3-4D27-9520-02C1091B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08C2-2BD2-44BF-BB05-F07D8B19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4ADD-B515-4FD8-98ED-B70E03C5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A94-D1AF-4A04-B6C7-DC950BE2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0924-C382-4D84-944B-05C177DD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0636-2132-4C40-91B2-1D3B2B8C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5B2F-3036-44E7-8664-1F4D09BF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FDDF-08E1-4ADF-9227-323282F8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8507-CC66-4E9F-BF1B-9DA350A5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8AB26E-651F-4FDC-B5CE-3A5DB46E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42A56-AAFF-48D8-90B1-8C258C2F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76EE2-4AE0-43B3-B5A8-06851BF1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55FB2-1954-4009-91A7-F07EEF65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443F4-69CF-4AD6-97C4-32379C3D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D5D-4A82-4E7B-9E24-9D2BD8ED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3E327-E06A-4055-BE3F-BCE8CE9E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1E1DE-0EF6-4240-983A-714C8105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CB431-8E7E-456D-BF60-8118EF7E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9D323B-C3CD-4C11-962D-AAC65B7F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7D10F-011E-42FB-9300-D550E0BA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34622-9228-4F34-949C-61CFADC8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65CCC-F230-4D81-98C5-7FA3BBDF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19F45-C118-4670-9C52-87DCC2C1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A504C-4ABC-4F22-9815-14CCE731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DDC46-1EB4-4128-8F3E-BF03C816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35F1-8B87-444E-80D0-E6805236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D14A6-57BB-4532-A366-DA63CAA3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BECE7-FCDF-43F4-B7D9-EB660BAF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DB28C-95F0-4F9D-BBA2-A1FA5A60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85B3A-CB04-401D-AA76-B593D1C4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36208-FF95-4AD7-BC26-9C515D6B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E4934-4E95-4AEF-BE86-1749C610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48D89-BAFE-47A3-84C2-949B0ECA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13AAF-2275-4B1F-9032-FFCABB86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649CF-203D-42F3-83E8-CDBD7F22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1AA67D-EB5C-4842-B1AB-9DD82063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604F-D633-413A-8E40-02E1F041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1DFF5A-B6D7-4063-87C2-A09CFF25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78AF05-D7F5-4F04-9CBC-EBDD153B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17A428-815A-4D35-9CDC-EAD47A99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CF5819-F15E-425A-8EEA-A2EB6FF1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48BBBC-EBED-4ADC-BB1F-79DCA9E0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7E15E6-CA70-4A4E-A516-F3A9542E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CEA112-62CC-4271-BFFD-D5D6B8DA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61CDED-22D5-4FFC-B024-6989D2BB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211B3A-D01E-4C40-B297-68AD0CB4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49C7FF-B87F-42BB-8298-222FC0CB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3C1B-BEF1-445A-B7CE-78883EF1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DD5F84-CBDF-4A97-91B3-1AF806FE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32FC7E-BA65-4237-BBA0-F9C4AD68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6DFDE2-55CE-45AA-A96F-DE9482E6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6AE2A4-BF04-48D9-B93A-B7712E78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E4BA25-4647-4CA1-81BC-90B8EFBC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FC09F6-C6B5-433A-8408-291B204E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85F2D6-B27A-4FF7-8029-1CA7F39E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E916F1-CDB8-4543-90ED-4D2D8841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35CE3A-8259-408A-9ABE-C51BFD7A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C5EA35-2595-4FE1-903A-2A5CF848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D336-EBBB-4E9A-9845-5DA02CC8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DF094C-8C55-4413-9D2D-C4B97CB1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FB8BA3-D42D-4062-B2AD-9D9C2E21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5ECC4D-8889-4236-86F1-A10903FF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0AFDBC-6F7F-4CDC-8E07-93A2BB13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2FDF4C-F819-4F38-82F2-7456EA18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AAA110-2901-4988-B417-3E9FE1DC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05902F-9434-4F01-90BB-B6283C0E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BAA046-CFC1-481D-919C-C474960C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1AE4B6-7B89-4242-BEE9-49656197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9EAE9A-5A50-4262-B3F0-4C773B2B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931-A1D2-4EC2-9DE3-67738DB0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6D3677-FB83-4406-BDD1-D53A841B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44B37B-7325-4816-898F-9578103E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9F50EB-6BD3-4CE3-8EBB-ACEBAF28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07BF59-E8B8-4B94-B781-60CA8EF6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D3600D-CAE1-4EBA-BBAA-ED63F27E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223C-A23C-486B-9DF7-D5E80AC9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5b7b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8563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5b7b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2d6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4A02-3C0B-4CF7-9A59-7B3875F7F70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Box 12"/>
          <p:cNvSpPr/>
          <p:nvPr/>
        </p:nvSpPr>
        <p:spPr>
          <a:xfrm>
            <a:off x="6643800" y="650088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fbfbf"/>
                </a:solidFill>
                <a:latin typeface="Arial"/>
              </a:rPr>
              <a:t>Тодораш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5b7b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ed3c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ed3c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7eae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5b7b1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7eae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5b7b1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5b7b1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8563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5b7b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2d6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EA41-DFED-4037-BB2A-DA2A60BFF69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5b7b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6643800" y="650088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fbfbf"/>
                </a:solidFill>
                <a:latin typeface="Arial"/>
              </a:rPr>
              <a:t>Тодораш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8563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5b7b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2d6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D573-C50B-449A-B434-8B452FE4D90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5b7b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ed3c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ed3c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7eae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5b7b1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7eae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5b7b1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5b7b1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8563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5b7b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2d6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E9D0-AF8C-4EB5-AAEF-A4C023C4911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5b7b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2"/>
          <p:cNvSpPr/>
          <p:nvPr/>
        </p:nvSpPr>
        <p:spPr>
          <a:xfrm>
            <a:off x="6643800" y="650088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fbfbf"/>
                </a:solidFill>
                <a:latin typeface="Arial"/>
              </a:rPr>
              <a:t>Тодораш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8563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5b7b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2d6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CEA5-D95C-4B14-8FA6-5033C038BFE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5b7b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8563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5b7b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2d6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8AEA-55B4-4EE8-A9FF-8FC96D13055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b8563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5b7b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2d6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F38C-56E3-4095-9AD6-D0571D25B0F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85960" y="1643040"/>
            <a:ext cx="67867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« ТЕХНОЛОГИЯ «ГОВОРЯЩАЯ СРЕДА»</a:t>
            </a:r>
            <a:endParaRPr b="0" lang="en-US" sz="32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071800" y="5786280"/>
            <a:ext cx="435744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Выполнил: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воспитатель  средней группы №14          Тодораш Л.А</a:t>
            </a:r>
            <a:r>
              <a:rPr b="1" lang="kk-KZ" sz="1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Подзаголовок 2"/>
          <p:cNvSpPr/>
          <p:nvPr/>
        </p:nvSpPr>
        <p:spPr>
          <a:xfrm>
            <a:off x="2571840" y="285840"/>
            <a:ext cx="58579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ДОУ «Детский сад № 250 г. Челябинс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Рисунок 4" descr="E:\Документы\Мои документы\Наши документы\Мамино\фото 23\20230130_100552.jpg"/>
          <p:cNvPicPr/>
          <p:nvPr/>
        </p:nvPicPr>
        <p:blipFill>
          <a:blip r:embed="rId1"/>
          <a:stretch/>
        </p:blipFill>
        <p:spPr>
          <a:xfrm>
            <a:off x="5851440" y="2567160"/>
            <a:ext cx="3090960" cy="39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356920" y="274320"/>
            <a:ext cx="4929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18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51600" y="2110320"/>
            <a:ext cx="1767960" cy="1566000"/>
          </a:xfrm>
          <a:prstGeom prst="rect">
            <a:avLst/>
          </a:prstGeom>
          <a:solidFill>
            <a:srgbClr val="ffe947"/>
          </a:solidFill>
          <a:ln w="25560">
            <a:solidFill>
              <a:srgbClr val="00b0f0"/>
            </a:solidFill>
            <a:miter/>
          </a:ln>
        </p:spPr>
        <p:txBody>
          <a:bodyPr anchor="ctr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ГОС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оугольник 7"/>
          <p:cNvSpPr/>
          <p:nvPr/>
        </p:nvSpPr>
        <p:spPr>
          <a:xfrm>
            <a:off x="4857840" y="1643040"/>
            <a:ext cx="3500280" cy="2928960"/>
          </a:xfrm>
          <a:prstGeom prst="rect">
            <a:avLst/>
          </a:prstGeom>
          <a:solidFill>
            <a:srgbClr val="ffc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Century Schoolbook"/>
              </a:rPr>
              <a:t>Создать  образовательное простра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Century Schoolbook"/>
              </a:rPr>
              <a:t>(способное обеспечить развитие самостоятельности ребёнка, сделать его полноценным субъектом образовательных отношений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6"/>
          <p:cNvSpPr/>
          <p:nvPr/>
        </p:nvSpPr>
        <p:spPr>
          <a:xfrm>
            <a:off x="3145320" y="21430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10"/>
          <p:cNvSpPr/>
          <p:nvPr/>
        </p:nvSpPr>
        <p:spPr>
          <a:xfrm>
            <a:off x="1071720" y="5286240"/>
            <a:ext cx="60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70be5"/>
                </a:solidFill>
                <a:latin typeface="Times New Roman"/>
                <a:ea typeface="Times New Roman"/>
              </a:rPr>
              <a:t>Развивающая Предметно Пространственная С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Стрелка влево 9"/>
          <p:cNvSpPr/>
          <p:nvPr/>
        </p:nvSpPr>
        <p:spPr>
          <a:xfrm rot="16200000">
            <a:off x="6190560" y="4311000"/>
            <a:ext cx="977760" cy="785520"/>
          </a:xfrm>
          <a:prstGeom prst="leftArrow">
            <a:avLst>
              <a:gd name="adj1" fmla="val 50000"/>
              <a:gd name="adj2" fmla="val 50014"/>
            </a:avLst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трелка вправо 11"/>
          <p:cNvSpPr/>
          <p:nvPr/>
        </p:nvSpPr>
        <p:spPr>
          <a:xfrm>
            <a:off x="2928960" y="2571840"/>
            <a:ext cx="1857240" cy="91260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entury Schoolbook"/>
              </a:rPr>
              <a:t>Треб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ДИН ИЗ ЭЛЕМЕНТОВ РППС </a:t>
            </a:r>
            <a:endParaRPr b="0" lang="en-US" sz="18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66" name="Овал 3"/>
          <p:cNvSpPr/>
          <p:nvPr/>
        </p:nvSpPr>
        <p:spPr>
          <a:xfrm>
            <a:off x="357120" y="1643040"/>
            <a:ext cx="2428920" cy="19288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ff"/>
                </a:solidFill>
                <a:latin typeface="Century Schoolbook"/>
              </a:rPr>
              <a:t>РПП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Равнобедренный треугольник 6"/>
          <p:cNvSpPr/>
          <p:nvPr/>
        </p:nvSpPr>
        <p:spPr>
          <a:xfrm>
            <a:off x="4429080" y="1285920"/>
            <a:ext cx="3357720" cy="228600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Century Schoolbook"/>
              </a:rPr>
              <a:t>«Говорящая сре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7"/>
          <p:cNvSpPr/>
          <p:nvPr/>
        </p:nvSpPr>
        <p:spPr>
          <a:xfrm>
            <a:off x="4214880" y="3714840"/>
            <a:ext cx="3857400" cy="2786040"/>
          </a:xfrm>
          <a:prstGeom prst="rect">
            <a:avLst/>
          </a:prstGeom>
          <a:solidFill>
            <a:srgbClr val="e3bc92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Century Schoolbook"/>
              </a:rPr>
              <a:t>Ребёнок получая необходимую информацию, имеет широкий выбор для своей деятельности, может по своёму усмотрению конструктивно использовать подготовленный педагогом информационный ресур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трелка вправо 8"/>
          <p:cNvSpPr/>
          <p:nvPr/>
        </p:nvSpPr>
        <p:spPr>
          <a:xfrm>
            <a:off x="3071880" y="2071800"/>
            <a:ext cx="1571400" cy="9284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7467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ГОВОРЯЩАЯ» СРЕДА-  ЭТО  ТЕХНОЛОГИЯ</a:t>
            </a:r>
            <a:br>
              <a:rPr sz="1600"/>
            </a:br>
            <a:endParaRPr b="0" lang="en-US" sz="16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857160" y="1071720"/>
            <a:ext cx="3714840" cy="3071520"/>
          </a:xfrm>
          <a:prstGeom prst="rect">
            <a:avLst/>
          </a:prstGeom>
          <a:solidFill>
            <a:srgbClr val="99ff9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создание условий для полноценного развития дошкольников по всем образовательным областям ФГОС ДО в соответствии с конкретными особенностями и требованиями образовательной программы детского с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4"/>
          <p:cNvSpPr/>
          <p:nvPr/>
        </p:nvSpPr>
        <p:spPr>
          <a:xfrm>
            <a:off x="5072040" y="2357280"/>
            <a:ext cx="3143160" cy="3000600"/>
          </a:xfrm>
          <a:prstGeom prst="rect">
            <a:avLst/>
          </a:prstGeom>
          <a:solidFill>
            <a:srgbClr val="92d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 algn="ctr">
              <a:lnSpc>
                <a:spcPct val="100000"/>
              </a:lnSpc>
              <a:buClr>
                <a:srgbClr val="66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Создать условия для проявления познавательной активности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 algn="ctr">
              <a:lnSpc>
                <a:spcPct val="100000"/>
              </a:lnSpc>
              <a:buClr>
                <a:srgbClr val="66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Создать условия для творческого самовы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 algn="ctr">
              <a:lnSpc>
                <a:spcPct val="100000"/>
              </a:lnSpc>
              <a:buClr>
                <a:srgbClr val="66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Создать атмосферу эмоционального комф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5"/>
          <p:cNvSpPr/>
          <p:nvPr/>
        </p:nvSpPr>
        <p:spPr>
          <a:xfrm>
            <a:off x="1285920" y="4929120"/>
            <a:ext cx="3429000" cy="1343160"/>
          </a:xfrm>
          <a:prstGeom prst="rect">
            <a:avLst/>
          </a:pr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Структура 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100000"/>
              </a:lnSpc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Развивающа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100000"/>
              </a:lnSpc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Интерактивна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100000"/>
              </a:lnSpc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Сенсор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КАК СОЗДАТЬ «ГОВОРЯЩУЮ СРЕДУ»</a:t>
            </a:r>
            <a:br>
              <a:rPr sz="1800"/>
            </a:br>
            <a:endParaRPr b="0" lang="en-US" sz="18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2d6aa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Прямоугольник 3"/>
          <p:cNvSpPr/>
          <p:nvPr/>
        </p:nvSpPr>
        <p:spPr>
          <a:xfrm>
            <a:off x="3357720" y="2357280"/>
            <a:ext cx="142848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Ребён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4"/>
          <p:cNvSpPr/>
          <p:nvPr/>
        </p:nvSpPr>
        <p:spPr>
          <a:xfrm>
            <a:off x="857160" y="2357280"/>
            <a:ext cx="1357560" cy="986040"/>
          </a:xfrm>
          <a:prstGeom prst="rect">
            <a:avLst/>
          </a:prstGeom>
          <a:solidFill>
            <a:srgbClr val="6600ff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entury Schoolbook"/>
              </a:rPr>
              <a:t>Педагог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6"/>
          <p:cNvSpPr/>
          <p:nvPr/>
        </p:nvSpPr>
        <p:spPr>
          <a:xfrm>
            <a:off x="6072120" y="2357280"/>
            <a:ext cx="1357560" cy="914400"/>
          </a:xfrm>
          <a:prstGeom prst="rect">
            <a:avLst/>
          </a:prstGeom>
          <a:solidFill>
            <a:srgbClr val="a70be5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entury Schoolbook"/>
              </a:rPr>
              <a:t>Ма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entury Schoolbook"/>
              </a:rPr>
              <a:t>Па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люс 10"/>
          <p:cNvSpPr/>
          <p:nvPr/>
        </p:nvSpPr>
        <p:spPr>
          <a:xfrm>
            <a:off x="2357280" y="2428920"/>
            <a:ext cx="914400" cy="914400"/>
          </a:xfrm>
          <a:prstGeom prst="pie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люс 12"/>
          <p:cNvSpPr/>
          <p:nvPr/>
        </p:nvSpPr>
        <p:spPr>
          <a:xfrm>
            <a:off x="5000760" y="2357280"/>
            <a:ext cx="914400" cy="914400"/>
          </a:xfrm>
          <a:prstGeom prst="pie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Выноска со стрелкой вверх 15"/>
          <p:cNvSpPr/>
          <p:nvPr/>
        </p:nvSpPr>
        <p:spPr>
          <a:xfrm>
            <a:off x="1143000" y="3571920"/>
            <a:ext cx="6143760" cy="2571840"/>
          </a:xfrm>
          <a:prstGeom prst="upArrowCallout">
            <a:avLst>
              <a:gd name="adj1" fmla="val 24997"/>
              <a:gd name="adj2" fmla="val 24994"/>
              <a:gd name="adj3" fmla="val 25000"/>
              <a:gd name="adj4" fmla="val 70041"/>
            </a:avLst>
          </a:prstGeom>
          <a:solidFill>
            <a:srgbClr val="99ff9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Демонстрационный материал, игры, игрушки, таблицы, книги, иллюстрации и  пособия, макеты и тренажёр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Все создается детьми, их родителями и педагогами в процессе совместн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ФФЕКТИВНОСТЬ ВНЕДРЕНИЯ «ГОВОРЯЩИЙ СРЕДЫ»</a:t>
            </a:r>
            <a:endParaRPr b="0" lang="en-US" sz="18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Овал 3"/>
          <p:cNvSpPr/>
          <p:nvPr/>
        </p:nvSpPr>
        <p:spPr>
          <a:xfrm>
            <a:off x="3000240" y="1357200"/>
            <a:ext cx="2571840" cy="1571760"/>
          </a:xfrm>
          <a:prstGeom prst="ellipse">
            <a:avLst/>
          </a:prstGeom>
          <a:solidFill>
            <a:srgbClr val="ff00ff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entury Schoolbook"/>
              </a:rPr>
              <a:t>«Говорящая сре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Овал 4"/>
          <p:cNvSpPr/>
          <p:nvPr/>
        </p:nvSpPr>
        <p:spPr>
          <a:xfrm>
            <a:off x="357120" y="2071800"/>
            <a:ext cx="3786120" cy="328608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Дети знают, что и где расположено в их группе, что, безусловно, помогает им чувствовать себя свободно и комфортно, они могут воплощать все задуманные 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Овал 5"/>
          <p:cNvSpPr/>
          <p:nvPr/>
        </p:nvSpPr>
        <p:spPr>
          <a:xfrm>
            <a:off x="3857760" y="3143160"/>
            <a:ext cx="3786120" cy="29289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Родителям «говорящая среда» рассказывает, чем наполнена жизнь детей в детском с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Овал 6"/>
          <p:cNvSpPr/>
          <p:nvPr/>
        </p:nvSpPr>
        <p:spPr>
          <a:xfrm>
            <a:off x="4929120" y="1000080"/>
            <a:ext cx="3143160" cy="27147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Педагогу помогает эффективно планировать дальнейшее взаимодействие 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ИЛОСОФИЯ «ГОВОРЯЩЕЙ СРЕДЫ»</a:t>
            </a:r>
            <a:r>
              <a:rPr b="1" i="1" lang="ru-RU" sz="3200" spc="-1" strike="noStrike">
                <a:solidFill>
                  <a:srgbClr val="ff33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Овал 6"/>
          <p:cNvSpPr/>
          <p:nvPr/>
        </p:nvSpPr>
        <p:spPr>
          <a:xfrm>
            <a:off x="214200" y="857160"/>
            <a:ext cx="3214800" cy="3357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инструмент, который позволяет необычным образом изменить развивающую предметно-пространственную среду группы детского сада,  в своеобразный живой экр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Овал 7"/>
          <p:cNvSpPr/>
          <p:nvPr/>
        </p:nvSpPr>
        <p:spPr>
          <a:xfrm>
            <a:off x="4071960" y="928800"/>
            <a:ext cx="4071960" cy="2286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даёт возможность взрослому и ребёнку совместно участвовать в создании окружающей среды, которая может изменяться и легко трансформирова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Овал 8"/>
          <p:cNvSpPr/>
          <p:nvPr/>
        </p:nvSpPr>
        <p:spPr>
          <a:xfrm>
            <a:off x="2357280" y="4214880"/>
            <a:ext cx="2714760" cy="2357280"/>
          </a:xfrm>
          <a:prstGeom prst="ellipse">
            <a:avLst/>
          </a:prstGeom>
          <a:solidFill>
            <a:srgbClr val="e3a192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позволяет изменять предметно-пространственную среду с учётом образовательной ситу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Овал 9"/>
          <p:cNvSpPr/>
          <p:nvPr/>
        </p:nvSpPr>
        <p:spPr>
          <a:xfrm>
            <a:off x="2928960" y="2428920"/>
            <a:ext cx="2071800" cy="17143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создаёт условия для игровой, познавательной, творческой активности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Овал 10"/>
          <p:cNvSpPr/>
          <p:nvPr/>
        </p:nvSpPr>
        <p:spPr>
          <a:xfrm>
            <a:off x="714240" y="4286160"/>
            <a:ext cx="2071800" cy="128592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беспечивает эмоциональный комфорт для де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11"/>
          <p:cNvSpPr/>
          <p:nvPr/>
        </p:nvSpPr>
        <p:spPr>
          <a:xfrm>
            <a:off x="4786200" y="3357720"/>
            <a:ext cx="3286080" cy="27860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развивает внимание, память, мелкую моторику, речь, зрительное и слуховое восприятие, воображение, творческое мышление дошкольни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БЛЕМА ПРИ ОРГАНИЗАЦИИ «ГОВОРЯЩЕЙ СРЕДЫ»</a:t>
            </a:r>
            <a:endParaRPr b="0" lang="en-US" sz="18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Двойная волна 3"/>
          <p:cNvSpPr/>
          <p:nvPr/>
        </p:nvSpPr>
        <p:spPr>
          <a:xfrm>
            <a:off x="2571840" y="1071720"/>
            <a:ext cx="3429000" cy="914400"/>
          </a:xfrm>
          <a:custGeom>
            <a:avLst/>
            <a:gdLst>
              <a:gd name="textAreaLeft" fmla="*/ 0 w 3429000"/>
              <a:gd name="textAreaRight" fmla="*/ 3429360 w 3429000"/>
              <a:gd name="textAreaTop" fmla="*/ 11412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ff00ff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бл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т необходимой площа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Стрелка вправо 4" descr=""/>
          <p:cNvPicPr/>
          <p:nvPr/>
        </p:nvPicPr>
        <p:blipFill>
          <a:blip r:embed="rId1"/>
          <a:stretch/>
        </p:blipFill>
        <p:spPr>
          <a:xfrm>
            <a:off x="3608280" y="2193840"/>
            <a:ext cx="1287720" cy="2762280"/>
          </a:xfrm>
          <a:prstGeom prst="rect">
            <a:avLst/>
          </a:prstGeom>
          <a:ln w="0">
            <a:noFill/>
          </a:ln>
        </p:spPr>
      </p:pic>
      <p:sp>
        <p:nvSpPr>
          <p:cNvPr id="401" name="Горизонтальный свиток 5"/>
          <p:cNvSpPr/>
          <p:nvPr/>
        </p:nvSpPr>
        <p:spPr>
          <a:xfrm>
            <a:off x="2071800" y="4857840"/>
            <a:ext cx="4572000" cy="1428840"/>
          </a:xfrm>
          <a:prstGeom prst="horizontalScroll">
            <a:avLst>
              <a:gd name="adj" fmla="val 12500"/>
            </a:avLst>
          </a:prstGeom>
          <a:solidFill>
            <a:srgbClr val="a70be5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стичный перенос образовательного пространства с горизонтали в вертик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ДВЕДЁМ ИТОГ</a:t>
            </a:r>
            <a:endParaRPr b="0" lang="en-US" sz="18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56760" y="1428480"/>
            <a:ext cx="800100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: развивающая предметно-пространственная среда в дошкольном образовательном учреждении должна соответствовать всем принципам развивающего пространства ДОУ: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d16349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содержательно-насыщенной 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d16349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ей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d16349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ормируемой;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d16349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функциональной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d16349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тивной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d16349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й и безопасной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d16349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акже, обязательно, «говорящей»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, проверенная практикой технология, дает огромный положительный результат в решении задач всестороннего развития ребенка — физическом и духовном развитии в целом, будет способствовать формированию познавательных интересов, трудовых навыков, воображения, и просто правильного позитивного человеческого роста и общения! </a:t>
            </a:r>
            <a:br>
              <a:rPr sz="1500"/>
            </a:br>
            <a:r>
              <a:rPr b="1" i="1" lang="ru-RU" sz="1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ть с «говорящей средой»  – выбор педагога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Рисунок 4" descr="E:\Документы\Мои документы\Наши документы\Мамино\фото 23\2023\5728553706024752806.jpg"/>
          <p:cNvPicPr/>
          <p:nvPr/>
        </p:nvPicPr>
        <p:blipFill>
          <a:blip r:embed="rId1"/>
          <a:stretch/>
        </p:blipFill>
        <p:spPr>
          <a:xfrm>
            <a:off x="4425840" y="2279520"/>
            <a:ext cx="379728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08:11:38Z</dcterms:created>
  <dc:creator>555</dc:creator>
  <dc:description/>
  <dc:language>en-US</dc:language>
  <cp:lastModifiedBy>Владимир</cp:lastModifiedBy>
  <dcterms:modified xsi:type="dcterms:W3CDTF">2023-02-03T09:51:32Z</dcterms:modified>
  <cp:revision>273</cp:revision>
  <dc:subject/>
  <dc:title>Управление педагогическим  процессом  в деятельности старшего воспитателя.</dc:title>
</cp:coreProperties>
</file>