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3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22.gif" ContentType="image/gif"/>
  <Override PartName="/ppt/media/image4.jpeg" ContentType="image/jpe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732-BB2D-4C0B-B2B3-41DB6966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DEA-B212-4101-95EA-E5ABCBF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13C-4D89-481A-A1FA-E9AB5F3A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565-A078-4F4A-99A5-80DF7767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7AE-49AE-4E5C-802D-B75294AA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732C-06AD-476C-92EF-23E3465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00F0-8AC3-45A5-BCB4-38A7DDB8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116C-D136-493C-AF82-1059DAF7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977F-B84F-4000-AB2B-932FD122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0EBC-AEC7-453D-8771-683081A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38E0-1D01-494B-8E70-B4A99895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3B5-FE46-4757-BE2F-11ED82D7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882-89F6-481B-8A5A-7817F9D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3D9D-5425-4A45-B3B2-2B89A75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144-2953-4041-9154-BAC97EAC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6BA-606B-448E-A200-03068E25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18F6-02F7-451B-A73E-EAEC3029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DC4-595E-4B82-8BB1-937BE181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8D1-7A73-4F41-8D79-219594CD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119-3888-44A1-975D-A0CD85BC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DFA-9CF0-4914-A024-97CF78F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86C-D5E7-4474-9D5F-443DDF74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411-7FA5-4D29-9BA6-3991704D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43B-F15A-45E5-9908-E9A4641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C7F7-D422-4BBA-B491-7601F150C7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5188-F147-4586-ACAA-F4C9E77A1E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700" spc="-1" strike="noStrike">
                <a:solidFill>
                  <a:srgbClr val="0099ff"/>
                </a:solidFill>
                <a:latin typeface="Arial"/>
              </a:rPr>
              <a:t>К </a:t>
            </a:r>
            <a:r>
              <a:rPr b="0" lang="ru-RU" sz="117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0" lang="ru-RU" sz="117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ru-RU" sz="117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3141720"/>
            <a:ext cx="741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4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есё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0000"/>
                </a:solidFill>
                <a:latin typeface="Arial"/>
              </a:rPr>
              <a:t>3 конкурс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i="1" lang="ru-RU" sz="4800" spc="-1" strike="noStrike" u="sng">
                <a:solidFill>
                  <a:srgbClr val="00b050"/>
                </a:solidFill>
                <a:uFillTx/>
                <a:latin typeface="Arial"/>
              </a:rPr>
              <a:t>Отгадай – ка</a:t>
            </a:r>
            <a:r>
              <a:rPr b="0" i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»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357200"/>
          <a:ext cx="8055000" cy="5596200"/>
        </p:xfrm>
        <a:graphic>
          <a:graphicData uri="http://schemas.openxmlformats.org/drawingml/2006/table">
            <a:tbl>
              <a:tblPr/>
              <a:tblGrid>
                <a:gridCol w="3397320"/>
                <a:gridCol w="4657680"/>
              </a:tblGrid>
              <a:tr h="55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мнате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гла. В каждом углу сидит кошка. Против каждой кошки сидит по три кошки. Сколько всего кошек в комнат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16" descr="сканирование0059"/>
          <p:cNvPicPr/>
          <p:nvPr/>
        </p:nvPicPr>
        <p:blipFill>
          <a:blip r:embed="rId1"/>
          <a:stretch/>
        </p:blipFill>
        <p:spPr>
          <a:xfrm>
            <a:off x="0" y="1643040"/>
            <a:ext cx="41432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b050"/>
                </a:solidFill>
                <a:latin typeface="Arial"/>
              </a:rPr>
              <a:t>Ответ: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2880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кош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G:\анимация и рисунки\обои\кошки\4.jpg"/>
          <p:cNvPicPr/>
          <p:nvPr/>
        </p:nvPicPr>
        <p:blipFill>
          <a:blip r:embed="rId1"/>
          <a:stretch/>
        </p:blipFill>
        <p:spPr>
          <a:xfrm rot="21043800">
            <a:off x="499680" y="466056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:\анимация и рисунки\обои\кошки\6.jpg"/>
          <p:cNvPicPr/>
          <p:nvPr/>
        </p:nvPicPr>
        <p:blipFill>
          <a:blip r:embed="rId2"/>
          <a:stretch/>
        </p:blipFill>
        <p:spPr>
          <a:xfrm rot="783600">
            <a:off x="857160" y="205380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G:\анимация и рисунки\обои\кошки\5.jpg"/>
          <p:cNvPicPr/>
          <p:nvPr/>
        </p:nvPicPr>
        <p:blipFill>
          <a:blip r:embed="rId3"/>
          <a:stretch/>
        </p:blipFill>
        <p:spPr>
          <a:xfrm rot="431400">
            <a:off x="4643280" y="4054320"/>
            <a:ext cx="3643560" cy="273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:\анимация и рисунки\обои\кошки\3.jpg"/>
          <p:cNvPicPr/>
          <p:nvPr/>
        </p:nvPicPr>
        <p:blipFill>
          <a:blip r:embed="rId4"/>
          <a:stretch/>
        </p:blipFill>
        <p:spPr>
          <a:xfrm rot="21141000">
            <a:off x="5019840" y="439200"/>
            <a:ext cx="3571560" cy="26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comic"/>
              </a:rPr>
              <a:t>Физкультминутк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4500720"/>
                <a:gridCol w="4643280"/>
              </a:tblGrid>
              <a:tr h="58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однимает руки клас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овернулась голов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 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в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уки вниз, вперёд смотр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уки в стороны пошире развер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- на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тыре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С силой их к плечам приж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ять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Всем ребятам тихо с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–  </a:t>
                      </a: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е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5" descr="C:\Users\ЖЕНЁК\Documents\Фотобиблиотека\анимашки\hju.gif"/>
          <p:cNvPicPr/>
          <p:nvPr/>
        </p:nvPicPr>
        <p:blipFill>
          <a:blip r:embed="rId1"/>
          <a:stretch/>
        </p:blipFill>
        <p:spPr>
          <a:xfrm>
            <a:off x="4429080" y="1000080"/>
            <a:ext cx="471492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C:\Users\ЖЕНЁК\Documents\Фотобиблиотека\анимашки\hju.gif"/>
          <p:cNvPicPr/>
          <p:nvPr/>
        </p:nvPicPr>
        <p:blipFill>
          <a:blip r:embed="rId1"/>
          <a:stretch/>
        </p:blipFill>
        <p:spPr>
          <a:xfrm>
            <a:off x="0" y="-1500120"/>
            <a:ext cx="842976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4. Посмотрите на этот рисунок и найдите две одинаковые фигуры. Чем они отличаются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img4"/>
          <p:cNvPicPr/>
          <p:nvPr/>
        </p:nvPicPr>
        <p:blipFill>
          <a:blip r:embed="rId1"/>
          <a:stretch/>
        </p:blipFill>
        <p:spPr>
          <a:xfrm>
            <a:off x="928800" y="2357280"/>
            <a:ext cx="721512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g4"/>
          <p:cNvPicPr/>
          <p:nvPr/>
        </p:nvPicPr>
        <p:blipFill>
          <a:blip r:embed="rId1"/>
          <a:srcRect l="0" t="0" r="74389" b="0"/>
          <a:stretch/>
        </p:blipFill>
        <p:spPr>
          <a:xfrm>
            <a:off x="2000160" y="1785960"/>
            <a:ext cx="1968480" cy="450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img4"/>
          <p:cNvPicPr/>
          <p:nvPr/>
        </p:nvPicPr>
        <p:blipFill>
          <a:blip r:embed="rId2"/>
          <a:srcRect l="74263" t="0" r="0" b="0"/>
          <a:stretch/>
        </p:blipFill>
        <p:spPr>
          <a:xfrm>
            <a:off x="5500800" y="1785960"/>
            <a:ext cx="2000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5. Размышляй – ка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дворе гуляли куры и собаки. Мальчик посчитал их лапы, получилось 10 лап. Сколько могло быть кур и соба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186080" y="3245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G:\анимашки\цыпленок.gif"/>
          <p:cNvPicPr/>
          <p:nvPr/>
        </p:nvPicPr>
        <p:blipFill>
          <a:blip r:embed="rId1"/>
          <a:stretch/>
        </p:blipFill>
        <p:spPr>
          <a:xfrm>
            <a:off x="3214800" y="350028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G:\анимация и рисунки\анимационные  животные\3.gif"/>
          <p:cNvPicPr/>
          <p:nvPr/>
        </p:nvPicPr>
        <p:blipFill>
          <a:blip r:embed="rId2"/>
          <a:stretch/>
        </p:blipFill>
        <p:spPr>
          <a:xfrm>
            <a:off x="500040" y="3740040"/>
            <a:ext cx="2314440" cy="14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G:\анимация и рисунки\анимационные  животные\4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080" cy="1357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G:\анимация и рисунки\анимационные  животные\25.gif"/>
          <p:cNvPicPr/>
          <p:nvPr/>
        </p:nvPicPr>
        <p:blipFill>
          <a:blip r:embed="rId4"/>
          <a:stretch/>
        </p:blipFill>
        <p:spPr>
          <a:xfrm>
            <a:off x="7215120" y="3289320"/>
            <a:ext cx="1643040" cy="228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50"/>
                </a:solidFill>
                <a:latin typeface="Arial"/>
              </a:rPr>
              <a:t>Отв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собаки и 1 курица, 1 собака и 3 кур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3800" spc="-1" strike="noStrike">
                <a:solidFill>
                  <a:srgbClr val="3366ff"/>
                </a:solidFill>
                <a:latin typeface="Arial"/>
              </a:rPr>
              <a:t>Математические загадк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го четыре лап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пки - цап – царап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 чутких уш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гроза м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G:\анимашки\мышь.gif"/>
          <p:cNvPicPr/>
          <p:nvPr/>
        </p:nvPicPr>
        <p:blipFill>
          <a:blip r:embed="rId3"/>
          <a:stretch/>
        </p:blipFill>
        <p:spPr>
          <a:xfrm>
            <a:off x="2786040" y="3643200"/>
            <a:ext cx="604836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C:\Users\ЖЕНЁК\Documents\Фотобиблиотека\анимашки\сссссссссссссв.gif"/>
          <p:cNvPicPr/>
          <p:nvPr/>
        </p:nvPicPr>
        <p:blipFill>
          <a:blip r:embed="rId1"/>
          <a:stretch/>
        </p:blipFill>
        <p:spPr>
          <a:xfrm>
            <a:off x="2143080" y="1000080"/>
            <a:ext cx="5572080" cy="55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занимательные упражнения содействовать повышению интереса детей к математике, расширению их кругоз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ь выработку вычислительных способ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внимание, память, логическ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ть работе в груп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800" spc="-1" strike="noStrike">
                <a:solidFill>
                  <a:srgbClr val="3366ff"/>
                </a:solidFill>
                <a:latin typeface="Arial"/>
              </a:rPr>
              <a:t>Математические загадк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ам во двор забрался кро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ет землю у воро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на в рот земли войд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рот откроет 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C:\Users\ЖЕНЁК\Documents\Отсканировано 04.12.2008 16-36_000.jpg"/>
          <p:cNvPicPr/>
          <p:nvPr/>
        </p:nvPicPr>
        <p:blipFill>
          <a:blip r:embed="rId1"/>
          <a:stretch/>
        </p:blipFill>
        <p:spPr>
          <a:xfrm rot="13775400">
            <a:off x="4725360" y="2106000"/>
            <a:ext cx="3006720" cy="5095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7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2880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"/>
              </a:rPr>
              <a:t>Экскав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C:\Users\ЖЕНЁК\Documents\Отсканировано 02.12.2008 21-02_000.jpg"/>
          <p:cNvPicPr/>
          <p:nvPr/>
        </p:nvPicPr>
        <p:blipFill>
          <a:blip r:embed="rId1"/>
          <a:srcRect l="6290" t="7518" r="8274" b="8266"/>
          <a:stretch/>
        </p:blipFill>
        <p:spPr>
          <a:xfrm>
            <a:off x="2428920" y="2000160"/>
            <a:ext cx="58579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800" spc="-1" strike="noStrike">
                <a:solidFill>
                  <a:srgbClr val="3366ff"/>
                </a:solidFill>
                <a:latin typeface="Arial"/>
              </a:rPr>
              <a:t>Математические загадки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больше из неё берешь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 больше она станов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Я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Users\ЖЕНЁК\Documents\Фотобиблиотека\анимашки\hukj.gif"/>
          <p:cNvPicPr/>
          <p:nvPr/>
        </p:nvPicPr>
        <p:blipFill>
          <a:blip r:embed="rId1"/>
          <a:stretch/>
        </p:blipFill>
        <p:spPr>
          <a:xfrm>
            <a:off x="3948120" y="2212920"/>
            <a:ext cx="448164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Arial"/>
              </a:rPr>
              <a:t>7. Конкурс капитанов </a:t>
            </a:r>
            <a:br>
              <a:rPr sz="3400"/>
            </a:br>
            <a:r>
              <a:rPr b="0" i="1" lang="ru-RU" sz="3800" spc="-1" strike="noStrike">
                <a:solidFill>
                  <a:srgbClr val="00b050"/>
                </a:solidFill>
                <a:latin typeface="Arial"/>
              </a:rPr>
              <a:t>“Составь робота”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6920" y="2362320"/>
            <a:ext cx="4464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4033800" cy="5157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G:\анимашки\47R4.GIF"/>
          <p:cNvPicPr/>
          <p:nvPr/>
        </p:nvPicPr>
        <p:blipFill>
          <a:blip r:embed="rId2"/>
          <a:stretch/>
        </p:blipFill>
        <p:spPr>
          <a:xfrm>
            <a:off x="5857920" y="214200"/>
            <a:ext cx="30304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39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856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G:\анимашки\ANI001.GIF"/>
          <p:cNvPicPr/>
          <p:nvPr/>
        </p:nvPicPr>
        <p:blipFill>
          <a:blip r:embed="rId1"/>
          <a:stretch/>
        </p:blipFill>
        <p:spPr>
          <a:xfrm>
            <a:off x="746280" y="1214280"/>
            <a:ext cx="6825960" cy="512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399"/>
                </a:solidFill>
                <a:latin typeface="Arial"/>
              </a:rPr>
              <a:t>Вступительная часть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ребьёвка учас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ор капитанов команд, названия коман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яснение условий иг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00"/>
                </a:solidFill>
                <a:latin typeface="Arial"/>
              </a:rPr>
              <a:t>Условия игры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состоит из 6 этапов (заданий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чёте 3 : 3 команды получают дополнительное задание (</a:t>
            </a:r>
            <a:r>
              <a:rPr b="0" lang="ru-RU" sz="3200" spc="-1" strike="noStrike">
                <a:solidFill>
                  <a:srgbClr val="5959ff"/>
                </a:solidFill>
                <a:latin typeface="Arial"/>
              </a:rPr>
              <a:t>конкурс капит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, у которой готов ответ, должна нажать на сигнальную кнопку, тем самым заработать право отвечать перв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ff0000"/>
                </a:solidFill>
                <a:uFillTx/>
                <a:latin typeface="Arial"/>
              </a:rPr>
              <a:t>ДЕВИЗ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397160"/>
          <a:ext cx="8286480" cy="4674960"/>
        </p:xfrm>
        <a:graphic>
          <a:graphicData uri="http://schemas.openxmlformats.org/drawingml/2006/table">
            <a:tbl>
              <a:tblPr/>
              <a:tblGrid>
                <a:gridCol w="4643280"/>
                <a:gridCol w="3643200"/>
              </a:tblGrid>
              <a:tr h="46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Каждый день – 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          всегда, везде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На занятиях, в игре,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Смело, чётко  говорим</a:t>
                      </a:r>
                      <a:br>
                        <a:rPr sz="3200"/>
                      </a:br>
                      <a:r>
                        <a:rPr b="1" lang="ru-RU" sz="3200" spc="-1" strike="noStrike">
                          <a:solidFill>
                            <a:srgbClr val="5959ff"/>
                          </a:solidFill>
                          <a:latin typeface="Arial"/>
                        </a:rPr>
                        <a:t>И тихонечко сиди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13" descr="C:\Users\ЖЕНЁК\Documents\Фотобиблиотека\анимашки\ghjnh.gif"/>
          <p:cNvPicPr/>
          <p:nvPr/>
        </p:nvPicPr>
        <p:blipFill>
          <a:blip r:embed="rId1"/>
          <a:stretch/>
        </p:blipFill>
        <p:spPr>
          <a:xfrm>
            <a:off x="4786200" y="1785960"/>
            <a:ext cx="4048200" cy="39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1.Загадка от мудрой черепаш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3222720"/>
                <a:gridCol w="500688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ьте пропущенную букву и пропущенное чис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67" descr="сканирование0053"/>
          <p:cNvPicPr/>
          <p:nvPr/>
        </p:nvPicPr>
        <p:blipFill>
          <a:blip r:embed="rId1"/>
          <a:stretch/>
        </p:blipFill>
        <p:spPr>
          <a:xfrm>
            <a:off x="826920" y="2492280"/>
            <a:ext cx="2881440" cy="33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995640" y="3789360"/>
          <a:ext cx="4392720" cy="2195640"/>
        </p:xfrm>
        <a:graphic>
          <a:graphicData uri="http://schemas.openxmlformats.org/drawingml/2006/table">
            <a:tbl>
              <a:tblPr/>
              <a:tblGrid>
                <a:gridCol w="1098720"/>
                <a:gridCol w="1098360"/>
                <a:gridCol w="1096920"/>
                <a:gridCol w="1098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5100" spc="-1" strike="noStrike">
                <a:solidFill>
                  <a:srgbClr val="3366ff"/>
                </a:solidFill>
                <a:latin typeface="Arial"/>
              </a:rPr>
              <a:t>Ответ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Подумай – ка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4121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ажир такси ехал в село. По дороге он встретил 5 грузовых и 3 легковых машины. Сколько всего машин шло в сел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Рисунок 3" descr="C:\Users\ЖЕНЁК\Documents\Отсканировано 02.12.2008 21-00_000.jpg"/>
          <p:cNvPicPr/>
          <p:nvPr/>
        </p:nvPicPr>
        <p:blipFill>
          <a:blip r:embed="rId1"/>
          <a:srcRect l="3182" t="6377" r="53594" b="10199"/>
          <a:stretch/>
        </p:blipFill>
        <p:spPr>
          <a:xfrm>
            <a:off x="5000760" y="335772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C:\Users\ЖЕНЁК\Documents\Отсканировано 02.12.2008 21-00_000.jpg"/>
          <p:cNvPicPr/>
          <p:nvPr/>
        </p:nvPicPr>
        <p:blipFill>
          <a:blip r:embed="rId2"/>
          <a:srcRect l="49474" t="7645" r="4133" b="10833"/>
          <a:stretch/>
        </p:blipFill>
        <p:spPr>
          <a:xfrm>
            <a:off x="714240" y="3714840"/>
            <a:ext cx="2495520" cy="162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 машин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к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C:\Users\ЖЕНЁК\Documents\Отсканировано 02.12.2008 21-00_000.jpg"/>
          <p:cNvPicPr/>
          <p:nvPr/>
        </p:nvPicPr>
        <p:blipFill>
          <a:blip r:embed="rId1"/>
          <a:srcRect l="49474" t="7645" r="4133" b="10833"/>
          <a:stretch/>
        </p:blipFill>
        <p:spPr>
          <a:xfrm>
            <a:off x="1500120" y="1879560"/>
            <a:ext cx="6143760" cy="400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07:26Z</dcterms:created>
  <dc:creator>женёк</dc:creator>
  <dc:description/>
  <dc:language>en-US</dc:language>
  <cp:lastModifiedBy>ЖЕНЁК</cp:lastModifiedBy>
  <dcterms:modified xsi:type="dcterms:W3CDTF">2008-12-04T13:48:33Z</dcterms:modified>
  <cp:revision>18</cp:revision>
  <dc:subject/>
  <dc:title>квн</dc:title>
</cp:coreProperties>
</file>