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9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23.gif" ContentType="image/gif"/>
  <Override PartName="/ppt/media/image20.gif" ContentType="image/gif"/>
  <Override PartName="/ppt/media/image18.jpeg" ContentType="image/jpeg"/>
  <Override PartName="/ppt/media/image19.jpeg" ContentType="image/jpeg"/>
  <Override PartName="/ppt/media/image1.gif" ContentType="image/gif"/>
  <Override PartName="/ppt/media/image17.gif" ContentType="image/gif"/>
  <Override PartName="/ppt/media/image2.jpeg" ContentType="image/jpeg"/>
  <Override PartName="/ppt/media/image21.png" ContentType="image/png"/>
  <Override PartName="/ppt/media/image16.gif" ContentType="image/gif"/>
  <Override PartName="/ppt/media/image14.gif" ContentType="image/gif"/>
  <Override PartName="/ppt/media/image22.gif" ContentType="image/gif"/>
  <Override PartName="/ppt/media/image4.jpeg" ContentType="image/jpeg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FDA3-89A2-4A3F-9092-2DE3C027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6F4-7E34-436F-A17F-8C9BBA97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5970-B10E-4095-AEC4-A70BD958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BFA3-97A9-4846-8F79-712E950D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B00F-97A9-4E41-90A5-4ACB9D8E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6DBA-E1F8-4D11-A1DE-CA8B3ACF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0CDE-293C-4E19-8710-90CFB674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B0CA-0B7A-4682-9EFD-BD98F7CB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103F-4814-4095-B8D0-FD198A98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5A35-9812-4EE2-8FF7-A8408A17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EF44-9186-4236-AD50-00D5F39F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8757-3C03-4EB9-B305-395492FE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F12F-C16E-4855-8C7D-45815BF8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A9E0-3F00-4506-A474-6AD0AF8D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3724-B9CC-4A47-8BB7-D2980FCA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69D4-2218-4565-80D3-F6C09217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F75A-93A1-40D6-8822-A824A730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1824-ADE2-4627-8F61-EDE2D878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899-77E4-424B-8C86-9E0EA29B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9AF-5B3F-44D0-B1AF-448BB76D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D85-C88F-40B8-9BB6-BDF11EE9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FB0-5F1E-4F4D-8FA9-C98BE423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11D-7FBB-4CB0-BD46-04C89384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1065-EEE9-4CDE-B4B3-58B75B89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2CAD-E7CB-4826-93E3-B9C3F1ADBD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2AF1-81A4-41F3-8365-D31ABEA9D3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700" spc="-1" strike="noStrike">
                <a:solidFill>
                  <a:srgbClr val="0099ff"/>
                </a:solidFill>
                <a:latin typeface="Arial"/>
              </a:rPr>
              <a:t>К </a:t>
            </a:r>
            <a:r>
              <a:rPr b="0" lang="ru-RU" sz="11700" spc="-1" strike="noStrike">
                <a:solidFill>
                  <a:srgbClr val="009900"/>
                </a:solidFill>
                <a:latin typeface="Arial"/>
              </a:rPr>
              <a:t>В</a:t>
            </a:r>
            <a:r>
              <a:rPr b="0" lang="ru-RU" sz="117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ru-RU" sz="117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1116000" y="3141720"/>
            <a:ext cx="7416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4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есёл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ате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0000"/>
                </a:solidFill>
                <a:latin typeface="Arial"/>
              </a:rPr>
              <a:t>3 конкурс</a:t>
            </a:r>
            <a:r>
              <a:rPr b="0" i="1" lang="ru-RU" sz="3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«</a:t>
            </a:r>
            <a:r>
              <a:rPr b="1" i="1" lang="ru-RU" sz="4800" spc="-1" strike="noStrike" u="sng">
                <a:solidFill>
                  <a:srgbClr val="00b050"/>
                </a:solidFill>
                <a:uFillTx/>
                <a:latin typeface="Arial"/>
              </a:rPr>
              <a:t>Отгадай – ка</a:t>
            </a:r>
            <a:r>
              <a:rPr b="0" i="1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»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1357200"/>
          <a:ext cx="8055000" cy="5596200"/>
        </p:xfrm>
        <a:graphic>
          <a:graphicData uri="http://schemas.openxmlformats.org/drawingml/2006/table">
            <a:tbl>
              <a:tblPr/>
              <a:tblGrid>
                <a:gridCol w="3397320"/>
                <a:gridCol w="4657680"/>
              </a:tblGrid>
              <a:tr h="559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омнате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гла. В каждом углу сидит кошка. Против каждой кошки сидит по три кошки. Сколько всего кошек в комнате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Picture 16" descr="сканирование0059"/>
          <p:cNvPicPr/>
          <p:nvPr/>
        </p:nvPicPr>
        <p:blipFill>
          <a:blip r:embed="rId1"/>
          <a:stretch/>
        </p:blipFill>
        <p:spPr>
          <a:xfrm>
            <a:off x="0" y="1643040"/>
            <a:ext cx="414324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00b050"/>
                </a:solidFill>
                <a:latin typeface="Arial"/>
              </a:rPr>
              <a:t>Ответ: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928800"/>
            <a:ext cx="8229600" cy="52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кош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G:\анимация и рисунки\обои\кошки\4.jpg"/>
          <p:cNvPicPr/>
          <p:nvPr/>
        </p:nvPicPr>
        <p:blipFill>
          <a:blip r:embed="rId1"/>
          <a:stretch/>
        </p:blipFill>
        <p:spPr>
          <a:xfrm rot="21043800">
            <a:off x="499680" y="4660560"/>
            <a:ext cx="2643120" cy="1982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G:\анимация и рисунки\обои\кошки\6.jpg"/>
          <p:cNvPicPr/>
          <p:nvPr/>
        </p:nvPicPr>
        <p:blipFill>
          <a:blip r:embed="rId2"/>
          <a:stretch/>
        </p:blipFill>
        <p:spPr>
          <a:xfrm rot="783600">
            <a:off x="857160" y="2053800"/>
            <a:ext cx="3143520" cy="2357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G:\анимация и рисунки\обои\кошки\5.jpg"/>
          <p:cNvPicPr/>
          <p:nvPr/>
        </p:nvPicPr>
        <p:blipFill>
          <a:blip r:embed="rId3"/>
          <a:stretch/>
        </p:blipFill>
        <p:spPr>
          <a:xfrm rot="431400">
            <a:off x="4643280" y="4054320"/>
            <a:ext cx="3643560" cy="2732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G:\анимация и рисунки\обои\кошки\3.jpg"/>
          <p:cNvPicPr/>
          <p:nvPr/>
        </p:nvPicPr>
        <p:blipFill>
          <a:blip r:embed="rId4"/>
          <a:stretch/>
        </p:blipFill>
        <p:spPr>
          <a:xfrm rot="21141000">
            <a:off x="5019840" y="439200"/>
            <a:ext cx="3571560" cy="26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00000"/>
                </a:solidFill>
                <a:latin typeface="comic"/>
              </a:rPr>
              <a:t>Физкультминутк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00008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000080"/>
          <a:ext cx="9144000" cy="5857920"/>
        </p:xfrm>
        <a:graphic>
          <a:graphicData uri="http://schemas.openxmlformats.org/drawingml/2006/table">
            <a:tbl>
              <a:tblPr/>
              <a:tblGrid>
                <a:gridCol w="4500720"/>
                <a:gridCol w="4643280"/>
              </a:tblGrid>
              <a:tr h="58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Поднимает руки клас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– </a:t>
                      </a: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это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з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Повернулась голова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 это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ва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Руки вниз, вперёд смотр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– </a:t>
                      </a: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это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ри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Руки в стороны пошире разверн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 на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тыре</a:t>
                      </a: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С силой их к плечам приж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это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ять</a:t>
                      </a: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Всем ребятам тихо с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 –  </a:t>
                      </a: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это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ше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pic>
        <p:nvPicPr>
          <p:cNvPr id="133" name="Picture 5" descr="C:\Users\ЖЕНЁК\Documents\Фотобиблиотека\анимашки\hju.gif"/>
          <p:cNvPicPr/>
          <p:nvPr/>
        </p:nvPicPr>
        <p:blipFill>
          <a:blip r:embed="rId1"/>
          <a:stretch/>
        </p:blipFill>
        <p:spPr>
          <a:xfrm>
            <a:off x="4429080" y="1000080"/>
            <a:ext cx="471492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C:\Users\ЖЕНЁК\Documents\Фотобиблиотека\анимашки\hju.gif"/>
          <p:cNvPicPr/>
          <p:nvPr/>
        </p:nvPicPr>
        <p:blipFill>
          <a:blip r:embed="rId1"/>
          <a:stretch/>
        </p:blipFill>
        <p:spPr>
          <a:xfrm>
            <a:off x="0" y="-1500120"/>
            <a:ext cx="8429760" cy="107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4. Посмотрите на этот рисунок и найдите две одинаковые фигуры. Чем они отличаются?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img4"/>
          <p:cNvPicPr/>
          <p:nvPr/>
        </p:nvPicPr>
        <p:blipFill>
          <a:blip r:embed="rId1"/>
          <a:stretch/>
        </p:blipFill>
        <p:spPr>
          <a:xfrm>
            <a:off x="928800" y="2357280"/>
            <a:ext cx="721512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img4"/>
          <p:cNvPicPr/>
          <p:nvPr/>
        </p:nvPicPr>
        <p:blipFill>
          <a:blip r:embed="rId1"/>
          <a:srcRect l="0" t="0" r="74389" b="0"/>
          <a:stretch/>
        </p:blipFill>
        <p:spPr>
          <a:xfrm>
            <a:off x="2000160" y="1785960"/>
            <a:ext cx="1968480" cy="4500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img4"/>
          <p:cNvPicPr/>
          <p:nvPr/>
        </p:nvPicPr>
        <p:blipFill>
          <a:blip r:embed="rId2"/>
          <a:srcRect l="74263" t="0" r="0" b="0"/>
          <a:stretch/>
        </p:blipFill>
        <p:spPr>
          <a:xfrm>
            <a:off x="5500800" y="1785960"/>
            <a:ext cx="20001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5. Размышляй – ка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дворе гуляли куры и собаки. Мальчик посчитал их лапы, получилось 10 лап. Сколько могло быть кур и соба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4186080" y="3245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G:\анимашки\цыпленок.gif"/>
          <p:cNvPicPr/>
          <p:nvPr/>
        </p:nvPicPr>
        <p:blipFill>
          <a:blip r:embed="rId1"/>
          <a:stretch/>
        </p:blipFill>
        <p:spPr>
          <a:xfrm>
            <a:off x="3214800" y="3500280"/>
            <a:ext cx="3555720" cy="285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G:\анимация и рисунки\анимационные  животные\3.gif"/>
          <p:cNvPicPr/>
          <p:nvPr/>
        </p:nvPicPr>
        <p:blipFill>
          <a:blip r:embed="rId2"/>
          <a:stretch/>
        </p:blipFill>
        <p:spPr>
          <a:xfrm>
            <a:off x="500040" y="3740040"/>
            <a:ext cx="2314440" cy="1403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G:\анимация и рисунки\анимационные  животные\4.gif"/>
          <p:cNvPicPr/>
          <p:nvPr/>
        </p:nvPicPr>
        <p:blipFill>
          <a:blip r:embed="rId3"/>
          <a:stretch/>
        </p:blipFill>
        <p:spPr>
          <a:xfrm>
            <a:off x="357120" y="5286240"/>
            <a:ext cx="7858080" cy="1357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G:\анимация и рисунки\анимационные  животные\25.gif"/>
          <p:cNvPicPr/>
          <p:nvPr/>
        </p:nvPicPr>
        <p:blipFill>
          <a:blip r:embed="rId4"/>
          <a:stretch/>
        </p:blipFill>
        <p:spPr>
          <a:xfrm>
            <a:off x="7215120" y="3289320"/>
            <a:ext cx="1643040" cy="2282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b050"/>
                </a:solidFill>
                <a:latin typeface="Arial"/>
              </a:rPr>
              <a:t>Ответ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 собаки и 1 курица, 1 собака и 3 кур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3800" spc="-1" strike="noStrike">
                <a:solidFill>
                  <a:srgbClr val="3366ff"/>
                </a:solidFill>
                <a:latin typeface="Arial"/>
              </a:rPr>
              <a:t>Математические загадки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его четыре лапк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пки - цап – царапк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 чутких уш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гроза мыш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G:\анимашки\мышь.gif"/>
          <p:cNvPicPr/>
          <p:nvPr/>
        </p:nvPicPr>
        <p:blipFill>
          <a:blip r:embed="rId3"/>
          <a:stretch/>
        </p:blipFill>
        <p:spPr>
          <a:xfrm>
            <a:off x="2786040" y="3643200"/>
            <a:ext cx="6048360" cy="30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от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C:\Users\ЖЕНЁК\Documents\Фотобиблиотека\анимашки\сссссссссссссв.gif"/>
          <p:cNvPicPr/>
          <p:nvPr/>
        </p:nvPicPr>
        <p:blipFill>
          <a:blip r:embed="rId1"/>
          <a:stretch/>
        </p:blipFill>
        <p:spPr>
          <a:xfrm>
            <a:off x="2143080" y="1000080"/>
            <a:ext cx="5572080" cy="557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Цель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з занимательные упражнения содействовать повышению интереса детей к математике, расширению их кругоз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ить выработку вычислительных способнос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вать внимание, память, логическое 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ать работе в групп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800" spc="-1" strike="noStrike">
                <a:solidFill>
                  <a:srgbClr val="3366ff"/>
                </a:solidFill>
                <a:latin typeface="Arial"/>
              </a:rPr>
              <a:t>Математические загадки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нам во двор забрался крот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ет землю у воро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нна в рот земли войдет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крот откроет 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C:\Users\ЖЕНЁК\Documents\Отсканировано 04.12.2008 16-36_000.jpg"/>
          <p:cNvPicPr/>
          <p:nvPr/>
        </p:nvPicPr>
        <p:blipFill>
          <a:blip r:embed="rId1"/>
          <a:stretch/>
        </p:blipFill>
        <p:spPr>
          <a:xfrm rot="13775400">
            <a:off x="4725360" y="2106000"/>
            <a:ext cx="3006720" cy="5095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7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28800"/>
            <a:ext cx="8229600" cy="52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Arial"/>
              </a:rPr>
              <a:t>Экскава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3" descr="C:\Users\ЖЕНЁК\Documents\Отсканировано 02.12.2008 21-02_000.jpg"/>
          <p:cNvPicPr/>
          <p:nvPr/>
        </p:nvPicPr>
        <p:blipFill>
          <a:blip r:embed="rId1"/>
          <a:srcRect l="6290" t="7518" r="8274" b="8266"/>
          <a:stretch/>
        </p:blipFill>
        <p:spPr>
          <a:xfrm>
            <a:off x="2428920" y="2000160"/>
            <a:ext cx="58579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800" spc="-1" strike="noStrike">
                <a:solidFill>
                  <a:srgbClr val="3366ff"/>
                </a:solidFill>
                <a:latin typeface="Arial"/>
              </a:rPr>
              <a:t>Математические загадки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больше из неё берешь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 больше она становить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Я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:\Users\ЖЕНЁК\Documents\Фотобиблиотека\анимашки\hukj.gif"/>
          <p:cNvPicPr/>
          <p:nvPr/>
        </p:nvPicPr>
        <p:blipFill>
          <a:blip r:embed="rId1"/>
          <a:stretch/>
        </p:blipFill>
        <p:spPr>
          <a:xfrm>
            <a:off x="3948120" y="2212920"/>
            <a:ext cx="4481640" cy="400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ff0000"/>
                </a:solidFill>
                <a:latin typeface="Arial"/>
              </a:rPr>
              <a:t>7. Конкурс капитанов </a:t>
            </a:r>
            <a:br>
              <a:rPr sz="3400"/>
            </a:br>
            <a:r>
              <a:rPr b="0" i="1" lang="ru-RU" sz="3800" spc="-1" strike="noStrike">
                <a:solidFill>
                  <a:srgbClr val="00b050"/>
                </a:solidFill>
                <a:latin typeface="Arial"/>
              </a:rPr>
              <a:t>“Составь робота”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86920" y="2362320"/>
            <a:ext cx="4464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4033800" cy="5157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G:\анимашки\47R4.GIF"/>
          <p:cNvPicPr/>
          <p:nvPr/>
        </p:nvPicPr>
        <p:blipFill>
          <a:blip r:embed="rId2"/>
          <a:stretch/>
        </p:blipFill>
        <p:spPr>
          <a:xfrm>
            <a:off x="5857920" y="214200"/>
            <a:ext cx="3030480" cy="378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animClr clrSpc="rgb">
                                      <p:cBhvr>
                                        <p:cTn id="394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set>
                                      <p:cBhvr>
                                        <p:cTn id="395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ff"/>
                </a:solidFill>
                <a:latin typeface="Arial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7856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G:\анимашки\ANI001.GIF"/>
          <p:cNvPicPr/>
          <p:nvPr/>
        </p:nvPicPr>
        <p:blipFill>
          <a:blip r:embed="rId1"/>
          <a:stretch/>
        </p:blipFill>
        <p:spPr>
          <a:xfrm>
            <a:off x="746280" y="1214280"/>
            <a:ext cx="6825960" cy="512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3399"/>
                </a:solidFill>
                <a:latin typeface="Arial"/>
              </a:rPr>
              <a:t>Вступительная часть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еребьёвка участ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бор капитанов команд, названия коман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яснение условий игр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9900"/>
                </a:solidFill>
                <a:latin typeface="Arial"/>
              </a:rPr>
              <a:t>Условия игры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а состоит из 6 этапов (заданий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счёте 3 : 3 команды получают дополнительное задание (</a:t>
            </a:r>
            <a:r>
              <a:rPr b="0" lang="ru-RU" sz="3200" spc="-1" strike="noStrike">
                <a:solidFill>
                  <a:srgbClr val="5959ff"/>
                </a:solidFill>
                <a:latin typeface="Arial"/>
              </a:rPr>
              <a:t>конкурс капитан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анда, у которой готов ответ, должна нажать на сигнальную кнопку, тем самым заработать право отвечать перв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ff0000"/>
                </a:solidFill>
                <a:uFillTx/>
                <a:latin typeface="Arial"/>
              </a:rPr>
              <a:t>ДЕВИЗ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28760" y="1397160"/>
          <a:ext cx="8286480" cy="4674960"/>
        </p:xfrm>
        <a:graphic>
          <a:graphicData uri="http://schemas.openxmlformats.org/drawingml/2006/table">
            <a:tbl>
              <a:tblPr/>
              <a:tblGrid>
                <a:gridCol w="4643280"/>
                <a:gridCol w="3643200"/>
              </a:tblGrid>
              <a:tr h="467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959ff"/>
                          </a:solidFill>
                          <a:latin typeface="Arial"/>
                        </a:rPr>
                        <a:t>Каждый день – 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5959ff"/>
                          </a:solidFill>
                          <a:latin typeface="Arial"/>
                        </a:rPr>
                        <a:t>          всегда, везде,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5959ff"/>
                          </a:solidFill>
                          <a:latin typeface="Arial"/>
                        </a:rPr>
                        <a:t>На занятиях, в игре,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5959ff"/>
                          </a:solidFill>
                          <a:latin typeface="Arial"/>
                        </a:rPr>
                        <a:t>Смело, чётко  говорим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5959ff"/>
                          </a:solidFill>
                          <a:latin typeface="Arial"/>
                        </a:rPr>
                        <a:t>И тихонечко сидим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pic>
        <p:nvPicPr>
          <p:cNvPr id="107" name="Picture 13" descr="C:\Users\ЖЕНЁК\Documents\Фотобиблиотека\анимашки\ghjnh.gif"/>
          <p:cNvPicPr/>
          <p:nvPr/>
        </p:nvPicPr>
        <p:blipFill>
          <a:blip r:embed="rId1"/>
          <a:stretch/>
        </p:blipFill>
        <p:spPr>
          <a:xfrm>
            <a:off x="4786200" y="1785960"/>
            <a:ext cx="4048200" cy="392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9900"/>
                </a:solidFill>
                <a:latin typeface="Arial"/>
              </a:rPr>
              <a:t>1.Загадка от мудрой черепаш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3222720"/>
                <a:gridCol w="5006880"/>
              </a:tblGrid>
              <a:tr h="45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авьте пропущенную букву и пропущенное числ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67" descr="сканирование0053"/>
          <p:cNvPicPr/>
          <p:nvPr/>
        </p:nvPicPr>
        <p:blipFill>
          <a:blip r:embed="rId1"/>
          <a:stretch/>
        </p:blipFill>
        <p:spPr>
          <a:xfrm>
            <a:off x="826920" y="2492280"/>
            <a:ext cx="2881440" cy="338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3995640" y="3789360"/>
          <a:ext cx="4392720" cy="2195640"/>
        </p:xfrm>
        <a:graphic>
          <a:graphicData uri="http://schemas.openxmlformats.org/drawingml/2006/table">
            <a:tbl>
              <a:tblPr/>
              <a:tblGrid>
                <a:gridCol w="1098720"/>
                <a:gridCol w="1098360"/>
                <a:gridCol w="1096920"/>
                <a:gridCol w="10987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5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5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?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15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115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ru-RU" sz="5100" spc="-1" strike="noStrike">
                <a:solidFill>
                  <a:srgbClr val="3366ff"/>
                </a:solidFill>
                <a:latin typeface="Arial"/>
              </a:rPr>
              <a:t>Ответ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2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8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8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8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8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7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Подумай – ка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8229600" cy="4121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ссажир такси ехал в село. По дороге он встретил 5 грузовых и 3 легковых машины. Сколько всего машин шло в сел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Рисунок 3" descr="C:\Users\ЖЕНЁК\Documents\Отсканировано 02.12.2008 21-00_000.jpg"/>
          <p:cNvPicPr/>
          <p:nvPr/>
        </p:nvPicPr>
        <p:blipFill>
          <a:blip r:embed="rId1"/>
          <a:srcRect l="3182" t="6377" r="53594" b="10199"/>
          <a:stretch/>
        </p:blipFill>
        <p:spPr>
          <a:xfrm>
            <a:off x="5000760" y="3357720"/>
            <a:ext cx="3286080" cy="2143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C:\Users\ЖЕНЁК\Documents\Отсканировано 02.12.2008 21-00_000.jpg"/>
          <p:cNvPicPr/>
          <p:nvPr/>
        </p:nvPicPr>
        <p:blipFill>
          <a:blip r:embed="rId2"/>
          <a:srcRect l="49474" t="7645" r="4133" b="10833"/>
          <a:stretch/>
        </p:blipFill>
        <p:spPr>
          <a:xfrm>
            <a:off x="714240" y="3714840"/>
            <a:ext cx="2495520" cy="1625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а машина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к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C:\Users\ЖЕНЁК\Documents\Отсканировано 02.12.2008 21-00_000.jpg"/>
          <p:cNvPicPr/>
          <p:nvPr/>
        </p:nvPicPr>
        <p:blipFill>
          <a:blip r:embed="rId1"/>
          <a:srcRect l="49474" t="7645" r="4133" b="10833"/>
          <a:stretch/>
        </p:blipFill>
        <p:spPr>
          <a:xfrm>
            <a:off x="1500120" y="1879560"/>
            <a:ext cx="6143760" cy="400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5:07:26Z</dcterms:created>
  <dc:creator>женёк</dc:creator>
  <dc:description/>
  <dc:language>en-US</dc:language>
  <cp:lastModifiedBy>ЖЕНЁК</cp:lastModifiedBy>
  <dcterms:modified xsi:type="dcterms:W3CDTF">2008-12-04T13:48:33Z</dcterms:modified>
  <cp:revision>18</cp:revision>
  <dc:subject/>
  <dc:title>квн</dc:title>
</cp:coreProperties>
</file>