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6A4-3825-48FA-8D28-D1B26907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C30-AB1D-404F-865C-426231E6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E9FC-95E0-4E13-891B-C36F0AA4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2BB-AD8F-4570-9024-45022B29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479-2076-4F0B-A0F6-F10CA6A9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2F1-A52E-48E3-8997-C6453FF7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4A6-75C2-426D-90C5-00670900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BFC-CAAC-4BE4-8DA5-06624534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0FF-FEAC-4577-8E35-D66AC3DF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A2C-FB65-4B91-8177-F19420DF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F26-C5AB-4635-84FA-206A779E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CE9-964C-4369-B749-3C55AA34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DA1-0220-40A4-B940-B4D8ED79C7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6481800" cy="29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20000"/>
                </a:solidFill>
                <a:latin typeface="Times New Roman"/>
              </a:rPr>
              <a:t>Урок английского</a:t>
            </a:r>
            <a:br>
              <a:rPr sz="7200"/>
            </a:br>
            <a:r>
              <a:rPr b="0" lang="ru-RU" sz="7200" spc="-1" strike="noStrike">
                <a:solidFill>
                  <a:srgbClr val="820000"/>
                </a:solidFill>
                <a:latin typeface="Times New Roman"/>
              </a:rPr>
              <a:t>язы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7129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929160" y="1600200"/>
            <a:ext cx="1050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 изучаю английский язы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ля того, чтобы…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Содержимое 5" descr="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Do you like…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Содержимое 3" descr="9d310645b78ff7964ac06f403b8e05e8.jpg"/>
          <p:cNvPicPr/>
          <p:nvPr/>
        </p:nvPicPr>
        <p:blipFill>
          <a:blip r:embed="rId1"/>
          <a:stretch/>
        </p:blipFill>
        <p:spPr>
          <a:xfrm>
            <a:off x="571680" y="2786040"/>
            <a:ext cx="8229600" cy="28227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1944720" y="749160"/>
            <a:ext cx="504180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иться догадываться о значении сло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иться правильно читать и произносить новые сло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 like…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y are … and… 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3865680"/>
            <a:ext cx="83948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raff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eph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ься догадываться о значении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ься правильно читать и произносить новые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Дом</cp:lastModifiedBy>
  <dcterms:modified xsi:type="dcterms:W3CDTF">2018-03-20T13:32:19Z</dcterms:modified>
  <cp:revision>26</cp:revision>
  <dc:subject/>
  <dc:title>Слайд 1</dc:title>
</cp:coreProperties>
</file>