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80E0F-E2F0-4DC9-B999-F50BA6A99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BC26A-54F9-4C95-9EF1-C136FECB0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DE28E-E99B-4920-9595-61759982B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21483-65C7-47BA-8B7C-FF30BD073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78D33-A99F-45D0-8D2F-FB97D76B7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2158C-7C99-44B8-974E-A41F9CD87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1A5DE-AF1C-4C79-9608-348800A44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426D1-AE50-4164-8510-EE1DAF47A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D5CDB-220E-4167-BA47-93EBD794C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7FB5F-388F-4819-BD5F-91EE2F050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6FD56-AC02-4981-B00C-AC140EB12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A19BC-C445-4BF7-9F97-8E60AF8ED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ED2AA-A860-4312-87B1-278EBD0A776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84000" y="259920"/>
            <a:ext cx="6481800" cy="295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820000"/>
                </a:solidFill>
                <a:latin typeface="Times New Roman"/>
              </a:rPr>
              <a:t>Урок английского</a:t>
            </a:r>
            <a:br>
              <a:rPr sz="7200"/>
            </a:br>
            <a:r>
              <a:rPr b="0" lang="ru-RU" sz="7200" spc="-1" strike="noStrike">
                <a:solidFill>
                  <a:srgbClr val="820000"/>
                </a:solidFill>
                <a:latin typeface="Times New Roman"/>
              </a:rPr>
              <a:t>языка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835280" y="1557360"/>
            <a:ext cx="712944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-929160" y="1600200"/>
            <a:ext cx="10501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Я изучаю английский язык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для того, чтобы… 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Содержимое 5" descr="img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8800" spc="-1" strike="noStrike">
                <a:solidFill>
                  <a:srgbClr val="000000"/>
                </a:solidFill>
                <a:latin typeface="Times New Roman"/>
              </a:rPr>
              <a:t>Do you like…</a:t>
            </a:r>
            <a:r>
              <a:rPr b="1" lang="ru-RU" sz="8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2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Содержимое 3" descr="9d310645b78ff7964ac06f403b8e05e8.jpg"/>
          <p:cNvPicPr/>
          <p:nvPr/>
        </p:nvPicPr>
        <p:blipFill>
          <a:blip r:embed="rId1"/>
          <a:stretch/>
        </p:blipFill>
        <p:spPr>
          <a:xfrm>
            <a:off x="571680" y="2786040"/>
            <a:ext cx="8229600" cy="2822760"/>
          </a:xfrm>
          <a:prstGeom prst="rect">
            <a:avLst/>
          </a:prstGeom>
          <a:ln w="0">
            <a:noFill/>
          </a:ln>
        </p:spPr>
      </p:pic>
      <p:pic>
        <p:nvPicPr>
          <p:cNvPr id="51" name="Прямоугольник 4" descr=""/>
          <p:cNvPicPr/>
          <p:nvPr/>
        </p:nvPicPr>
        <p:blipFill>
          <a:blip r:embed="rId2"/>
          <a:stretch/>
        </p:blipFill>
        <p:spPr>
          <a:xfrm>
            <a:off x="1944720" y="749160"/>
            <a:ext cx="5041800" cy="17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Учиться догадываться о значении слова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Учиться правильно читать и произносить новые слова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I like… </a:t>
            </a:r>
            <a:r>
              <a:rPr b="0" lang="ru-RU" sz="6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they are … and… 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Прямоугольник 3" descr=""/>
          <p:cNvPicPr/>
          <p:nvPr/>
        </p:nvPicPr>
        <p:blipFill>
          <a:blip r:embed="rId1"/>
          <a:stretch/>
        </p:blipFill>
        <p:spPr>
          <a:xfrm>
            <a:off x="480960" y="3865680"/>
            <a:ext cx="8394840" cy="201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Giraff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ar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Lion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Elephant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imal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Учиться догадываться о значении слов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Учиться правильно читать и произносить новые слов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6T20:41:41Z</dcterms:created>
  <dc:creator>Елена</dc:creator>
  <dc:description/>
  <dc:language>en-US</dc:language>
  <cp:lastModifiedBy>Дом</cp:lastModifiedBy>
  <dcterms:modified xsi:type="dcterms:W3CDTF">2018-03-20T13:32:19Z</dcterms:modified>
  <cp:revision>26</cp:revision>
  <dc:subject/>
  <dc:title>Слайд 1</dc:title>
</cp:coreProperties>
</file>