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87C-108E-4803-A18C-E285A3EC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54D-74F9-4995-BB91-731EEC4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FB2-243C-476B-988B-AA8048D9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84-802A-4F21-A0AF-6C35D613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23FA-180F-410D-A71A-1984ADD4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A4E-0090-490F-B6A8-A785EAA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1DB-6047-4B05-A0EC-81CA826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EF8-EF2E-4AB6-84CF-A7DDEDA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D411-08DF-4027-99C2-A3120E9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243-A892-40C8-8205-119FAA2C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B505-DB30-4F82-8356-BDB3934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242-5796-4E3A-9E5B-8ABDB3B4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BA96-EF06-4D86-B339-275068ED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DB8-88EE-41F8-80F5-51C1E88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8807-E5F2-402A-A7E5-5A9F5AC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35C4-E1CD-421C-A550-8CD36488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2F3-7016-47E1-9194-FBDA0D36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EBD-ECBF-4203-81FF-8A3873E1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12F-0C07-4B09-879E-361CFC6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71B-B75F-484C-9DE5-82D24EB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C12-D511-4D1B-A7A7-E6A283A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602-2E27-49B7-8ACF-E418C7A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D64-4672-4F80-BB61-5041F06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067-25F5-4C61-8640-21AA4E7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1639-D025-49BA-82CA-5AE2AFD3A2D5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D30-EEFE-4A6C-9365-E08F74CC93CC}" type="slidenum">
              <a:rPr b="0" lang="ru-RU" sz="9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212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4152960" y="1163520"/>
            <a:ext cx="4960800" cy="539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цитаты из романа, определение темы урока, обозначение це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отрывка из ром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упповая 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М.Ю. Лермонтов</a:t>
            </a:r>
            <a:br>
              <a:rPr sz="2800"/>
            </a:b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«Герой нашего времени».</a:t>
            </a:r>
            <a:br>
              <a:rPr sz="2800"/>
            </a:b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Анализ главы «Бэла». Образ главного геро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Монгуш Чаяна Трофимов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анализировать главу «Бэла»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ть представление о «странном человеке» Печори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-108000" y="981000"/>
            <a:ext cx="9417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95280" y="33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читать главу «Максим Максимыч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йти причины отчуждения Печорина и Максим Максимыч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0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43:02Z</dcterms:created>
  <dc:creator>VorobSS</dc:creator>
  <dc:description/>
  <dc:language>en-US</dc:language>
  <cp:lastModifiedBy>asus</cp:lastModifiedBy>
  <dcterms:modified xsi:type="dcterms:W3CDTF">2023-02-04T17:17:26Z</dcterms:modified>
  <cp:revision>11</cp:revision>
  <dc:subject/>
  <dc:title>Лермонтовские места</dc:title>
</cp:coreProperties>
</file>