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89D-6995-4819-B93E-A1CE1A98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21C-0BAC-4BAC-9AF8-6A9DD97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319-BF37-4E7B-B3A0-72F7D52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AB0-CC71-49CB-B606-37706158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B728-C70D-445B-B4E8-6A1664D2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61C9-3A23-4DC0-9AA5-1A3009D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611C-9132-4933-9E20-5C9AD4AB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6A77-9885-4CF1-9052-B63A2111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ED3-675B-4D79-A838-106FF4A3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ED86-6A48-4923-93E2-123CE26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0ACA-F62E-475C-996C-B103561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4FA-E5E1-4CE2-A665-34F1586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ECAB-41F7-4936-9822-13EEACE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F1AB-0F8C-454F-A98A-707AB08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A0A-1973-4AE5-AF8B-EDB4F5B2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C0A1-BBF8-444B-8DA2-636CE048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6B88-8E90-43E7-925D-24ED1CE1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008-7F77-4DFE-9B94-E95109D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094-E654-4803-82A0-6F02EB1E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FD3-124B-4283-AAB9-63D2830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103-5D24-4448-ADD7-B72A68FE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2ED-98A3-422A-85A2-CCB0DEA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571-C8EE-46FE-8392-6F381131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DBB-B38B-4B49-A5B0-02E6891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C6E-A9A3-4952-B880-B4EEA229D19B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0045-B7D2-46F8-997D-3999F43B2F8F}" type="slidenum">
              <a:rPr b="0" lang="ru-RU" sz="9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212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4152960" y="1163520"/>
            <a:ext cx="4960800" cy="539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цитаты из романа, определение темы урока, обозначение це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отрывка из рома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упповая 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onstantia"/>
              </a:rPr>
              <a:t>М.Ю. Лермонтов</a:t>
            </a:r>
            <a:br>
              <a:rPr sz="2800"/>
            </a:br>
            <a:r>
              <a:rPr b="0" lang="ru-RU" sz="2800" spc="-1" strike="noStrike">
                <a:solidFill>
                  <a:srgbClr val="632523"/>
                </a:solidFill>
                <a:latin typeface="Constantia"/>
              </a:rPr>
              <a:t>«Герой нашего времени».</a:t>
            </a:r>
            <a:br>
              <a:rPr sz="2800"/>
            </a:br>
            <a:r>
              <a:rPr b="0" lang="ru-RU" sz="2800" spc="-1" strike="noStrike">
                <a:solidFill>
                  <a:srgbClr val="632523"/>
                </a:solidFill>
                <a:latin typeface="Constantia"/>
              </a:rPr>
              <a:t>Анализ главы «Бэла». Образ главного геро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Учитель русского языка и литературы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Монгуш Чаяна Трофимов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анализировать главу «Бэла»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ть представление о «странном человеке» Печори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-108000" y="981000"/>
            <a:ext cx="9417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395280" y="33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читать главу «Максим Максимыч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йти причины отчуждения Печорина и Максим Максимыч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0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1:43:02Z</dcterms:created>
  <dc:creator>VorobSS</dc:creator>
  <dc:description/>
  <dc:language>en-US</dc:language>
  <cp:lastModifiedBy>asus</cp:lastModifiedBy>
  <dcterms:modified xsi:type="dcterms:W3CDTF">2023-02-04T17:17:26Z</dcterms:modified>
  <cp:revision>11</cp:revision>
  <dc:subject/>
  <dc:title>Лермонтовские места</dc:title>
</cp:coreProperties>
</file>