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36FF-B02C-4163-83D2-8349597A4B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014A-9C01-4763-912E-16AB4488E8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F79-823B-4060-B9C9-F2CDFBF7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3EE-7224-4C67-81A0-8B2E4E38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E82-0545-4BF3-9741-16BDA720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893-CAC8-41A1-BE96-63C86E44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AEF2-93CB-433C-92B6-D6D65E84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FD59-1711-4204-87D4-F1073A3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9C79-693A-4D03-9CC0-B105E1AF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1449-8F34-4CA2-9325-FD81A65E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13C8-4D2E-4028-92E7-37E4C165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300E-9B72-4844-91B5-8A9DA1C5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ABA3-5286-4824-92A7-A599827C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153-53C0-4128-9C5D-C8D61756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C2E0-8CDF-4E85-B60F-2248121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ABD0-939C-44A5-A992-CCF21801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AF0F-EA1C-482B-8A21-DAA438FA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CFA8-42B5-4A8E-9D96-FFB0D514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664C-B79D-4A23-A6F0-FF2AD6EB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A9B2-13FA-4B4E-AB4A-73545BD9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B96E0-09DC-4C53-A083-1AEC0027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0748-981D-4072-930C-7161FF52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41B4-5186-4392-882D-A04FCAD8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6BA1-2D0A-4A46-B558-830252E7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5EB-007D-4730-B6A4-F935FA98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5650-AAB8-4D4F-A529-D42DD4D7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7F00E-9699-418D-B044-3FCEF55E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0F9C-3121-40BE-9C3C-2FC608E2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8A76-43DB-42D8-BDEE-76BBA4C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1E25-54E6-4F9D-A8CF-F8A57863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0E87-3A21-4FBA-B543-CAF81D47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7A17-FA41-458B-B69E-EEA92AB8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3306-83A6-490A-844A-6C8A8B88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B3A3-D0A5-4659-8130-9DE2F52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526C-E944-44D3-B3D6-B5B1AB0D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BDA-FF05-4FF7-967B-DD6A24EB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2E04-50D2-4C34-B71F-DA1C76F2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D8E63-02B2-4891-BF1D-9449CA82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EA29-2B07-4A43-994D-8C576579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78CFE-A03E-42BA-9D52-01F0C05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02E9-6B4B-4323-B95C-B9C1993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437B4-66F9-4E0B-9135-1AFF3B74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C4DD-7116-4CF0-8228-9C6C9F10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ABFD-35A5-45BF-AB75-A6E884B7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C509-686C-490C-91D9-508E7467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00C-E88B-4122-862A-FE898222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2B0-B311-4E8B-822D-E0A07738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AE6-D9B6-4F88-AF7C-5E66DC8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8AA-04E7-4C72-9DBF-DE8BB25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D67-1966-4B97-AD5A-66086F32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50b4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3C90-8C40-4830-81F0-7A8579CD0A58}" type="slidenum">
              <a:rPr b="0" lang="ru-RU" sz="10300" spc="-1" strike="noStrike">
                <a:solidFill>
                  <a:srgbClr val="50b4c8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1D6C-BC04-4800-9409-A2968CC62EF7}" type="slidenum">
              <a:rPr b="0" lang="ru-RU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7620120" y="0"/>
            <a:ext cx="4572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6FF8-14A1-4FD5-9FA4-E46BDD9DA8BA}" type="slidenum">
              <a:rPr b="0" lang="ru-RU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732D-F5ED-4364-9BC6-BDB73A31A812}" type="slidenum">
              <a:rPr b="0" lang="ru-RU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bfc"/>
            </a:gs>
            <a:gs pos="100000">
              <a:srgbClr val="cbe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1800" y="210600"/>
            <a:ext cx="9273960" cy="369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00000"/>
                </a:solidFill>
                <a:latin typeface="Calibri Light"/>
              </a:rPr>
              <a:t>MASTER CLASS</a:t>
            </a:r>
            <a:br>
              <a:rPr sz="8800"/>
            </a:br>
            <a:r>
              <a:rPr b="1" lang="en-US" sz="8800" spc="-1" strike="noStrike">
                <a:solidFill>
                  <a:srgbClr val="c00000"/>
                </a:solidFill>
                <a:latin typeface="Calibri Light"/>
              </a:rPr>
              <a:t>on making up</a:t>
            </a:r>
            <a:br>
              <a:rPr sz="8800"/>
            </a:br>
            <a:endParaRPr b="0" lang="en-US" sz="8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23880" y="3123720"/>
            <a:ext cx="9144000" cy="27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 Light"/>
            </a:endParaRPr>
          </a:p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c000"/>
                </a:solidFill>
                <a:latin typeface="Calibri Light"/>
              </a:rPr>
              <a:t>SINQUAINS</a:t>
            </a:r>
            <a:endParaRPr b="0" lang="en-US" sz="100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149400" y="0"/>
            <a:ext cx="1231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266688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17440" y="76320"/>
            <a:ext cx="118000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187200" y="0"/>
            <a:ext cx="1200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1655640" y="0"/>
            <a:ext cx="888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271440" y="293760"/>
            <a:ext cx="117093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204840"/>
            <a:ext cx="12055320" cy="66531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0" y="4757760"/>
            <a:ext cx="8926560" cy="1436760"/>
          </a:xfrm>
          <a:prstGeom prst="rect">
            <a:avLst/>
          </a:prstGeom>
          <a:solidFill>
            <a:srgbClr val="fab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8926560" y="4757760"/>
            <a:ext cx="2438280" cy="1436760"/>
          </a:xfrm>
          <a:prstGeom prst="rect">
            <a:avLst/>
          </a:prstGeom>
          <a:solidFill>
            <a:srgbClr val="fab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0" y="6194520"/>
            <a:ext cx="8926560" cy="663480"/>
          </a:xfrm>
          <a:prstGeom prst="rect">
            <a:avLst/>
          </a:prstGeom>
          <a:solidFill>
            <a:srgbClr val="fab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1"/>
          <p:cNvSpPr/>
          <p:nvPr/>
        </p:nvSpPr>
        <p:spPr>
          <a:xfrm>
            <a:off x="1523880" y="5322960"/>
            <a:ext cx="8926560" cy="1436760"/>
          </a:xfrm>
          <a:prstGeom prst="rect">
            <a:avLst/>
          </a:prstGeom>
          <a:solidFill>
            <a:srgbClr val="fab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-812880" y="0"/>
            <a:ext cx="13005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2T21:38:35Z</dcterms:created>
  <dc:creator>Пользователь Windows</dc:creator>
  <dc:description/>
  <dc:language>en-US</dc:language>
  <cp:lastModifiedBy>Пользователь Windows</cp:lastModifiedBy>
  <dcterms:modified xsi:type="dcterms:W3CDTF">2019-11-22T22:25:15Z</dcterms:modified>
  <cp:revision>17</cp:revision>
  <dc:subject/>
  <dc:title>Презентация PowerPoint</dc:title>
</cp:coreProperties>
</file>