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7123-5BF8-4CD6-BF28-8102B561FC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5016-81B5-4040-B861-C19A624860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D7D-BB05-4D94-899B-DD9EA197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899-FC7B-4784-BEED-6041E665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912-D587-4FDD-9A11-DB151155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4D7-5B9A-44A8-ACCC-059B8188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B531-7EE1-4059-9E3A-A7CA0E0E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72A-4E3A-48F1-BEC8-D01DCE52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1DCE-065D-4076-A28A-DBDA375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F2D3-ED41-42AA-84DE-FBD0F9D4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5356-3BDA-4E48-8551-98ACE42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A2B6-CC83-4BD4-978F-0BE7155B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BDF8-BC16-4F60-BA1F-23BF320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A51-5A24-455E-A4A9-B553E4C8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9044-88D1-46D2-B143-8C3CC0E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2928-D0D2-4094-8C4D-6FF5599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909E-C2DC-4AFE-B038-161A6D8F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0C3-648B-462B-A370-9A9F1B33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38AE-951A-4645-A8B0-346FFA4C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9837-0F14-4568-AE64-B5212D70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54B8-CD9B-4387-AC9B-C0745237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14D7-6461-4854-9ECA-4E28D535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FE67-0BD0-469C-9304-D9621BD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9A26-9913-4358-9E1D-BBA177B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750-745C-4D4C-B09E-1CECFCCE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CD2C-3EFE-414B-B6B7-5F973C8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0861-6988-46D8-9D54-BA530F3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313F-31F2-4006-A524-B881BC08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88F9-D016-40EB-B364-B85DFA5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25EA-4DAF-429F-897F-5C19756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37CC-EAEB-4AB3-A165-35351DC2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6394-CB0C-4629-971A-FBAF8C26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F406-2FA8-4260-8256-7F408A38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EC35-D7B4-43E8-BB98-BD73E296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8513-D7FA-41A5-A019-262BE2C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4D3-3049-486E-A267-E39E5ADE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5DAE-CD27-41BB-A606-2969075F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A9E5-EF58-4E2F-B18F-9603531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FE86-71FC-404E-832C-321DDA4F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89FA-21EE-49FD-B147-4AEAFB9F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F2E1-0C94-489E-9035-CD6C1CCE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971AE-2ABB-4273-ADCD-897E099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53983-2149-4BE8-A9AC-03F08CC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18B9-D410-4C66-B8A1-96C5DFBC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F4820-F8F7-48EF-86DF-420159FF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096-E339-4757-A3E3-90B1FD70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A7F-6393-445F-8224-BCA171C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73B-1FDD-4069-8DF5-986FE91B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B29-9F28-4221-B6A5-D094038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342-5048-4850-A7E3-ECD71E7E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50b4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8D32-D7E0-45E2-87CD-B3DBCB5A16CA}" type="slidenum">
              <a:rPr b="0" lang="ru-RU" sz="10300" spc="-1" strike="noStrike">
                <a:solidFill>
                  <a:srgbClr val="50b4c8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5E17-9F2B-4533-A7E2-5E2FAC4A052E}" type="slidenum">
              <a:rPr b="0" lang="ru-RU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7620120" y="0"/>
            <a:ext cx="4572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4B4C-CB92-4F4B-9941-2689B6A317C6}" type="slidenum">
              <a:rPr b="0" lang="ru-RU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D9AF-0F1A-4B4F-8389-CF41B2EFD47A}" type="slidenum">
              <a:rPr b="0" lang="ru-RU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bfc"/>
            </a:gs>
            <a:gs pos="100000">
              <a:srgbClr val="cb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1800" y="210600"/>
            <a:ext cx="9273960" cy="369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00000"/>
                </a:solidFill>
                <a:latin typeface="Calibri Light"/>
              </a:rPr>
              <a:t>MASTER CLASS</a:t>
            </a:r>
            <a:br>
              <a:rPr sz="8800"/>
            </a:br>
            <a:r>
              <a:rPr b="1" lang="en-US" sz="8800" spc="-1" strike="noStrike">
                <a:solidFill>
                  <a:srgbClr val="c00000"/>
                </a:solidFill>
                <a:latin typeface="Calibri Light"/>
              </a:rPr>
              <a:t>on making up</a:t>
            </a:r>
            <a:br>
              <a:rPr sz="8800"/>
            </a:br>
            <a:endParaRPr b="0" lang="en-US" sz="8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23880" y="3123720"/>
            <a:ext cx="9144000" cy="27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 Light"/>
            </a:endParaRPr>
          </a:p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c000"/>
                </a:solidFill>
                <a:latin typeface="Calibri Light"/>
              </a:rPr>
              <a:t>SINQUAINS</a:t>
            </a:r>
            <a:endParaRPr b="0" lang="en-US" sz="100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149400" y="0"/>
            <a:ext cx="1231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266688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17440" y="76320"/>
            <a:ext cx="118000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187200" y="0"/>
            <a:ext cx="1200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1655640" y="0"/>
            <a:ext cx="888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271440" y="293760"/>
            <a:ext cx="11709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204840"/>
            <a:ext cx="12055320" cy="66531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0" y="4757760"/>
            <a:ext cx="8926560" cy="143676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8926560" y="4757760"/>
            <a:ext cx="2438280" cy="143676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0" y="6194520"/>
            <a:ext cx="8926560" cy="66348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1"/>
          <p:cNvSpPr/>
          <p:nvPr/>
        </p:nvSpPr>
        <p:spPr>
          <a:xfrm>
            <a:off x="1523880" y="5322960"/>
            <a:ext cx="8926560" cy="1436760"/>
          </a:xfrm>
          <a:prstGeom prst="rect">
            <a:avLst/>
          </a:prstGeom>
          <a:solidFill>
            <a:srgbClr val="fab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-812880" y="0"/>
            <a:ext cx="13005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2T21:38:35Z</dcterms:created>
  <dc:creator>Пользователь Windows</dc:creator>
  <dc:description/>
  <dc:language>en-US</dc:language>
  <cp:lastModifiedBy>Пользователь Windows</cp:lastModifiedBy>
  <dcterms:modified xsi:type="dcterms:W3CDTF">2019-11-22T22:25:15Z</dcterms:modified>
  <cp:revision>17</cp:revision>
  <dc:subject/>
  <dc:title>Презентация PowerPoint</dc:title>
</cp:coreProperties>
</file>