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EE1-296B-4138-BD54-0D2BA086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5D1-C4A7-4506-ADC8-7EB8AA5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999-38C8-43FD-981E-195C1D05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975-C1E7-42A9-A7E0-3A4AA125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D97-9C74-4FC1-B20A-B1E5161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491-C256-4612-91E5-DD281FB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35A-698E-426E-BBA6-B631023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D6D-F673-4976-A65A-74241E6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CB7-3ADF-43B5-A80F-2EE8912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33B-4F92-46E9-831F-69848A2B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E05-CBBE-4612-AAF4-CFB9B67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8FE-2F47-4C8C-B7BD-86B1B5E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E20-1E87-4820-88FC-A97B2BB7C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ocuments.infourok.ru/92f643c7-1472-49f7-ba7f-3062e71ce1b2/1/slide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465661cf8d9e5196a91af3b2e25a341e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documents.infourok.ru/92f643c7-1472-49f7-ba7f-3062e71ce1b2/1/slide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documents.infourok.ru/92f643c7-1472-49f7-ba7f-3062e71ce1b2/1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documents.infourok.ru/92f643c7-1472-49f7-ba7f-3062e71ce1b2/1/slide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documents.infourok.ru/92f643c7-1472-49f7-ba7f-3062e71ce1b2/1/slide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documents.infourok.ru/92f643c7-1472-49f7-ba7f-3062e71ce1b2/1/slide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ocuments.infourok.ru/92f643c7-1472-49f7-ba7f-3062e71ce1b2/1/slide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documents.infourok.ru/92f643c7-1472-49f7-ba7f-3062e71ce1b2/1/slide_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documents.infourok.ru/92f643c7-1472-49f7-ba7f-3062e71ce1b2/1/slide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ocuments.infourok.ru/92f643c7-1472-49f7-ba7f-3062e71ce1b2/1/slide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documents.infourok.ru/92f643c7-1472-49f7-ba7f-3062e71ce1b2/1/slide_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documents.infourok.ru/92f643c7-1472-49f7-ba7f-3062e71ce1b2/1/slide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31T16:40:23Z</dcterms:created>
  <dc:creator>User</dc:creator>
  <dc:description/>
  <dc:language>en-US</dc:language>
  <cp:lastModifiedBy>User</cp:lastModifiedBy>
  <dcterms:modified xsi:type="dcterms:W3CDTF">2021-08-31T17:05:02Z</dcterms:modified>
  <cp:revision>4</cp:revision>
  <dc:subject/>
  <dc:title>Слайд 1</dc:title>
</cp:coreProperties>
</file>