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037A-7E04-49EC-8FA9-30CF711A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3F22-8144-4F28-A0FA-05450F50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1336-A11D-4ECA-B2D1-64C227F5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EA06-A155-41BF-921E-E02B5314F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EEB0-2473-44F6-B6C2-0811B4A5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1C22-EB12-4174-BF96-8C1D9D05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4B80-8C99-4E7F-B17C-980B30CF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CDE9-9A7A-4FC7-A183-91F891AB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CC57-3630-4B13-8817-A0BE395C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21BC-99AD-4FCC-846A-09AD6894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B1A1-9A87-4630-B521-8217DAE8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DC4E-29A7-43E4-AF1A-03D139A7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82E7-26AC-4656-8C78-ABA0755957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documents.infourok.ru/92f643c7-1472-49f7-ba7f-3062e71ce1b2/1/slide_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User\Desktop\0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User\Desktop\465661cf8d9e5196a91af3b2e25a341e-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s://documents.infourok.ru/92f643c7-1472-49f7-ba7f-3062e71ce1b2/1/slide_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s://documents.infourok.ru/92f643c7-1472-49f7-ba7f-3062e71ce1b2/1/slide_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User\Desktop\img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s://documents.infourok.ru/92f643c7-1472-49f7-ba7f-3062e71ce1b2/1/slide_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s://documents.infourok.ru/92f643c7-1472-49f7-ba7f-3062e71ce1b2/1/slide_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s://documents.infourok.ru/92f643c7-1472-49f7-ba7f-3062e71ce1b2/1/slide_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s://documents.infourok.ru/92f643c7-1472-49f7-ba7f-3062e71ce1b2/1/slide_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s://documents.infourok.ru/92f643c7-1472-49f7-ba7f-3062e71ce1b2/1/slide_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s://documents.infourok.ru/92f643c7-1472-49f7-ba7f-3062e71ce1b2/1/slide_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s://documents.infourok.ru/92f643c7-1472-49f7-ba7f-3062e71ce1b2/1/slide_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s://documents.infourok.ru/92f643c7-1472-49f7-ba7f-3062e71ce1b2/1/slide_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s://documents.infourok.ru/92f643c7-1472-49f7-ba7f-3062e71ce1b2/1/slide_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31T16:40:23Z</dcterms:created>
  <dc:creator>User</dc:creator>
  <dc:description/>
  <dc:language>en-US</dc:language>
  <cp:lastModifiedBy>User</cp:lastModifiedBy>
  <dcterms:modified xsi:type="dcterms:W3CDTF">2021-08-31T17:05:02Z</dcterms:modified>
  <cp:revision>4</cp:revision>
  <dc:subject/>
  <dc:title>Слайд 1</dc:title>
</cp:coreProperties>
</file>