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0910-69C8-4ADF-8A1D-9A577265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DFB4-CEA6-4989-A208-573E88B5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8465-4EDA-4099-A414-002B2BBD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500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8184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852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5500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8184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CE71-3AF3-4944-B133-58A06CD8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523A-96E6-43C2-A66C-D8E36027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3E3C-01E9-4389-986E-07990DB2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0B0A-453B-444A-98C1-4310355A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CC9B-893B-4A4B-A3B3-C68EB497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54C1-DDB6-4440-BEEE-FD410AFB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28520" y="723600"/>
            <a:ext cx="101343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96FA-85C4-4115-870D-1504EE11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BE23-35A9-49A0-BB2F-6E8C6D2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3390-AC7C-4262-8D2E-D454A2E3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AF31-C28D-4CBD-90DB-E336522F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1A11-7087-4F24-B5B3-B36D98AB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0FD2-2C56-4F8B-9502-41FA5603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0196-AFA9-4E6A-B2DB-0C7F979C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500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8184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2852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5500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8184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4094-795D-4268-A028-12F5D084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7DB5-A1AE-4A01-B3BA-F6876D65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8748-1ABE-4318-A881-AA1FA57A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0662-E43D-42B1-92C0-8A409924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6EEB7-B284-4AE8-A5D4-DCAA3A4D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78EA-3B47-4DA7-A3A7-507DBCF5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B541-3FD5-46ED-BD98-6B026C9F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28520" y="723600"/>
            <a:ext cx="101343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0E1B-CB87-444E-BFA7-E19035CA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B96A-2213-4BE3-9678-CC6EC637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8B91-3BC5-46AF-A04A-7EACA90F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93A8E-7DC9-4E9D-80AC-882A167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51EEF-5B0F-4E1A-BD31-3F496174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B313-AE60-4D8E-B2D9-8480A8A2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45500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88184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02852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45500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88184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B077-5D27-4B96-B188-58A0778B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3001-CDEE-44D1-AA3B-AEC96AEE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7ADB-FD92-4ABE-9161-83262E4C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8520" y="723600"/>
            <a:ext cx="101343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E824-1A29-48D6-8061-389CE587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F37F-F180-417D-A415-17634492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6558-52B2-4C2F-B4AB-21FBCD56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E96B-FCC9-4C31-93B0-73F8186A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830"/>
                </a:solidFill>
                <a:latin typeface="Bembo"/>
              </a:rPr>
              <a:t>Click to edit the title text format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Click to edit the outline text format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1" marL="27288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SzPct val="8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con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2" marL="27288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Thir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3" marL="54756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our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4" marL="54756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if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5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ix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6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ven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394720" y="6245280"/>
            <a:ext cx="52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F5BE-AD5B-42E0-ADE3-FEF7FDA2CD55}" type="slidenum">
              <a:rPr b="0" lang="en-US" sz="1000" spc="-1" strike="noStrike">
                <a:solidFill>
                  <a:srgbClr val="2c2830"/>
                </a:solidFill>
                <a:latin typeface="Bemb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55680" y="6245280"/>
            <a:ext cx="26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c2830"/>
                </a:solidFill>
                <a:latin typeface="Bembo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7279920" y="6245280"/>
            <a:ext cx="41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5" name="Freeform: Shape 15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160920" y="157606"/>
                </a:moveTo>
                <a:lnTo>
                  <a:pt x="160920" y="6700394"/>
                </a:lnTo>
                <a:lnTo>
                  <a:pt x="12031081" y="6700394"/>
                </a:lnTo>
                <a:lnTo>
                  <a:pt x="12031081" y="157606"/>
                </a:lnTo>
                <a:lnTo>
                  <a:pt x="160920" y="157606"/>
                </a:lnTo>
                <a:close/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3"/>
          <p:cNvSpPr/>
          <p:nvPr/>
        </p:nvSpPr>
        <p:spPr>
          <a:xfrm>
            <a:off x="160200" y="157320"/>
            <a:ext cx="11871360" cy="654336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5662440" y="4216680"/>
            <a:ext cx="866880" cy="162720"/>
            <a:chOff x="5662440" y="4216680"/>
            <a:chExt cx="866880" cy="162720"/>
          </a:xfrm>
        </p:grpSpPr>
        <p:sp>
          <p:nvSpPr>
            <p:cNvPr id="44" name="Rectangle 7"/>
            <p:cNvSpPr/>
            <p:nvPr/>
          </p:nvSpPr>
          <p:spPr>
            <a:xfrm flipH="1" rot="18964800">
              <a:off x="6038280" y="423972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45" name="Straight Connector 8"/>
            <p:cNvSpPr/>
            <p:nvPr/>
          </p:nvSpPr>
          <p:spPr>
            <a:xfrm>
              <a:off x="617688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46" name="Straight Connector 9"/>
            <p:cNvSpPr/>
            <p:nvPr/>
          </p:nvSpPr>
          <p:spPr>
            <a:xfrm>
              <a:off x="566244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830"/>
                </a:solidFill>
                <a:latin typeface="Bembo"/>
              </a:rPr>
              <a:t>Click to edit the title text format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Click to edit the outline text format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1" marL="27288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SzPct val="8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con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2" marL="27288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Thir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3" marL="54756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our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4" marL="54756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if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5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ix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6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ven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5680" y="6245280"/>
            <a:ext cx="26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c2830"/>
                </a:solidFill>
                <a:latin typeface="Bembo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7280280" y="624528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1394720" y="6245280"/>
            <a:ext cx="52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64C3-5F37-4857-8380-06B310FAAE64}" type="slidenum">
              <a:rPr b="0" lang="en-US" sz="1000" spc="-1" strike="noStrike">
                <a:solidFill>
                  <a:srgbClr val="2c2830"/>
                </a:solidFill>
                <a:latin typeface="Bemb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723960" y="750960"/>
            <a:ext cx="4579920" cy="5494320"/>
          </a:xfrm>
          <a:custGeom>
            <a:avLst/>
            <a:gdLst/>
            <a:ahLst/>
            <a:rect l="l" t="t" r="r" b="b"/>
            <a:pathLst>
              <a:path w="6096000" h="6858000">
                <a:moveTo>
                  <a:pt x="0" y="0"/>
                </a:moveTo>
                <a:lnTo>
                  <a:pt x="6096000" y="0"/>
                </a:lnTo>
                <a:lnTo>
                  <a:pt x="6096000" y="6858000"/>
                </a:lnTo>
                <a:lnTo>
                  <a:pt x="3037115" y="5889172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e0dc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2579760" y="4690800"/>
            <a:ext cx="868320" cy="163800"/>
            <a:chOff x="2579760" y="4690800"/>
            <a:chExt cx="868320" cy="163800"/>
          </a:xfrm>
        </p:grpSpPr>
        <p:sp>
          <p:nvSpPr>
            <p:cNvPr id="90" name="Rectangle 7"/>
            <p:cNvSpPr/>
            <p:nvPr/>
          </p:nvSpPr>
          <p:spPr>
            <a:xfrm flipH="1" rot="18964800">
              <a:off x="2955240" y="4714560"/>
              <a:ext cx="1159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91" name="Straight Connector 8"/>
            <p:cNvSpPr/>
            <p:nvPr/>
          </p:nvSpPr>
          <p:spPr>
            <a:xfrm>
              <a:off x="3095640" y="477216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>
              <a:off x="2579760" y="477216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830"/>
                </a:solidFill>
                <a:latin typeface="Bembo"/>
              </a:rPr>
              <a:t>Click to edit the title text format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Click to edit the outline text format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1" marL="27288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SzPct val="8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con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2" marL="27288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Thir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3" marL="54756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our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4" marL="54756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if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5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ix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6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ven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5680" y="6245280"/>
            <a:ext cx="26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c2830"/>
                </a:solidFill>
                <a:latin typeface="Bembo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7279920" y="6245280"/>
            <a:ext cx="41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1394720" y="6245280"/>
            <a:ext cx="52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0AF2-A1F9-4CC5-A7BF-F89D0681B3AA}" type="slidenum">
              <a:rPr b="0" lang="en-US" sz="1000" spc="-1" strike="noStrike">
                <a:solidFill>
                  <a:srgbClr val="2c2830"/>
                </a:solidFill>
                <a:latin typeface="Bemb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: Shape 4102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160920" y="157606"/>
                </a:moveTo>
                <a:lnTo>
                  <a:pt x="160920" y="6700394"/>
                </a:lnTo>
                <a:lnTo>
                  <a:pt x="12031081" y="6700394"/>
                </a:lnTo>
                <a:lnTo>
                  <a:pt x="12031081" y="157606"/>
                </a:lnTo>
                <a:lnTo>
                  <a:pt x="160920" y="157606"/>
                </a:lnTo>
                <a:close/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35" name="Rectangle 410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279240" cy="6907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-471600" y="-2690640"/>
            <a:ext cx="12663720" cy="72388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1278000" y="3495600"/>
            <a:ext cx="9428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ётр Ильич Чайковский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«Детский альбом» </a:t>
            </a:r>
            <a:endParaRPr b="0" lang="en-US" sz="4400" spc="-1" strike="noStrike">
              <a:solidFill>
                <a:srgbClr val="000000"/>
              </a:solidFill>
              <a:latin typeface="Bemb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mb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ларионова Ирина Юрьевна, </a:t>
            </a:r>
            <a:endParaRPr b="0" lang="en-US" sz="2000" spc="-1" strike="noStrike">
              <a:solidFill>
                <a:srgbClr val="000000"/>
              </a:solidFill>
              <a:latin typeface="Bemb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музыки МАОУ СОШ №10</a:t>
            </a:r>
            <a:endParaRPr b="0" lang="en-US" sz="2000" spc="-1" strike="noStrike">
              <a:solidFill>
                <a:srgbClr val="000000"/>
              </a:solidFill>
              <a:latin typeface="Bemb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Реутов</a:t>
            </a:r>
            <a:endParaRPr b="0" lang="en-US" sz="2000" spc="-1" strike="noStrike">
              <a:solidFill>
                <a:srgbClr val="000000"/>
              </a:solidFill>
              <a:latin typeface="Bemb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mb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9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048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95" name="Rectangle 20490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96" name="Rectangle 20492"/>
          <p:cNvSpPr/>
          <p:nvPr/>
        </p:nvSpPr>
        <p:spPr>
          <a:xfrm>
            <a:off x="6261120" y="158760"/>
            <a:ext cx="5778360" cy="65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8640" y="732960"/>
            <a:ext cx="461952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Русская песня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98" name="12-russkaya-pesnia" descr=""/>
          <p:cNvPicPr/>
          <p:nvPr/>
        </p:nvPicPr>
        <p:blipFill>
          <a:blip r:embed="rId1"/>
          <a:stretch/>
        </p:blipFill>
        <p:spPr>
          <a:xfrm>
            <a:off x="8818560" y="20080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Изображение выглядит как текс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1440" y="0"/>
            <a:ext cx="6096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20494"/>
          <p:cNvGrpSpPr/>
          <p:nvPr/>
        </p:nvGrpSpPr>
        <p:grpSpPr>
          <a:xfrm>
            <a:off x="8710560" y="5826600"/>
            <a:ext cx="866880" cy="162720"/>
            <a:chOff x="8710560" y="5826600"/>
            <a:chExt cx="866880" cy="162720"/>
          </a:xfrm>
        </p:grpSpPr>
        <p:sp>
          <p:nvSpPr>
            <p:cNvPr id="201" name="Rectangle 20495"/>
            <p:cNvSpPr/>
            <p:nvPr/>
          </p:nvSpPr>
          <p:spPr>
            <a:xfrm flipH="1" rot="18964800">
              <a:off x="908640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02" name="Straight Connector 20496"/>
            <p:cNvSpPr/>
            <p:nvPr/>
          </p:nvSpPr>
          <p:spPr>
            <a:xfrm>
              <a:off x="922500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03" name="Straight Connector 20497"/>
            <p:cNvSpPr/>
            <p:nvPr/>
          </p:nvSpPr>
          <p:spPr>
            <a:xfrm>
              <a:off x="871056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15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05" name="Rectangle 21514"/>
          <p:cNvSpPr/>
          <p:nvPr/>
        </p:nvSpPr>
        <p:spPr>
          <a:xfrm>
            <a:off x="0" y="0"/>
            <a:ext cx="12192120" cy="6869160"/>
          </a:xfrm>
          <a:prstGeom prst="rect">
            <a:avLst/>
          </a:prstGeom>
          <a:solidFill>
            <a:srgbClr val="2c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69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36640" y="723600"/>
            <a:ext cx="8718480" cy="1289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mbo"/>
              </a:rPr>
              <a:t>«Камаринская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08" name="14-kamarinskaya" descr=""/>
          <p:cNvPicPr/>
          <p:nvPr/>
        </p:nvPicPr>
        <p:blipFill>
          <a:blip r:embed="rId2"/>
          <a:stretch/>
        </p:blipFill>
        <p:spPr>
          <a:xfrm>
            <a:off x="5872320" y="2013120"/>
            <a:ext cx="487080" cy="48708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21516"/>
          <p:cNvGrpSpPr/>
          <p:nvPr/>
        </p:nvGrpSpPr>
        <p:grpSpPr>
          <a:xfrm>
            <a:off x="5662440" y="5826600"/>
            <a:ext cx="866880" cy="162720"/>
            <a:chOff x="5662440" y="5826600"/>
            <a:chExt cx="866880" cy="162720"/>
          </a:xfrm>
        </p:grpSpPr>
        <p:sp>
          <p:nvSpPr>
            <p:cNvPr id="210" name="Rectangle 21517"/>
            <p:cNvSpPr/>
            <p:nvPr/>
          </p:nvSpPr>
          <p:spPr>
            <a:xfrm flipH="1" rot="18964800">
              <a:off x="603828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11" name="Straight Connector 21518"/>
            <p:cNvSpPr/>
            <p:nvPr/>
          </p:nvSpPr>
          <p:spPr>
            <a:xfrm>
              <a:off x="617688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12" name="Straight Connector 21519"/>
            <p:cNvSpPr/>
            <p:nvPr/>
          </p:nvSpPr>
          <p:spPr>
            <a:xfrm>
              <a:off x="566244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9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255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14" name="Rectangle 2255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15" name="Rectangle 22554"/>
          <p:cNvSpPr/>
          <p:nvPr/>
        </p:nvSpPr>
        <p:spPr>
          <a:xfrm>
            <a:off x="160200" y="157320"/>
            <a:ext cx="11871360" cy="65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43680" y="721800"/>
            <a:ext cx="5129280" cy="12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Мазурк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17" name="11-mazurka" descr=""/>
          <p:cNvPicPr/>
          <p:nvPr/>
        </p:nvPicPr>
        <p:blipFill>
          <a:blip r:embed="rId1"/>
          <a:stretch/>
        </p:blipFill>
        <p:spPr>
          <a:xfrm>
            <a:off x="8379000" y="21636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749160" y="955800"/>
            <a:ext cx="4395960" cy="49464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22556"/>
          <p:cNvGrpSpPr/>
          <p:nvPr/>
        </p:nvGrpSpPr>
        <p:grpSpPr>
          <a:xfrm>
            <a:off x="8174160" y="5825880"/>
            <a:ext cx="868320" cy="163800"/>
            <a:chOff x="8174160" y="5825880"/>
            <a:chExt cx="868320" cy="163800"/>
          </a:xfrm>
        </p:grpSpPr>
        <p:sp>
          <p:nvSpPr>
            <p:cNvPr id="220" name="Rectangle 22557"/>
            <p:cNvSpPr/>
            <p:nvPr/>
          </p:nvSpPr>
          <p:spPr>
            <a:xfrm flipH="1" rot="18964800">
              <a:off x="8549640" y="5849640"/>
              <a:ext cx="1159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21" name="Straight Connector 22558"/>
            <p:cNvSpPr/>
            <p:nvPr/>
          </p:nvSpPr>
          <p:spPr>
            <a:xfrm>
              <a:off x="869004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22" name="Straight Connector 22559"/>
            <p:cNvSpPr/>
            <p:nvPr/>
          </p:nvSpPr>
          <p:spPr>
            <a:xfrm>
              <a:off x="817416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3560"/>
          <p:cNvSpPr/>
          <p:nvPr/>
        </p:nvSpPr>
        <p:spPr>
          <a:xfrm>
            <a:off x="0" y="-648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-6480"/>
            <a:ext cx="12192120" cy="68644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3562"/>
          <p:cNvSpPr/>
          <p:nvPr/>
        </p:nvSpPr>
        <p:spPr>
          <a:xfrm>
            <a:off x="723960" y="723960"/>
            <a:ext cx="10744200" cy="5398920"/>
          </a:xfrm>
          <a:prstGeom prst="rect">
            <a:avLst/>
          </a:prstGeom>
          <a:solidFill>
            <a:srgbClr val="e0dc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57240" y="1074240"/>
            <a:ext cx="8477280" cy="103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Польк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27" name="10-polka" descr=""/>
          <p:cNvPicPr/>
          <p:nvPr/>
        </p:nvPicPr>
        <p:blipFill>
          <a:blip r:embed="rId2"/>
          <a:stretch/>
        </p:blipFill>
        <p:spPr>
          <a:xfrm>
            <a:off x="5865840" y="2189160"/>
            <a:ext cx="487440" cy="4874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23564"/>
          <p:cNvGrpSpPr/>
          <p:nvPr/>
        </p:nvGrpSpPr>
        <p:grpSpPr>
          <a:xfrm>
            <a:off x="5662440" y="5334480"/>
            <a:ext cx="866880" cy="160920"/>
            <a:chOff x="5662440" y="5334480"/>
            <a:chExt cx="866880" cy="160920"/>
          </a:xfrm>
        </p:grpSpPr>
        <p:sp>
          <p:nvSpPr>
            <p:cNvPr id="229" name="Rectangle 23565"/>
            <p:cNvSpPr/>
            <p:nvPr/>
          </p:nvSpPr>
          <p:spPr>
            <a:xfrm flipH="1" rot="18964800">
              <a:off x="6038280" y="5357880"/>
              <a:ext cx="114120" cy="11376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30" name="Straight Connector 23566"/>
            <p:cNvSpPr/>
            <p:nvPr/>
          </p:nvSpPr>
          <p:spPr>
            <a:xfrm>
              <a:off x="6176880" y="54151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31" name="Straight Connector 23567"/>
            <p:cNvSpPr/>
            <p:nvPr/>
          </p:nvSpPr>
          <p:spPr>
            <a:xfrm>
              <a:off x="5662440" y="54151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868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33" name="Rectangle 28682"/>
          <p:cNvSpPr/>
          <p:nvPr/>
        </p:nvSpPr>
        <p:spPr>
          <a:xfrm>
            <a:off x="0" y="0"/>
            <a:ext cx="12192120" cy="6869160"/>
          </a:xfrm>
          <a:prstGeom prst="rect">
            <a:avLst/>
          </a:prstGeom>
          <a:solidFill>
            <a:srgbClr val="2c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6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36640" y="723600"/>
            <a:ext cx="8718480" cy="1289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mbo"/>
              </a:rPr>
              <a:t>«Итальянская песенк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36" name="15-italy-pesenka" descr=""/>
          <p:cNvPicPr/>
          <p:nvPr/>
        </p:nvPicPr>
        <p:blipFill>
          <a:blip r:embed="rId2"/>
          <a:stretch/>
        </p:blipFill>
        <p:spPr>
          <a:xfrm>
            <a:off x="5813280" y="2013120"/>
            <a:ext cx="487440" cy="4870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28684"/>
          <p:cNvGrpSpPr/>
          <p:nvPr/>
        </p:nvGrpSpPr>
        <p:grpSpPr>
          <a:xfrm>
            <a:off x="5662440" y="5826600"/>
            <a:ext cx="866880" cy="162720"/>
            <a:chOff x="5662440" y="5826600"/>
            <a:chExt cx="866880" cy="162720"/>
          </a:xfrm>
        </p:grpSpPr>
        <p:sp>
          <p:nvSpPr>
            <p:cNvPr id="238" name="Rectangle 28685"/>
            <p:cNvSpPr/>
            <p:nvPr/>
          </p:nvSpPr>
          <p:spPr>
            <a:xfrm flipH="1" rot="18964800">
              <a:off x="603828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39" name="Straight Connector 28686"/>
            <p:cNvSpPr/>
            <p:nvPr/>
          </p:nvSpPr>
          <p:spPr>
            <a:xfrm>
              <a:off x="617688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40" name="Straight Connector 28687"/>
            <p:cNvSpPr/>
            <p:nvPr/>
          </p:nvSpPr>
          <p:spPr>
            <a:xfrm>
              <a:off x="566244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566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42" name="Rectangle 25662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43" name="Rectangle 25664"/>
          <p:cNvSpPr/>
          <p:nvPr/>
        </p:nvSpPr>
        <p:spPr>
          <a:xfrm>
            <a:off x="6261120" y="158760"/>
            <a:ext cx="5778360" cy="65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8640" y="732960"/>
            <a:ext cx="461952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Немецкая песенк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45" name="17-nemetskaya-pesenka" descr=""/>
          <p:cNvPicPr/>
          <p:nvPr/>
        </p:nvPicPr>
        <p:blipFill>
          <a:blip r:embed="rId1"/>
          <a:stretch/>
        </p:blipFill>
        <p:spPr>
          <a:xfrm>
            <a:off x="8818560" y="20955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1440" y="0"/>
            <a:ext cx="6096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25666"/>
          <p:cNvGrpSpPr/>
          <p:nvPr/>
        </p:nvGrpSpPr>
        <p:grpSpPr>
          <a:xfrm>
            <a:off x="8710560" y="5826600"/>
            <a:ext cx="866880" cy="162720"/>
            <a:chOff x="8710560" y="5826600"/>
            <a:chExt cx="866880" cy="162720"/>
          </a:xfrm>
        </p:grpSpPr>
        <p:sp>
          <p:nvSpPr>
            <p:cNvPr id="248" name="Rectangle 25667"/>
            <p:cNvSpPr/>
            <p:nvPr/>
          </p:nvSpPr>
          <p:spPr>
            <a:xfrm flipH="1" rot="18964800">
              <a:off x="908640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49" name="Straight Connector 25668"/>
            <p:cNvSpPr/>
            <p:nvPr/>
          </p:nvSpPr>
          <p:spPr>
            <a:xfrm>
              <a:off x="922500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50" name="Straight Connector 25669"/>
            <p:cNvSpPr/>
            <p:nvPr/>
          </p:nvSpPr>
          <p:spPr>
            <a:xfrm>
              <a:off x="871056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664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52" name="Rectangle 26648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53" name="Rectangle 26650"/>
          <p:cNvSpPr/>
          <p:nvPr/>
        </p:nvSpPr>
        <p:spPr>
          <a:xfrm>
            <a:off x="6261120" y="158760"/>
            <a:ext cx="5778360" cy="65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82000" y="2215800"/>
            <a:ext cx="394488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Сладкая грёз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12600" y="0"/>
            <a:ext cx="6096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26652"/>
          <p:cNvGrpSpPr/>
          <p:nvPr/>
        </p:nvGrpSpPr>
        <p:grpSpPr>
          <a:xfrm>
            <a:off x="8710560" y="5826600"/>
            <a:ext cx="866880" cy="162720"/>
            <a:chOff x="8710560" y="5826600"/>
            <a:chExt cx="866880" cy="162720"/>
          </a:xfrm>
        </p:grpSpPr>
        <p:sp>
          <p:nvSpPr>
            <p:cNvPr id="257" name="Rectangle 26653"/>
            <p:cNvSpPr/>
            <p:nvPr/>
          </p:nvSpPr>
          <p:spPr>
            <a:xfrm flipH="1" rot="18964800">
              <a:off x="908640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58" name="Straight Connector 26654"/>
            <p:cNvSpPr/>
            <p:nvPr/>
          </p:nvSpPr>
          <p:spPr>
            <a:xfrm>
              <a:off x="922500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59" name="Straight Connector 26655"/>
            <p:cNvSpPr/>
            <p:nvPr/>
          </p:nvSpPr>
          <p:spPr>
            <a:xfrm>
              <a:off x="871056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pic>
        <p:nvPicPr>
          <p:cNvPr id="260" name="21-sladkaya-greza" descr=""/>
          <p:cNvPicPr/>
          <p:nvPr/>
        </p:nvPicPr>
        <p:blipFill>
          <a:blip r:embed="rId2"/>
          <a:stretch/>
        </p:blipFill>
        <p:spPr>
          <a:xfrm>
            <a:off x="8886960" y="2784600"/>
            <a:ext cx="48708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65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62" name="Rectangle 27658"/>
          <p:cNvSpPr/>
          <p:nvPr/>
        </p:nvSpPr>
        <p:spPr>
          <a:xfrm>
            <a:off x="0" y="0"/>
            <a:ext cx="12192120" cy="6869160"/>
          </a:xfrm>
          <a:prstGeom prst="rect">
            <a:avLst/>
          </a:prstGeom>
          <a:solidFill>
            <a:srgbClr val="2c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691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36640" y="723600"/>
            <a:ext cx="8718480" cy="1289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mbo"/>
              </a:rPr>
              <a:t>«Неаполитанская песенк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65" name="18-neapolitanskaya-pesenka" descr=""/>
          <p:cNvPicPr/>
          <p:nvPr/>
        </p:nvPicPr>
        <p:blipFill>
          <a:blip r:embed="rId2"/>
          <a:stretch/>
        </p:blipFill>
        <p:spPr>
          <a:xfrm>
            <a:off x="5838840" y="2093760"/>
            <a:ext cx="487440" cy="4874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27660"/>
          <p:cNvGrpSpPr/>
          <p:nvPr/>
        </p:nvGrpSpPr>
        <p:grpSpPr>
          <a:xfrm>
            <a:off x="5662440" y="5826600"/>
            <a:ext cx="866880" cy="162720"/>
            <a:chOff x="5662440" y="5826600"/>
            <a:chExt cx="866880" cy="162720"/>
          </a:xfrm>
        </p:grpSpPr>
        <p:sp>
          <p:nvSpPr>
            <p:cNvPr id="267" name="Rectangle 27661"/>
            <p:cNvSpPr/>
            <p:nvPr/>
          </p:nvSpPr>
          <p:spPr>
            <a:xfrm flipH="1" rot="18964800">
              <a:off x="603828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68" name="Straight Connector 27662"/>
            <p:cNvSpPr/>
            <p:nvPr/>
          </p:nvSpPr>
          <p:spPr>
            <a:xfrm>
              <a:off x="617688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69" name="Straight Connector 27663"/>
            <p:cNvSpPr/>
            <p:nvPr/>
          </p:nvSpPr>
          <p:spPr>
            <a:xfrm>
              <a:off x="566244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4"/>
          <p:cNvSpPr/>
          <p:nvPr/>
        </p:nvSpPr>
        <p:spPr>
          <a:xfrm>
            <a:off x="160200" y="157320"/>
            <a:ext cx="11871360" cy="654336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grpSp>
        <p:nvGrpSpPr>
          <p:cNvPr id="271" name="Group 56"/>
          <p:cNvGrpSpPr/>
          <p:nvPr/>
        </p:nvGrpSpPr>
        <p:grpSpPr>
          <a:xfrm>
            <a:off x="5662440" y="4216680"/>
            <a:ext cx="866880" cy="162720"/>
            <a:chOff x="5662440" y="4216680"/>
            <a:chExt cx="866880" cy="162720"/>
          </a:xfrm>
        </p:grpSpPr>
        <p:sp>
          <p:nvSpPr>
            <p:cNvPr id="272" name="Rectangle 57"/>
            <p:cNvSpPr/>
            <p:nvPr/>
          </p:nvSpPr>
          <p:spPr>
            <a:xfrm flipH="1" rot="18964800">
              <a:off x="6038280" y="423972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73" name="Straight Connector 58"/>
            <p:cNvSpPr/>
            <p:nvPr/>
          </p:nvSpPr>
          <p:spPr>
            <a:xfrm>
              <a:off x="617688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74" name="Straight Connector 59"/>
            <p:cNvSpPr/>
            <p:nvPr/>
          </p:nvSpPr>
          <p:spPr>
            <a:xfrm>
              <a:off x="566244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275" name="Rectangle 6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3"/>
          <p:cNvSpPr/>
          <p:nvPr/>
        </p:nvSpPr>
        <p:spPr>
          <a:xfrm>
            <a:off x="1028880" y="1028880"/>
            <a:ext cx="10134360" cy="4800600"/>
          </a:xfrm>
          <a:prstGeom prst="rect">
            <a:avLst/>
          </a:prstGeom>
          <a:solidFill>
            <a:srgbClr val="e0dc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78" name="Заголовок 1" descr=""/>
          <p:cNvPicPr/>
          <p:nvPr/>
        </p:nvPicPr>
        <p:blipFill>
          <a:blip r:embed="rId2"/>
          <a:stretch/>
        </p:blipFill>
        <p:spPr>
          <a:xfrm>
            <a:off x="1116000" y="1427040"/>
            <a:ext cx="9972720" cy="223056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65"/>
          <p:cNvGrpSpPr/>
          <p:nvPr/>
        </p:nvGrpSpPr>
        <p:grpSpPr>
          <a:xfrm>
            <a:off x="5662440" y="3867480"/>
            <a:ext cx="866880" cy="162720"/>
            <a:chOff x="5662440" y="3867480"/>
            <a:chExt cx="866880" cy="162720"/>
          </a:xfrm>
        </p:grpSpPr>
        <p:sp>
          <p:nvSpPr>
            <p:cNvPr id="280" name="Rectangle 66"/>
            <p:cNvSpPr/>
            <p:nvPr/>
          </p:nvSpPr>
          <p:spPr>
            <a:xfrm flipH="1" rot="18964800">
              <a:off x="6038280" y="389052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81" name="Straight Connector 67"/>
            <p:cNvSpPr/>
            <p:nvPr/>
          </p:nvSpPr>
          <p:spPr>
            <a:xfrm>
              <a:off x="6176880" y="39481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82" name="Straight Connector 68"/>
            <p:cNvSpPr/>
            <p:nvPr/>
          </p:nvSpPr>
          <p:spPr>
            <a:xfrm>
              <a:off x="5662440" y="39481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0"/>
          <p:cNvSpPr/>
          <p:nvPr/>
        </p:nvSpPr>
        <p:spPr>
          <a:xfrm>
            <a:off x="160200" y="157320"/>
            <a:ext cx="11871360" cy="654336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grpSp>
        <p:nvGrpSpPr>
          <p:cNvPr id="284" name="Group 1032"/>
          <p:cNvGrpSpPr/>
          <p:nvPr/>
        </p:nvGrpSpPr>
        <p:grpSpPr>
          <a:xfrm>
            <a:off x="5662440" y="4216680"/>
            <a:ext cx="866880" cy="162720"/>
            <a:chOff x="5662440" y="4216680"/>
            <a:chExt cx="866880" cy="162720"/>
          </a:xfrm>
        </p:grpSpPr>
        <p:sp>
          <p:nvSpPr>
            <p:cNvPr id="285" name="Rectangle 1033"/>
            <p:cNvSpPr/>
            <p:nvPr/>
          </p:nvSpPr>
          <p:spPr>
            <a:xfrm flipH="1" rot="18964800">
              <a:off x="6038280" y="423972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86" name="Straight Connector 1034"/>
            <p:cNvSpPr/>
            <p:nvPr/>
          </p:nvSpPr>
          <p:spPr>
            <a:xfrm>
              <a:off x="617688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87" name="Straight Connector 1035"/>
            <p:cNvSpPr/>
            <p:nvPr/>
          </p:nvSpPr>
          <p:spPr>
            <a:xfrm>
              <a:off x="566244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288" name="Rectangle 103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89" name="Picture 2" descr="Изображение выглядит как музык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0" name="Rectangle 1039"/>
          <p:cNvGrpSpPr/>
          <p:nvPr/>
        </p:nvGrpSpPr>
        <p:grpSpPr>
          <a:xfrm>
            <a:off x="0" y="1474920"/>
            <a:ext cx="12192120" cy="5383080"/>
            <a:chOff x="0" y="1474920"/>
            <a:chExt cx="12192120" cy="5383080"/>
          </a:xfrm>
        </p:grpSpPr>
        <p:pic>
          <p:nvPicPr>
            <p:cNvPr id="291" name="Rectangle 1039" descr=""/>
            <p:cNvPicPr/>
            <p:nvPr/>
          </p:nvPicPr>
          <p:blipFill>
            <a:blip r:embed="rId2"/>
            <a:stretch/>
          </p:blipFill>
          <p:spPr>
            <a:xfrm>
              <a:off x="0" y="1476360"/>
              <a:ext cx="12192120" cy="53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1474920"/>
              <a:ext cx="12192120" cy="53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55560" y="1066680"/>
            <a:ext cx="727236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Adobe Fan Heiti Std B"/>
                <a:ea typeface="Adobe Fan Heiti Std B"/>
              </a:rPr>
              <a:t>ДО ВСТРЕЧИ!</a:t>
            </a:r>
            <a:endParaRPr b="0" lang="en-US" sz="4800" spc="-1" strike="noStrike">
              <a:solidFill>
                <a:srgbClr val="2c2830"/>
              </a:solidFill>
              <a:latin typeface="Bembo"/>
            </a:endParaRPr>
          </a:p>
        </p:txBody>
      </p:sp>
      <p:grpSp>
        <p:nvGrpSpPr>
          <p:cNvPr id="294" name="Group 1041"/>
          <p:cNvGrpSpPr/>
          <p:nvPr/>
        </p:nvGrpSpPr>
        <p:grpSpPr>
          <a:xfrm>
            <a:off x="5662440" y="4213800"/>
            <a:ext cx="866880" cy="162000"/>
            <a:chOff x="5662440" y="4213800"/>
            <a:chExt cx="866880" cy="162000"/>
          </a:xfrm>
        </p:grpSpPr>
        <p:sp>
          <p:nvSpPr>
            <p:cNvPr id="295" name="Rectangle 1042"/>
            <p:cNvSpPr/>
            <p:nvPr/>
          </p:nvSpPr>
          <p:spPr>
            <a:xfrm flipH="1" rot="18964800">
              <a:off x="6037560" y="4237200"/>
              <a:ext cx="114120" cy="11520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96" name="Straight Connector 1043"/>
            <p:cNvSpPr/>
            <p:nvPr/>
          </p:nvSpPr>
          <p:spPr>
            <a:xfrm>
              <a:off x="6176880" y="429408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97" name="Straight Connector 1044"/>
            <p:cNvSpPr/>
            <p:nvPr/>
          </p:nvSpPr>
          <p:spPr>
            <a:xfrm>
              <a:off x="5662440" y="429408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pic>
        <p:nvPicPr>
          <p:cNvPr id="298" name="Рисунок 6" descr="Улыбающееся лицо без заливки"/>
          <p:cNvPicPr/>
          <p:nvPr/>
        </p:nvPicPr>
        <p:blipFill>
          <a:blip r:embed="rId3"/>
          <a:stretch/>
        </p:blipFill>
        <p:spPr>
          <a:xfrm>
            <a:off x="10253520" y="1755720"/>
            <a:ext cx="827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1304280"/>
            <a:ext cx="1229508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2c283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1640" y="657360"/>
            <a:ext cx="11885400" cy="72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ить биографию композитора Чайковского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накомить учеников с фортепианным циклом пьес П.И.Чайковского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етский альбом».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Bemb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Bembo"/>
              </a:rPr>
              <a:t>Изучить историю создания «Детского альбома»;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Bemb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Bembo"/>
              </a:rPr>
              <a:t>Познакомить с музыкальными характеристиками пьес «Детского альбома»;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Bemb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Bembo"/>
              </a:rPr>
              <a:t>Развивать умение воспринимать и анализировать классическую музыку;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Bemb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Bembo"/>
              </a:rPr>
              <a:t>Расширять музыкальный кругозор учащихся;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41" name="Рисунок 3" descr="Скрипичный ключ"/>
          <p:cNvPicPr/>
          <p:nvPr/>
        </p:nvPicPr>
        <p:blipFill>
          <a:blip r:embed="rId1"/>
          <a:stretch/>
        </p:blipFill>
        <p:spPr>
          <a:xfrm>
            <a:off x="11133000" y="57434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7680" y="731520"/>
            <a:ext cx="8363160" cy="506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 Ильич Чайковский (1840-1893) –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икий русский композитор, дирижер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лся 7 мая 1840 года в городе Воткинск в многодетной сем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доме Чайковского часто звучала музыка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Его родители увлекались игрой на фортепиано, органе.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43" name="Picture 18" descr=""/>
          <p:cNvPicPr/>
          <p:nvPr/>
        </p:nvPicPr>
        <p:blipFill>
          <a:blip r:embed="rId1"/>
          <a:stretch/>
        </p:blipFill>
        <p:spPr>
          <a:xfrm>
            <a:off x="8362800" y="581040"/>
            <a:ext cx="3829320" cy="5367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 rot="10800000">
            <a:off x="1028880" y="7190640"/>
            <a:ext cx="22860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5040" y="1185480"/>
            <a:ext cx="8080560" cy="394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ЧИНЕНИЕ «ДЕТСКОГО АЛЬБОМА» - ЭТО ПЕРВОЕ ОБРАЩЕНИЕ КОМПОЗИТОРА К ДЕТСКОЙ ТЕМЕ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НАПИСАННОЕ В 1878 ГОДУ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ЬБОМ ПОСВЯЩЁН ЛЮБИМОМУ ПЛЕМЯННИКУ КОМПОЗИТОРА ВОЛОДЕ ДАВЫДОВУ.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8515440" y="723960"/>
            <a:ext cx="3139920" cy="568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c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1240" y="644400"/>
            <a:ext cx="101343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кл состоит из 24 пьес, которые связаны одной тематикой</a:t>
            </a:r>
            <a:r>
              <a:rPr b="0" lang="ru-RU" sz="2400" spc="-1" strike="noStrike">
                <a:solidFill>
                  <a:srgbClr val="c00000"/>
                </a:solidFill>
                <a:latin typeface="Bembo"/>
              </a:rPr>
              <a:t>.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48" name="Объект 2" descr=""/>
          <p:cNvPicPr/>
          <p:nvPr/>
        </p:nvPicPr>
        <p:blipFill>
          <a:blip r:embed="rId1"/>
          <a:stretch/>
        </p:blipFill>
        <p:spPr>
          <a:xfrm>
            <a:off x="378000" y="1011240"/>
            <a:ext cx="11094840" cy="574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2"/>
          <a:stretch/>
        </p:blipFill>
        <p:spPr>
          <a:xfrm>
            <a:off x="9096480" y="103320"/>
            <a:ext cx="2962080" cy="108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36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6888240" y="723960"/>
            <a:ext cx="4579920" cy="5494320"/>
          </a:xfrm>
          <a:custGeom>
            <a:avLst/>
            <a:gdLst/>
            <a:ahLst/>
            <a:rect l="l" t="t" r="r" b="b"/>
            <a:pathLst>
              <a:path w="6096000" h="6858000">
                <a:moveTo>
                  <a:pt x="0" y="0"/>
                </a:moveTo>
                <a:lnTo>
                  <a:pt x="6096000" y="0"/>
                </a:lnTo>
                <a:lnTo>
                  <a:pt x="6096000" y="6858000"/>
                </a:lnTo>
                <a:lnTo>
                  <a:pt x="3037115" y="5889172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e0dc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8240" y="1000080"/>
            <a:ext cx="430992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Times New Roman"/>
                <a:ea typeface="Times New Roman"/>
              </a:rPr>
              <a:t>«Зимнее утро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54" name="02-zimnee-utro" descr=""/>
          <p:cNvPicPr/>
          <p:nvPr/>
        </p:nvPicPr>
        <p:blipFill>
          <a:blip r:embed="rId2"/>
          <a:stretch/>
        </p:blipFill>
        <p:spPr>
          <a:xfrm>
            <a:off x="8920080" y="2919240"/>
            <a:ext cx="487440" cy="4874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5372"/>
          <p:cNvGrpSpPr/>
          <p:nvPr/>
        </p:nvGrpSpPr>
        <p:grpSpPr>
          <a:xfrm>
            <a:off x="8744040" y="2518920"/>
            <a:ext cx="868320" cy="163800"/>
            <a:chOff x="8744040" y="2518920"/>
            <a:chExt cx="868320" cy="163800"/>
          </a:xfrm>
        </p:grpSpPr>
        <p:sp>
          <p:nvSpPr>
            <p:cNvPr id="156" name="Rectangle 15373"/>
            <p:cNvSpPr/>
            <p:nvPr/>
          </p:nvSpPr>
          <p:spPr>
            <a:xfrm flipH="1" rot="18964800">
              <a:off x="9119520" y="2542680"/>
              <a:ext cx="1159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57" name="Straight Connector 15374"/>
            <p:cNvSpPr/>
            <p:nvPr/>
          </p:nvSpPr>
          <p:spPr>
            <a:xfrm>
              <a:off x="9259920" y="260028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58" name="Straight Connector 15375"/>
            <p:cNvSpPr/>
            <p:nvPr/>
          </p:nvSpPr>
          <p:spPr>
            <a:xfrm>
              <a:off x="8744040" y="260028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cb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743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60" name="Rectangle 1743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61" name="Rectangle 17434"/>
          <p:cNvSpPr/>
          <p:nvPr/>
        </p:nvSpPr>
        <p:spPr>
          <a:xfrm>
            <a:off x="152280" y="158760"/>
            <a:ext cx="11887200" cy="65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8880" y="723600"/>
            <a:ext cx="5837040" cy="12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Мам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63" name="03-mama" descr=""/>
          <p:cNvPicPr/>
          <p:nvPr/>
        </p:nvPicPr>
        <p:blipFill>
          <a:blip r:embed="rId1"/>
          <a:stretch/>
        </p:blipFill>
        <p:spPr>
          <a:xfrm>
            <a:off x="3718080" y="26179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7802640" y="723960"/>
            <a:ext cx="3543120" cy="53132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7436"/>
          <p:cNvGrpSpPr/>
          <p:nvPr/>
        </p:nvGrpSpPr>
        <p:grpSpPr>
          <a:xfrm>
            <a:off x="3513240" y="2296800"/>
            <a:ext cx="868320" cy="162720"/>
            <a:chOff x="3513240" y="2296800"/>
            <a:chExt cx="868320" cy="162720"/>
          </a:xfrm>
        </p:grpSpPr>
        <p:sp>
          <p:nvSpPr>
            <p:cNvPr id="166" name="Rectangle 17437"/>
            <p:cNvSpPr/>
            <p:nvPr/>
          </p:nvSpPr>
          <p:spPr>
            <a:xfrm flipH="1" rot="18964800">
              <a:off x="3888360" y="2320920"/>
              <a:ext cx="115920" cy="11448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67" name="Straight Connector 17438"/>
            <p:cNvSpPr/>
            <p:nvPr/>
          </p:nvSpPr>
          <p:spPr>
            <a:xfrm>
              <a:off x="4029120" y="237816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68" name="Straight Connector 17439"/>
            <p:cNvSpPr/>
            <p:nvPr/>
          </p:nvSpPr>
          <p:spPr>
            <a:xfrm>
              <a:off x="3513240" y="237816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c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844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723960" y="723960"/>
            <a:ext cx="4579920" cy="5494320"/>
          </a:xfrm>
          <a:custGeom>
            <a:avLst/>
            <a:gdLst/>
            <a:ahLst/>
            <a:rect l="l" t="t" r="r" b="b"/>
            <a:pathLst>
              <a:path w="6096000" h="6858000">
                <a:moveTo>
                  <a:pt x="0" y="0"/>
                </a:moveTo>
                <a:lnTo>
                  <a:pt x="6096000" y="0"/>
                </a:lnTo>
                <a:lnTo>
                  <a:pt x="6096000" y="6858000"/>
                </a:lnTo>
                <a:lnTo>
                  <a:pt x="3037115" y="5889172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37880" y="1000080"/>
            <a:ext cx="399564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рш деревянных солдатиков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72" name="05-marsh-derev-soldatikov" descr=""/>
          <p:cNvPicPr/>
          <p:nvPr/>
        </p:nvPicPr>
        <p:blipFill>
          <a:blip r:embed="rId1"/>
          <a:stretch/>
        </p:blipFill>
        <p:spPr>
          <a:xfrm>
            <a:off x="2755800" y="283860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905440" y="1171440"/>
            <a:ext cx="5715000" cy="46008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18444"/>
          <p:cNvGrpSpPr/>
          <p:nvPr/>
        </p:nvGrpSpPr>
        <p:grpSpPr>
          <a:xfrm>
            <a:off x="2579760" y="2518920"/>
            <a:ext cx="868320" cy="163800"/>
            <a:chOff x="2579760" y="2518920"/>
            <a:chExt cx="868320" cy="163800"/>
          </a:xfrm>
        </p:grpSpPr>
        <p:sp>
          <p:nvSpPr>
            <p:cNvPr id="175" name="Rectangle 18445"/>
            <p:cNvSpPr/>
            <p:nvPr/>
          </p:nvSpPr>
          <p:spPr>
            <a:xfrm flipH="1" rot="18964800">
              <a:off x="2955240" y="2542680"/>
              <a:ext cx="1159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76" name="Straight Connector 18446"/>
            <p:cNvSpPr/>
            <p:nvPr/>
          </p:nvSpPr>
          <p:spPr>
            <a:xfrm>
              <a:off x="3095640" y="260028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77" name="Straight Connector 18447"/>
            <p:cNvSpPr/>
            <p:nvPr/>
          </p:nvSpPr>
          <p:spPr>
            <a:xfrm>
              <a:off x="2579760" y="260028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9462"/>
          <p:cNvSpPr/>
          <p:nvPr/>
        </p:nvSpPr>
        <p:spPr>
          <a:xfrm>
            <a:off x="160200" y="157320"/>
            <a:ext cx="11871360" cy="654336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grpSp>
        <p:nvGrpSpPr>
          <p:cNvPr id="179" name="Group 19464"/>
          <p:cNvGrpSpPr/>
          <p:nvPr/>
        </p:nvGrpSpPr>
        <p:grpSpPr>
          <a:xfrm>
            <a:off x="5662440" y="4216680"/>
            <a:ext cx="866880" cy="162720"/>
            <a:chOff x="5662440" y="4216680"/>
            <a:chExt cx="866880" cy="162720"/>
          </a:xfrm>
        </p:grpSpPr>
        <p:sp>
          <p:nvSpPr>
            <p:cNvPr id="180" name="Rectangle 19465"/>
            <p:cNvSpPr/>
            <p:nvPr/>
          </p:nvSpPr>
          <p:spPr>
            <a:xfrm flipH="1" rot="18964800">
              <a:off x="6038280" y="423972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81" name="Straight Connector 19466"/>
            <p:cNvSpPr/>
            <p:nvPr/>
          </p:nvSpPr>
          <p:spPr>
            <a:xfrm>
              <a:off x="617688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82" name="Straight Connector 19467"/>
            <p:cNvSpPr/>
            <p:nvPr/>
          </p:nvSpPr>
          <p:spPr>
            <a:xfrm>
              <a:off x="566244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183" name="Rectangle 1946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5" name="Rectangle 19471"/>
          <p:cNvGrpSpPr/>
          <p:nvPr/>
        </p:nvGrpSpPr>
        <p:grpSpPr>
          <a:xfrm>
            <a:off x="0" y="1474920"/>
            <a:ext cx="12192120" cy="5383080"/>
            <a:chOff x="0" y="1474920"/>
            <a:chExt cx="12192120" cy="5383080"/>
          </a:xfrm>
        </p:grpSpPr>
        <p:pic>
          <p:nvPicPr>
            <p:cNvPr id="186" name="Rectangle 19471" descr=""/>
            <p:cNvPicPr/>
            <p:nvPr/>
          </p:nvPicPr>
          <p:blipFill>
            <a:blip r:embed="rId2"/>
            <a:stretch/>
          </p:blipFill>
          <p:spPr>
            <a:xfrm>
              <a:off x="0" y="1476360"/>
              <a:ext cx="12192120" cy="53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1474920"/>
              <a:ext cx="12192120" cy="53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8153280" cy="431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embo"/>
              </a:rPr>
              <a:t>«</a:t>
            </a:r>
            <a:r>
              <a:rPr b="0" lang="en-US" sz="3600" spc="-1" strike="noStrike">
                <a:solidFill>
                  <a:srgbClr val="ffffff"/>
                </a:solidFill>
                <a:latin typeface="Bembo"/>
              </a:rPr>
              <a:t>ВАЛЬС</a:t>
            </a:r>
            <a:r>
              <a:rPr b="0" lang="ru-RU" sz="3600" spc="-1" strike="noStrike">
                <a:solidFill>
                  <a:srgbClr val="ffffff"/>
                </a:solidFill>
                <a:latin typeface="Bembo"/>
              </a:rPr>
              <a:t>»</a:t>
            </a:r>
            <a:endParaRPr b="0" lang="en-US" sz="3600" spc="-1" strike="noStrike">
              <a:solidFill>
                <a:srgbClr val="2c2830"/>
              </a:solidFill>
              <a:latin typeface="Bembo"/>
            </a:endParaRPr>
          </a:p>
        </p:txBody>
      </p:sp>
      <p:grpSp>
        <p:nvGrpSpPr>
          <p:cNvPr id="189" name="Group 19473"/>
          <p:cNvGrpSpPr/>
          <p:nvPr/>
        </p:nvGrpSpPr>
        <p:grpSpPr>
          <a:xfrm>
            <a:off x="5662440" y="4213800"/>
            <a:ext cx="866880" cy="162000"/>
            <a:chOff x="5662440" y="4213800"/>
            <a:chExt cx="866880" cy="162000"/>
          </a:xfrm>
        </p:grpSpPr>
        <p:sp>
          <p:nvSpPr>
            <p:cNvPr id="190" name="Rectangle 19474"/>
            <p:cNvSpPr/>
            <p:nvPr/>
          </p:nvSpPr>
          <p:spPr>
            <a:xfrm flipH="1" rot="18964800">
              <a:off x="6037560" y="4237200"/>
              <a:ext cx="114120" cy="11520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91" name="Straight Connector 19475"/>
            <p:cNvSpPr/>
            <p:nvPr/>
          </p:nvSpPr>
          <p:spPr>
            <a:xfrm>
              <a:off x="6176880" y="429408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92" name="Straight Connector 19476"/>
            <p:cNvSpPr/>
            <p:nvPr/>
          </p:nvSpPr>
          <p:spPr>
            <a:xfrm>
              <a:off x="5662440" y="429408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pic>
        <p:nvPicPr>
          <p:cNvPr id="193" name="09-vals" descr=""/>
          <p:cNvPicPr/>
          <p:nvPr/>
        </p:nvPicPr>
        <p:blipFill>
          <a:blip r:embed="rId3"/>
          <a:stretch/>
        </p:blipFill>
        <p:spPr>
          <a:xfrm>
            <a:off x="5865840" y="5403960"/>
            <a:ext cx="487440" cy="571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4T11:14:44Z</dcterms:created>
  <dc:creator>Илларионова Антонина Николаевна</dc:creator>
  <dc:description/>
  <dc:language>en-US</dc:language>
  <cp:lastModifiedBy>Николай</cp:lastModifiedBy>
  <dcterms:modified xsi:type="dcterms:W3CDTF">2023-02-04T15:17:46Z</dcterms:modified>
  <cp:revision>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ctivity">
    <vt:lpwstr/>
  </property>
</Properties>
</file>