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4DDB-71EF-44A8-A6E4-6C046056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8FB9-1F85-47AA-86F4-E28E99A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5789-EC4A-44F8-8BD0-358FD6E4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500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184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852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500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8184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5A10-A141-4CC9-A358-7D2DF68E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B9D-ED02-4EC5-B186-F8B70A7F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BE88-B88A-4B9F-A8FA-68D3AEB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2A6-00A9-4216-A560-4F3605F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7F0E-3625-485E-A60F-101F908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A2DC-463C-4410-826B-59C0A835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28520" y="723600"/>
            <a:ext cx="10134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F5BA-4E0C-46F2-B622-8D85CD72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D1F8-50AA-4DFF-B60C-AD5EAF7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AA71-3C64-46F8-8EB9-A4C4631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F573-3CE1-49DD-9E36-A2F98296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039-F612-4B7B-8339-5509D00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5CA6-29A0-4824-BF6C-86586B61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087-6863-4356-AEFE-8DC8B4D9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500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8184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2852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5500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8184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A405-58CA-4413-B69A-729E1AA7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34A9-DB64-40C5-833E-07E603AF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1795-1519-4240-A830-32FB1B4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0CB1-DAE5-4913-A151-FB909E7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66C7-A7F2-4AD0-BAAF-AC28D4CD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BD59-CA0F-45BA-802D-1EEA8CF7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C7A0-7C1F-4EFB-8517-21DABB2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28520" y="723600"/>
            <a:ext cx="10134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EB46-57D6-428A-A403-B9955EB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121A-6701-4C5B-8C84-FE6CDFA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C5AC-2097-414C-B269-EA9ED094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9358-DE1D-47FD-8016-8F57582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75B6-C65D-4111-9480-7296B7B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84DA-9EA9-4FFD-8A1C-DF33B7EC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5500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81840" y="216216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02852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45500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881840" y="4235400"/>
            <a:ext cx="32630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45D1-7623-43CB-810A-939CC582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6400-D1A9-4931-953D-E2E29629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D989-1755-4370-A505-02CCF5E9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8520" y="723600"/>
            <a:ext cx="10134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325B-201F-4A4A-A141-C6A81F65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4946-3051-416B-92CE-BE05DFA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1520" y="423540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8DCA-B512-4970-82EF-4DD43D9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1520" y="2162160"/>
            <a:ext cx="4945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520" y="4235400"/>
            <a:ext cx="101343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6F7F-89AD-4407-94A6-57B6E02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830"/>
                </a:solidFill>
                <a:latin typeface="Bembo"/>
              </a:rPr>
              <a:t>Click to edit the title text format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Click to edit the outline text format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1" marL="27288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con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2" marL="27288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Thir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3" marL="54756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our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4" marL="54756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if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5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ix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6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ven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394720" y="6245280"/>
            <a:ext cx="52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843-7608-4F11-ADF6-FBDA7BE0077A}" type="slidenum">
              <a:rPr b="0" lang="en-US" sz="1000" spc="-1" strike="noStrike">
                <a:solidFill>
                  <a:srgbClr val="2c2830"/>
                </a:solidFill>
                <a:latin typeface="Bemb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55680" y="6245280"/>
            <a:ext cx="26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c2830"/>
                </a:solidFill>
                <a:latin typeface="Bembo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7279920" y="6245280"/>
            <a:ext cx="41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5" name="Freeform: Shape 15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160920" y="157606"/>
                </a:moveTo>
                <a:lnTo>
                  <a:pt x="160920" y="6700394"/>
                </a:lnTo>
                <a:lnTo>
                  <a:pt x="12031081" y="6700394"/>
                </a:lnTo>
                <a:lnTo>
                  <a:pt x="12031081" y="157606"/>
                </a:lnTo>
                <a:lnTo>
                  <a:pt x="160920" y="157606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3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44" name="Rectangle 7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45" name="Straight Connector 8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46" name="Straight Connector 9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830"/>
                </a:solidFill>
                <a:latin typeface="Bembo"/>
              </a:rPr>
              <a:t>Click to edit the title text format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Click to edit the outline text format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1" marL="27288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con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2" marL="27288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Thir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3" marL="54756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our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4" marL="54756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if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5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ix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6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ven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5680" y="6245280"/>
            <a:ext cx="26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c2830"/>
                </a:solidFill>
                <a:latin typeface="Bembo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7280280" y="62452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1394720" y="6245280"/>
            <a:ext cx="52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1BA-053D-4A3E-98F4-0B8626E9E8A4}" type="slidenum">
              <a:rPr b="0" lang="en-US" sz="1000" spc="-1" strike="noStrike">
                <a:solidFill>
                  <a:srgbClr val="2c2830"/>
                </a:solidFill>
                <a:latin typeface="Bemb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723960" y="750960"/>
            <a:ext cx="4579920" cy="5494320"/>
          </a:xfrm>
          <a:custGeom>
            <a:avLst/>
            <a:gdLst/>
            <a:ahLst/>
            <a:rect l="l" t="t" r="r" b="b"/>
            <a:pathLst>
              <a:path w="6096000" h="6858000">
                <a:moveTo>
                  <a:pt x="0" y="0"/>
                </a:moveTo>
                <a:lnTo>
                  <a:pt x="6096000" y="0"/>
                </a:lnTo>
                <a:lnTo>
                  <a:pt x="6096000" y="6858000"/>
                </a:lnTo>
                <a:lnTo>
                  <a:pt x="3037115" y="588917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2579760" y="4690800"/>
            <a:ext cx="868320" cy="163800"/>
            <a:chOff x="2579760" y="4690800"/>
            <a:chExt cx="868320" cy="163800"/>
          </a:xfrm>
        </p:grpSpPr>
        <p:sp>
          <p:nvSpPr>
            <p:cNvPr id="90" name="Rectangle 7"/>
            <p:cNvSpPr/>
            <p:nvPr/>
          </p:nvSpPr>
          <p:spPr>
            <a:xfrm flipH="1" rot="18964800">
              <a:off x="2955240" y="471456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91" name="Straight Connector 8"/>
            <p:cNvSpPr/>
            <p:nvPr/>
          </p:nvSpPr>
          <p:spPr>
            <a:xfrm>
              <a:off x="3095640" y="4772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>
              <a:off x="2579760" y="4772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28520" y="723600"/>
            <a:ext cx="10134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830"/>
                </a:solidFill>
                <a:latin typeface="Bembo"/>
              </a:rPr>
              <a:t>Click to edit the title text format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028520" y="2162160"/>
            <a:ext cx="101343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Click to edit the outline text format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1" marL="27288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SzPct val="8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con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2" marL="27288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Third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3" marL="547560" indent="-22860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our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4" marL="547560">
              <a:lnSpc>
                <a:spcPct val="110000"/>
              </a:lnSpc>
              <a:spcBef>
                <a:spcPts val="1001"/>
              </a:spcBef>
              <a:buClr>
                <a:srgbClr val="2c283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Fif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5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ix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  <a:p>
            <a:pPr lvl="6" marL="547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Bemb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830"/>
                </a:solidFill>
                <a:latin typeface="Bembo"/>
              </a:rPr>
              <a:t>Seventh Outline Level</a:t>
            </a: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5680" y="6245280"/>
            <a:ext cx="26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c2830"/>
                </a:solidFill>
                <a:latin typeface="Bembo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7279920" y="6245280"/>
            <a:ext cx="41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1394720" y="6245280"/>
            <a:ext cx="52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c2830"/>
                </a:solidFill>
                <a:latin typeface="Bemb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A021-1698-4955-8BFD-2A5B103F4CB6}" type="slidenum">
              <a:rPr b="0" lang="en-US" sz="1000" spc="-1" strike="noStrike">
                <a:solidFill>
                  <a:srgbClr val="2c2830"/>
                </a:solidFill>
                <a:latin typeface="Bemb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: Shape 410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160920" y="157606"/>
                </a:moveTo>
                <a:lnTo>
                  <a:pt x="160920" y="6700394"/>
                </a:lnTo>
                <a:lnTo>
                  <a:pt x="12031081" y="6700394"/>
                </a:lnTo>
                <a:lnTo>
                  <a:pt x="12031081" y="157606"/>
                </a:lnTo>
                <a:lnTo>
                  <a:pt x="160920" y="157606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35" name="Rectangle 410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79240" cy="690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-471600" y="-2690640"/>
            <a:ext cx="12663720" cy="72388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1278000" y="3495600"/>
            <a:ext cx="9428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ётр Ильич Чайковский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«Детский альбом» </a:t>
            </a:r>
            <a:endParaRPr b="0" lang="en-US" sz="44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ларионова Ирина Юрьевна, </a:t>
            </a: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музыки МАОУ СОШ №10</a:t>
            </a: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Реутов</a:t>
            </a: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mb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9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048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95" name="Rectangle 20490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96" name="Rectangle 20492"/>
          <p:cNvSpPr/>
          <p:nvPr/>
        </p:nvSpPr>
        <p:spPr>
          <a:xfrm>
            <a:off x="6261120" y="158760"/>
            <a:ext cx="577836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8640" y="732960"/>
            <a:ext cx="46195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Русская песня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98" name="12-russkaya-pesnia" descr=""/>
          <p:cNvPicPr/>
          <p:nvPr/>
        </p:nvPicPr>
        <p:blipFill>
          <a:blip r:embed="rId1"/>
          <a:stretch/>
        </p:blipFill>
        <p:spPr>
          <a:xfrm>
            <a:off x="8818560" y="20080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Изображение выглядит как текс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1440" y="0"/>
            <a:ext cx="6096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0494"/>
          <p:cNvGrpSpPr/>
          <p:nvPr/>
        </p:nvGrpSpPr>
        <p:grpSpPr>
          <a:xfrm>
            <a:off x="8710560" y="5826600"/>
            <a:ext cx="866880" cy="162720"/>
            <a:chOff x="8710560" y="5826600"/>
            <a:chExt cx="866880" cy="162720"/>
          </a:xfrm>
        </p:grpSpPr>
        <p:sp>
          <p:nvSpPr>
            <p:cNvPr id="201" name="Rectangle 20495"/>
            <p:cNvSpPr/>
            <p:nvPr/>
          </p:nvSpPr>
          <p:spPr>
            <a:xfrm flipH="1" rot="18964800">
              <a:off x="908640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02" name="Straight Connector 20496"/>
            <p:cNvSpPr/>
            <p:nvPr/>
          </p:nvSpPr>
          <p:spPr>
            <a:xfrm>
              <a:off x="922500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03" name="Straight Connector 20497"/>
            <p:cNvSpPr/>
            <p:nvPr/>
          </p:nvSpPr>
          <p:spPr>
            <a:xfrm>
              <a:off x="87105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15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05" name="Rectangle 21514"/>
          <p:cNvSpPr/>
          <p:nvPr/>
        </p:nvSpPr>
        <p:spPr>
          <a:xfrm>
            <a:off x="0" y="0"/>
            <a:ext cx="12192120" cy="6869160"/>
          </a:xfrm>
          <a:prstGeom prst="rect">
            <a:avLst/>
          </a:prstGeom>
          <a:solidFill>
            <a:srgbClr val="2c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36640" y="723600"/>
            <a:ext cx="8718480" cy="1289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mbo"/>
              </a:rPr>
              <a:t>«Камаринская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08" name="14-kamarinskaya" descr=""/>
          <p:cNvPicPr/>
          <p:nvPr/>
        </p:nvPicPr>
        <p:blipFill>
          <a:blip r:embed="rId2"/>
          <a:stretch/>
        </p:blipFill>
        <p:spPr>
          <a:xfrm>
            <a:off x="5872320" y="2013120"/>
            <a:ext cx="487080" cy="48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21516"/>
          <p:cNvGrpSpPr/>
          <p:nvPr/>
        </p:nvGrpSpPr>
        <p:grpSpPr>
          <a:xfrm>
            <a:off x="5662440" y="5826600"/>
            <a:ext cx="866880" cy="162720"/>
            <a:chOff x="5662440" y="5826600"/>
            <a:chExt cx="866880" cy="162720"/>
          </a:xfrm>
        </p:grpSpPr>
        <p:sp>
          <p:nvSpPr>
            <p:cNvPr id="210" name="Rectangle 21517"/>
            <p:cNvSpPr/>
            <p:nvPr/>
          </p:nvSpPr>
          <p:spPr>
            <a:xfrm flipH="1" rot="18964800">
              <a:off x="603828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11" name="Straight Connector 21518"/>
            <p:cNvSpPr/>
            <p:nvPr/>
          </p:nvSpPr>
          <p:spPr>
            <a:xfrm>
              <a:off x="617688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12" name="Straight Connector 21519"/>
            <p:cNvSpPr/>
            <p:nvPr/>
          </p:nvSpPr>
          <p:spPr>
            <a:xfrm>
              <a:off x="566244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9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25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14" name="Rectangle 2255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15" name="Rectangle 22554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43680" y="721800"/>
            <a:ext cx="512928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Мазур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17" name="11-mazurka" descr=""/>
          <p:cNvPicPr/>
          <p:nvPr/>
        </p:nvPicPr>
        <p:blipFill>
          <a:blip r:embed="rId1"/>
          <a:stretch/>
        </p:blipFill>
        <p:spPr>
          <a:xfrm>
            <a:off x="8379000" y="21636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49160" y="955800"/>
            <a:ext cx="4395960" cy="49464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2556"/>
          <p:cNvGrpSpPr/>
          <p:nvPr/>
        </p:nvGrpSpPr>
        <p:grpSpPr>
          <a:xfrm>
            <a:off x="8174160" y="5825880"/>
            <a:ext cx="868320" cy="163800"/>
            <a:chOff x="8174160" y="5825880"/>
            <a:chExt cx="868320" cy="163800"/>
          </a:xfrm>
        </p:grpSpPr>
        <p:sp>
          <p:nvSpPr>
            <p:cNvPr id="220" name="Rectangle 22557"/>
            <p:cNvSpPr/>
            <p:nvPr/>
          </p:nvSpPr>
          <p:spPr>
            <a:xfrm flipH="1" rot="18964800">
              <a:off x="8549640" y="584964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21" name="Straight Connector 22558"/>
            <p:cNvSpPr/>
            <p:nvPr/>
          </p:nvSpPr>
          <p:spPr>
            <a:xfrm>
              <a:off x="869004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22" name="Straight Connector 22559"/>
            <p:cNvSpPr/>
            <p:nvPr/>
          </p:nvSpPr>
          <p:spPr>
            <a:xfrm>
              <a:off x="81741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3560"/>
          <p:cNvSpPr/>
          <p:nvPr/>
        </p:nvSpPr>
        <p:spPr>
          <a:xfrm>
            <a:off x="0" y="-648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12192120" cy="6864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3562"/>
          <p:cNvSpPr/>
          <p:nvPr/>
        </p:nvSpPr>
        <p:spPr>
          <a:xfrm>
            <a:off x="723960" y="723960"/>
            <a:ext cx="10744200" cy="5398920"/>
          </a:xfrm>
          <a:prstGeom prst="rect">
            <a:avLst/>
          </a:pr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57240" y="1074240"/>
            <a:ext cx="8477280" cy="10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Поль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27" name="10-polka" descr=""/>
          <p:cNvPicPr/>
          <p:nvPr/>
        </p:nvPicPr>
        <p:blipFill>
          <a:blip r:embed="rId2"/>
          <a:stretch/>
        </p:blipFill>
        <p:spPr>
          <a:xfrm>
            <a:off x="5865840" y="2189160"/>
            <a:ext cx="487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23564"/>
          <p:cNvGrpSpPr/>
          <p:nvPr/>
        </p:nvGrpSpPr>
        <p:grpSpPr>
          <a:xfrm>
            <a:off x="5662440" y="5334480"/>
            <a:ext cx="866880" cy="160920"/>
            <a:chOff x="5662440" y="5334480"/>
            <a:chExt cx="866880" cy="160920"/>
          </a:xfrm>
        </p:grpSpPr>
        <p:sp>
          <p:nvSpPr>
            <p:cNvPr id="229" name="Rectangle 23565"/>
            <p:cNvSpPr/>
            <p:nvPr/>
          </p:nvSpPr>
          <p:spPr>
            <a:xfrm flipH="1" rot="18964800">
              <a:off x="6038280" y="5357880"/>
              <a:ext cx="114120" cy="11376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30" name="Straight Connector 23566"/>
            <p:cNvSpPr/>
            <p:nvPr/>
          </p:nvSpPr>
          <p:spPr>
            <a:xfrm>
              <a:off x="6176880" y="5415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31" name="Straight Connector 23567"/>
            <p:cNvSpPr/>
            <p:nvPr/>
          </p:nvSpPr>
          <p:spPr>
            <a:xfrm>
              <a:off x="5662440" y="5415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868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33" name="Rectangle 28682"/>
          <p:cNvSpPr/>
          <p:nvPr/>
        </p:nvSpPr>
        <p:spPr>
          <a:xfrm>
            <a:off x="0" y="0"/>
            <a:ext cx="12192120" cy="6869160"/>
          </a:xfrm>
          <a:prstGeom prst="rect">
            <a:avLst/>
          </a:prstGeom>
          <a:solidFill>
            <a:srgbClr val="2c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36640" y="723600"/>
            <a:ext cx="8718480" cy="1289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mbo"/>
              </a:rPr>
              <a:t>«Итальянская песен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36" name="15-italy-pesenka" descr=""/>
          <p:cNvPicPr/>
          <p:nvPr/>
        </p:nvPicPr>
        <p:blipFill>
          <a:blip r:embed="rId2"/>
          <a:stretch/>
        </p:blipFill>
        <p:spPr>
          <a:xfrm>
            <a:off x="5813280" y="2013120"/>
            <a:ext cx="487440" cy="4870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28684"/>
          <p:cNvGrpSpPr/>
          <p:nvPr/>
        </p:nvGrpSpPr>
        <p:grpSpPr>
          <a:xfrm>
            <a:off x="5662440" y="5826600"/>
            <a:ext cx="866880" cy="162720"/>
            <a:chOff x="5662440" y="5826600"/>
            <a:chExt cx="866880" cy="162720"/>
          </a:xfrm>
        </p:grpSpPr>
        <p:sp>
          <p:nvSpPr>
            <p:cNvPr id="238" name="Rectangle 28685"/>
            <p:cNvSpPr/>
            <p:nvPr/>
          </p:nvSpPr>
          <p:spPr>
            <a:xfrm flipH="1" rot="18964800">
              <a:off x="603828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39" name="Straight Connector 28686"/>
            <p:cNvSpPr/>
            <p:nvPr/>
          </p:nvSpPr>
          <p:spPr>
            <a:xfrm>
              <a:off x="617688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40" name="Straight Connector 28687"/>
            <p:cNvSpPr/>
            <p:nvPr/>
          </p:nvSpPr>
          <p:spPr>
            <a:xfrm>
              <a:off x="566244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566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42" name="Rectangle 25662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43" name="Rectangle 25664"/>
          <p:cNvSpPr/>
          <p:nvPr/>
        </p:nvSpPr>
        <p:spPr>
          <a:xfrm>
            <a:off x="6261120" y="158760"/>
            <a:ext cx="577836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8640" y="732960"/>
            <a:ext cx="46195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Немецкая песен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45" name="17-nemetskaya-pesenka" descr=""/>
          <p:cNvPicPr/>
          <p:nvPr/>
        </p:nvPicPr>
        <p:blipFill>
          <a:blip r:embed="rId1"/>
          <a:stretch/>
        </p:blipFill>
        <p:spPr>
          <a:xfrm>
            <a:off x="8818560" y="20955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1440" y="0"/>
            <a:ext cx="6096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25666"/>
          <p:cNvGrpSpPr/>
          <p:nvPr/>
        </p:nvGrpSpPr>
        <p:grpSpPr>
          <a:xfrm>
            <a:off x="8710560" y="5826600"/>
            <a:ext cx="866880" cy="162720"/>
            <a:chOff x="8710560" y="5826600"/>
            <a:chExt cx="866880" cy="162720"/>
          </a:xfrm>
        </p:grpSpPr>
        <p:sp>
          <p:nvSpPr>
            <p:cNvPr id="248" name="Rectangle 25667"/>
            <p:cNvSpPr/>
            <p:nvPr/>
          </p:nvSpPr>
          <p:spPr>
            <a:xfrm flipH="1" rot="18964800">
              <a:off x="908640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49" name="Straight Connector 25668"/>
            <p:cNvSpPr/>
            <p:nvPr/>
          </p:nvSpPr>
          <p:spPr>
            <a:xfrm>
              <a:off x="922500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50" name="Straight Connector 25669"/>
            <p:cNvSpPr/>
            <p:nvPr/>
          </p:nvSpPr>
          <p:spPr>
            <a:xfrm>
              <a:off x="87105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664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52" name="Rectangle 26648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53" name="Rectangle 26650"/>
          <p:cNvSpPr/>
          <p:nvPr/>
        </p:nvSpPr>
        <p:spPr>
          <a:xfrm>
            <a:off x="6261120" y="158760"/>
            <a:ext cx="577836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82000" y="2215800"/>
            <a:ext cx="39448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Сладкая грёз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2600" y="0"/>
            <a:ext cx="6096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26652"/>
          <p:cNvGrpSpPr/>
          <p:nvPr/>
        </p:nvGrpSpPr>
        <p:grpSpPr>
          <a:xfrm>
            <a:off x="8710560" y="5826600"/>
            <a:ext cx="866880" cy="162720"/>
            <a:chOff x="8710560" y="5826600"/>
            <a:chExt cx="866880" cy="162720"/>
          </a:xfrm>
        </p:grpSpPr>
        <p:sp>
          <p:nvSpPr>
            <p:cNvPr id="257" name="Rectangle 26653"/>
            <p:cNvSpPr/>
            <p:nvPr/>
          </p:nvSpPr>
          <p:spPr>
            <a:xfrm flipH="1" rot="18964800">
              <a:off x="908640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58" name="Straight Connector 26654"/>
            <p:cNvSpPr/>
            <p:nvPr/>
          </p:nvSpPr>
          <p:spPr>
            <a:xfrm>
              <a:off x="922500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59" name="Straight Connector 26655"/>
            <p:cNvSpPr/>
            <p:nvPr/>
          </p:nvSpPr>
          <p:spPr>
            <a:xfrm>
              <a:off x="8710560" y="590724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pic>
        <p:nvPicPr>
          <p:cNvPr id="260" name="21-sladkaya-greza" descr=""/>
          <p:cNvPicPr/>
          <p:nvPr/>
        </p:nvPicPr>
        <p:blipFill>
          <a:blip r:embed="rId2"/>
          <a:stretch/>
        </p:blipFill>
        <p:spPr>
          <a:xfrm>
            <a:off x="8886960" y="2784600"/>
            <a:ext cx="48708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6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262" name="Rectangle 27658"/>
          <p:cNvSpPr/>
          <p:nvPr/>
        </p:nvSpPr>
        <p:spPr>
          <a:xfrm>
            <a:off x="0" y="0"/>
            <a:ext cx="12192120" cy="6869160"/>
          </a:xfrm>
          <a:prstGeom prst="rect">
            <a:avLst/>
          </a:prstGeom>
          <a:solidFill>
            <a:srgbClr val="2c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36640" y="723600"/>
            <a:ext cx="8718480" cy="1289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embo"/>
              </a:rPr>
              <a:t>«Неаполитанская песенк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265" name="18-neapolitanskaya-pesenka" descr=""/>
          <p:cNvPicPr/>
          <p:nvPr/>
        </p:nvPicPr>
        <p:blipFill>
          <a:blip r:embed="rId2"/>
          <a:stretch/>
        </p:blipFill>
        <p:spPr>
          <a:xfrm>
            <a:off x="5838840" y="2093760"/>
            <a:ext cx="487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27660"/>
          <p:cNvGrpSpPr/>
          <p:nvPr/>
        </p:nvGrpSpPr>
        <p:grpSpPr>
          <a:xfrm>
            <a:off x="5662440" y="5826600"/>
            <a:ext cx="866880" cy="162720"/>
            <a:chOff x="5662440" y="5826600"/>
            <a:chExt cx="866880" cy="162720"/>
          </a:xfrm>
        </p:grpSpPr>
        <p:sp>
          <p:nvSpPr>
            <p:cNvPr id="267" name="Rectangle 27661"/>
            <p:cNvSpPr/>
            <p:nvPr/>
          </p:nvSpPr>
          <p:spPr>
            <a:xfrm flipH="1" rot="18964800">
              <a:off x="6038280" y="5849640"/>
              <a:ext cx="114120" cy="1159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68" name="Straight Connector 27662"/>
            <p:cNvSpPr/>
            <p:nvPr/>
          </p:nvSpPr>
          <p:spPr>
            <a:xfrm>
              <a:off x="617688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69" name="Straight Connector 27663"/>
            <p:cNvSpPr/>
            <p:nvPr/>
          </p:nvSpPr>
          <p:spPr>
            <a:xfrm>
              <a:off x="5662440" y="590724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4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271" name="Group 56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272" name="Rectangle 57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73" name="Straight Connector 58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74" name="Straight Connector 59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275" name="Rectangle 6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3"/>
          <p:cNvSpPr/>
          <p:nvPr/>
        </p:nvSpPr>
        <p:spPr>
          <a:xfrm>
            <a:off x="1028880" y="1028880"/>
            <a:ext cx="10134360" cy="4800600"/>
          </a:xfrm>
          <a:prstGeom prst="rect">
            <a:avLst/>
          </a:pr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78" name="Заголовок 1" descr=""/>
          <p:cNvPicPr/>
          <p:nvPr/>
        </p:nvPicPr>
        <p:blipFill>
          <a:blip r:embed="rId2"/>
          <a:stretch/>
        </p:blipFill>
        <p:spPr>
          <a:xfrm>
            <a:off x="1116000" y="1427040"/>
            <a:ext cx="99727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5"/>
          <p:cNvGrpSpPr/>
          <p:nvPr/>
        </p:nvGrpSpPr>
        <p:grpSpPr>
          <a:xfrm>
            <a:off x="5662440" y="3867480"/>
            <a:ext cx="866880" cy="162720"/>
            <a:chOff x="5662440" y="3867480"/>
            <a:chExt cx="866880" cy="162720"/>
          </a:xfrm>
        </p:grpSpPr>
        <p:sp>
          <p:nvSpPr>
            <p:cNvPr id="280" name="Rectangle 66"/>
            <p:cNvSpPr/>
            <p:nvPr/>
          </p:nvSpPr>
          <p:spPr>
            <a:xfrm flipH="1" rot="18964800">
              <a:off x="6038280" y="38905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1" name="Straight Connector 67"/>
            <p:cNvSpPr/>
            <p:nvPr/>
          </p:nvSpPr>
          <p:spPr>
            <a:xfrm>
              <a:off x="6176880" y="3948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2" name="Straight Connector 68"/>
            <p:cNvSpPr/>
            <p:nvPr/>
          </p:nvSpPr>
          <p:spPr>
            <a:xfrm>
              <a:off x="5662440" y="39481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0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284" name="Group 1032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285" name="Rectangle 1033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6" name="Straight Connector 1034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87" name="Straight Connector 1035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288" name="Rectangle 103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289" name="Picture 2" descr="Изображение выглядит как музык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0" name="Rectangle 1039"/>
          <p:cNvGrpSpPr/>
          <p:nvPr/>
        </p:nvGrpSpPr>
        <p:grpSpPr>
          <a:xfrm>
            <a:off x="0" y="1474920"/>
            <a:ext cx="12192120" cy="5383080"/>
            <a:chOff x="0" y="1474920"/>
            <a:chExt cx="12192120" cy="5383080"/>
          </a:xfrm>
        </p:grpSpPr>
        <p:pic>
          <p:nvPicPr>
            <p:cNvPr id="291" name="Rectangle 1039" descr=""/>
            <p:cNvPicPr/>
            <p:nvPr/>
          </p:nvPicPr>
          <p:blipFill>
            <a:blip r:embed="rId2"/>
            <a:stretch/>
          </p:blipFill>
          <p:spPr>
            <a:xfrm>
              <a:off x="0" y="1476360"/>
              <a:ext cx="12192120" cy="53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1474920"/>
              <a:ext cx="12192120" cy="53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55560" y="1066680"/>
            <a:ext cx="727236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Adobe Fan Heiti Std B"/>
                <a:ea typeface="Adobe Fan Heiti Std B"/>
              </a:rPr>
              <a:t>ДО ВСТРЕЧИ!</a:t>
            </a:r>
            <a:endParaRPr b="0" lang="en-US" sz="4800" spc="-1" strike="noStrike">
              <a:solidFill>
                <a:srgbClr val="2c2830"/>
              </a:solidFill>
              <a:latin typeface="Bembo"/>
            </a:endParaRPr>
          </a:p>
        </p:txBody>
      </p:sp>
      <p:grpSp>
        <p:nvGrpSpPr>
          <p:cNvPr id="294" name="Group 1041"/>
          <p:cNvGrpSpPr/>
          <p:nvPr/>
        </p:nvGrpSpPr>
        <p:grpSpPr>
          <a:xfrm>
            <a:off x="5662440" y="4213800"/>
            <a:ext cx="866880" cy="162000"/>
            <a:chOff x="5662440" y="4213800"/>
            <a:chExt cx="866880" cy="162000"/>
          </a:xfrm>
        </p:grpSpPr>
        <p:sp>
          <p:nvSpPr>
            <p:cNvPr id="295" name="Rectangle 1042"/>
            <p:cNvSpPr/>
            <p:nvPr/>
          </p:nvSpPr>
          <p:spPr>
            <a:xfrm flipH="1" rot="18964800">
              <a:off x="6037560" y="4237200"/>
              <a:ext cx="114120" cy="11520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96" name="Straight Connector 1043"/>
            <p:cNvSpPr/>
            <p:nvPr/>
          </p:nvSpPr>
          <p:spPr>
            <a:xfrm>
              <a:off x="617688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297" name="Straight Connector 1044"/>
            <p:cNvSpPr/>
            <p:nvPr/>
          </p:nvSpPr>
          <p:spPr>
            <a:xfrm>
              <a:off x="566244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pic>
        <p:nvPicPr>
          <p:cNvPr id="298" name="Рисунок 6" descr="Улыбающееся лицо без заливки"/>
          <p:cNvPicPr/>
          <p:nvPr/>
        </p:nvPicPr>
        <p:blipFill>
          <a:blip r:embed="rId3"/>
          <a:stretch/>
        </p:blipFill>
        <p:spPr>
          <a:xfrm>
            <a:off x="10253520" y="1755720"/>
            <a:ext cx="82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304280"/>
            <a:ext cx="1229508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2c283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1640" y="657360"/>
            <a:ext cx="11885400" cy="72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ить биографию композитора Чайковского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комить учеников с фортепианным циклом пьес П.И.Чайковского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тский альбом».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Изучить историю создания «Детского альбома»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Познакомить с музыкальными характеристиками пьес «Детского альбома»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Развивать умение воспринимать и анализировать классическую музыку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Bemb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Расширять музыкальный кругозор учащихся;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1" name="Рисунок 3" descr="Скрипичный ключ"/>
          <p:cNvPicPr/>
          <p:nvPr/>
        </p:nvPicPr>
        <p:blipFill>
          <a:blip r:embed="rId1"/>
          <a:stretch/>
        </p:blipFill>
        <p:spPr>
          <a:xfrm>
            <a:off x="11133000" y="57434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7680" y="731520"/>
            <a:ext cx="8363160" cy="50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 Ильич Чайковский (1840-1893) –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ий русский композитор, дирижер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лся 7 мая 1840 года в городе Воткинск в многодетной сем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оме Чайковского часто звучала музык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го родители увлекались игрой на фортепиано, органе.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3" name="Picture 18" descr=""/>
          <p:cNvPicPr/>
          <p:nvPr/>
        </p:nvPicPr>
        <p:blipFill>
          <a:blip r:embed="rId1"/>
          <a:stretch/>
        </p:blipFill>
        <p:spPr>
          <a:xfrm>
            <a:off x="8362800" y="581040"/>
            <a:ext cx="3829320" cy="5367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 rot="10800000">
            <a:off x="1028880" y="7190640"/>
            <a:ext cx="22860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c2830"/>
              </a:solidFill>
              <a:latin typeface="Bembo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5040" y="1185480"/>
            <a:ext cx="8080560" cy="39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ЧИНЕНИЕ «ДЕТСКОГО АЛЬБОМА» - ЭТО ПЕРВОЕ ОБРАЩЕНИЕ КОМПОЗИТОРА К ДЕТСКОЙ ТЕМЕ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НАПИСАННОЕ В 1878 ГОДУ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ЬБОМ ПОСВЯЩЁН ЛЮБИМОМУ ПЛЕМЯННИКУ КОМПОЗИТОРА ВОЛОДЕ ДАВЫДОВУ.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515440" y="723960"/>
            <a:ext cx="3139920" cy="568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c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1240" y="644400"/>
            <a:ext cx="101343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 состоит из 24 пьес, которые связаны одной тематикой</a:t>
            </a:r>
            <a:r>
              <a:rPr b="0" lang="ru-RU" sz="2400" spc="-1" strike="noStrike">
                <a:solidFill>
                  <a:srgbClr val="c00000"/>
                </a:solidFill>
                <a:latin typeface="Bembo"/>
              </a:rPr>
              <a:t>.</a:t>
            </a:r>
            <a:endParaRPr b="0" lang="en-US" sz="24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48" name="Объект 2" descr=""/>
          <p:cNvPicPr/>
          <p:nvPr/>
        </p:nvPicPr>
        <p:blipFill>
          <a:blip r:embed="rId1"/>
          <a:stretch/>
        </p:blipFill>
        <p:spPr>
          <a:xfrm>
            <a:off x="378000" y="1011240"/>
            <a:ext cx="11094840" cy="574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"/>
          <p:cNvPicPr/>
          <p:nvPr/>
        </p:nvPicPr>
        <p:blipFill>
          <a:blip r:embed="rId2"/>
          <a:stretch/>
        </p:blipFill>
        <p:spPr>
          <a:xfrm>
            <a:off x="9096480" y="103320"/>
            <a:ext cx="2962080" cy="108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36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6888240" y="723960"/>
            <a:ext cx="4579920" cy="5494320"/>
          </a:xfrm>
          <a:custGeom>
            <a:avLst/>
            <a:gdLst/>
            <a:ahLst/>
            <a:rect l="l" t="t" r="r" b="b"/>
            <a:pathLst>
              <a:path w="6096000" h="6858000">
                <a:moveTo>
                  <a:pt x="0" y="0"/>
                </a:moveTo>
                <a:lnTo>
                  <a:pt x="6096000" y="0"/>
                </a:lnTo>
                <a:lnTo>
                  <a:pt x="6096000" y="6858000"/>
                </a:lnTo>
                <a:lnTo>
                  <a:pt x="3037115" y="588917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8240" y="1000080"/>
            <a:ext cx="430992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Times New Roman"/>
                <a:ea typeface="Times New Roman"/>
              </a:rPr>
              <a:t>«Зимнее утро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54" name="02-zimnee-utro" descr=""/>
          <p:cNvPicPr/>
          <p:nvPr/>
        </p:nvPicPr>
        <p:blipFill>
          <a:blip r:embed="rId2"/>
          <a:stretch/>
        </p:blipFill>
        <p:spPr>
          <a:xfrm>
            <a:off x="8920080" y="2919240"/>
            <a:ext cx="487440" cy="4874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5372"/>
          <p:cNvGrpSpPr/>
          <p:nvPr/>
        </p:nvGrpSpPr>
        <p:grpSpPr>
          <a:xfrm>
            <a:off x="8744040" y="2518920"/>
            <a:ext cx="868320" cy="163800"/>
            <a:chOff x="8744040" y="2518920"/>
            <a:chExt cx="868320" cy="163800"/>
          </a:xfrm>
        </p:grpSpPr>
        <p:sp>
          <p:nvSpPr>
            <p:cNvPr id="156" name="Rectangle 15373"/>
            <p:cNvSpPr/>
            <p:nvPr/>
          </p:nvSpPr>
          <p:spPr>
            <a:xfrm flipH="1" rot="18964800">
              <a:off x="9119520" y="254268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57" name="Straight Connector 15374"/>
            <p:cNvSpPr/>
            <p:nvPr/>
          </p:nvSpPr>
          <p:spPr>
            <a:xfrm>
              <a:off x="925992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58" name="Straight Connector 15375"/>
            <p:cNvSpPr/>
            <p:nvPr/>
          </p:nvSpPr>
          <p:spPr>
            <a:xfrm>
              <a:off x="874404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c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743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60" name="Rectangle 1743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61" name="Rectangle 17434"/>
          <p:cNvSpPr/>
          <p:nvPr/>
        </p:nvSpPr>
        <p:spPr>
          <a:xfrm>
            <a:off x="152280" y="158760"/>
            <a:ext cx="11887200" cy="65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723600"/>
            <a:ext cx="583704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830"/>
                </a:solidFill>
                <a:latin typeface="Bembo"/>
              </a:rPr>
              <a:t>«Мама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63" name="03-mama" descr=""/>
          <p:cNvPicPr/>
          <p:nvPr/>
        </p:nvPicPr>
        <p:blipFill>
          <a:blip r:embed="rId1"/>
          <a:stretch/>
        </p:blipFill>
        <p:spPr>
          <a:xfrm>
            <a:off x="3718080" y="2617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7802640" y="723960"/>
            <a:ext cx="3543120" cy="53132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7436"/>
          <p:cNvGrpSpPr/>
          <p:nvPr/>
        </p:nvGrpSpPr>
        <p:grpSpPr>
          <a:xfrm>
            <a:off x="3513240" y="2296800"/>
            <a:ext cx="868320" cy="162720"/>
            <a:chOff x="3513240" y="2296800"/>
            <a:chExt cx="868320" cy="162720"/>
          </a:xfrm>
        </p:grpSpPr>
        <p:sp>
          <p:nvSpPr>
            <p:cNvPr id="166" name="Rectangle 17437"/>
            <p:cNvSpPr/>
            <p:nvPr/>
          </p:nvSpPr>
          <p:spPr>
            <a:xfrm flipH="1" rot="18964800">
              <a:off x="3888360" y="2320920"/>
              <a:ext cx="115920" cy="11448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67" name="Straight Connector 17438"/>
            <p:cNvSpPr/>
            <p:nvPr/>
          </p:nvSpPr>
          <p:spPr>
            <a:xfrm>
              <a:off x="4029120" y="2378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68" name="Straight Connector 17439"/>
            <p:cNvSpPr/>
            <p:nvPr/>
          </p:nvSpPr>
          <p:spPr>
            <a:xfrm>
              <a:off x="3513240" y="237816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c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844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23960" y="723960"/>
            <a:ext cx="4579920" cy="5494320"/>
          </a:xfrm>
          <a:custGeom>
            <a:avLst/>
            <a:gdLst/>
            <a:ahLst/>
            <a:rect l="l" t="t" r="r" b="b"/>
            <a:pathLst>
              <a:path w="6096000" h="6858000">
                <a:moveTo>
                  <a:pt x="0" y="0"/>
                </a:moveTo>
                <a:lnTo>
                  <a:pt x="6096000" y="0"/>
                </a:lnTo>
                <a:lnTo>
                  <a:pt x="6096000" y="6858000"/>
                </a:lnTo>
                <a:lnTo>
                  <a:pt x="3037115" y="588917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37880" y="1000080"/>
            <a:ext cx="399564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деревянных солдатиков»</a:t>
            </a:r>
            <a:endParaRPr b="0" lang="en-US" sz="3200" spc="-1" strike="noStrike">
              <a:solidFill>
                <a:srgbClr val="2c2830"/>
              </a:solidFill>
              <a:latin typeface="Bembo"/>
            </a:endParaRPr>
          </a:p>
        </p:txBody>
      </p:sp>
      <p:pic>
        <p:nvPicPr>
          <p:cNvPr id="172" name="05-marsh-derev-soldatikov" descr=""/>
          <p:cNvPicPr/>
          <p:nvPr/>
        </p:nvPicPr>
        <p:blipFill>
          <a:blip r:embed="rId1"/>
          <a:stretch/>
        </p:blipFill>
        <p:spPr>
          <a:xfrm>
            <a:off x="2755800" y="28386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905440" y="1171440"/>
            <a:ext cx="5715000" cy="46008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18444"/>
          <p:cNvGrpSpPr/>
          <p:nvPr/>
        </p:nvGrpSpPr>
        <p:grpSpPr>
          <a:xfrm>
            <a:off x="2579760" y="2518920"/>
            <a:ext cx="868320" cy="163800"/>
            <a:chOff x="2579760" y="2518920"/>
            <a:chExt cx="868320" cy="163800"/>
          </a:xfrm>
        </p:grpSpPr>
        <p:sp>
          <p:nvSpPr>
            <p:cNvPr id="175" name="Rectangle 18445"/>
            <p:cNvSpPr/>
            <p:nvPr/>
          </p:nvSpPr>
          <p:spPr>
            <a:xfrm flipH="1" rot="18964800">
              <a:off x="2955240" y="2542680"/>
              <a:ext cx="1159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76" name="Straight Connector 18446"/>
            <p:cNvSpPr/>
            <p:nvPr/>
          </p:nvSpPr>
          <p:spPr>
            <a:xfrm>
              <a:off x="309564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77" name="Straight Connector 18447"/>
            <p:cNvSpPr/>
            <p:nvPr/>
          </p:nvSpPr>
          <p:spPr>
            <a:xfrm>
              <a:off x="2579760" y="260028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9462"/>
          <p:cNvSpPr/>
          <p:nvPr/>
        </p:nvSpPr>
        <p:spPr>
          <a:xfrm>
            <a:off x="160200" y="157320"/>
            <a:ext cx="11871360" cy="6543360"/>
          </a:xfrm>
          <a:prstGeom prst="rect">
            <a:avLst/>
          </a:prstGeom>
          <a:solidFill>
            <a:srgbClr val="e0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grpSp>
        <p:nvGrpSpPr>
          <p:cNvPr id="179" name="Group 19464"/>
          <p:cNvGrpSpPr/>
          <p:nvPr/>
        </p:nvGrpSpPr>
        <p:grpSpPr>
          <a:xfrm>
            <a:off x="5662440" y="4216680"/>
            <a:ext cx="866880" cy="162720"/>
            <a:chOff x="5662440" y="4216680"/>
            <a:chExt cx="866880" cy="162720"/>
          </a:xfrm>
        </p:grpSpPr>
        <p:sp>
          <p:nvSpPr>
            <p:cNvPr id="180" name="Rectangle 19465"/>
            <p:cNvSpPr/>
            <p:nvPr/>
          </p:nvSpPr>
          <p:spPr>
            <a:xfrm flipH="1" rot="18964800">
              <a:off x="6038280" y="4239720"/>
              <a:ext cx="114120" cy="115920"/>
            </a:xfrm>
            <a:prstGeom prst="rect">
              <a:avLst/>
            </a:prstGeom>
            <a:noFill/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81" name="Straight Connector 19466"/>
            <p:cNvSpPr/>
            <p:nvPr/>
          </p:nvSpPr>
          <p:spPr>
            <a:xfrm>
              <a:off x="617688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82" name="Straight Connector 19467"/>
            <p:cNvSpPr/>
            <p:nvPr/>
          </p:nvSpPr>
          <p:spPr>
            <a:xfrm>
              <a:off x="5662440" y="4297320"/>
              <a:ext cx="352440" cy="0"/>
            </a:xfrm>
            <a:prstGeom prst="line">
              <a:avLst/>
            </a:prstGeom>
            <a:ln w="15840">
              <a:solidFill>
                <a:srgbClr val="2c28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183" name="Rectangle 194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mbo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5" name="Rectangle 19471"/>
          <p:cNvGrpSpPr/>
          <p:nvPr/>
        </p:nvGrpSpPr>
        <p:grpSpPr>
          <a:xfrm>
            <a:off x="0" y="1474920"/>
            <a:ext cx="12192120" cy="5383080"/>
            <a:chOff x="0" y="1474920"/>
            <a:chExt cx="12192120" cy="5383080"/>
          </a:xfrm>
        </p:grpSpPr>
        <p:pic>
          <p:nvPicPr>
            <p:cNvPr id="186" name="Rectangle 19471" descr=""/>
            <p:cNvPicPr/>
            <p:nvPr/>
          </p:nvPicPr>
          <p:blipFill>
            <a:blip r:embed="rId2"/>
            <a:stretch/>
          </p:blipFill>
          <p:spPr>
            <a:xfrm>
              <a:off x="0" y="1476360"/>
              <a:ext cx="12192120" cy="53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1474920"/>
              <a:ext cx="12192120" cy="53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8153280" cy="431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embo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Bembo"/>
              </a:rPr>
              <a:t>ВАЛЬС</a:t>
            </a:r>
            <a:r>
              <a:rPr b="0" lang="ru-RU" sz="3600" spc="-1" strike="noStrike">
                <a:solidFill>
                  <a:srgbClr val="ffffff"/>
                </a:solidFill>
                <a:latin typeface="Bembo"/>
              </a:rPr>
              <a:t>»</a:t>
            </a:r>
            <a:endParaRPr b="0" lang="en-US" sz="3600" spc="-1" strike="noStrike">
              <a:solidFill>
                <a:srgbClr val="2c2830"/>
              </a:solidFill>
              <a:latin typeface="Bembo"/>
            </a:endParaRPr>
          </a:p>
        </p:txBody>
      </p:sp>
      <p:grpSp>
        <p:nvGrpSpPr>
          <p:cNvPr id="189" name="Group 19473"/>
          <p:cNvGrpSpPr/>
          <p:nvPr/>
        </p:nvGrpSpPr>
        <p:grpSpPr>
          <a:xfrm>
            <a:off x="5662440" y="4213800"/>
            <a:ext cx="866880" cy="162000"/>
            <a:chOff x="5662440" y="4213800"/>
            <a:chExt cx="866880" cy="162000"/>
          </a:xfrm>
        </p:grpSpPr>
        <p:sp>
          <p:nvSpPr>
            <p:cNvPr id="190" name="Rectangle 19474"/>
            <p:cNvSpPr/>
            <p:nvPr/>
          </p:nvSpPr>
          <p:spPr>
            <a:xfrm flipH="1" rot="18964800">
              <a:off x="6037560" y="4237200"/>
              <a:ext cx="114120" cy="11520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91" name="Straight Connector 19475"/>
            <p:cNvSpPr/>
            <p:nvPr/>
          </p:nvSpPr>
          <p:spPr>
            <a:xfrm>
              <a:off x="617688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  <p:sp>
          <p:nvSpPr>
            <p:cNvPr id="192" name="Straight Connector 19476"/>
            <p:cNvSpPr/>
            <p:nvPr/>
          </p:nvSpPr>
          <p:spPr>
            <a:xfrm>
              <a:off x="5662440" y="4294080"/>
              <a:ext cx="35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mbo"/>
              </a:endParaRPr>
            </a:p>
          </p:txBody>
        </p:sp>
      </p:grpSp>
      <p:pic>
        <p:nvPicPr>
          <p:cNvPr id="193" name="09-vals" descr=""/>
          <p:cNvPicPr/>
          <p:nvPr/>
        </p:nvPicPr>
        <p:blipFill>
          <a:blip r:embed="rId3"/>
          <a:stretch/>
        </p:blipFill>
        <p:spPr>
          <a:xfrm>
            <a:off x="5865840" y="5403960"/>
            <a:ext cx="487440" cy="57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4T11:14:44Z</dcterms:created>
  <dc:creator>Илларионова Антонина Николаевна</dc:creator>
  <dc:description/>
  <dc:language>en-US</dc:language>
  <cp:lastModifiedBy>Николай</cp:lastModifiedBy>
  <dcterms:modified xsi:type="dcterms:W3CDTF">2023-02-04T15:17:46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ctivity">
    <vt:lpwstr/>
  </property>
</Properties>
</file>