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5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7A0-9DD3-47EB-8BAB-80C92118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67E-C14D-494E-8751-6C0BBC2C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16B-40F9-416B-BBD3-03CE1A72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924-C302-4B4D-97DE-DC579A81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FB02-1A7E-47FA-B3B6-2E90B049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E848-ABBD-4567-BEF6-7570551F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9AF0-4709-47CD-B7F6-A81D7119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8FFC-F381-4C3C-B4BB-1DC52CCC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A686-419A-4994-AA37-B29D35B7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690B-D6D3-45C0-920B-BCB5902C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8751-F7E3-4A12-A401-BB671EE4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7E9B-27EC-4E95-B744-321FBB09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41FB-D00B-4D2A-A7DE-E49289E6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2C3D-57E2-4BA4-B828-7312A92D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056A-123F-4F2E-8B72-2427FAED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FA58-2802-482D-A27B-7A1863FE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AA30-153F-4191-8649-52DF4A04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E1F03-3B08-49B5-A27D-6D58EC04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574AD-14A9-4AEF-8C9C-58D26F85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B34DC-13E2-4AD9-A971-FABEBBB9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CB80E-BED9-4C83-A2F9-3CD1B0D6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F016A-AD2A-4AF6-8138-E94D345E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5FC-0D38-4BA4-A3A6-B6B373C2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FFC90-4D36-4E80-A121-8E1B1873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BC097-1104-43B8-B743-30979FB5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37E9D-4D3C-4E15-8FE1-987A69C7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9FE75-4E0B-460A-A9DA-7DCF778D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BA9B1-DE76-48B8-BD82-C5C20C3D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18468-5D5D-4D53-B6A7-9D48EA34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C3222-BDB7-4822-99B8-7E727A76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92127-C3E2-441E-8BC8-31F47B0B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4D4F2-D725-4B2D-8CB1-E69D2174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7EB0C-2093-4BB5-83AA-18800D07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EE3-803E-4C30-AC91-A519812C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9EBEC-A1F7-41D1-8274-45E27355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73A75-3F17-41FE-BEED-D092F913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20762-7B60-4492-A8B8-CAB346C8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D88D4-EA16-4489-8475-7327D412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5718C-60FF-49BD-99CE-ACFEDCDB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CF6CB-79C8-4A2B-88A0-D8948AA3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ED35F-DD65-4453-99E9-AEEA5F0F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8EEB8-C6D5-4CA2-9B98-70ED5B9A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45D35-651E-4A1F-8FC0-36E42089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931D0-9EE8-4F68-8FE9-B6616144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495-C9ED-470B-AF4C-D0AFE869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1E07F-376A-4560-8925-C8DD2596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B64A0-1492-4AB8-8C2B-17FEE230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9C5A2-5267-4DC5-B862-EBEFB470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9BDA8-18CA-403A-BE28-8FF47A58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17353-47A7-438A-8E78-BE4F5DB6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4277D-402D-43E1-9DFF-311952CD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BC0E8-0F74-41C0-8959-4D4301BD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CE9B3-7059-40FF-85DF-EC65C349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6C045-56F9-4D22-985E-C2DD7BA6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D8DCC-8592-43F1-A693-FCE52414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330D-0A7A-49DC-8F78-74FF6B73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638B2-8CE1-4FA4-833B-5367589D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5AA-CB04-4182-8F13-79928A6E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B7E-0239-49F1-A17E-2B9975D0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8F72-6CD3-4F15-BC53-C65AB3C9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E129-7414-49B4-9066-BF541D5236B7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4F0A-1ABC-4818-8471-41FE7D59FFA4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6108-0239-40E7-AE97-F286BC3FEF28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A9E0-4293-433B-BDD4-EE17D440CD88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F100-517C-4853-A1E0-948B7CA312E6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219240" y="255600"/>
            <a:ext cx="7645320" cy="23907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995640" y="3715920"/>
            <a:ext cx="460872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cc"/>
                </a:solidFill>
                <a:latin typeface="Times New Roman"/>
              </a:rPr>
              <a:t>Презентацию подготовила: Воспитатель: МАДОУ ЦРР №19 « Лукоморье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cc"/>
                </a:solidFill>
                <a:latin typeface="Times New Roman"/>
              </a:rPr>
              <a:t>Лого-групп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cc"/>
                </a:solidFill>
                <a:latin typeface="Times New Roman"/>
              </a:rPr>
              <a:t>Саакян Алла Павлов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6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0" name="Содержимое 8" descr="20190408_125926.jpg"/>
          <p:cNvPicPr/>
          <p:nvPr/>
        </p:nvPicPr>
        <p:blipFill>
          <a:blip r:embed="rId2"/>
          <a:stretch/>
        </p:blipFill>
        <p:spPr>
          <a:xfrm>
            <a:off x="4665600" y="1600200"/>
            <a:ext cx="2546280" cy="452592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12" descr="20190408_125921.jpg"/>
          <p:cNvPicPr/>
          <p:nvPr/>
        </p:nvPicPr>
        <p:blipFill>
          <a:blip r:embed="rId3"/>
          <a:stretch/>
        </p:blipFill>
        <p:spPr>
          <a:xfrm>
            <a:off x="900000" y="1700280"/>
            <a:ext cx="254664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7416720" cy="48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оспитатель дает ребенку два флажка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красный и зеленый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и предлагает игру: если ребенок услышит правильное название предмета, изображенного на картинке, он должен поднять зеленый флажок, если неправильное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красный (баман , паман, банан, банам, баван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Усложнение подобных игр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упражнений состоит в следующем: сначала подбираются слова, легкие по звуковому составу, затем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более слож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5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4" name="Содержимое 9" descr="20190408_130602.jpg"/>
          <p:cNvPicPr/>
          <p:nvPr/>
        </p:nvPicPr>
        <p:blipFill>
          <a:blip r:embed="rId2"/>
          <a:stretch/>
        </p:blipFill>
        <p:spPr>
          <a:xfrm>
            <a:off x="944640" y="1600200"/>
            <a:ext cx="2546280" cy="4525920"/>
          </a:xfrm>
          <a:prstGeom prst="rect">
            <a:avLst/>
          </a:prstGeom>
          <a:ln w="0">
            <a:noFill/>
          </a:ln>
        </p:spPr>
      </p:pic>
      <p:pic>
        <p:nvPicPr>
          <p:cNvPr id="245" name="Содержимое 10" descr="20190408_130703.jpg"/>
          <p:cNvPicPr/>
          <p:nvPr/>
        </p:nvPicPr>
        <p:blipFill>
          <a:blip r:embed="rId3"/>
          <a:stretch/>
        </p:blipFill>
        <p:spPr>
          <a:xfrm>
            <a:off x="4665600" y="1600200"/>
            <a:ext cx="25462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684360" y="498960"/>
            <a:ext cx="7056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зрослый вызывает водящего и говорит ему на ухо определенный слог, например па. Ребенок вслух повторяет его. Взрослый или называет этот же слог вслед за ребенком, или говорит оппозиционный. Это должно получиться примерно так: па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па, па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ба. Дети должны после каждой пары слогов, произнесенной водящим и взрослым, угадать, одинаковые слоги были произнесены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или раз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4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8" name="Содержимое 7" descr="20190404_095134.jpg"/>
          <p:cNvPicPr/>
          <p:nvPr/>
        </p:nvPicPr>
        <p:blipFill>
          <a:blip r:embed="rId2"/>
          <a:stretch/>
        </p:blipFill>
        <p:spPr>
          <a:xfrm>
            <a:off x="52056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49" name="Содержимое 8" descr="20190404_095228.jpg"/>
          <p:cNvPicPr/>
          <p:nvPr/>
        </p:nvPicPr>
        <p:blipFill>
          <a:blip r:embed="rId3"/>
          <a:stretch/>
        </p:blipFill>
        <p:spPr>
          <a:xfrm>
            <a:off x="424188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468360" y="789840"/>
            <a:ext cx="7272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а пятом этапе дети учатся различать фонемы родного языка. Причем начинать нужно обязательно с дифференциации гласных звуков. Воспитатель раздает детям картинки с изображением поезда, девочки, птички и объясняет: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«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Поезд гудит: у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у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у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»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«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Девочка плачет: а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а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а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»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. Затем воспитатель попеременно произносит эти звуки сначала удлиненно: а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а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а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а, или у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у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у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у. Реагируя на названный звук, дети поднимают соответствующие карт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52" name="Содержимое 7" descr="20190408_130132.jpg"/>
          <p:cNvPicPr/>
          <p:nvPr/>
        </p:nvPicPr>
        <p:blipFill>
          <a:blip r:embed="rId2"/>
          <a:stretch/>
        </p:blipFill>
        <p:spPr>
          <a:xfrm>
            <a:off x="4665600" y="1600200"/>
            <a:ext cx="2546280" cy="4525920"/>
          </a:xfrm>
          <a:prstGeom prst="rect">
            <a:avLst/>
          </a:prstGeom>
          <a:ln w="0">
            <a:noFill/>
          </a:ln>
        </p:spPr>
      </p:pic>
      <p:pic>
        <p:nvPicPr>
          <p:cNvPr id="253" name="Содержимое 6" descr="20190408_130115.jpg"/>
          <p:cNvPicPr/>
          <p:nvPr/>
        </p:nvPicPr>
        <p:blipFill>
          <a:blip r:embed="rId3"/>
          <a:stretch/>
        </p:blipFill>
        <p:spPr>
          <a:xfrm>
            <a:off x="944640" y="1600200"/>
            <a:ext cx="25462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4000" y="1052640"/>
            <a:ext cx="73864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оведение специальных игр и упражнений способствует успешному развитию фонематических процессов, что является основой для дальнейшего успешного обучения в школе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4" descr=""/>
          <p:cNvPicPr/>
          <p:nvPr/>
        </p:nvPicPr>
        <p:blipFill>
          <a:blip r:embed="rId1"/>
          <a:stretch/>
        </p:blipFill>
        <p:spPr>
          <a:xfrm>
            <a:off x="244440" y="1365120"/>
            <a:ext cx="6351480" cy="343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822240" y="542880"/>
            <a:ext cx="6207120" cy="2243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250920" y="2852640"/>
            <a:ext cx="738648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нематический слу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нематическое восприят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44440" y="396720"/>
            <a:ext cx="7491600" cy="1157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395280" y="1700280"/>
            <a:ext cx="738648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восприятие звуков речи, узнавание и их различие, способность ребёнка к анализу и синтезу речевых зву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умение определить последовательность и количество звуков в слов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3" descr=""/>
          <p:cNvPicPr/>
          <p:nvPr/>
        </p:nvPicPr>
        <p:blipFill>
          <a:blip r:embed="rId1"/>
          <a:stretch/>
        </p:blipFill>
        <p:spPr>
          <a:xfrm>
            <a:off x="244440" y="-225360"/>
            <a:ext cx="7461360" cy="1693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 этап-узнавание неречевых зву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 этап-различение высоты ,силы ,тембра голоса на материале одинаковых звуков, слов и фра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 этап- дети учатся различать близкие по звуковому составу сло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 этап- дети учатся различать слог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 этап- дети учатся различать фонемы родного языка (гласные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590400" y="1474920"/>
            <a:ext cx="7694640" cy="340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8"/>
          <p:cNvSpPr/>
          <p:nvPr/>
        </p:nvSpPr>
        <p:spPr>
          <a:xfrm>
            <a:off x="2160" y="1054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33"/>
                </a:solidFill>
                <a:latin typeface="Calibri"/>
                <a:ea typeface="Times New Roman"/>
              </a:rPr>
              <a:t> 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0"/>
          <p:cNvSpPr/>
          <p:nvPr/>
        </p:nvSpPr>
        <p:spPr>
          <a:xfrm>
            <a:off x="539640" y="1700280"/>
            <a:ext cx="727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а столе перед ребенком находятся несколько звучащих игрушек: бубен, колокольчик, погремушка. Взрослый предлагает ребенку послушать и запомнить звучание каждого предмета. Затем ребенку нужно только на слух, без зрительной опоры определить, что звучит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  <a:ea typeface="Times New Roman"/>
              </a:rPr>
              <a:t>.</a:t>
            </a:r>
            <a:r>
              <a:rPr b="0" lang="ru-RU" sz="1000" spc="-1" strike="noStrike">
                <a:solidFill>
                  <a:srgbClr val="333333"/>
                </a:solidFill>
                <a:latin typeface="Calibri"/>
                <a:ea typeface="Times New Roman"/>
              </a:rPr>
              <a:t> 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9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12" descr="20190404_094544.jpg"/>
          <p:cNvPicPr/>
          <p:nvPr/>
        </p:nvPicPr>
        <p:blipFill>
          <a:blip r:embed="rId2"/>
          <a:stretch/>
        </p:blipFill>
        <p:spPr>
          <a:xfrm>
            <a:off x="52056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35" name="Содержимое 13" descr="20190404_094444.jpg"/>
          <p:cNvPicPr/>
          <p:nvPr/>
        </p:nvPicPr>
        <p:blipFill>
          <a:blip r:embed="rId3"/>
          <a:stretch/>
        </p:blipFill>
        <p:spPr>
          <a:xfrm>
            <a:off x="424188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539640" y="1268280"/>
            <a:ext cx="69548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8"/>
          <p:cNvSpPr/>
          <p:nvPr/>
        </p:nvSpPr>
        <p:spPr>
          <a:xfrm>
            <a:off x="395280" y="1700280"/>
            <a:ext cx="727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Детям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здаются картинки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домашних животных и их детенышей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коровы и теленка, козы и козленка, свиньи и поросенка. Взрослый произносит каждое звукоподражание то низким, то высоким голосом. Дети должны, ориентируясь на звукокомплекс и высоту голоса одновременно поднять соответствующую карти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Заголовок 9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43:13Z</dcterms:created>
  <dc:creator>user</dc:creator>
  <dc:description/>
  <dc:language>en-US</dc:language>
  <cp:lastModifiedBy>www</cp:lastModifiedBy>
  <dcterms:modified xsi:type="dcterms:W3CDTF">2023-02-04T14:16:10Z</dcterms:modified>
  <cp:revision>372</cp:revision>
  <dc:subject/>
  <dc:title>Методика формирования</dc:title>
</cp:coreProperties>
</file>