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543-1A96-4B84-8680-CDFC7696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E8A-DC7E-4DD5-9442-C1BD44C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CF9-C6A8-43FC-939E-B010872A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4AB-A5A5-4E70-9D89-434AE1E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0734-A1D9-4178-A5B0-40292384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A033-E574-4A57-9828-0698ED6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B2C-50E8-4660-B5AD-9B9450B1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4D67-DA7A-4053-A782-0DC1D58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792-DA93-40F3-9886-4012774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D785-98E3-4D14-86B6-CFA38F60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379E-7FBD-46CB-B3FA-8FC6A15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734-A2EA-4961-B02C-8B662E9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4BB-3668-4EB9-A1A0-F74A8CE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189-A1A3-464C-9801-3EA2A30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64F5-2856-41A2-96A7-B377B02B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CD8-2305-4F5E-842C-262EDA52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EB54-64FB-434E-85FB-80505CFD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FDFE-2886-4141-B9E9-1881291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4E78-77D0-4108-A0FE-0A1F8A9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46D5-0BD5-402D-84FD-DACC74E4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3577-3AB6-4ED9-9D82-6205BC1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1449-7F40-452B-9807-2FDFC916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53D-FF37-4283-BE73-EC04BE3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208B-AD42-47C5-BE20-0F0766A5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13C3-AEAC-4845-A6D2-6D23E5E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EE8B-D274-4C54-A4A7-1223829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8A35-17D6-4145-9C66-1F14CB7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688B-D18F-4E04-9F44-B55979DB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7904-F648-49CA-9767-3DD3D634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3020-9A1A-43AC-A46D-CF79FE0F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5145-8114-4843-8CF6-98DE3621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F287-FA7D-4E50-8957-D68C5C4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C8FF-133A-4DA2-AC94-840D7E12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0D2-F6B1-41EA-9567-30826E4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FA76-5B99-4EC2-9F19-D417E9E5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2164-52D0-4248-B823-710BC7BB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75C9-931A-401C-9DAB-3E1CB5E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879A-CDC3-4A26-904C-97A22EA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B82C-B40E-48DF-9DE6-6C82327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E274-951E-4941-B3BD-61BCA50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E9CC-A2FB-4155-B1D6-5395809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830B-572F-47A7-90B0-69C8DEA2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858D-DD0A-4E7A-92E4-C95F7FFB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3588-5546-45EE-8122-7624A034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BE4-A895-49E3-8DCC-466DED2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D238-A7B1-49DC-808D-CC21CE0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0145-1AB2-44F2-9FC0-5FF845E6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F9788-A04B-4632-AF2D-8F036F3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64A8-B4EE-4CD9-B8E7-85D9897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C5F44-A372-4714-BEA5-5D30853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97DA-D343-4DFC-8777-CC42207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3123-D528-496D-875C-7BDB99F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C4CE-B11C-4878-9BFC-E85D6AF9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E7A1-9BF7-4543-8D50-4788322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C7DB-C171-4DA1-BE31-D74D335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8EA-A27E-425A-A773-2795BA8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AFC4F-5BC5-47F6-B0DB-4F1828D1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CE1-A281-4F41-8576-BF7990F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B74-F8D5-43AB-9F9B-816F651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505-2B6F-49F4-A965-63DF247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581-F54B-4198-A072-59658776267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652E-2521-4AFB-90DF-17C6EE4AFA57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81B-71CF-4BE4-A342-D52AB56EA35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3A1-FE08-4D7B-92E1-33C87088C11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0C3-74B1-4CD5-B7FB-0CEC872581F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7645320" cy="2390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95640" y="3715920"/>
            <a:ext cx="46087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Презентацию подготовила: Воспитатель: МАДОУ ЦРР №19 « Лукоморь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Лого-груп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Саакян Алла Павлов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6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8" descr="20190408_125926.jpg"/>
          <p:cNvPicPr/>
          <p:nvPr/>
        </p:nvPicPr>
        <p:blipFill>
          <a:blip r:embed="rId2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12" descr="20190408_125921.jpg"/>
          <p:cNvPicPr/>
          <p:nvPr/>
        </p:nvPicPr>
        <p:blipFill>
          <a:blip r:embed="rId3"/>
          <a:stretch/>
        </p:blipFill>
        <p:spPr>
          <a:xfrm>
            <a:off x="900000" y="1700280"/>
            <a:ext cx="25466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741672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оспитатель дает ребенку два флажк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расный и зеленый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и предлагает игру: если ребенок услышит правильное название предмета, изображенного на картинке, он должен поднять зеленый флажок, если неправильное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расный (баман , паман, банан, банам, баван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жнение подобных игр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пражнений состоит в следующем: сначала подбираются слова, легкие по звуковому составу, затем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более сло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9" descr="20190408_130602.jpg"/>
          <p:cNvPicPr/>
          <p:nvPr/>
        </p:nvPicPr>
        <p:blipFill>
          <a:blip r:embed="rId2"/>
          <a:stretch/>
        </p:blipFill>
        <p:spPr>
          <a:xfrm>
            <a:off x="94464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10" descr="20190408_130703.jpg"/>
          <p:cNvPicPr/>
          <p:nvPr/>
        </p:nvPicPr>
        <p:blipFill>
          <a:blip r:embed="rId3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684360" y="498960"/>
            <a:ext cx="70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зрослый вызывает водящего и говорит ему на ухо определенный слог, например па. Ребенок вслух повторяет его. Взрослый или называет этот же слог вслед за ребенком, или говорит оппозиционный. Это должно получиться примерно так: п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па, п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ба. Дети должны после каждой пары слогов, произнесенной водящим и взрослым, угадать, одинаковые слоги были произнесены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или ра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7" descr="20190404_095134.jpg"/>
          <p:cNvPicPr/>
          <p:nvPr/>
        </p:nvPicPr>
        <p:blipFill>
          <a:blip r:embed="rId2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8" descr="20190404_095228.jpg"/>
          <p:cNvPicPr/>
          <p:nvPr/>
        </p:nvPicPr>
        <p:blipFill>
          <a:blip r:embed="rId3"/>
          <a:stretch/>
        </p:blipFill>
        <p:spPr>
          <a:xfrm>
            <a:off x="424188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468360" y="789840"/>
            <a:ext cx="72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пятом этапе дети учатся различать фонемы родного языка. Причем начинать нужно обязательно с дифференциации гласных звуков. Воспитатель раздает детям картинки с изображением поезда, девочки, птички и объясняет: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Поезд гудит: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евочка плачет: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. Затем воспитатель попеременно произносит эти звуки сначала удлиненно: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, или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. Реагируя на названный звук, дети поднимают соответствующие кар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7" descr="20190408_130132.jpg"/>
          <p:cNvPicPr/>
          <p:nvPr/>
        </p:nvPicPr>
        <p:blipFill>
          <a:blip r:embed="rId2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6" descr="20190408_130115.jpg"/>
          <p:cNvPicPr/>
          <p:nvPr/>
        </p:nvPicPr>
        <p:blipFill>
          <a:blip r:embed="rId3"/>
          <a:stretch/>
        </p:blipFill>
        <p:spPr>
          <a:xfrm>
            <a:off x="94464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1052640"/>
            <a:ext cx="73864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дение специальных игр и упражнений способствует успешному развитию фонематических процессов, что является основой для дальнейшего успешного обучения в школе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4" descr=""/>
          <p:cNvPicPr/>
          <p:nvPr/>
        </p:nvPicPr>
        <p:blipFill>
          <a:blip r:embed="rId1"/>
          <a:stretch/>
        </p:blipFill>
        <p:spPr>
          <a:xfrm>
            <a:off x="244440" y="1365120"/>
            <a:ext cx="6351480" cy="34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822240" y="542880"/>
            <a:ext cx="6207120" cy="22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50920" y="2852640"/>
            <a:ext cx="738648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нематический слу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нематическое восприят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96720"/>
            <a:ext cx="749160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395280" y="1700280"/>
            <a:ext cx="73864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осприятие звуков речи, узнавание и их различие, способность ребёнка к анализу и синтезу речевых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умение определить последовательность и количество звуков в сло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этап-узнавание неречевых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этап-различение высоты ,силы ,тембра голоса на материале одинаковых звуков, слов и фр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 этап- дети учатся различать близкие по звуковому составу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 этап- дети учатся различать сло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 этап- дети учатся различать фонемы родного языка (гласны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590400" y="1474920"/>
            <a:ext cx="7694640" cy="34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2160" y="1054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539640" y="1700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столе перед ребенком находятся несколько звучащих игрушек: бубен, колокольчик, погремушка. Взрослый предлагает ребенку послушать и запомнить звучание каждого предмета. Затем ребенку нужно только на слух, без зрительной опоры определить, что звучит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333333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9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12" descr="20190404_094544.jpg"/>
          <p:cNvPicPr/>
          <p:nvPr/>
        </p:nvPicPr>
        <p:blipFill>
          <a:blip r:embed="rId2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3" descr="20190404_094444.jpg"/>
          <p:cNvPicPr/>
          <p:nvPr/>
        </p:nvPicPr>
        <p:blipFill>
          <a:blip r:embed="rId3"/>
          <a:stretch/>
        </p:blipFill>
        <p:spPr>
          <a:xfrm>
            <a:off x="424188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539640" y="1268280"/>
            <a:ext cx="6954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8"/>
          <p:cNvSpPr/>
          <p:nvPr/>
        </p:nvSpPr>
        <p:spPr>
          <a:xfrm>
            <a:off x="395280" y="170028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етям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даются картинки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домашних животных и их детенышей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оровы и теленка, козы и козленка, свиньи и поросенка. Взрослый произносит каждое звукоподражание то низким, то высоким голосом. Дети должны, ориентируясь на звукокомплекс и высоту голоса одновременно поднять соответствующую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Заголовок 9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43:13Z</dcterms:created>
  <dc:creator>user</dc:creator>
  <dc:description/>
  <dc:language>en-US</dc:language>
  <cp:lastModifiedBy>www</cp:lastModifiedBy>
  <dcterms:modified xsi:type="dcterms:W3CDTF">2023-02-04T14:16:10Z</dcterms:modified>
  <cp:revision>372</cp:revision>
  <dc:subject/>
  <dc:title>Методика формирования</dc:title>
</cp:coreProperties>
</file>