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6FE5-3587-4134-AED9-D95178AA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2A1F-E00B-4D6C-BF79-1017D0DC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ADCB-B3D2-46B2-9ED3-E163E1D3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50B5-B759-416C-BBD3-D4105750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8EFA-17D7-4D25-B4EB-E6735AD7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5892-E5F9-4F0E-A49C-C10D1FD3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9A0F-CEDB-4972-8ABE-F5E7A701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A9E3-0A26-4B10-9F91-45171017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86DB-7200-476C-9375-F9BF1092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10C9-2B7B-478A-B97F-4BE73C69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0E54-4910-4939-BC40-AA3BF1AD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17B-AFCF-4011-A7C6-781DA08D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40DC-E189-429B-A608-39D8737F76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4071600"/>
            <a:ext cx="822960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4357800"/>
            <a:ext cx="8229600" cy="17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1"/>
              <p:cNvSpPr txBox="1"/>
              <p:nvPr/>
            </p:nvSpPr>
            <p:spPr>
              <a:xfrm>
                <a:off x="214200" y="2643120"/>
                <a:ext cx="82404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11"/>
              <p:cNvSpPr txBox="1"/>
              <p:nvPr/>
            </p:nvSpPr>
            <p:spPr>
              <a:xfrm>
                <a:off x="2214720" y="2714760"/>
                <a:ext cx="1015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10"/>
              <p:cNvSpPr txBox="1"/>
              <p:nvPr/>
            </p:nvSpPr>
            <p:spPr>
              <a:xfrm>
                <a:off x="3571920" y="2714760"/>
                <a:ext cx="92880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9"/>
              <p:cNvSpPr txBox="1"/>
              <p:nvPr/>
            </p:nvSpPr>
            <p:spPr>
              <a:xfrm>
                <a:off x="4643280" y="2714760"/>
                <a:ext cx="766800" cy="11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8"/>
              <p:cNvSpPr txBox="1"/>
              <p:nvPr/>
            </p:nvSpPr>
            <p:spPr>
              <a:xfrm>
                <a:off x="5786280" y="2786040"/>
                <a:ext cx="7765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7"/>
              <p:cNvSpPr txBox="1"/>
              <p:nvPr/>
            </p:nvSpPr>
            <p:spPr>
              <a:xfrm>
                <a:off x="7000920" y="2643120"/>
                <a:ext cx="62856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6"/>
              <p:cNvSpPr txBox="1"/>
              <p:nvPr/>
            </p:nvSpPr>
            <p:spPr>
              <a:xfrm>
                <a:off x="8001000" y="2571840"/>
                <a:ext cx="70956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Rectangle 14"/>
          <p:cNvSpPr/>
          <p:nvPr/>
        </p:nvSpPr>
        <p:spPr>
          <a:xfrm>
            <a:off x="2520" y="12384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2520" y="1628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2520" y="20192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19"/>
              <p:cNvSpPr txBox="1"/>
              <p:nvPr/>
            </p:nvSpPr>
            <p:spPr>
              <a:xfrm>
                <a:off x="1214280" y="2643120"/>
                <a:ext cx="6508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0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флексия (подведение итогов занятия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Содержимое 3" descr="https://img2.freepng.ru/20180425/xuw/kisspng-emoticon-smiley-computer-icons-online-chat-clip-ar-5ae0e724dfce20.6827181115246886769167.jpg"/>
          <p:cNvPicPr/>
          <p:nvPr/>
        </p:nvPicPr>
        <p:blipFill>
          <a:blip r:embed="rId1"/>
          <a:stretch/>
        </p:blipFill>
        <p:spPr>
          <a:xfrm>
            <a:off x="428760" y="1285920"/>
            <a:ext cx="1690560" cy="16858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https://yt3.ggpht.com/a/AGF-l78uVaEj8lY6i1mq_ncmBWwr71e0lV5dpwxxwA=s900-c-k-c0xffffffff-no-rj-mo"/>
          <p:cNvPicPr/>
          <p:nvPr/>
        </p:nvPicPr>
        <p:blipFill>
          <a:blip r:embed="rId2"/>
          <a:stretch/>
        </p:blipFill>
        <p:spPr>
          <a:xfrm>
            <a:off x="428760" y="3143160"/>
            <a:ext cx="1719000" cy="17193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5" descr="https://i.pinimg.com/736x/78/53/6a/78536ab4144f3244f2b3ee9f8e3c6d4a--smiley-faces-emoticon.jpg"/>
          <p:cNvPicPr/>
          <p:nvPr/>
        </p:nvPicPr>
        <p:blipFill>
          <a:blip r:embed="rId3"/>
          <a:stretch/>
        </p:blipFill>
        <p:spPr>
          <a:xfrm>
            <a:off x="357120" y="5072040"/>
            <a:ext cx="1765440" cy="15717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2143080" y="136152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е было очень труд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е нужна помощь!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2286000" y="3079080"/>
            <a:ext cx="628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е было трудно, но 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c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ился с заданиям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вполне доволен собой!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358720" y="5148000"/>
            <a:ext cx="433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Урок прошел удач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доволен собой!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"/>
              <p:cNvSpPr txBox="1"/>
              <p:nvPr/>
            </p:nvSpPr>
            <p:spPr>
              <a:xfrm>
                <a:off x="428760" y="1000080"/>
                <a:ext cx="56664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Rectangle 3"/>
          <p:cNvSpPr/>
          <p:nvPr/>
        </p:nvSpPr>
        <p:spPr>
          <a:xfrm>
            <a:off x="928800" y="121572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=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685880" y="1000080"/>
            <a:ext cx="611280" cy="100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" name="Object 7"/>
              <p:cNvSpPr txBox="1"/>
              <p:nvPr/>
            </p:nvSpPr>
            <p:spPr>
              <a:xfrm>
                <a:off x="3786120" y="857160"/>
                <a:ext cx="62856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541440" y="3357720"/>
                <a:ext cx="658800" cy="12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2000160" y="3429000"/>
            <a:ext cx="297000" cy="12142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4291920" y="1215720"/>
            <a:ext cx="8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1220040" y="3716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=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4460040" y="14907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3"/>
              <p:cNvSpPr txBox="1"/>
              <p:nvPr/>
            </p:nvSpPr>
            <p:spPr>
              <a:xfrm>
                <a:off x="3500280" y="3357720"/>
                <a:ext cx="70992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9" name="Picture 12" descr=""/>
          <p:cNvPicPr/>
          <p:nvPr/>
        </p:nvPicPr>
        <p:blipFill>
          <a:blip r:embed="rId3"/>
          <a:stretch/>
        </p:blipFill>
        <p:spPr>
          <a:xfrm>
            <a:off x="5000760" y="3357720"/>
            <a:ext cx="309600" cy="1269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4220640" y="3716280"/>
            <a:ext cx="8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6"/>
          <p:cNvSpPr/>
          <p:nvPr/>
        </p:nvSpPr>
        <p:spPr>
          <a:xfrm>
            <a:off x="4460040" y="11005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Object 2"/>
              <p:cNvSpPr txBox="1"/>
              <p:nvPr/>
            </p:nvSpPr>
            <p:spPr>
              <a:xfrm>
                <a:off x="1714680" y="2000160"/>
                <a:ext cx="1695240" cy="24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4643280" y="2143080"/>
            <a:ext cx="1047960" cy="21477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500280" y="2789640"/>
            <a:ext cx="85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2756880" y="12081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357120"/>
          <a:ext cx="8229600" cy="6072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0721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1714680" y="857160"/>
            <a:ext cx="303120" cy="17146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4435920" y="433440"/>
            <a:ext cx="27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643040" y="2714760"/>
            <a:ext cx="447840" cy="11890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3">
            <a:lum contrast="-20000"/>
          </a:blip>
          <a:stretch/>
        </p:blipFill>
        <p:spPr>
          <a:xfrm>
            <a:off x="1857240" y="4000680"/>
            <a:ext cx="295560" cy="15681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4">
            <a:lum contrast="-20000"/>
          </a:blip>
          <a:stretch/>
        </p:blipFill>
        <p:spPr>
          <a:xfrm>
            <a:off x="5715000" y="285840"/>
            <a:ext cx="295200" cy="16588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5"/>
          <a:stretch/>
        </p:blipFill>
        <p:spPr>
          <a:xfrm>
            <a:off x="5857920" y="1500120"/>
            <a:ext cx="304920" cy="1714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"/>
          <p:cNvPicPr/>
          <p:nvPr/>
        </p:nvPicPr>
        <p:blipFill>
          <a:blip r:embed="rId6">
            <a:lum contrast="30000"/>
          </a:blip>
          <a:stretch/>
        </p:blipFill>
        <p:spPr>
          <a:xfrm>
            <a:off x="6072120" y="4714920"/>
            <a:ext cx="399960" cy="1081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4" descr=""/>
          <p:cNvPicPr/>
          <p:nvPr/>
        </p:nvPicPr>
        <p:blipFill>
          <a:blip r:embed="rId7"/>
          <a:stretch/>
        </p:blipFill>
        <p:spPr>
          <a:xfrm>
            <a:off x="5837400" y="5448240"/>
            <a:ext cx="1998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ложение и вычитание смешанных чисе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ип урока:  открытие новых зн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мешанное число, целая и дробная части числа, правила сложения и вычитания смешанных чисел, переместительное и сочета­тельное свойства слож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91280"/>
            <a:ext cx="6757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318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=35 +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"/>
              <p:cNvSpPr txBox="1"/>
              <p:nvPr/>
            </p:nvSpPr>
            <p:spPr>
              <a:xfrm>
                <a:off x="214200" y="428760"/>
                <a:ext cx="7256520" cy="17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7429680" y="500040"/>
            <a:ext cx="385560" cy="19494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7"/>
          <p:cNvSpPr/>
          <p:nvPr/>
        </p:nvSpPr>
        <p:spPr>
          <a:xfrm>
            <a:off x="2500200" y="285768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8429760" y="428760"/>
            <a:ext cx="409320" cy="2071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3"/>
          <a:stretch/>
        </p:blipFill>
        <p:spPr>
          <a:xfrm>
            <a:off x="2143080" y="2428920"/>
            <a:ext cx="385920" cy="19508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4"/>
          <a:stretch/>
        </p:blipFill>
        <p:spPr>
          <a:xfrm>
            <a:off x="3143160" y="2500200"/>
            <a:ext cx="366840" cy="18576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4"/>
          <p:cNvSpPr/>
          <p:nvPr/>
        </p:nvSpPr>
        <p:spPr>
          <a:xfrm>
            <a:off x="7829640" y="97164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7"/>
          <p:cNvSpPr/>
          <p:nvPr/>
        </p:nvSpPr>
        <p:spPr>
          <a:xfrm>
            <a:off x="3571920" y="2857680"/>
            <a:ext cx="42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8"/>
          <p:cNvSpPr/>
          <p:nvPr/>
        </p:nvSpPr>
        <p:spPr>
          <a:xfrm>
            <a:off x="4006080" y="278604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"/>
          <p:cNvPicPr/>
          <p:nvPr/>
        </p:nvPicPr>
        <p:blipFill>
          <a:blip r:embed="rId5"/>
          <a:stretch/>
        </p:blipFill>
        <p:spPr>
          <a:xfrm>
            <a:off x="4929120" y="2357280"/>
            <a:ext cx="4050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"/>
              <p:cNvSpPr txBox="1"/>
              <p:nvPr/>
            </p:nvSpPr>
            <p:spPr>
              <a:xfrm>
                <a:off x="401760" y="1071720"/>
                <a:ext cx="8742240" cy="37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машнее задание: п.12, выучить правила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№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14 (а-г), №415 (а-в), №4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22T16:52:28Z</dcterms:created>
  <dc:creator>User</dc:creator>
  <dc:description/>
  <dc:language>en-US</dc:language>
  <cp:lastModifiedBy>User</cp:lastModifiedBy>
  <dcterms:modified xsi:type="dcterms:W3CDTF">2019-11-23T14:40:52Z</dcterms:modified>
  <cp:revision>19</cp:revision>
  <dc:subject/>
  <dc:title>Сложение и вычитание смешанных чисел</dc:title>
</cp:coreProperties>
</file>