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4.png" ContentType="image/png"/>
  <Override PartName="/ppt/media/image24.gif" ContentType="image/gif"/>
  <Override PartName="/ppt/media/image3.jpeg" ContentType="image/jpeg"/>
  <Override PartName="/ppt/media/image15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3658-7C55-4A2A-A8BF-4161BF747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3DA1-3336-4E8D-BF34-23F9F75C6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5441-DBC7-4DE1-A1DA-2C8EC2047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673E-2134-45A7-8F93-397916077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943B-77CE-4436-9B8C-FC9CA0CFB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2BB3-E50D-4EBC-9DC7-A39A6B669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C5EA-ED68-4D31-9D7B-256E774C0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5EC9-6765-4336-A332-11FD34275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14680" y="214200"/>
            <a:ext cx="69688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B357-05AF-415D-ABC9-AC67EC308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5FCA-C622-47DE-9B48-1C43E314F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0FD3-CA7C-4035-BDD7-914EBB670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A907-A5F8-4E1E-8503-8637699ED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-6480"/>
            <a:ext cx="9153720" cy="1508400"/>
            <a:chOff x="-6480" y="-6480"/>
            <a:chExt cx="9153720" cy="15084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3720" cy="15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07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06200" y="285840"/>
            <a:ext cx="1536840" cy="10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42AF65-EA1F-4F1A-B502-8379BAC3E83D}" type="slidenum">
              <a:rPr b="0" i="1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12096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643200" cy="2257560"/>
          </a:xfrm>
          <a:prstGeom prst="rect">
            <a:avLst/>
          </a:prstGeom>
          <a:ln w="28440">
            <a:solidFill>
              <a:srgbClr val="ff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1619280" y="1557360"/>
            <a:ext cx="59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Урок русского языка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во 2 класс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1989000"/>
            <a:ext cx="82202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37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Грамотность-это вежливость автора по отношению к читателю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37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36800" y="139680"/>
            <a:ext cx="7656480" cy="122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40000" y="1484280"/>
            <a:ext cx="62755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пасное место или…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РФОГРАММ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ильные или слабые позиции звуков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00b05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Повторение изученных орфограмм (работа в парах)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7030a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Непроверяемые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орфограммы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450800"/>
            <a:ext cx="2340000" cy="248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1989000"/>
            <a:ext cx="43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2689200" cy="2352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428292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8000" y="1714680"/>
            <a:ext cx="687888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1060000">
            <a:off x="1827000" y="4971960"/>
            <a:ext cx="1447560" cy="112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0920" y="1665360"/>
            <a:ext cx="7093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[а]рта                   м[а]с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м[а]рка                   к[а]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-61560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 словах  какого столбика буквы для обозначения звуков нужно выбирать?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428292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08000" y="1714680"/>
            <a:ext cx="687888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060000">
            <a:off x="1827000" y="4971960"/>
            <a:ext cx="1447560" cy="1125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50920" y="-354600"/>
            <a:ext cx="6624720" cy="74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[а]рта                   м[а]с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м[а]рка                   к[а]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ЬНЫЕ       СЛАБЫ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ЗВУКИ                 ЗВУКИ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-61560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 словах  какого столбика буквы для обозначения звуков нужно выбирать?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3141720"/>
            <a:ext cx="484200" cy="574560"/>
          </a:xfrm>
          <a:prstGeom prst="up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3141720"/>
            <a:ext cx="484200" cy="574560"/>
          </a:xfrm>
          <a:prstGeom prst="up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3333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абота в паре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916280"/>
            <a:ext cx="792000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одчеркните орфограммы в словах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Спичка, вершина, Мурка, дуб, дворы, Алексей, солнце, снежинка, Россия, грибки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71640" y="189000"/>
            <a:ext cx="48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Алгоритм.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565360"/>
            <a:ext cx="583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Прочитайте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Выберит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Подчеркните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1840" y="1773360"/>
            <a:ext cx="2684520" cy="284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58920" y="2421000"/>
            <a:ext cx="34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71640" y="47628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АМОПРОВЕРКА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276640"/>
            <a:ext cx="7559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Спи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чк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а, в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ши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на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М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урка, ду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б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, дв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о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ы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л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сей, со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лн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це, сн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жи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нка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Росс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ия, гр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иб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и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143080"/>
            <a:ext cx="4643280" cy="4060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65520" y="1427040"/>
            <a:ext cx="9717120" cy="50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898989"/>
                </a:solidFill>
                <a:latin typeface="Calibri"/>
              </a:rPr>
              <a:t>28.11.2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52607A-603E-42B5-A4E4-5932846F6CE0}" type="slidenum">
              <a:rPr b="0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00280" y="1652760"/>
            <a:ext cx="7572240" cy="455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155680" cy="198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2212920" cy="1224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7760" y="231840"/>
            <a:ext cx="779760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254400" cy="407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3363840" cy="4133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5680" y="42840"/>
            <a:ext cx="7894800" cy="10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15920" y="1974960"/>
            <a:ext cx="4900680" cy="39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0040" y="1974960"/>
            <a:ext cx="4943160" cy="3992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19280" y="1260360"/>
            <a:ext cx="648036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ю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м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 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.п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         </a:t>
            </a:r>
            <a:r>
              <a:rPr b="1" i="1" lang="ru-RU" sz="3200" spc="-1" strike="noStrike">
                <a:solidFill>
                  <a:srgbClr val="3faf46"/>
                </a:solidFill>
                <a:latin typeface="Times New Roman"/>
              </a:rPr>
              <a:t>паста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.п 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а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ы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и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у 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е 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е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 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у 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у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м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ой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 щетк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п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о мыле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 о пасте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о щетке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164360" y="360360"/>
            <a:ext cx="1979640" cy="176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7380360" cy="51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14680" y="68400"/>
            <a:ext cx="697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00" y="2852640"/>
            <a:ext cx="180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8400"/>
            <a:ext cx="697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6600"/>
                </a:solidFill>
                <a:latin typeface="Calibri"/>
              </a:rPr>
              <a:t>ОРФОГРАММА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00" y="981000"/>
            <a:ext cx="13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75000" y="1125360"/>
            <a:ext cx="59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Орфограмма-это буква, выбранная по правилу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3346200" cy="297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/>
  <dc:description/>
  <dc:language>en-US</dc:language>
  <cp:lastModifiedBy/>
  <dcterms:modified xsi:type="dcterms:W3CDTF">2022-11-28T10:54:05Z</dcterms:modified>
  <cp:revision>228</cp:revision>
  <dc:subject/>
  <dc:title>Слайд 1</dc:title>
</cp:coreProperties>
</file>