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9DB0-8F86-41AA-A9DD-651577195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45C9-1D78-4F44-B2B9-87662DD91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BBFB-987D-4481-9DD6-BF92153AF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C297-D634-4B00-9A87-C986CB934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2876-95C6-4066-AF76-61AD46C78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04F5-D084-4197-9C55-6272B6003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0757-B803-4498-82B9-698B22D21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EED2-5C50-452E-9957-E6F1E00F6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680" y="214200"/>
            <a:ext cx="6968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C953-AB45-43D5-8597-AB62D4E1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44E7-B14D-4071-99CD-94ED3B405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4236-F68C-412D-87F8-D72A33280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8AFC-09C5-4250-ADDE-C1B02FC9F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-6480"/>
            <a:ext cx="9153720" cy="1508400"/>
            <a:chOff x="-6480" y="-6480"/>
            <a:chExt cx="9153720" cy="15084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372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07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72FCC5-4660-4FA8-BCFF-231CE5AA492E}" type="slidenum">
              <a: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643200" cy="2257560"/>
          </a:xfrm>
          <a:prstGeom prst="rect">
            <a:avLst/>
          </a:prstGeom>
          <a:ln w="28440">
            <a:solidFill>
              <a:srgbClr val="ff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1619280" y="15573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рок русского языка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во 2 класс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1989000"/>
            <a:ext cx="82202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Грамотность-это вежливость автора по отношению к читателю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36800" y="139680"/>
            <a:ext cx="765648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1484280"/>
            <a:ext cx="6275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пасное место или…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РФОГРАММ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ильные или слабые позиции зву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вторение изученных орфограмм (работа в парах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7030a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Непроверяемые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рфограмм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450800"/>
            <a:ext cx="2340000" cy="248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1989000"/>
            <a:ext cx="43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2689200" cy="235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0920" y="1665360"/>
            <a:ext cx="7093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0920" y="-354600"/>
            <a:ext cx="6624720" cy="74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ЬНЫЕ       СЛАБЫ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ЗВУКИ                 ЗВУ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3333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абота в пар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916280"/>
            <a:ext cx="7920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черкните орфограммы в словах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пичка, вершина, Мурка, дуб, дворы, Алексей, солнце, снежинка, Россия, грибк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8900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Алгоритм.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565360"/>
            <a:ext cx="583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рочитай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берит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одчеркни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2684520" cy="284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2421000"/>
            <a:ext cx="34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71640" y="476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АМОПРОВЕРКА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27664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Спи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чк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, 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ш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М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урка, ду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, д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о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ы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л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сей, со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лн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це, сн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ж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к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Росс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ия, г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и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и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43080"/>
            <a:ext cx="464328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65520" y="1427040"/>
            <a:ext cx="9717120" cy="50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898989"/>
                </a:solidFill>
                <a:latin typeface="Calibri"/>
              </a:rPr>
              <a:t>28.11.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316EA-9C26-4B40-BEB8-0630EECED3B4}" type="slidenum">
              <a:rPr b="0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0280" y="1652760"/>
            <a:ext cx="7572240" cy="455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5568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21292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779760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254400" cy="407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3363840" cy="4133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5680" y="42840"/>
            <a:ext cx="7894800" cy="10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15920" y="1974960"/>
            <a:ext cx="4900680" cy="39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0040" y="1974960"/>
            <a:ext cx="4943160" cy="399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9280" y="1260360"/>
            <a:ext cx="648036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3faf46"/>
                </a:solidFill>
                <a:latin typeface="Times New Roman"/>
              </a:rPr>
              <a:t>паста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.п 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а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ы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у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е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у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у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м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ой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 щетк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о мыле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 о пасте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о 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64360" y="360360"/>
            <a:ext cx="1979640" cy="176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738036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2852640"/>
            <a:ext cx="180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6600"/>
                </a:solidFill>
                <a:latin typeface="Calibri"/>
              </a:rPr>
              <a:t>ОРФОГРАММА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00" y="981000"/>
            <a:ext cx="13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75000" y="1125360"/>
            <a:ext cx="59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рфограмма-это буква, выбранная по правилу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346200" cy="297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/>
  <dcterms:modified xsi:type="dcterms:W3CDTF">2022-11-28T10:54:05Z</dcterms:modified>
  <cp:revision>228</cp:revision>
  <dc:subject/>
  <dc:title>Слайд 1</dc:title>
</cp:coreProperties>
</file>