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4.png" ContentType="image/png"/>
  <Override PartName="/ppt/media/image24.gif" ContentType="image/gif"/>
  <Override PartName="/ppt/media/image3.jpeg" ContentType="image/jpeg"/>
  <Override PartName="/ppt/media/image15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A6C22-1882-4F79-B52B-C6139F893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F0561-D1AF-44FC-B4B7-415E256178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3A5E5-E958-41BE-A15B-8DDF662BD8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BEE53-8A19-45F1-8EF0-30D2693254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D32FA-C034-45DA-B594-72276E8D4E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626E3-5D8F-4FF2-84FD-486FA2AFE0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AF418-4A70-41EC-AF63-FD103C8FDA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10A96-AC9D-4C00-BE95-9AB98C0309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714680" y="214200"/>
            <a:ext cx="69688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DFDE4-57D0-4F72-851B-3260026BAD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41B24-AE4B-41AB-8CE1-1E92D6F001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8AEE3-5F07-4F60-8F99-480A24CFC1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63178-5176-4CC4-8511-4C87DD24F3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480" y="-6480"/>
            <a:ext cx="9153720" cy="1508400"/>
            <a:chOff x="-6480" y="-6480"/>
            <a:chExt cx="9153720" cy="15084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3720" cy="15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076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2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106200" y="285840"/>
            <a:ext cx="1536840" cy="1023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1" marL="343080" indent="-3430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2" marL="343080" indent="-3430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3" marL="343080" indent="-3430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4" marL="343080" indent="-3430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5" marL="343080" indent="-3430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6" marL="343080" indent="-3430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i="1" lang="ru-RU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DA20E9-5438-4B74-AA8D-D0952DD6B936}" type="slidenum">
              <a:rPr b="0" i="1" lang="ru-RU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285840" y="428760"/>
            <a:ext cx="12096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43280" y="3068640"/>
            <a:ext cx="3643200" cy="2257560"/>
          </a:xfrm>
          <a:prstGeom prst="rect">
            <a:avLst/>
          </a:prstGeom>
          <a:ln w="28440">
            <a:solidFill>
              <a:srgbClr val="ff66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" name=""/>
          <p:cNvSpPr/>
          <p:nvPr/>
        </p:nvSpPr>
        <p:spPr>
          <a:xfrm>
            <a:off x="1619280" y="1557360"/>
            <a:ext cx="597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Урок русского языка</a:t>
            </a:r>
            <a:br>
              <a:rPr sz="4000"/>
            </a:b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 во 2 классе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06400" y="139680"/>
            <a:ext cx="6986880" cy="1225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5280" y="1989000"/>
            <a:ext cx="822024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137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Грамотность-это вежливость автора по отношению к читателю.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37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36800" y="139680"/>
            <a:ext cx="7656480" cy="1225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340000" y="1484280"/>
            <a:ext cx="627552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26"/>
              </a:spcAft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Опасное место или…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ОРФОГРАММА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26"/>
              </a:spcAft>
              <a:buClr>
                <a:srgbClr val="0070c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Сильные или слабые позиции звуков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26"/>
              </a:spcAft>
              <a:buClr>
                <a:srgbClr val="00b05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Calibri"/>
              </a:rPr>
              <a:t>Повторение изученных орфограмм (работа в парах)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26"/>
              </a:spcAft>
              <a:buClr>
                <a:srgbClr val="7030a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Непроверяемые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       </a:t>
            </a: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орфограммы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24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24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24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1450800"/>
            <a:ext cx="2340000" cy="2482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00000" y="1989000"/>
            <a:ext cx="43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8000" spc="-1" strike="noStrike">
                <a:solidFill>
                  <a:srgbClr val="c00000"/>
                </a:solidFill>
                <a:latin typeface="Arial"/>
              </a:rPr>
              <a:t>!</a:t>
            </a:r>
            <a:endParaRPr b="0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227640" y="4221000"/>
            <a:ext cx="2689200" cy="2352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9280" y="4282920"/>
            <a:ext cx="3529080" cy="2575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08000" y="1714680"/>
            <a:ext cx="6878880" cy="3214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 rot="21060000">
            <a:off x="1827000" y="4971960"/>
            <a:ext cx="1447560" cy="1125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050920" y="1665360"/>
            <a:ext cx="709308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Arial"/>
                <a:ea typeface="Times New Roman"/>
              </a:rPr>
              <a:t>п[а]рта                   м[а]сты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Arial"/>
                <a:ea typeface="Times New Roman"/>
              </a:rPr>
              <a:t>м[а]рка                   к[а]ты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79640" y="-615600"/>
            <a:ext cx="71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В словах  какого столбика буквы для обозначения звуков нужно выбирать?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9280" y="4282920"/>
            <a:ext cx="3529080" cy="2575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908000" y="1714680"/>
            <a:ext cx="6878880" cy="3214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 rot="21060000">
            <a:off x="1827000" y="4971960"/>
            <a:ext cx="1447560" cy="1125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050920" y="-354600"/>
            <a:ext cx="6624720" cy="74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Arial"/>
                <a:ea typeface="Times New Roman"/>
              </a:rPr>
              <a:t>п[а]рта                   м[а]сты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Arial"/>
                <a:ea typeface="Times New Roman"/>
              </a:rPr>
              <a:t>м[а]рка                   к[а]ты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СИЛЬНЫЕ       СЛАБЫЕ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ЗВУКИ                 ЗВУКИ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-615600"/>
            <a:ext cx="71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В словах  какого столбика буквы для обозначения звуков нужно выбирать?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3141720"/>
            <a:ext cx="484200" cy="574560"/>
          </a:xfrm>
          <a:prstGeom prst="upArrow">
            <a:avLst>
              <a:gd name="adj1" fmla="val 50000"/>
              <a:gd name="adj2" fmla="val 4991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64360" y="3141720"/>
            <a:ext cx="484200" cy="574560"/>
          </a:xfrm>
          <a:prstGeom prst="upArrow">
            <a:avLst>
              <a:gd name="adj1" fmla="val 50000"/>
              <a:gd name="adj2" fmla="val 4991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0" y="33336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Работа в паре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1916280"/>
            <a:ext cx="7920000" cy="38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007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Подчеркните орфограммы в словах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Спичка, вершина, Мурка, дуб, дворы, Алексей, солнце, снежинка, Россия, грибки.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771640" y="189000"/>
            <a:ext cx="489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7200" spc="-1" strike="noStrike">
                <a:solidFill>
                  <a:srgbClr val="ffff00"/>
                </a:solidFill>
                <a:latin typeface="Arial"/>
              </a:rPr>
              <a:t>Алгоритм.</a:t>
            </a:r>
            <a:endParaRPr b="0" i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59280" y="2565360"/>
            <a:ext cx="58338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Arial"/>
              </a:rPr>
              <a:t>Прочитайте.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Arial"/>
              </a:rPr>
              <a:t>Выберите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Arial"/>
              </a:rPr>
              <a:t>Подчеркните.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31840" y="1773360"/>
            <a:ext cx="2684520" cy="2846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258920" y="2421000"/>
            <a:ext cx="3443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9600" spc="-1" strike="noStrike">
                <a:solidFill>
                  <a:srgbClr val="c00000"/>
                </a:solidFill>
                <a:latin typeface="Arial"/>
              </a:rPr>
              <a:t>!</a:t>
            </a:r>
            <a:endParaRPr b="0" i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771640" y="476280"/>
            <a:ext cx="48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САМОПРОВЕРКА.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2276640"/>
            <a:ext cx="755964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Спи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чк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а, в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е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р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ши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на, 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М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урка, ду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б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, дв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о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ры, 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А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л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е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ксей, со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лн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це, сн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ежи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нка, 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Росс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ия, гр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иб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ки.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143080"/>
            <a:ext cx="4643280" cy="4060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65520" y="1427040"/>
            <a:ext cx="9717120" cy="5065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898989"/>
                </a:solidFill>
                <a:latin typeface="Calibri"/>
              </a:rPr>
              <a:t>28.11.22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3D183F-1E18-4F0F-8B49-1798C343F899}" type="slidenum">
              <a:rPr b="0" i="1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00280" y="1652760"/>
            <a:ext cx="7572240" cy="4559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2155680" cy="1982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140360" y="189000"/>
            <a:ext cx="2212920" cy="1224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17760" y="231840"/>
            <a:ext cx="7797600" cy="1189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3254400" cy="4075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292720" y="1844640"/>
            <a:ext cx="3363840" cy="41338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55680" y="42840"/>
            <a:ext cx="7894800" cy="1073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-115920" y="1974960"/>
            <a:ext cx="4900680" cy="3962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280040" y="1974960"/>
            <a:ext cx="4943160" cy="39924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19280" y="1260360"/>
            <a:ext cx="6480360" cy="59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доровь</a:t>
            </a:r>
            <a:r>
              <a:rPr b="1" i="1" lang="ru-RU" sz="2800" spc="-1" strike="noStrike">
                <a:solidFill>
                  <a:srgbClr val="c9211e"/>
                </a:solidFill>
                <a:latin typeface="Times New Roman"/>
              </a:rPr>
              <a:t>е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доровь</a:t>
            </a:r>
            <a:r>
              <a:rPr b="1" i="1" lang="ru-RU" sz="2800" spc="-1" strike="noStrike">
                <a:solidFill>
                  <a:srgbClr val="c9211e"/>
                </a:solidFill>
                <a:latin typeface="Times New Roman"/>
              </a:rPr>
              <a:t>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доровь</a:t>
            </a:r>
            <a:r>
              <a:rPr b="1" i="1" lang="ru-RU" sz="2800" spc="-1" strike="noStrike">
                <a:solidFill>
                  <a:srgbClr val="c9211e"/>
                </a:solidFill>
                <a:latin typeface="Times New Roman"/>
              </a:rPr>
              <a:t>ю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доровь</a:t>
            </a:r>
            <a:r>
              <a:rPr b="1" i="1" lang="ru-RU" sz="2800" spc="-1" strike="noStrike">
                <a:solidFill>
                  <a:srgbClr val="c9211e"/>
                </a:solidFill>
                <a:latin typeface="Times New Roman"/>
              </a:rPr>
              <a:t>е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доровь</a:t>
            </a:r>
            <a:r>
              <a:rPr b="1" i="1" lang="ru-RU" sz="2800" spc="-1" strike="noStrike">
                <a:solidFill>
                  <a:srgbClr val="c9211e"/>
                </a:solidFill>
                <a:latin typeface="Times New Roman"/>
              </a:rPr>
              <a:t>ем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 здоровь</a:t>
            </a:r>
            <a:r>
              <a:rPr b="1" i="1" lang="ru-RU" sz="2800" spc="-1" strike="noStrike">
                <a:solidFill>
                  <a:srgbClr val="c9211e"/>
                </a:solidFill>
                <a:latin typeface="Times New Roman"/>
              </a:rPr>
              <a:t>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06400" y="139680"/>
            <a:ext cx="6986880" cy="1225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1628640"/>
            <a:ext cx="8220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122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И.п   </a:t>
            </a:r>
            <a:r>
              <a:rPr b="1" i="1" lang="ru-RU" sz="3200" spc="-1" strike="noStrike">
                <a:solidFill>
                  <a:srgbClr val="8d1d75"/>
                </a:solidFill>
                <a:latin typeface="Times New Roman"/>
              </a:rPr>
              <a:t>мыло         </a:t>
            </a:r>
            <a:r>
              <a:rPr b="1" i="1" lang="ru-RU" sz="3200" spc="-1" strike="noStrike">
                <a:solidFill>
                  <a:srgbClr val="3faf46"/>
                </a:solidFill>
                <a:latin typeface="Times New Roman"/>
              </a:rPr>
              <a:t>паста       </a:t>
            </a:r>
            <a:r>
              <a:rPr b="1" i="1" lang="ru-RU" sz="3200" spc="-1" strike="noStrike">
                <a:solidFill>
                  <a:srgbClr val="ed4c05"/>
                </a:solidFill>
                <a:latin typeface="Times New Roman"/>
              </a:rPr>
              <a:t>щетка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22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.п     </a:t>
            </a:r>
            <a:r>
              <a:rPr b="1" i="1" lang="ru-RU" sz="3200" spc="-1" strike="noStrike">
                <a:solidFill>
                  <a:srgbClr val="8d1d75"/>
                </a:solidFill>
                <a:latin typeface="Times New Roman"/>
              </a:rPr>
              <a:t>мыла        </a:t>
            </a:r>
            <a:r>
              <a:rPr b="1" i="1" lang="ru-RU" sz="3200" spc="-1" strike="noStrike">
                <a:solidFill>
                  <a:srgbClr val="468a1a"/>
                </a:solidFill>
                <a:latin typeface="Times New Roman"/>
              </a:rPr>
              <a:t>пасты       </a:t>
            </a:r>
            <a:r>
              <a:rPr b="1" i="1" lang="ru-RU" sz="3200" spc="-1" strike="noStrike">
                <a:solidFill>
                  <a:srgbClr val="ed4c05"/>
                </a:solidFill>
                <a:latin typeface="Times New Roman"/>
              </a:rPr>
              <a:t>щетки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22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.п    </a:t>
            </a:r>
            <a:r>
              <a:rPr b="1" i="1" lang="ru-RU" sz="3200" spc="-1" strike="noStrike">
                <a:solidFill>
                  <a:srgbClr val="8d1d75"/>
                </a:solidFill>
                <a:latin typeface="Times New Roman"/>
              </a:rPr>
              <a:t>мылу         </a:t>
            </a:r>
            <a:r>
              <a:rPr b="1" i="1" lang="ru-RU" sz="3200" spc="-1" strike="noStrike">
                <a:solidFill>
                  <a:srgbClr val="468a1a"/>
                </a:solidFill>
                <a:latin typeface="Times New Roman"/>
              </a:rPr>
              <a:t>пасте        </a:t>
            </a:r>
            <a:r>
              <a:rPr b="1" i="1" lang="ru-RU" sz="3200" spc="-1" strike="noStrike">
                <a:solidFill>
                  <a:srgbClr val="ed4c05"/>
                </a:solidFill>
                <a:latin typeface="Times New Roman"/>
              </a:rPr>
              <a:t>щетке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22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.п    </a:t>
            </a:r>
            <a:r>
              <a:rPr b="1" i="1" lang="ru-RU" sz="3200" spc="-1" strike="noStrike">
                <a:solidFill>
                  <a:srgbClr val="8d1d75"/>
                </a:solidFill>
                <a:latin typeface="Times New Roman"/>
              </a:rPr>
              <a:t>мыло         </a:t>
            </a:r>
            <a:r>
              <a:rPr b="1" i="1" lang="ru-RU" sz="3200" spc="-1" strike="noStrike">
                <a:solidFill>
                  <a:srgbClr val="468a1a"/>
                </a:solidFill>
                <a:latin typeface="Times New Roman"/>
              </a:rPr>
              <a:t>пасту        </a:t>
            </a:r>
            <a:r>
              <a:rPr b="1" i="1" lang="ru-RU" sz="3200" spc="-1" strike="noStrike">
                <a:solidFill>
                  <a:srgbClr val="ed4c05"/>
                </a:solidFill>
                <a:latin typeface="Times New Roman"/>
              </a:rPr>
              <a:t>щетку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22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.п    </a:t>
            </a:r>
            <a:r>
              <a:rPr b="1" i="1" lang="ru-RU" sz="3200" spc="-1" strike="noStrike">
                <a:solidFill>
                  <a:srgbClr val="8d1d75"/>
                </a:solidFill>
                <a:latin typeface="Times New Roman"/>
              </a:rPr>
              <a:t>мылом      </a:t>
            </a:r>
            <a:r>
              <a:rPr b="1" i="1" lang="ru-RU" sz="3200" spc="-1" strike="noStrike">
                <a:solidFill>
                  <a:srgbClr val="468a1a"/>
                </a:solidFill>
                <a:latin typeface="Times New Roman"/>
              </a:rPr>
              <a:t>пастой     </a:t>
            </a:r>
            <a:r>
              <a:rPr b="1" i="1" lang="ru-RU" sz="3200" spc="-1" strike="noStrike">
                <a:solidFill>
                  <a:srgbClr val="ed4c05"/>
                </a:solidFill>
                <a:latin typeface="Times New Roman"/>
              </a:rPr>
              <a:t> щеткой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22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.п   </a:t>
            </a:r>
            <a:r>
              <a:rPr b="1" i="1" lang="ru-RU" sz="3200" spc="-1" strike="noStrike">
                <a:solidFill>
                  <a:srgbClr val="8d1d75"/>
                </a:solidFill>
                <a:latin typeface="Times New Roman"/>
              </a:rPr>
              <a:t>о мыле     </a:t>
            </a:r>
            <a:r>
              <a:rPr b="1" i="1" lang="ru-RU" sz="3200" spc="-1" strike="noStrike">
                <a:solidFill>
                  <a:srgbClr val="468a1a"/>
                </a:solidFill>
                <a:latin typeface="Times New Roman"/>
              </a:rPr>
              <a:t> о пасте      </a:t>
            </a:r>
            <a:r>
              <a:rPr b="1" i="1" lang="ru-RU" sz="3200" spc="-1" strike="noStrike">
                <a:solidFill>
                  <a:srgbClr val="ed4c05"/>
                </a:solidFill>
                <a:latin typeface="Times New Roman"/>
              </a:rPr>
              <a:t>о щетке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164360" y="360360"/>
            <a:ext cx="1979640" cy="1762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95280" y="1628640"/>
            <a:ext cx="8220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122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   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20720" y="1619280"/>
            <a:ext cx="7380360" cy="5195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14680" y="68400"/>
            <a:ext cx="69721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24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24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771640" y="2349360"/>
            <a:ext cx="3835440" cy="3087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80000" y="2852640"/>
            <a:ext cx="180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96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i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14680" y="68400"/>
            <a:ext cx="69721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24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24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9600" spc="-1" strike="noStrike">
                <a:solidFill>
                  <a:srgbClr val="ff6600"/>
                </a:solidFill>
                <a:latin typeface="Calibri"/>
              </a:rPr>
              <a:t>ОРФОГРАММА</a:t>
            </a:r>
            <a:endParaRPr b="0" i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3835440" cy="3087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780000" y="981000"/>
            <a:ext cx="136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96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i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700360" y="333360"/>
            <a:ext cx="3835440" cy="3087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275000" y="1125360"/>
            <a:ext cx="59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96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i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06400" y="139680"/>
            <a:ext cx="6986880" cy="1225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5280" y="1628640"/>
            <a:ext cx="8220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122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Орфограмма-это буква, выбранная по правилу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22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508720" y="3429000"/>
            <a:ext cx="3346200" cy="2978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/>
  <dc:description/>
  <dc:language>en-US</dc:language>
  <cp:lastModifiedBy/>
  <dcterms:modified xsi:type="dcterms:W3CDTF">2022-11-28T10:54:05Z</dcterms:modified>
  <cp:revision>228</cp:revision>
  <dc:subject/>
  <dc:title>Слайд 1</dc:title>
</cp:coreProperties>
</file>