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1A9-288E-499E-A224-A67F346E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105156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40720"/>
            <a:ext cx="105156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C10-D20F-4E3D-BA0F-7AA80A3C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4072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14072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128-1EA3-40DE-9C26-B4CCCBA3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94904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94904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4072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14072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140720"/>
            <a:ext cx="33858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4CD-61C8-4A3A-87D8-A60ED4E7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949040"/>
            <a:ext cx="105156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AA3-8E67-4F9C-A9FE-5D044D90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105156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3ED-CA38-451C-A1B5-87ACF4B0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E38-85E0-426F-BD5B-E7C6B45C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551-E226-4EF7-9091-C418A91E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42552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908-F935-45E0-9634-BB9F65B4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4072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F3F-C921-492A-80AD-C735086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14072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260-A1ED-43F6-B4D6-11F6FA25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949040"/>
            <a:ext cx="513144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40720"/>
            <a:ext cx="105156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114-0727-4818-928E-F10E1487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" name="Picture 39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425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venir Next LT Pro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949040"/>
            <a:ext cx="105156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1" marL="6858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3" marL="16002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4" marL="20574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5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  <a:p>
            <a:pPr lvl="6" marL="20574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enir Next LT Pr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38080" y="63241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2E507-0C84-4740-9352-2F6284097A10}" type="datetime">
              <a:rPr b="0" lang="en-US" sz="900" spc="-1" strike="noStrike">
                <a:solidFill>
                  <a:srgbClr val="ffffff"/>
                </a:solidFill>
                <a:latin typeface="Avenir Next LT Pro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038480" y="6324120"/>
            <a:ext cx="411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10480" y="63241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706CD-DC56-48C5-A5AF-FF88112460F3}" type="slidenum">
              <a:rPr b="0" lang="en-US" sz="9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7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4" name="Picture 28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82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Rectangle 284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7" name="Picture 286" descr=""/>
          <p:cNvPicPr/>
          <p:nvPr/>
        </p:nvPicPr>
        <p:blipFill>
          <a:blip r:embed="rId2"/>
          <a:stretch/>
        </p:blipFill>
        <p:spPr>
          <a:xfrm>
            <a:off x="-6480" y="0"/>
            <a:ext cx="115272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61520"/>
            <a:ext cx="6153120" cy="28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131a"/>
                </a:solidFill>
                <a:latin typeface="Avenir Next LT Pro"/>
              </a:rPr>
              <a:t>Авторская песня: </a:t>
            </a:r>
            <a:br>
              <a:rPr sz="4400"/>
            </a:br>
            <a:r>
              <a:rPr b="1" lang="en-US" sz="4400" spc="-1" strike="noStrike">
                <a:solidFill>
                  <a:srgbClr val="44131a"/>
                </a:solidFill>
                <a:latin typeface="Avenir Next LT Pro"/>
              </a:rPr>
              <a:t>прошлое и настоящее.</a:t>
            </a: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4343040"/>
            <a:ext cx="464832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131a"/>
                </a:solidFill>
                <a:latin typeface="Avenir Next LT Pro"/>
              </a:rPr>
              <a:t>Илларионова Ирина Юрьевна, </a:t>
            </a:r>
            <a:endParaRPr b="0" lang="en-US" sz="2400" spc="-1" strike="noStrike">
              <a:solidFill>
                <a:srgbClr val="ffffff"/>
              </a:solidFill>
              <a:latin typeface="Avenir Next LT Pro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131a"/>
                </a:solidFill>
                <a:latin typeface="Avenir Next LT Pro"/>
              </a:rPr>
              <a:t>учитель музыки МАОУ СОШ №10, г.Реутов</a:t>
            </a:r>
            <a:endParaRPr b="0" lang="en-US" sz="2400" spc="-1" strike="noStrike">
              <a:solidFill>
                <a:srgbClr val="ffffff"/>
              </a:solidFill>
              <a:latin typeface="Avenir Next LT Pro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50" name="Рисунок 5" descr="Гитара"/>
          <p:cNvPicPr/>
          <p:nvPr/>
        </p:nvPicPr>
        <p:blipFill>
          <a:blip r:embed="rId3"/>
          <a:stretch/>
        </p:blipFill>
        <p:spPr>
          <a:xfrm>
            <a:off x="7280280" y="1533600"/>
            <a:ext cx="3519360" cy="351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8" descr=""/>
          <p:cNvPicPr/>
          <p:nvPr/>
        </p:nvPicPr>
        <p:blipFill>
          <a:blip r:embed="rId4"/>
          <a:stretch/>
        </p:blipFill>
        <p:spPr>
          <a:xfrm>
            <a:off x="11526840" y="3144960"/>
            <a:ext cx="665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1"/>
          <a:stretch/>
        </p:blipFill>
        <p:spPr>
          <a:xfrm>
            <a:off x="158760" y="79200"/>
            <a:ext cx="2054160" cy="2054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/>
          <p:cNvPicPr/>
          <p:nvPr/>
        </p:nvPicPr>
        <p:blipFill>
          <a:blip r:embed="rId2"/>
          <a:stretch/>
        </p:blipFill>
        <p:spPr>
          <a:xfrm>
            <a:off x="11234880" y="3144960"/>
            <a:ext cx="957240" cy="2549520"/>
          </a:xfrm>
          <a:prstGeom prst="rect">
            <a:avLst/>
          </a:prstGeom>
          <a:ln w="0">
            <a:noFill/>
          </a:ln>
        </p:spPr>
      </p:pic>
      <p:pic>
        <p:nvPicPr>
          <p:cNvPr id="125" name="Заголовок 1" descr=""/>
          <p:cNvPicPr/>
          <p:nvPr/>
        </p:nvPicPr>
        <p:blipFill>
          <a:blip r:embed="rId3"/>
          <a:stretch/>
        </p:blipFill>
        <p:spPr>
          <a:xfrm>
            <a:off x="5992920" y="328680"/>
            <a:ext cx="6053040" cy="5627520"/>
          </a:xfrm>
          <a:prstGeom prst="rect">
            <a:avLst/>
          </a:prstGeom>
          <a:ln w="0">
            <a:noFill/>
          </a:ln>
        </p:spPr>
      </p:pic>
      <p:pic>
        <p:nvPicPr>
          <p:cNvPr id="126" name="Объект 2" descr=""/>
          <p:cNvPicPr/>
          <p:nvPr/>
        </p:nvPicPr>
        <p:blipFill>
          <a:blip r:embed="rId4"/>
          <a:stretch/>
        </p:blipFill>
        <p:spPr>
          <a:xfrm>
            <a:off x="146160" y="304920"/>
            <a:ext cx="5949720" cy="59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28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31" name="Picture 30" descr=""/>
          <p:cNvPicPr/>
          <p:nvPr/>
        </p:nvPicPr>
        <p:blipFill>
          <a:blip r:embed="rId2"/>
          <a:stretch/>
        </p:blipFill>
        <p:spPr>
          <a:xfrm>
            <a:off x="19080" y="-36360"/>
            <a:ext cx="1528560" cy="1444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3840" y="304560"/>
            <a:ext cx="9601200" cy="30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94e2"/>
                </a:solidFill>
                <a:latin typeface="Avenir Next LT Pro"/>
              </a:rPr>
              <a:t>До новых встреч!</a:t>
            </a: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133" name="Рисунок 4" descr="Музыка"/>
          <p:cNvPicPr/>
          <p:nvPr/>
        </p:nvPicPr>
        <p:blipFill>
          <a:blip r:embed="rId3"/>
          <a:stretch/>
        </p:blipFill>
        <p:spPr>
          <a:xfrm rot="20141400">
            <a:off x="1474920" y="4821120"/>
            <a:ext cx="1117440" cy="1117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Клавиши фортепиано"/>
          <p:cNvPicPr/>
          <p:nvPr/>
        </p:nvPicPr>
        <p:blipFill>
          <a:blip r:embed="rId4"/>
          <a:stretch/>
        </p:blipFill>
        <p:spPr>
          <a:xfrm rot="1860000">
            <a:off x="9207360" y="1131480"/>
            <a:ext cx="1101960" cy="1171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"/>
          <p:cNvPicPr/>
          <p:nvPr/>
        </p:nvPicPr>
        <p:blipFill>
          <a:blip r:embed="rId5"/>
          <a:stretch/>
        </p:blipFill>
        <p:spPr>
          <a:xfrm>
            <a:off x="11406240" y="1603440"/>
            <a:ext cx="7858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036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Rectangle 1038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4" name="Picture 1040" descr=""/>
          <p:cNvPicPr/>
          <p:nvPr/>
        </p:nvPicPr>
        <p:blipFill>
          <a:blip r:embed="rId1"/>
          <a:stretch/>
        </p:blipFill>
        <p:spPr>
          <a:xfrm>
            <a:off x="-6480" y="0"/>
            <a:ext cx="1152720" cy="1073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587520"/>
            <a:ext cx="5573520" cy="744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Ваганты – «бродячие люди», способные к сочинительству и к исполнительству песен. Среди них были студенты,философы, монахи.</a:t>
            </a:r>
            <a:endParaRPr b="1" lang="en-US" sz="36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5200200"/>
            <a:ext cx="464832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740640" y="1319040"/>
            <a:ext cx="4703760" cy="428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42" descr=""/>
          <p:cNvPicPr/>
          <p:nvPr/>
        </p:nvPicPr>
        <p:blipFill>
          <a:blip r:embed="rId3"/>
          <a:stretch/>
        </p:blipFill>
        <p:spPr>
          <a:xfrm>
            <a:off x="11526840" y="3144960"/>
            <a:ext cx="665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05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60" name="Picture 205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05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2" name="Rectangle 2060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2080" y="1153800"/>
            <a:ext cx="5553000" cy="464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131a"/>
                </a:solidFill>
                <a:latin typeface="Avenir Next LT Pro"/>
              </a:rPr>
              <a:t>Большую часть жизни ваганты проводили в поисках знаний в университетах. </a:t>
            </a:r>
            <a:br>
              <a:rPr sz="3600"/>
            </a:br>
            <a:r>
              <a:rPr b="1" lang="ru-RU" sz="3600" spc="-1" strike="noStrike">
                <a:solidFill>
                  <a:srgbClr val="44131a"/>
                </a:solidFill>
                <a:latin typeface="Avenir Next LT Pro"/>
              </a:rPr>
              <a:t>Многие</a:t>
            </a:r>
            <a:r>
              <a:rPr b="1" lang="en-US" sz="3600" spc="-1" strike="noStrike">
                <a:solidFill>
                  <a:srgbClr val="44131a"/>
                </a:solidFill>
                <a:latin typeface="Avenir Next LT Pro"/>
              </a:rPr>
              <a:t> писали стихи на латинском языке.</a:t>
            </a:r>
            <a:br>
              <a:rPr sz="3600"/>
            </a:br>
            <a:r>
              <a:rPr b="1" lang="en-US" sz="3600" spc="-1" strike="noStrike">
                <a:solidFill>
                  <a:srgbClr val="44131a"/>
                </a:solidFill>
                <a:latin typeface="Avenir Next LT Pro"/>
              </a:rPr>
              <a:t>В сво</a:t>
            </a:r>
            <a:r>
              <a:rPr b="1" lang="ru-RU" sz="3600" spc="-1" strike="noStrike">
                <a:solidFill>
                  <a:srgbClr val="44131a"/>
                </a:solidFill>
                <a:latin typeface="Avenir Next LT Pro"/>
              </a:rPr>
              <a:t>ё</a:t>
            </a:r>
            <a:r>
              <a:rPr b="1" lang="en-US" sz="3600" spc="-1" strike="noStrike">
                <a:solidFill>
                  <a:srgbClr val="44131a"/>
                </a:solidFill>
                <a:latin typeface="Avenir Next LT Pro"/>
              </a:rPr>
              <a:t>м творчестве они опирались на традиции церковных, речевых жанров,народной лирики.</a:t>
            </a:r>
            <a:endParaRPr b="1" lang="en-US" sz="36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64" name="Rectangle 2062"/>
          <p:cNvSpPr/>
          <p:nvPr/>
        </p:nvSpPr>
        <p:spPr>
          <a:xfrm>
            <a:off x="5997600" y="0"/>
            <a:ext cx="61945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5" name="Rectangle 2064"/>
          <p:cNvGrpSpPr/>
          <p:nvPr/>
        </p:nvGrpSpPr>
        <p:grpSpPr>
          <a:xfrm>
            <a:off x="5998680" y="0"/>
            <a:ext cx="6193080" cy="6858000"/>
            <a:chOff x="5998680" y="0"/>
            <a:chExt cx="6193080" cy="6858000"/>
          </a:xfrm>
        </p:grpSpPr>
        <p:pic>
          <p:nvPicPr>
            <p:cNvPr id="66" name="Rectangle 2064" descr=""/>
            <p:cNvPicPr/>
            <p:nvPr/>
          </p:nvPicPr>
          <p:blipFill>
            <a:blip r:embed="rId2"/>
            <a:stretch/>
          </p:blipFill>
          <p:spPr>
            <a:xfrm>
              <a:off x="6000120" y="0"/>
              <a:ext cx="6191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rot="10800000">
              <a:off x="5998680" y="0"/>
              <a:ext cx="6193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7112160" y="820800"/>
            <a:ext cx="41464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1" name="Rectangle 22"/>
          <p:cNvGrpSpPr/>
          <p:nvPr/>
        </p:nvGrpSpPr>
        <p:grpSpPr>
          <a:xfrm>
            <a:off x="-6480" y="0"/>
            <a:ext cx="12192120" cy="6858000"/>
            <a:chOff x="-6480" y="0"/>
            <a:chExt cx="12192120" cy="6858000"/>
          </a:xfrm>
        </p:grpSpPr>
        <p:pic>
          <p:nvPicPr>
            <p:cNvPr id="72" name="Rectangle 22" descr=""/>
            <p:cNvPicPr/>
            <p:nvPr/>
          </p:nvPicPr>
          <p:blipFill>
            <a:blip r:embed="rId1"/>
            <a:stretch/>
          </p:blipFill>
          <p:spPr>
            <a:xfrm>
              <a:off x="-6480" y="0"/>
              <a:ext cx="12188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 rot="10800000">
              <a:off x="-3240" y="0"/>
              <a:ext cx="12188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74" name="Rectangle 24"/>
          <p:cNvSpPr/>
          <p:nvPr/>
        </p:nvSpPr>
        <p:spPr>
          <a:xfrm>
            <a:off x="712800" y="739800"/>
            <a:ext cx="10769760" cy="5391000"/>
          </a:xfrm>
          <a:prstGeom prst="rect">
            <a:avLst/>
          </a:prstGeom>
          <a:solidFill>
            <a:srgbClr val="f2e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-785880"/>
            <a:ext cx="6286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4131a"/>
              </a:solidFill>
              <a:latin typeface="Avenir Next LT Pro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42640" y="952200"/>
            <a:ext cx="628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Многочисленные стихи и песни неизвестных поэтов и музыкантов 12-13 вв. дошли до нашего времени. Известная песня «Гаудеамус", прославляющая академию и преподавателей, уже несколько сотен лет является международным студенческим гимном.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77" name="Рисунок 4" descr="Академическая шапочка"/>
          <p:cNvPicPr/>
          <p:nvPr/>
        </p:nvPicPr>
        <p:blipFill>
          <a:blip r:embed="rId2"/>
          <a:stretch/>
        </p:blipFill>
        <p:spPr>
          <a:xfrm>
            <a:off x="7969320" y="1889280"/>
            <a:ext cx="307980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1"/>
          <a:stretch/>
        </p:blipFill>
        <p:spPr>
          <a:xfrm>
            <a:off x="-6480" y="0"/>
            <a:ext cx="1152720" cy="107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2080" y="390240"/>
            <a:ext cx="7426080" cy="20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131a"/>
                </a:solidFill>
                <a:latin typeface="Avenir Next LT Pro"/>
              </a:rPr>
              <a:t>Когда зародился жанр авторской песни?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7720" y="1876320"/>
            <a:ext cx="7000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Жанр авторской песни зародился в середине 20 века из художественной самодеятельности. Авторы размышляли о смысле жизни, признавались в любви, воспевали дружбу. В этих песнях есть шутка, юмор, сатира. Основателем этого жанра является Б.Окуджава.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83" name="Graphic 6" descr="Treble clef"/>
          <p:cNvPicPr/>
          <p:nvPr/>
        </p:nvPicPr>
        <p:blipFill>
          <a:blip r:embed="rId2"/>
          <a:stretch/>
        </p:blipFill>
        <p:spPr>
          <a:xfrm>
            <a:off x="8432640" y="2168640"/>
            <a:ext cx="2903760" cy="2901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11526840" y="3144960"/>
            <a:ext cx="665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07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86" name="Picture 308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1392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082"/>
          <p:cNvSpPr/>
          <p:nvPr/>
        </p:nvSpPr>
        <p:spPr>
          <a:xfrm>
            <a:off x="3240" y="-324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8" name="Rectangle 3084"/>
          <p:cNvSpPr/>
          <p:nvPr/>
        </p:nvSpPr>
        <p:spPr>
          <a:xfrm>
            <a:off x="0" y="-3240"/>
            <a:ext cx="12188880" cy="6858000"/>
          </a:xfrm>
          <a:prstGeom prst="rect">
            <a:avLst/>
          </a:prstGeom>
          <a:solidFill>
            <a:srgbClr val="f2ecea">
              <a:alpha val="61000"/>
            </a:srgbClr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9" name="Rectangle 3086"/>
          <p:cNvSpPr/>
          <p:nvPr/>
        </p:nvSpPr>
        <p:spPr>
          <a:xfrm>
            <a:off x="0" y="0"/>
            <a:ext cx="12192120" cy="3900600"/>
          </a:xfrm>
          <a:prstGeom prst="rect">
            <a:avLst/>
          </a:prstGeom>
          <a:solidFill>
            <a:srgbClr val="651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90" name="Rectangle 3088"/>
          <p:cNvGrpSpPr/>
          <p:nvPr/>
        </p:nvGrpSpPr>
        <p:grpSpPr>
          <a:xfrm>
            <a:off x="-360" y="0"/>
            <a:ext cx="12192480" cy="3906720"/>
            <a:chOff x="-360" y="0"/>
            <a:chExt cx="12192480" cy="3906720"/>
          </a:xfrm>
        </p:grpSpPr>
        <p:pic>
          <p:nvPicPr>
            <p:cNvPr id="91" name="Rectangle 308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39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10800000">
              <a:off x="-360" y="0"/>
              <a:ext cx="12192120" cy="39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0600" y="744480"/>
            <a:ext cx="4410000" cy="29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д (от кельт. *bardos) — певец или поэт; как правило, одиночный исполнитель песен собственного сочинения.</a:t>
            </a:r>
            <a:endParaRPr b="1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1254240" y="1528920"/>
            <a:ext cx="55036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97" name="Picture 11" descr=""/>
          <p:cNvPicPr/>
          <p:nvPr/>
        </p:nvPicPr>
        <p:blipFill>
          <a:blip r:embed="rId1"/>
          <a:stretch/>
        </p:blipFill>
        <p:spPr>
          <a:xfrm>
            <a:off x="10747440" y="0"/>
            <a:ext cx="1444680" cy="1536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0880" y="312840"/>
            <a:ext cx="1034712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131a"/>
                </a:solidFill>
                <a:latin typeface="Avenir Next LT Pro"/>
              </a:rPr>
              <a:t>Известные авторы, исполнители собственных песен:</a:t>
            </a: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2"/>
          <a:stretch/>
        </p:blipFill>
        <p:spPr>
          <a:xfrm>
            <a:off x="0" y="2719440"/>
            <a:ext cx="1371600" cy="2547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7508520" y="3505320"/>
            <a:ext cx="4491000" cy="31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Булат Окуджава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Владимир Высоцкий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Юрий Визбор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Сергей и Татьяна Никитины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Александр Розенбаум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4131a"/>
                </a:solidFill>
                <a:latin typeface="Avenir Next LT Pro"/>
              </a:rPr>
              <a:t>Олег Митяев</a:t>
            </a: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 rot="21285600">
            <a:off x="2950920" y="1893600"/>
            <a:ext cx="2900160" cy="1755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rcRect l="0" t="0" r="2" b="8895"/>
          <a:stretch/>
        </p:blipFill>
        <p:spPr>
          <a:xfrm rot="369600">
            <a:off x="9142200" y="1278000"/>
            <a:ext cx="3047760" cy="184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 rot="361800">
            <a:off x="514440" y="1731600"/>
            <a:ext cx="233676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6"/>
          <a:stretch/>
        </p:blipFill>
        <p:spPr>
          <a:xfrm>
            <a:off x="5351400" y="3659040"/>
            <a:ext cx="1927440" cy="2691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7"/>
          <a:stretch/>
        </p:blipFill>
        <p:spPr>
          <a:xfrm rot="21192600">
            <a:off x="1747800" y="4365720"/>
            <a:ext cx="2832120" cy="1911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8"/>
          <a:stretch/>
        </p:blipFill>
        <p:spPr>
          <a:xfrm rot="21273600">
            <a:off x="6192720" y="1531800"/>
            <a:ext cx="26337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24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09" name="Picture 22" descr=""/>
          <p:cNvPicPr/>
          <p:nvPr/>
        </p:nvPicPr>
        <p:blipFill>
          <a:blip r:embed="rId1"/>
          <a:stretch/>
        </p:blipFill>
        <p:spPr>
          <a:xfrm>
            <a:off x="-6480" y="0"/>
            <a:ext cx="1152720" cy="1073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61520"/>
            <a:ext cx="4648320" cy="28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131a"/>
                </a:solidFill>
                <a:latin typeface="Avenir Next LT Pro"/>
              </a:rPr>
              <a:t>Ценность авторской песни: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venir Next LT Pro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3041640"/>
            <a:ext cx="555336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Искренность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Доверие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Индивидуальность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a62c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131a"/>
                </a:solidFill>
                <a:latin typeface="Times New Roman"/>
                <a:ea typeface="Times New Roman"/>
              </a:rPr>
              <a:t>Выражение глубоких чувств</a:t>
            </a:r>
            <a:endParaRPr b="0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112" name="Рисунок 4" descr="Нотная запись"/>
          <p:cNvPicPr/>
          <p:nvPr/>
        </p:nvPicPr>
        <p:blipFill>
          <a:blip r:embed="rId2"/>
          <a:stretch/>
        </p:blipFill>
        <p:spPr>
          <a:xfrm>
            <a:off x="7446960" y="1766880"/>
            <a:ext cx="3174840" cy="317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"/>
          <p:cNvPicPr/>
          <p:nvPr/>
        </p:nvPicPr>
        <p:blipFill>
          <a:blip r:embed="rId3"/>
          <a:stretch/>
        </p:blipFill>
        <p:spPr>
          <a:xfrm>
            <a:off x="11526840" y="3144960"/>
            <a:ext cx="665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2ec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10747440" y="0"/>
            <a:ext cx="1444680" cy="1536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560520"/>
            <a:ext cx="103489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131a"/>
                </a:solidFill>
                <a:latin typeface="Avenir Next LT Pro"/>
              </a:rPr>
              <a:t>Юрий Визбор </a:t>
            </a:r>
            <a:br>
              <a:rPr sz="3200"/>
            </a:br>
            <a:r>
              <a:rPr b="1" lang="ru-RU" sz="3200" spc="-1" strike="noStrike">
                <a:solidFill>
                  <a:srgbClr val="44131a"/>
                </a:solidFill>
                <a:latin typeface="Avenir Next LT Pro"/>
              </a:rPr>
              <a:t>«Милая моя»</a:t>
            </a:r>
            <a:endParaRPr b="1" lang="en-US" sz="3200" spc="-1" strike="noStrike">
              <a:solidFill>
                <a:srgbClr val="ffffff"/>
              </a:solidFill>
              <a:latin typeface="Avenir Next LT Pro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2"/>
          <a:stretch/>
        </p:blipFill>
        <p:spPr>
          <a:xfrm>
            <a:off x="0" y="2719440"/>
            <a:ext cx="1371600" cy="2547720"/>
          </a:xfrm>
          <a:prstGeom prst="rect">
            <a:avLst/>
          </a:prstGeom>
          <a:ln w="0">
            <a:noFill/>
          </a:ln>
        </p:spPr>
      </p:pic>
      <p:pic>
        <p:nvPicPr>
          <p:cNvPr id="119" name="Объект 2" descr=""/>
          <p:cNvPicPr/>
          <p:nvPr/>
        </p:nvPicPr>
        <p:blipFill>
          <a:blip r:embed="rId3"/>
          <a:stretch/>
        </p:blipFill>
        <p:spPr>
          <a:xfrm>
            <a:off x="281160" y="1536840"/>
            <a:ext cx="7083360" cy="51321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4"/>
          <a:stretch/>
        </p:blipFill>
        <p:spPr>
          <a:xfrm>
            <a:off x="7149960" y="1805040"/>
            <a:ext cx="50421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4T19:59:32Z</dcterms:created>
  <dc:creator>Илларионова Антонина Николаевна</dc:creator>
  <dc:description/>
  <dc:language>en-US</dc:language>
  <cp:lastModifiedBy>Николай</cp:lastModifiedBy>
  <dcterms:modified xsi:type="dcterms:W3CDTF">2023-02-05T09:30:03Z</dcterms:modified>
  <cp:revision>8</cp:revision>
  <dc:subject/>
  <dc:title>Авторская песня:  прошлое и настоящее.</dc:title>
</cp:coreProperties>
</file>