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3FB-B22D-4060-AB0D-B751E5063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9ADB-D8D9-4EF4-B252-93AD1F1A8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D455-A773-4E1A-A75C-4A46E0A6E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D7B-E3DC-42F9-8443-1A48D4D61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4CF-6354-44F0-A401-D76615C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8A7-5580-4A7C-9936-DB53F307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966-0B4B-4D0B-AB66-3A9226F5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1F8-AE5A-48E0-A814-13F2B1FB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934-5DF3-4A6C-81B4-43CE901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8DA-296A-48F1-B52E-42D4965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D0C-8633-43AF-B519-8861963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E2F-92F9-4C49-91B4-4C698C8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DA3-95B9-4DD5-B100-889D8F46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C5D-B5F2-47D0-BBA2-0CD4151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A17-E015-455A-B7F2-39D4AA4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7D0-6FA9-4486-8F80-B2BB142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90D-82D1-4874-AE80-11C35AED3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9.gif"/><Relationship Id="rId9" Type="http://schemas.openxmlformats.org/officeDocument/2006/relationships/slide" Target="slide9.xml"/><Relationship Id="rId10" Type="http://schemas.openxmlformats.org/officeDocument/2006/relationships/image" Target="../media/image8.gif"/><Relationship Id="rId11" Type="http://schemas.openxmlformats.org/officeDocument/2006/relationships/slide" Target="slide10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42960" y="1357200"/>
            <a:ext cx="807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ударные гласные в корне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ина Елена Владимиро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Ш № 1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bugship"/>
          <p:cNvPicPr/>
          <p:nvPr/>
        </p:nvPicPr>
        <p:blipFill>
          <a:blip r:embed="rId2"/>
          <a:stretch/>
        </p:blipFill>
        <p:spPr>
          <a:xfrm>
            <a:off x="2000160" y="1857240"/>
            <a:ext cx="1357560" cy="1621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alien-a"/>
          <p:cNvPicPr/>
          <p:nvPr/>
        </p:nvPicPr>
        <p:blipFill>
          <a:blip r:embed="rId3"/>
          <a:stretch/>
        </p:blipFill>
        <p:spPr>
          <a:xfrm>
            <a:off x="5643720" y="1928880"/>
            <a:ext cx="14968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31" name="Группа 29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232" name="Пятно 2 6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8"/>
            <p:cNvSpPr/>
            <p:nvPr/>
          </p:nvSpPr>
          <p:spPr>
            <a:xfrm>
              <a:off x="856800" y="5000760"/>
              <a:ext cx="171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.рь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ятно 2 9"/>
          <p:cNvSpPr/>
          <p:nvPr/>
        </p:nvSpPr>
        <p:spPr>
          <a:xfrm rot="2066400">
            <a:off x="3642840" y="49968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124160" y="9032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27"/>
          <p:cNvGrpSpPr/>
          <p:nvPr/>
        </p:nvGrpSpPr>
        <p:grpSpPr>
          <a:xfrm>
            <a:off x="123840" y="-96840"/>
            <a:ext cx="2804760" cy="2600280"/>
            <a:chOff x="123840" y="-96840"/>
            <a:chExt cx="2804760" cy="2600280"/>
          </a:xfrm>
        </p:grpSpPr>
        <p:sp>
          <p:nvSpPr>
            <p:cNvPr id="237" name="Пятно 2 12"/>
            <p:cNvSpPr/>
            <p:nvPr/>
          </p:nvSpPr>
          <p:spPr>
            <a:xfrm rot="2066400">
              <a:off x="356760" y="42840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5"/>
            <p:cNvSpPr/>
            <p:nvPr/>
          </p:nvSpPr>
          <p:spPr>
            <a:xfrm>
              <a:off x="767160" y="8319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.ч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27"/>
          <p:cNvGrpSpPr/>
          <p:nvPr/>
        </p:nvGrpSpPr>
        <p:grpSpPr>
          <a:xfrm>
            <a:off x="5838840" y="4189320"/>
            <a:ext cx="2804760" cy="2600280"/>
            <a:chOff x="5838840" y="4189320"/>
            <a:chExt cx="2804760" cy="2600280"/>
          </a:xfrm>
        </p:grpSpPr>
        <p:sp>
          <p:nvSpPr>
            <p:cNvPr id="240" name="Пятно 2 15"/>
            <p:cNvSpPr/>
            <p:nvPr/>
          </p:nvSpPr>
          <p:spPr>
            <a:xfrm rot="2066400">
              <a:off x="6071760" y="471456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5"/>
            <p:cNvSpPr/>
            <p:nvPr/>
          </p:nvSpPr>
          <p:spPr>
            <a:xfrm>
              <a:off x="6482160" y="511812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.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ятно 2 18"/>
          <p:cNvSpPr/>
          <p:nvPr/>
        </p:nvSpPr>
        <p:spPr>
          <a:xfrm rot="2066400">
            <a:off x="2999880" y="4142880"/>
            <a:ext cx="233856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3481560" y="45464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30"/>
          <p:cNvGrpSpPr/>
          <p:nvPr/>
        </p:nvGrpSpPr>
        <p:grpSpPr>
          <a:xfrm>
            <a:off x="6410520" y="117720"/>
            <a:ext cx="2804760" cy="2600280"/>
            <a:chOff x="6410520" y="117720"/>
            <a:chExt cx="2804760" cy="2600280"/>
          </a:xfrm>
        </p:grpSpPr>
        <p:sp>
          <p:nvSpPr>
            <p:cNvPr id="245" name="Пятно 2 21"/>
            <p:cNvSpPr/>
            <p:nvPr/>
          </p:nvSpPr>
          <p:spPr>
            <a:xfrm rot="2066400">
              <a:off x="6643440" y="64296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9"/>
            <p:cNvSpPr/>
            <p:nvPr/>
          </p:nvSpPr>
          <p:spPr>
            <a:xfrm>
              <a:off x="7125120" y="104616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.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7"/>
          <p:cNvSpPr/>
          <p:nvPr/>
        </p:nvSpPr>
        <p:spPr>
          <a:xfrm>
            <a:off x="4214880" y="8571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643200" y="45007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правляющая кнопка: далее 26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правляющая кнопка: справка 27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47549E-007 L -0.29687 0.14593 E">
                                      <p:cBhvr>
                                        <p:cTn id="29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0.04255 L 0.59323 0.13714 E">
                                      <p:cBhvr>
                                        <p:cTn id="30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2849E-006 L 0.31493 -0.10476 E">
                                      <p:cBhvr>
                                        <p:cTn id="30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0435E-006 L -0.35382 0.09459 E">
                                      <p:cBhvr>
                                        <p:cTn id="314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08788E-006 L 0.70868 -0.16789 E">
                                      <p:cBhvr>
                                        <p:cTn id="31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54487E-006 L 0.40156 -0.10476 E">
                                      <p:cBhvr>
                                        <p:cTn id="32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252" name="Группа 29" descr=""/>
          <p:cNvPicPr/>
          <p:nvPr/>
        </p:nvPicPr>
        <p:blipFill>
          <a:blip r:embed="rId2"/>
          <a:stretch/>
        </p:blipFill>
        <p:spPr>
          <a:xfrm>
            <a:off x="92160" y="158760"/>
            <a:ext cx="5095800" cy="223668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9" descr=""/>
          <p:cNvPicPr/>
          <p:nvPr/>
        </p:nvPicPr>
        <p:blipFill>
          <a:blip r:embed="rId3"/>
          <a:stretch/>
        </p:blipFill>
        <p:spPr>
          <a:xfrm>
            <a:off x="3790800" y="2011320"/>
            <a:ext cx="509760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54" name="Группа 29"/>
          <p:cNvGrpSpPr/>
          <p:nvPr/>
        </p:nvGrpSpPr>
        <p:grpSpPr>
          <a:xfrm>
            <a:off x="100800" y="3304080"/>
            <a:ext cx="5457960" cy="3652920"/>
            <a:chOff x="100800" y="3304080"/>
            <a:chExt cx="5457960" cy="3652920"/>
          </a:xfrm>
        </p:grpSpPr>
        <p:sp>
          <p:nvSpPr>
            <p:cNvPr id="255" name="Пятно 2 16"/>
            <p:cNvSpPr/>
            <p:nvPr/>
          </p:nvSpPr>
          <p:spPr>
            <a:xfrm rot="709200">
              <a:off x="322200" y="3789000"/>
              <a:ext cx="5014800" cy="268272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8"/>
            <p:cNvSpPr/>
            <p:nvPr/>
          </p:nvSpPr>
          <p:spPr>
            <a:xfrm>
              <a:off x="1158120" y="4547160"/>
              <a:ext cx="367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обрать проверочное сло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7"/>
          <p:cNvSpPr/>
          <p:nvPr/>
        </p:nvSpPr>
        <p:spPr>
          <a:xfrm>
            <a:off x="214200" y="2142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357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357120" y="385776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назад 23">
            <a:hlinkClick r:id="" action="ppaction://hlinkshowjump?jump=previousslide"/>
          </p:cNvPr>
          <p:cNvSpPr/>
          <p:nvPr/>
        </p:nvSpPr>
        <p:spPr>
          <a:xfrm>
            <a:off x="850104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1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alien-a"/>
          <p:cNvPicPr/>
          <p:nvPr/>
        </p:nvPicPr>
        <p:blipFill>
          <a:blip r:embed="rId2"/>
          <a:stretch/>
        </p:blipFill>
        <p:spPr>
          <a:xfrm>
            <a:off x="5429160" y="1954080"/>
            <a:ext cx="1857600" cy="2079720"/>
          </a:xfrm>
          <a:prstGeom prst="rect">
            <a:avLst/>
          </a:prstGeom>
          <a:ln w="0">
            <a:noFill/>
          </a:ln>
        </p:spPr>
      </p:pic>
      <p:sp>
        <p:nvSpPr>
          <p:cNvPr id="51" name="Freeform 4"/>
          <p:cNvSpPr/>
          <p:nvPr/>
        </p:nvSpPr>
        <p:spPr>
          <a:xfrm>
            <a:off x="-304920" y="4716360"/>
            <a:ext cx="9525240" cy="2224080"/>
          </a:xfrm>
          <a:custGeom>
            <a:avLst/>
            <a:gdLst>
              <a:gd name="textAreaLeft" fmla="*/ 0 w 9525240"/>
              <a:gd name="textAreaRight" fmla="*/ 9525600 w 952524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6000" h="1401">
                <a:moveTo>
                  <a:pt x="134" y="541"/>
                </a:moveTo>
                <a:cubicBezTo>
                  <a:pt x="272" y="406"/>
                  <a:pt x="622" y="290"/>
                  <a:pt x="960" y="205"/>
                </a:cubicBezTo>
                <a:cubicBezTo>
                  <a:pt x="1298" y="120"/>
                  <a:pt x="1741" y="58"/>
                  <a:pt x="2160" y="29"/>
                </a:cubicBezTo>
                <a:cubicBezTo>
                  <a:pt x="2579" y="0"/>
                  <a:pt x="3044" y="4"/>
                  <a:pt x="3472" y="29"/>
                </a:cubicBezTo>
                <a:cubicBezTo>
                  <a:pt x="3900" y="54"/>
                  <a:pt x="4359" y="123"/>
                  <a:pt x="4728" y="177"/>
                </a:cubicBezTo>
                <a:cubicBezTo>
                  <a:pt x="5097" y="231"/>
                  <a:pt x="5492" y="308"/>
                  <a:pt x="5688" y="353"/>
                </a:cubicBezTo>
                <a:cubicBezTo>
                  <a:pt x="5884" y="398"/>
                  <a:pt x="5858" y="414"/>
                  <a:pt x="5904" y="445"/>
                </a:cubicBezTo>
                <a:cubicBezTo>
                  <a:pt x="5950" y="476"/>
                  <a:pt x="5952" y="482"/>
                  <a:pt x="5961" y="541"/>
                </a:cubicBezTo>
                <a:cubicBezTo>
                  <a:pt x="5970" y="600"/>
                  <a:pt x="5961" y="706"/>
                  <a:pt x="5961" y="797"/>
                </a:cubicBezTo>
                <a:cubicBezTo>
                  <a:pt x="5961" y="889"/>
                  <a:pt x="5961" y="1011"/>
                  <a:pt x="5961" y="1090"/>
                </a:cubicBezTo>
                <a:cubicBezTo>
                  <a:pt x="5961" y="1169"/>
                  <a:pt x="5961" y="1224"/>
                  <a:pt x="5961" y="1273"/>
                </a:cubicBezTo>
                <a:cubicBezTo>
                  <a:pt x="5961" y="1322"/>
                  <a:pt x="6000" y="1364"/>
                  <a:pt x="5961" y="1383"/>
                </a:cubicBezTo>
                <a:cubicBezTo>
                  <a:pt x="5921" y="1401"/>
                  <a:pt x="5795" y="1383"/>
                  <a:pt x="5724" y="1383"/>
                </a:cubicBezTo>
                <a:cubicBezTo>
                  <a:pt x="5653" y="1383"/>
                  <a:pt x="5755" y="1383"/>
                  <a:pt x="5534" y="1383"/>
                </a:cubicBezTo>
                <a:cubicBezTo>
                  <a:pt x="5313" y="1383"/>
                  <a:pt x="4879" y="1383"/>
                  <a:pt x="4397" y="1383"/>
                </a:cubicBezTo>
                <a:cubicBezTo>
                  <a:pt x="3916" y="1383"/>
                  <a:pt x="3118" y="1383"/>
                  <a:pt x="2645" y="1383"/>
                </a:cubicBezTo>
                <a:cubicBezTo>
                  <a:pt x="2171" y="1383"/>
                  <a:pt x="1895" y="1383"/>
                  <a:pt x="1555" y="1383"/>
                </a:cubicBezTo>
                <a:cubicBezTo>
                  <a:pt x="1216" y="1383"/>
                  <a:pt x="821" y="1383"/>
                  <a:pt x="608" y="1383"/>
                </a:cubicBezTo>
                <a:cubicBezTo>
                  <a:pt x="395" y="1383"/>
                  <a:pt x="355" y="1389"/>
                  <a:pt x="276" y="1383"/>
                </a:cubicBezTo>
                <a:cubicBezTo>
                  <a:pt x="197" y="1377"/>
                  <a:pt x="158" y="1358"/>
                  <a:pt x="134" y="1346"/>
                </a:cubicBezTo>
                <a:cubicBezTo>
                  <a:pt x="111" y="1334"/>
                  <a:pt x="134" y="1364"/>
                  <a:pt x="134" y="1310"/>
                </a:cubicBezTo>
                <a:cubicBezTo>
                  <a:pt x="134" y="1255"/>
                  <a:pt x="134" y="1145"/>
                  <a:pt x="134" y="1017"/>
                </a:cubicBezTo>
                <a:cubicBezTo>
                  <a:pt x="134" y="889"/>
                  <a:pt x="0" y="675"/>
                  <a:pt x="134" y="5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ugship"/>
          <p:cNvPicPr/>
          <p:nvPr/>
        </p:nvPicPr>
        <p:blipFill>
          <a:blip r:embed="rId4"/>
          <a:stretch/>
        </p:blipFill>
        <p:spPr>
          <a:xfrm>
            <a:off x="1214280" y="2000160"/>
            <a:ext cx="1428840" cy="1706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6"/>
          <p:cNvGrpSpPr/>
          <p:nvPr/>
        </p:nvGrpSpPr>
        <p:grpSpPr>
          <a:xfrm>
            <a:off x="7215120" y="2928960"/>
            <a:ext cx="1190160" cy="3228480"/>
            <a:chOff x="7215120" y="2928960"/>
            <a:chExt cx="1190160" cy="3228480"/>
          </a:xfrm>
        </p:grpSpPr>
        <p:sp>
          <p:nvSpPr>
            <p:cNvPr id="54" name="Freeform 37"/>
            <p:cNvSpPr/>
            <p:nvPr/>
          </p:nvSpPr>
          <p:spPr>
            <a:xfrm>
              <a:off x="7215120" y="2928960"/>
              <a:ext cx="1190160" cy="3228480"/>
            </a:xfrm>
            <a:custGeom>
              <a:avLst/>
              <a:gdLst>
                <a:gd name="textAreaLeft" fmla="*/ 0 w 1190160"/>
                <a:gd name="textAreaRight" fmla="*/ 1190520 w 1190160"/>
                <a:gd name="textAreaTop" fmla="*/ 0 h 3228480"/>
                <a:gd name="textAreaBottom" fmla="*/ 3228840 h 3228480"/>
              </a:gdLst>
              <a:ahLst/>
              <a:rect l="textAreaLeft" t="textAreaTop" r="textAreaRight" b="textAreaBottom"/>
              <a:pathLst>
                <a:path w="606" h="1938">
                  <a:moveTo>
                    <a:pt x="474" y="1296"/>
                  </a:moveTo>
                  <a:lnTo>
                    <a:pt x="478" y="313"/>
                  </a:lnTo>
                  <a:lnTo>
                    <a:pt x="345" y="39"/>
                  </a:lnTo>
                  <a:lnTo>
                    <a:pt x="312" y="0"/>
                  </a:lnTo>
                  <a:lnTo>
                    <a:pt x="279" y="39"/>
                  </a:lnTo>
                  <a:lnTo>
                    <a:pt x="179" y="313"/>
                  </a:lnTo>
                  <a:lnTo>
                    <a:pt x="183" y="1296"/>
                  </a:lnTo>
                  <a:lnTo>
                    <a:pt x="66" y="1434"/>
                  </a:lnTo>
                  <a:lnTo>
                    <a:pt x="0" y="1902"/>
                  </a:lnTo>
                  <a:lnTo>
                    <a:pt x="54" y="1914"/>
                  </a:lnTo>
                  <a:lnTo>
                    <a:pt x="237" y="1530"/>
                  </a:lnTo>
                  <a:lnTo>
                    <a:pt x="291" y="1932"/>
                  </a:lnTo>
                  <a:lnTo>
                    <a:pt x="333" y="1926"/>
                  </a:lnTo>
                  <a:lnTo>
                    <a:pt x="381" y="1518"/>
                  </a:lnTo>
                  <a:lnTo>
                    <a:pt x="561" y="1938"/>
                  </a:lnTo>
                  <a:lnTo>
                    <a:pt x="606" y="1926"/>
                  </a:lnTo>
                  <a:lnTo>
                    <a:pt x="582" y="1446"/>
                  </a:lnTo>
                  <a:lnTo>
                    <a:pt x="474" y="129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38"/>
            <p:cNvGrpSpPr/>
            <p:nvPr/>
          </p:nvGrpSpPr>
          <p:grpSpPr>
            <a:xfrm>
              <a:off x="7639200" y="3648600"/>
              <a:ext cx="188280" cy="1359000"/>
              <a:chOff x="7639200" y="3648600"/>
              <a:chExt cx="188280" cy="1359000"/>
            </a:xfrm>
          </p:grpSpPr>
          <p:sp>
            <p:nvSpPr>
              <p:cNvPr id="56" name="Oval 39"/>
              <p:cNvSpPr/>
              <p:nvPr/>
            </p:nvSpPr>
            <p:spPr>
              <a:xfrm>
                <a:off x="7639200" y="364860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40"/>
              <p:cNvSpPr/>
              <p:nvPr/>
            </p:nvSpPr>
            <p:spPr>
              <a:xfrm>
                <a:off x="7639200" y="396828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1"/>
              <p:cNvSpPr/>
              <p:nvPr/>
            </p:nvSpPr>
            <p:spPr>
              <a:xfrm>
                <a:off x="7639200" y="420840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2"/>
              <p:cNvSpPr/>
              <p:nvPr/>
            </p:nvSpPr>
            <p:spPr>
              <a:xfrm>
                <a:off x="7639200" y="4528080"/>
                <a:ext cx="188280" cy="15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3"/>
              <p:cNvSpPr/>
              <p:nvPr/>
            </p:nvSpPr>
            <p:spPr>
              <a:xfrm>
                <a:off x="7639200" y="484812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44"/>
            <p:cNvSpPr/>
            <p:nvPr/>
          </p:nvSpPr>
          <p:spPr>
            <a:xfrm>
              <a:off x="7545240" y="3478680"/>
              <a:ext cx="595080" cy="91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03" h="55">
                  <a:moveTo>
                    <a:pt x="0" y="6"/>
                  </a:moveTo>
                  <a:cubicBezTo>
                    <a:pt x="48" y="30"/>
                    <a:pt x="94" y="55"/>
                    <a:pt x="144" y="54"/>
                  </a:cubicBezTo>
                  <a:cubicBezTo>
                    <a:pt x="194" y="53"/>
                    <a:pt x="270" y="11"/>
                    <a:pt x="30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5"/>
            <p:cNvSpPr/>
            <p:nvPr/>
          </p:nvSpPr>
          <p:spPr>
            <a:xfrm>
              <a:off x="7545240" y="5087880"/>
              <a:ext cx="595080" cy="91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03" h="55">
                  <a:moveTo>
                    <a:pt x="0" y="6"/>
                  </a:moveTo>
                  <a:cubicBezTo>
                    <a:pt x="48" y="30"/>
                    <a:pt x="94" y="55"/>
                    <a:pt x="144" y="54"/>
                  </a:cubicBezTo>
                  <a:cubicBezTo>
                    <a:pt x="194" y="53"/>
                    <a:pt x="270" y="11"/>
                    <a:pt x="30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61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«Послание из космо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61"/>
          <p:cNvGrpSpPr/>
          <p:nvPr/>
        </p:nvGrpSpPr>
        <p:grpSpPr>
          <a:xfrm>
            <a:off x="3000240" y="4000680"/>
            <a:ext cx="2143080" cy="2665440"/>
            <a:chOff x="3000240" y="4000680"/>
            <a:chExt cx="2143080" cy="2665440"/>
          </a:xfrm>
        </p:grpSpPr>
        <p:grpSp>
          <p:nvGrpSpPr>
            <p:cNvPr id="65" name="Group 29"/>
            <p:cNvGrpSpPr/>
            <p:nvPr/>
          </p:nvGrpSpPr>
          <p:grpSpPr>
            <a:xfrm>
              <a:off x="3000240" y="4000680"/>
              <a:ext cx="2143080" cy="2342160"/>
              <a:chOff x="3000240" y="4000680"/>
              <a:chExt cx="2143080" cy="2342160"/>
            </a:xfrm>
          </p:grpSpPr>
          <p:grpSp>
            <p:nvGrpSpPr>
              <p:cNvPr id="66" name="Group 30"/>
              <p:cNvGrpSpPr/>
              <p:nvPr/>
            </p:nvGrpSpPr>
            <p:grpSpPr>
              <a:xfrm>
                <a:off x="3267720" y="4000680"/>
                <a:ext cx="1527480" cy="1520640"/>
                <a:chOff x="3267720" y="4000680"/>
                <a:chExt cx="1527480" cy="1520640"/>
              </a:xfrm>
            </p:grpSpPr>
            <p:pic>
              <p:nvPicPr>
                <p:cNvPr id="67" name="Pictur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06680" y="4389480"/>
                  <a:ext cx="124920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Freeform 32"/>
                <p:cNvSpPr/>
                <p:nvPr/>
              </p:nvSpPr>
              <p:spPr>
                <a:xfrm>
                  <a:off x="3267720" y="4000680"/>
                  <a:ext cx="1527480" cy="1520640"/>
                </a:xfrm>
                <a:custGeom>
                  <a:avLst/>
                  <a:gdLst>
                    <a:gd name="textAreaLeft" fmla="*/ 0 w 1527480"/>
                    <a:gd name="textAreaRight" fmla="*/ 1527840 w 1527480"/>
                    <a:gd name="textAreaTop" fmla="*/ 0 h 1520640"/>
                    <a:gd name="textAreaBottom" fmla="*/ 1521000 h 1520640"/>
                  </a:gdLst>
                  <a:ahLst/>
                  <a:rect l="textAreaLeft" t="textAreaTop" r="textAreaRight" b="textAreaBottom"/>
                  <a:pathLst>
                    <a:path w="528" h="493">
                      <a:moveTo>
                        <a:pt x="194" y="483"/>
                      </a:moveTo>
                      <a:cubicBezTo>
                        <a:pt x="171" y="478"/>
                        <a:pt x="127" y="472"/>
                        <a:pt x="98" y="451"/>
                      </a:cubicBezTo>
                      <a:cubicBezTo>
                        <a:pt x="69" y="430"/>
                        <a:pt x="35" y="388"/>
                        <a:pt x="19" y="355"/>
                      </a:cubicBezTo>
                      <a:cubicBezTo>
                        <a:pt x="3" y="322"/>
                        <a:pt x="4" y="282"/>
                        <a:pt x="3" y="255"/>
                      </a:cubicBezTo>
                      <a:cubicBezTo>
                        <a:pt x="2" y="228"/>
                        <a:pt x="0" y="223"/>
                        <a:pt x="11" y="195"/>
                      </a:cubicBezTo>
                      <a:cubicBezTo>
                        <a:pt x="22" y="167"/>
                        <a:pt x="36" y="118"/>
                        <a:pt x="70" y="87"/>
                      </a:cubicBezTo>
                      <a:cubicBezTo>
                        <a:pt x="105" y="56"/>
                        <a:pt x="173" y="22"/>
                        <a:pt x="217" y="11"/>
                      </a:cubicBezTo>
                      <a:cubicBezTo>
                        <a:pt x="262" y="0"/>
                        <a:pt x="300" y="8"/>
                        <a:pt x="340" y="19"/>
                      </a:cubicBezTo>
                      <a:cubicBezTo>
                        <a:pt x="381" y="30"/>
                        <a:pt x="430" y="49"/>
                        <a:pt x="460" y="79"/>
                      </a:cubicBezTo>
                      <a:cubicBezTo>
                        <a:pt x="489" y="109"/>
                        <a:pt x="510" y="158"/>
                        <a:pt x="519" y="199"/>
                      </a:cubicBezTo>
                      <a:cubicBezTo>
                        <a:pt x="528" y="240"/>
                        <a:pt x="528" y="284"/>
                        <a:pt x="515" y="323"/>
                      </a:cubicBezTo>
                      <a:cubicBezTo>
                        <a:pt x="502" y="362"/>
                        <a:pt x="468" y="406"/>
                        <a:pt x="440" y="431"/>
                      </a:cubicBezTo>
                      <a:cubicBezTo>
                        <a:pt x="411" y="456"/>
                        <a:pt x="372" y="462"/>
                        <a:pt x="340" y="471"/>
                      </a:cubicBezTo>
                      <a:cubicBezTo>
                        <a:pt x="309" y="480"/>
                        <a:pt x="267" y="491"/>
                        <a:pt x="249" y="487"/>
                      </a:cubicBezTo>
                      <a:cubicBezTo>
                        <a:pt x="231" y="483"/>
                        <a:pt x="236" y="464"/>
                        <a:pt x="235" y="449"/>
                      </a:cubicBezTo>
                      <a:cubicBezTo>
                        <a:pt x="234" y="434"/>
                        <a:pt x="234" y="407"/>
                        <a:pt x="244" y="398"/>
                      </a:cubicBezTo>
                      <a:cubicBezTo>
                        <a:pt x="254" y="389"/>
                        <a:pt x="275" y="396"/>
                        <a:pt x="296" y="394"/>
                      </a:cubicBezTo>
                      <a:cubicBezTo>
                        <a:pt x="317" y="392"/>
                        <a:pt x="352" y="389"/>
                        <a:pt x="372" y="386"/>
                      </a:cubicBezTo>
                      <a:cubicBezTo>
                        <a:pt x="392" y="383"/>
                        <a:pt x="400" y="388"/>
                        <a:pt x="416" y="374"/>
                      </a:cubicBezTo>
                      <a:cubicBezTo>
                        <a:pt x="432" y="360"/>
                        <a:pt x="460" y="324"/>
                        <a:pt x="467" y="299"/>
                      </a:cubicBezTo>
                      <a:cubicBezTo>
                        <a:pt x="474" y="274"/>
                        <a:pt x="463" y="242"/>
                        <a:pt x="460" y="222"/>
                      </a:cubicBezTo>
                      <a:cubicBezTo>
                        <a:pt x="457" y="202"/>
                        <a:pt x="451" y="189"/>
                        <a:pt x="448" y="178"/>
                      </a:cubicBezTo>
                      <a:cubicBezTo>
                        <a:pt x="445" y="167"/>
                        <a:pt x="445" y="163"/>
                        <a:pt x="440" y="154"/>
                      </a:cubicBezTo>
                      <a:cubicBezTo>
                        <a:pt x="435" y="145"/>
                        <a:pt x="429" y="130"/>
                        <a:pt x="416" y="126"/>
                      </a:cubicBezTo>
                      <a:cubicBezTo>
                        <a:pt x="403" y="122"/>
                        <a:pt x="387" y="129"/>
                        <a:pt x="360" y="130"/>
                      </a:cubicBezTo>
                      <a:cubicBezTo>
                        <a:pt x="333" y="131"/>
                        <a:pt x="287" y="129"/>
                        <a:pt x="252" y="130"/>
                      </a:cubicBezTo>
                      <a:cubicBezTo>
                        <a:pt x="217" y="131"/>
                        <a:pt x="173" y="134"/>
                        <a:pt x="148" y="134"/>
                      </a:cubicBezTo>
                      <a:cubicBezTo>
                        <a:pt x="123" y="134"/>
                        <a:pt x="109" y="130"/>
                        <a:pt x="100" y="133"/>
                      </a:cubicBezTo>
                      <a:cubicBezTo>
                        <a:pt x="91" y="136"/>
                        <a:pt x="99" y="141"/>
                        <a:pt x="92" y="154"/>
                      </a:cubicBezTo>
                      <a:cubicBezTo>
                        <a:pt x="85" y="167"/>
                        <a:pt x="63" y="184"/>
                        <a:pt x="57" y="209"/>
                      </a:cubicBezTo>
                      <a:cubicBezTo>
                        <a:pt x="51" y="234"/>
                        <a:pt x="47" y="276"/>
                        <a:pt x="53" y="303"/>
                      </a:cubicBezTo>
                      <a:cubicBezTo>
                        <a:pt x="59" y="330"/>
                        <a:pt x="62" y="353"/>
                        <a:pt x="92" y="369"/>
                      </a:cubicBezTo>
                      <a:cubicBezTo>
                        <a:pt x="122" y="385"/>
                        <a:pt x="213" y="393"/>
                        <a:pt x="236" y="402"/>
                      </a:cubicBezTo>
                      <a:cubicBezTo>
                        <a:pt x="259" y="411"/>
                        <a:pt x="228" y="414"/>
                        <a:pt x="228" y="422"/>
                      </a:cubicBezTo>
                      <a:cubicBezTo>
                        <a:pt x="228" y="430"/>
                        <a:pt x="236" y="442"/>
                        <a:pt x="235" y="449"/>
                      </a:cubicBezTo>
                      <a:cubicBezTo>
                        <a:pt x="234" y="456"/>
                        <a:pt x="221" y="461"/>
                        <a:pt x="221" y="467"/>
                      </a:cubicBezTo>
                      <a:cubicBezTo>
                        <a:pt x="221" y="473"/>
                        <a:pt x="242" y="480"/>
                        <a:pt x="237" y="483"/>
                      </a:cubicBezTo>
                      <a:cubicBezTo>
                        <a:pt x="232" y="486"/>
                        <a:pt x="216" y="493"/>
                        <a:pt x="194" y="483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Freeform 33"/>
              <p:cNvSpPr/>
              <p:nvPr/>
            </p:nvSpPr>
            <p:spPr>
              <a:xfrm>
                <a:off x="3000240" y="5132880"/>
                <a:ext cx="2143080" cy="1209960"/>
              </a:xfrm>
              <a:custGeom>
                <a:avLst/>
                <a:gdLst>
                  <a:gd name="textAreaLeft" fmla="*/ 0 w 2143080"/>
                  <a:gd name="textAreaRight" fmla="*/ 2143440 w 2143080"/>
                  <a:gd name="textAreaTop" fmla="*/ 0 h 1209960"/>
                  <a:gd name="textAreaBottom" fmla="*/ 1210320 h 1209960"/>
                </a:gdLst>
                <a:ahLst/>
                <a:rect l="textAreaLeft" t="textAreaTop" r="textAreaRight" b="textAreaBottom"/>
                <a:pathLst>
                  <a:path w="808" h="420">
                    <a:moveTo>
                      <a:pt x="149" y="39"/>
                    </a:moveTo>
                    <a:cubicBezTo>
                      <a:pt x="165" y="51"/>
                      <a:pt x="205" y="98"/>
                      <a:pt x="245" y="114"/>
                    </a:cubicBezTo>
                    <a:cubicBezTo>
                      <a:pt x="285" y="130"/>
                      <a:pt x="342" y="136"/>
                      <a:pt x="389" y="135"/>
                    </a:cubicBezTo>
                    <a:cubicBezTo>
                      <a:pt x="436" y="134"/>
                      <a:pt x="490" y="122"/>
                      <a:pt x="527" y="108"/>
                    </a:cubicBezTo>
                    <a:cubicBezTo>
                      <a:pt x="564" y="94"/>
                      <a:pt x="592" y="66"/>
                      <a:pt x="609" y="51"/>
                    </a:cubicBezTo>
                    <a:cubicBezTo>
                      <a:pt x="626" y="36"/>
                      <a:pt x="618" y="21"/>
                      <a:pt x="629" y="19"/>
                    </a:cubicBezTo>
                    <a:cubicBezTo>
                      <a:pt x="640" y="17"/>
                      <a:pt x="650" y="0"/>
                      <a:pt x="677" y="39"/>
                    </a:cubicBezTo>
                    <a:cubicBezTo>
                      <a:pt x="704" y="78"/>
                      <a:pt x="778" y="199"/>
                      <a:pt x="793" y="255"/>
                    </a:cubicBezTo>
                    <a:cubicBezTo>
                      <a:pt x="808" y="311"/>
                      <a:pt x="775" y="356"/>
                      <a:pt x="765" y="375"/>
                    </a:cubicBezTo>
                    <a:cubicBezTo>
                      <a:pt x="755" y="394"/>
                      <a:pt x="740" y="378"/>
                      <a:pt x="733" y="371"/>
                    </a:cubicBezTo>
                    <a:cubicBezTo>
                      <a:pt x="726" y="364"/>
                      <a:pt x="732" y="348"/>
                      <a:pt x="725" y="335"/>
                    </a:cubicBezTo>
                    <a:cubicBezTo>
                      <a:pt x="718" y="322"/>
                      <a:pt x="704" y="304"/>
                      <a:pt x="693" y="295"/>
                    </a:cubicBezTo>
                    <a:cubicBezTo>
                      <a:pt x="682" y="286"/>
                      <a:pt x="671" y="280"/>
                      <a:pt x="657" y="279"/>
                    </a:cubicBezTo>
                    <a:cubicBezTo>
                      <a:pt x="643" y="278"/>
                      <a:pt x="622" y="287"/>
                      <a:pt x="609" y="291"/>
                    </a:cubicBezTo>
                    <a:cubicBezTo>
                      <a:pt x="596" y="295"/>
                      <a:pt x="590" y="298"/>
                      <a:pt x="581" y="303"/>
                    </a:cubicBezTo>
                    <a:cubicBezTo>
                      <a:pt x="572" y="308"/>
                      <a:pt x="565" y="309"/>
                      <a:pt x="557" y="319"/>
                    </a:cubicBezTo>
                    <a:cubicBezTo>
                      <a:pt x="549" y="329"/>
                      <a:pt x="537" y="348"/>
                      <a:pt x="533" y="363"/>
                    </a:cubicBezTo>
                    <a:cubicBezTo>
                      <a:pt x="529" y="378"/>
                      <a:pt x="537" y="403"/>
                      <a:pt x="533" y="411"/>
                    </a:cubicBezTo>
                    <a:cubicBezTo>
                      <a:pt x="529" y="419"/>
                      <a:pt x="517" y="410"/>
                      <a:pt x="509" y="411"/>
                    </a:cubicBezTo>
                    <a:cubicBezTo>
                      <a:pt x="501" y="412"/>
                      <a:pt x="490" y="420"/>
                      <a:pt x="485" y="415"/>
                    </a:cubicBezTo>
                    <a:cubicBezTo>
                      <a:pt x="480" y="410"/>
                      <a:pt x="481" y="394"/>
                      <a:pt x="477" y="383"/>
                    </a:cubicBezTo>
                    <a:cubicBezTo>
                      <a:pt x="473" y="372"/>
                      <a:pt x="468" y="359"/>
                      <a:pt x="461" y="351"/>
                    </a:cubicBezTo>
                    <a:cubicBezTo>
                      <a:pt x="454" y="343"/>
                      <a:pt x="440" y="338"/>
                      <a:pt x="433" y="335"/>
                    </a:cubicBezTo>
                    <a:cubicBezTo>
                      <a:pt x="426" y="332"/>
                      <a:pt x="423" y="333"/>
                      <a:pt x="417" y="331"/>
                    </a:cubicBezTo>
                    <a:cubicBezTo>
                      <a:pt x="411" y="329"/>
                      <a:pt x="406" y="323"/>
                      <a:pt x="397" y="323"/>
                    </a:cubicBezTo>
                    <a:cubicBezTo>
                      <a:pt x="388" y="323"/>
                      <a:pt x="377" y="326"/>
                      <a:pt x="365" y="331"/>
                    </a:cubicBezTo>
                    <a:cubicBezTo>
                      <a:pt x="353" y="336"/>
                      <a:pt x="335" y="344"/>
                      <a:pt x="325" y="351"/>
                    </a:cubicBezTo>
                    <a:cubicBezTo>
                      <a:pt x="315" y="358"/>
                      <a:pt x="310" y="364"/>
                      <a:pt x="305" y="375"/>
                    </a:cubicBezTo>
                    <a:cubicBezTo>
                      <a:pt x="300" y="386"/>
                      <a:pt x="300" y="410"/>
                      <a:pt x="293" y="415"/>
                    </a:cubicBezTo>
                    <a:cubicBezTo>
                      <a:pt x="286" y="420"/>
                      <a:pt x="272" y="408"/>
                      <a:pt x="261" y="407"/>
                    </a:cubicBezTo>
                    <a:cubicBezTo>
                      <a:pt x="250" y="406"/>
                      <a:pt x="234" y="416"/>
                      <a:pt x="229" y="411"/>
                    </a:cubicBezTo>
                    <a:cubicBezTo>
                      <a:pt x="224" y="406"/>
                      <a:pt x="236" y="391"/>
                      <a:pt x="233" y="375"/>
                    </a:cubicBezTo>
                    <a:cubicBezTo>
                      <a:pt x="230" y="359"/>
                      <a:pt x="218" y="327"/>
                      <a:pt x="209" y="315"/>
                    </a:cubicBezTo>
                    <a:cubicBezTo>
                      <a:pt x="200" y="303"/>
                      <a:pt x="188" y="306"/>
                      <a:pt x="177" y="303"/>
                    </a:cubicBezTo>
                    <a:cubicBezTo>
                      <a:pt x="166" y="300"/>
                      <a:pt x="152" y="298"/>
                      <a:pt x="145" y="299"/>
                    </a:cubicBezTo>
                    <a:cubicBezTo>
                      <a:pt x="138" y="300"/>
                      <a:pt x="141" y="308"/>
                      <a:pt x="137" y="311"/>
                    </a:cubicBezTo>
                    <a:cubicBezTo>
                      <a:pt x="133" y="314"/>
                      <a:pt x="133" y="309"/>
                      <a:pt x="121" y="319"/>
                    </a:cubicBezTo>
                    <a:cubicBezTo>
                      <a:pt x="109" y="329"/>
                      <a:pt x="82" y="376"/>
                      <a:pt x="65" y="372"/>
                    </a:cubicBezTo>
                    <a:cubicBezTo>
                      <a:pt x="48" y="368"/>
                      <a:pt x="23" y="309"/>
                      <a:pt x="17" y="294"/>
                    </a:cubicBezTo>
                    <a:cubicBezTo>
                      <a:pt x="11" y="279"/>
                      <a:pt x="32" y="280"/>
                      <a:pt x="29" y="279"/>
                    </a:cubicBezTo>
                    <a:cubicBezTo>
                      <a:pt x="26" y="278"/>
                      <a:pt x="0" y="282"/>
                      <a:pt x="1" y="287"/>
                    </a:cubicBezTo>
                    <a:cubicBezTo>
                      <a:pt x="2" y="292"/>
                      <a:pt x="28" y="299"/>
                      <a:pt x="33" y="307"/>
                    </a:cubicBezTo>
                    <a:cubicBezTo>
                      <a:pt x="38" y="315"/>
                      <a:pt x="33" y="343"/>
                      <a:pt x="33" y="335"/>
                    </a:cubicBezTo>
                    <a:cubicBezTo>
                      <a:pt x="33" y="327"/>
                      <a:pt x="33" y="277"/>
                      <a:pt x="33" y="259"/>
                    </a:cubicBezTo>
                    <a:cubicBezTo>
                      <a:pt x="33" y="241"/>
                      <a:pt x="31" y="248"/>
                      <a:pt x="33" y="227"/>
                    </a:cubicBezTo>
                    <a:cubicBezTo>
                      <a:pt x="35" y="206"/>
                      <a:pt x="28" y="163"/>
                      <a:pt x="47" y="132"/>
                    </a:cubicBezTo>
                    <a:cubicBezTo>
                      <a:pt x="66" y="101"/>
                      <a:pt x="128" y="61"/>
                      <a:pt x="149" y="42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4"/>
              <p:cNvSpPr/>
              <p:nvPr/>
            </p:nvSpPr>
            <p:spPr>
              <a:xfrm>
                <a:off x="4923000" y="5383080"/>
                <a:ext cx="126720" cy="41472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3229200" y="5947560"/>
              <a:ext cx="549720" cy="589320"/>
              <a:chOff x="3229200" y="5947560"/>
              <a:chExt cx="549720" cy="589320"/>
            </a:xfrm>
          </p:grpSpPr>
          <p:sp>
            <p:nvSpPr>
              <p:cNvPr id="72" name="AutoShape 24"/>
              <p:cNvSpPr/>
              <p:nvPr/>
            </p:nvSpPr>
            <p:spPr>
              <a:xfrm flipH="1" rot="325200">
                <a:off x="3252600" y="5978880"/>
                <a:ext cx="497880" cy="525960"/>
              </a:xfrm>
              <a:custGeom>
                <a:avLst/>
                <a:gdLst>
                  <a:gd name="textAreaLeft" fmla="*/ 228960 w 497880"/>
                  <a:gd name="textAreaRight" fmla="*/ 268920 w 497880"/>
                  <a:gd name="textAreaTop" fmla="*/ 241920 h 525960"/>
                  <a:gd name="textAreaBottom" fmla="*/ 284040 h 52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5"/>
              <p:cNvSpPr/>
              <p:nvPr/>
            </p:nvSpPr>
            <p:spPr>
              <a:xfrm flipH="1" rot="325200">
                <a:off x="3259800" y="5969520"/>
                <a:ext cx="494280" cy="54504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3"/>
            <p:cNvGrpSpPr/>
            <p:nvPr/>
          </p:nvGrpSpPr>
          <p:grpSpPr>
            <a:xfrm>
              <a:off x="3826440" y="6076800"/>
              <a:ext cx="549720" cy="589320"/>
              <a:chOff x="3826440" y="6076800"/>
              <a:chExt cx="549720" cy="589320"/>
            </a:xfrm>
          </p:grpSpPr>
          <p:sp>
            <p:nvSpPr>
              <p:cNvPr id="75" name="AutoShape 24"/>
              <p:cNvSpPr/>
              <p:nvPr/>
            </p:nvSpPr>
            <p:spPr>
              <a:xfrm flipH="1" rot="325200">
                <a:off x="3849480" y="6109920"/>
                <a:ext cx="500040" cy="525600"/>
              </a:xfrm>
              <a:custGeom>
                <a:avLst/>
                <a:gdLst>
                  <a:gd name="textAreaLeft" fmla="*/ 230040 w 500040"/>
                  <a:gd name="textAreaRight" fmla="*/ 270000 w 500040"/>
                  <a:gd name="textAreaTop" fmla="*/ 241920 h 525600"/>
                  <a:gd name="textAreaBottom" fmla="*/ 283680 h 5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5"/>
              <p:cNvSpPr/>
              <p:nvPr/>
            </p:nvSpPr>
            <p:spPr>
              <a:xfrm flipH="1" rot="325200">
                <a:off x="3851280" y="6099120"/>
                <a:ext cx="500040" cy="5446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3"/>
            <p:cNvGrpSpPr/>
            <p:nvPr/>
          </p:nvGrpSpPr>
          <p:grpSpPr>
            <a:xfrm>
              <a:off x="4423320" y="5947200"/>
              <a:ext cx="549720" cy="589680"/>
              <a:chOff x="4423320" y="5947200"/>
              <a:chExt cx="549720" cy="589680"/>
            </a:xfrm>
          </p:grpSpPr>
          <p:sp>
            <p:nvSpPr>
              <p:cNvPr id="78" name="AutoShape 24"/>
              <p:cNvSpPr/>
              <p:nvPr/>
            </p:nvSpPr>
            <p:spPr>
              <a:xfrm flipH="1" rot="325200">
                <a:off x="4446720" y="5977440"/>
                <a:ext cx="497880" cy="525960"/>
              </a:xfrm>
              <a:custGeom>
                <a:avLst/>
                <a:gdLst>
                  <a:gd name="textAreaLeft" fmla="*/ 228960 w 497880"/>
                  <a:gd name="textAreaRight" fmla="*/ 268920 w 497880"/>
                  <a:gd name="textAreaTop" fmla="*/ 241920 h 525960"/>
                  <a:gd name="textAreaBottom" fmla="*/ 284040 h 52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5"/>
              <p:cNvSpPr/>
              <p:nvPr/>
            </p:nvSpPr>
            <p:spPr>
              <a:xfrm flipH="1" rot="325200">
                <a:off x="4450320" y="5969520"/>
                <a:ext cx="497880" cy="54504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57168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лл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иг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сшифровать послание инопланет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каждом слайде найти слова с соответствующей безударной гласной в кор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слово найдено неверно, звезда улетает, а если верно, то на месте слова появляется бу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 всех появившихся букв составляется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гаданные слова появляются на игровом поле, каждое на своей планете – это и есть расшифрованное послание инопланет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Управляющая кнопка: далее 1"/>
          <p:cNvSpPr/>
          <p:nvPr/>
        </p:nvSpPr>
        <p:spPr>
          <a:xfrm>
            <a:off x="714240" y="164304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000160" y="17859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 на игров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справка 3"/>
          <p:cNvSpPr/>
          <p:nvPr/>
        </p:nvSpPr>
        <p:spPr>
          <a:xfrm>
            <a:off x="785880" y="450072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857240" y="457200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50012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е элементы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14240" y="300024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071800" y="31431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 на предыдущий слай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1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лобус"/>
          <p:cNvPicPr/>
          <p:nvPr/>
        </p:nvPicPr>
        <p:blipFill>
          <a:blip r:embed="rId2"/>
          <a:stretch/>
        </p:blipFill>
        <p:spPr>
          <a:xfrm>
            <a:off x="357120" y="1071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Zemla"/>
          <p:cNvPicPr/>
          <p:nvPr/>
        </p:nvPicPr>
        <p:blipFill>
          <a:blip r:embed="rId3"/>
          <a:stretch/>
        </p:blipFill>
        <p:spPr>
          <a:xfrm>
            <a:off x="3571920" y="214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земля"/>
          <p:cNvPicPr/>
          <p:nvPr/>
        </p:nvPicPr>
        <p:blipFill>
          <a:blip r:embed="rId4"/>
          <a:stretch/>
        </p:blipFill>
        <p:spPr>
          <a:xfrm>
            <a:off x="6357960" y="407196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0"/>
          <p:cNvSpPr/>
          <p:nvPr/>
        </p:nvSpPr>
        <p:spPr>
          <a:xfrm>
            <a:off x="857160" y="321480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5286240" y="42876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6858000" y="55720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Zemla"/>
          <p:cNvPicPr/>
          <p:nvPr/>
        </p:nvPicPr>
        <p:blipFill>
          <a:blip r:embed="rId8"/>
          <a:stretch/>
        </p:blipFill>
        <p:spPr>
          <a:xfrm>
            <a:off x="2357280" y="36432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4"/>
          <p:cNvSpPr/>
          <p:nvPr/>
        </p:nvSpPr>
        <p:spPr>
          <a:xfrm>
            <a:off x="2857680" y="51436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глобус"/>
          <p:cNvPicPr/>
          <p:nvPr/>
        </p:nvPicPr>
        <p:blipFill>
          <a:blip r:embed="rId10"/>
          <a:stretch/>
        </p:blipFill>
        <p:spPr>
          <a:xfrm>
            <a:off x="5857920" y="16430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4"/>
          <p:cNvSpPr/>
          <p:nvPr/>
        </p:nvSpPr>
        <p:spPr>
          <a:xfrm>
            <a:off x="7143840" y="164304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357120" y="1785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3"/>
          <p:cNvSpPr/>
          <p:nvPr/>
        </p:nvSpPr>
        <p:spPr>
          <a:xfrm>
            <a:off x="357192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5929200" y="19288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6215040" y="46432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2143080" y="41432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sp>
        <p:nvSpPr>
          <p:cNvPr id="105" name="Пятно 2 12"/>
          <p:cNvSpPr/>
          <p:nvPr/>
        </p:nvSpPr>
        <p:spPr>
          <a:xfrm rot="2066400">
            <a:off x="1928520" y="21420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266920" y="546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ятно 2 7"/>
          <p:cNvSpPr/>
          <p:nvPr/>
        </p:nvSpPr>
        <p:spPr>
          <a:xfrm rot="2066400">
            <a:off x="3376080" y="245376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3786120" y="29289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но 2 10"/>
          <p:cNvSpPr/>
          <p:nvPr/>
        </p:nvSpPr>
        <p:spPr>
          <a:xfrm rot="2066400">
            <a:off x="6571800" y="478260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7072200" y="514368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ятно 2 6"/>
          <p:cNvSpPr/>
          <p:nvPr/>
        </p:nvSpPr>
        <p:spPr>
          <a:xfrm rot="2066400">
            <a:off x="356760" y="257148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766800" y="2975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.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31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114" name="Пятно 2 9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8"/>
            <p:cNvSpPr/>
            <p:nvPr/>
          </p:nvSpPr>
          <p:spPr>
            <a:xfrm>
              <a:off x="999720" y="50007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.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32"/>
          <p:cNvGrpSpPr/>
          <p:nvPr/>
        </p:nvGrpSpPr>
        <p:grpSpPr>
          <a:xfrm>
            <a:off x="3071880" y="4071960"/>
            <a:ext cx="2804760" cy="2600280"/>
            <a:chOff x="3071880" y="4071960"/>
            <a:chExt cx="2804760" cy="2600280"/>
          </a:xfrm>
        </p:grpSpPr>
        <p:sp>
          <p:nvSpPr>
            <p:cNvPr id="117" name="Пятно 2 13"/>
            <p:cNvSpPr/>
            <p:nvPr/>
          </p:nvSpPr>
          <p:spPr>
            <a:xfrm rot="2066400">
              <a:off x="3304800" y="4597200"/>
              <a:ext cx="2338560" cy="154908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9"/>
            <p:cNvSpPr/>
            <p:nvPr/>
          </p:nvSpPr>
          <p:spPr>
            <a:xfrm>
              <a:off x="3786120" y="50007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.л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30"/>
          <p:cNvGrpSpPr/>
          <p:nvPr/>
        </p:nvGrpSpPr>
        <p:grpSpPr>
          <a:xfrm>
            <a:off x="6143760" y="2000520"/>
            <a:ext cx="2804760" cy="2600280"/>
            <a:chOff x="6143760" y="2000520"/>
            <a:chExt cx="2804760" cy="2600280"/>
          </a:xfrm>
        </p:grpSpPr>
        <p:sp>
          <p:nvSpPr>
            <p:cNvPr id="120" name="Пятно 2 8"/>
            <p:cNvSpPr/>
            <p:nvPr/>
          </p:nvSpPr>
          <p:spPr>
            <a:xfrm rot="2066400">
              <a:off x="6376680" y="252576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6786360" y="292896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29"/>
          <p:cNvGrpSpPr/>
          <p:nvPr/>
        </p:nvGrpSpPr>
        <p:grpSpPr>
          <a:xfrm>
            <a:off x="4481640" y="260640"/>
            <a:ext cx="2804760" cy="2600280"/>
            <a:chOff x="4481640" y="260640"/>
            <a:chExt cx="2804760" cy="2600280"/>
          </a:xfrm>
        </p:grpSpPr>
        <p:sp>
          <p:nvSpPr>
            <p:cNvPr id="123" name="Пятно 2 5"/>
            <p:cNvSpPr/>
            <p:nvPr/>
          </p:nvSpPr>
          <p:spPr>
            <a:xfrm rot="2066400">
              <a:off x="4714560" y="785880"/>
              <a:ext cx="233820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1"/>
            <p:cNvSpPr/>
            <p:nvPr/>
          </p:nvSpPr>
          <p:spPr>
            <a:xfrm>
              <a:off x="5072040" y="114300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л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ятно 2 11"/>
          <p:cNvSpPr/>
          <p:nvPr/>
        </p:nvSpPr>
        <p:spPr>
          <a:xfrm rot="2066400">
            <a:off x="6805080" y="356760"/>
            <a:ext cx="233856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7286760" y="714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bugship"/>
          <p:cNvPicPr/>
          <p:nvPr/>
        </p:nvPicPr>
        <p:blipFill>
          <a:blip r:embed="rId2"/>
          <a:stretch/>
        </p:blipFill>
        <p:spPr>
          <a:xfrm>
            <a:off x="0" y="0"/>
            <a:ext cx="1623960" cy="1940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0"/>
          <p:cNvSpPr/>
          <p:nvPr/>
        </p:nvSpPr>
        <p:spPr>
          <a:xfrm>
            <a:off x="2571840" y="428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1143000" y="29289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4071960" y="28576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3"/>
          <p:cNvSpPr/>
          <p:nvPr/>
        </p:nvSpPr>
        <p:spPr>
          <a:xfrm>
            <a:off x="7429680" y="642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4"/>
          <p:cNvSpPr/>
          <p:nvPr/>
        </p:nvSpPr>
        <p:spPr>
          <a:xfrm>
            <a:off x="7286760" y="50720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27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справка 31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765E-006 L -0.4092 0.33603 E">
                                      <p:cBhvr>
                                        <p:cTn id="3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-0.2342 0.11851 E">
                                      <p:cBhvr>
                                        <p:cTn id="4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-0.59062 0.36759 E">
                                      <p:cBhvr>
                                        <p:cTn id="4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2 0.04259 L 0.25643 0.2419 E">
                                      <p:cBhvr>
                                        <p:cTn id="5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0.04398 L 0.30469 0.15926 E">
                                      <p:cBhvr>
                                        <p:cTn id="6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7.03704E-006 L 0.4882 0.378 E">
                                      <p:cBhvr>
                                        <p:cTn id="7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46945E-018 L 0.34636 0.25208 E">
                                      <p:cBhvr>
                                        <p:cTn id="8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18519E-006 L -0.27552 0.147 E">
                                      <p:cBhvr>
                                        <p:cTn id="8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64566 -0.29398 E">
                                      <p:cBhvr>
                                        <p:cTn id="9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alien-a"/>
          <p:cNvPicPr/>
          <p:nvPr/>
        </p:nvPicPr>
        <p:blipFill>
          <a:blip r:embed="rId2"/>
          <a:stretch/>
        </p:blipFill>
        <p:spPr>
          <a:xfrm>
            <a:off x="3857760" y="2071800"/>
            <a:ext cx="14968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39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138" name="Пятно 2 6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928440" y="5000760"/>
              <a:ext cx="17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.лы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ятно 2 9"/>
          <p:cNvSpPr/>
          <p:nvPr/>
        </p:nvSpPr>
        <p:spPr>
          <a:xfrm rot="2066400">
            <a:off x="1142640" y="28548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1623960" y="689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.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42"/>
          <p:cNvGrpSpPr/>
          <p:nvPr/>
        </p:nvGrpSpPr>
        <p:grpSpPr>
          <a:xfrm>
            <a:off x="6410520" y="46440"/>
            <a:ext cx="2804760" cy="2599920"/>
            <a:chOff x="6410520" y="46440"/>
            <a:chExt cx="2804760" cy="2599920"/>
          </a:xfrm>
        </p:grpSpPr>
        <p:sp>
          <p:nvSpPr>
            <p:cNvPr id="143" name="Пятно 2 12"/>
            <p:cNvSpPr/>
            <p:nvPr/>
          </p:nvSpPr>
          <p:spPr>
            <a:xfrm rot="2066400">
              <a:off x="6643800" y="571680"/>
              <a:ext cx="233820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3"/>
            <p:cNvSpPr/>
            <p:nvPr/>
          </p:nvSpPr>
          <p:spPr>
            <a:xfrm>
              <a:off x="7124760" y="97488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.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Пятно 2 15"/>
          <p:cNvSpPr/>
          <p:nvPr/>
        </p:nvSpPr>
        <p:spPr>
          <a:xfrm rot="2066400">
            <a:off x="6500520" y="2428920"/>
            <a:ext cx="233820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6910560" y="2832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40"/>
          <p:cNvGrpSpPr/>
          <p:nvPr/>
        </p:nvGrpSpPr>
        <p:grpSpPr>
          <a:xfrm>
            <a:off x="3695760" y="4260600"/>
            <a:ext cx="2804760" cy="2600280"/>
            <a:chOff x="3695760" y="4260600"/>
            <a:chExt cx="2804760" cy="2600280"/>
          </a:xfrm>
        </p:grpSpPr>
        <p:sp>
          <p:nvSpPr>
            <p:cNvPr id="148" name="Пятно 2 18"/>
            <p:cNvSpPr/>
            <p:nvPr/>
          </p:nvSpPr>
          <p:spPr>
            <a:xfrm rot="2066400">
              <a:off x="3928680" y="478584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9"/>
            <p:cNvSpPr/>
            <p:nvPr/>
          </p:nvSpPr>
          <p:spPr>
            <a:xfrm>
              <a:off x="4338360" y="518940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.ж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31"/>
          <p:cNvGrpSpPr/>
          <p:nvPr/>
        </p:nvGrpSpPr>
        <p:grpSpPr>
          <a:xfrm>
            <a:off x="-19080" y="1189080"/>
            <a:ext cx="2804760" cy="2600280"/>
            <a:chOff x="-19080" y="1189080"/>
            <a:chExt cx="2804760" cy="2600280"/>
          </a:xfrm>
        </p:grpSpPr>
        <p:sp>
          <p:nvSpPr>
            <p:cNvPr id="151" name="Пятно 2 21"/>
            <p:cNvSpPr/>
            <p:nvPr/>
          </p:nvSpPr>
          <p:spPr>
            <a:xfrm rot="2066400">
              <a:off x="213840" y="1714320"/>
              <a:ext cx="233856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2"/>
            <p:cNvSpPr/>
            <p:nvPr/>
          </p:nvSpPr>
          <p:spPr>
            <a:xfrm>
              <a:off x="623520" y="211788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.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ятно 2 26"/>
          <p:cNvSpPr/>
          <p:nvPr/>
        </p:nvSpPr>
        <p:spPr>
          <a:xfrm rot="2066400">
            <a:off x="2071440" y="328608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>
            <a:off x="2552760" y="36892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но 2 29"/>
          <p:cNvSpPr/>
          <p:nvPr/>
        </p:nvSpPr>
        <p:spPr>
          <a:xfrm rot="2066400">
            <a:off x="6571800" y="4597200"/>
            <a:ext cx="2338560" cy="15490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7143840" y="5000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8"/>
          <p:cNvGrpSpPr/>
          <p:nvPr/>
        </p:nvGrpSpPr>
        <p:grpSpPr>
          <a:xfrm>
            <a:off x="3838680" y="-239400"/>
            <a:ext cx="2804760" cy="2600280"/>
            <a:chOff x="3838680" y="-239400"/>
            <a:chExt cx="2804760" cy="2600280"/>
          </a:xfrm>
        </p:grpSpPr>
        <p:sp>
          <p:nvSpPr>
            <p:cNvPr id="158" name="Пятно 2 32"/>
            <p:cNvSpPr/>
            <p:nvPr/>
          </p:nvSpPr>
          <p:spPr>
            <a:xfrm rot="2066400">
              <a:off x="4071600" y="28584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3"/>
            <p:cNvSpPr/>
            <p:nvPr/>
          </p:nvSpPr>
          <p:spPr>
            <a:xfrm>
              <a:off x="4429080" y="7142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л.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34"/>
          <p:cNvSpPr/>
          <p:nvPr/>
        </p:nvSpPr>
        <p:spPr>
          <a:xfrm>
            <a:off x="7215120" y="50007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"/>
          <p:cNvSpPr/>
          <p:nvPr/>
        </p:nvSpPr>
        <p:spPr>
          <a:xfrm>
            <a:off x="1785960" y="5716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2714760" y="35719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8"/>
          <p:cNvSpPr/>
          <p:nvPr/>
        </p:nvSpPr>
        <p:spPr>
          <a:xfrm>
            <a:off x="7215120" y="27147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далее 44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справка 31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04236 L -0.36598 0.01088 E">
                                      <p:cBhvr>
                                        <p:cTn id="9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0.04491 L 0.33715 0.05533 E">
                                      <p:cBhvr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57 0.04375 L 0.3059 -0.0507 E">
                                      <p:cBhvr>
                                        <p:cTn id="11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4584 L -0.46476 0.09838 E">
                                      <p:cBhvr>
                                        <p:cTn id="12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58282 -0.1051 E">
                                      <p:cBhvr>
                                        <p:cTn id="13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3.7037E-006 L -0.23629 -0.28357 E">
                                      <p:cBhvr>
                                        <p:cTn id="13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-0.33073 0.10509 E">
                                      <p:cBhvr>
                                        <p:cTn id="14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55903 0.05255 E">
                                      <p:cBhvr>
                                        <p:cTn id="14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55556E-006 L 0.3309 -0.01066 E">
                                      <p:cBhvr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bugship"/>
          <p:cNvPicPr/>
          <p:nvPr/>
        </p:nvPicPr>
        <p:blipFill>
          <a:blip r:embed="rId2"/>
          <a:stretch/>
        </p:blipFill>
        <p:spPr>
          <a:xfrm>
            <a:off x="428760" y="357120"/>
            <a:ext cx="1623960" cy="194004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24"/>
          <p:cNvGrpSpPr/>
          <p:nvPr/>
        </p:nvGrpSpPr>
        <p:grpSpPr>
          <a:xfrm>
            <a:off x="4910400" y="46440"/>
            <a:ext cx="2804760" cy="2599920"/>
            <a:chOff x="4910400" y="46440"/>
            <a:chExt cx="2804760" cy="2599920"/>
          </a:xfrm>
        </p:grpSpPr>
        <p:sp>
          <p:nvSpPr>
            <p:cNvPr id="169" name="Пятно 2 8"/>
            <p:cNvSpPr/>
            <p:nvPr/>
          </p:nvSpPr>
          <p:spPr>
            <a:xfrm rot="2066400">
              <a:off x="5143680" y="571680"/>
              <a:ext cx="233820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1"/>
            <p:cNvSpPr/>
            <p:nvPr/>
          </p:nvSpPr>
          <p:spPr>
            <a:xfrm>
              <a:off x="5553360" y="90360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Пятно 2 11"/>
          <p:cNvSpPr/>
          <p:nvPr/>
        </p:nvSpPr>
        <p:spPr>
          <a:xfrm rot="2066400">
            <a:off x="499680" y="249984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909720" y="2832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.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ятно 2 14"/>
          <p:cNvSpPr/>
          <p:nvPr/>
        </p:nvSpPr>
        <p:spPr>
          <a:xfrm rot="2066400">
            <a:off x="6071760" y="414288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6481800" y="4475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ятно 2 17"/>
          <p:cNvSpPr/>
          <p:nvPr/>
        </p:nvSpPr>
        <p:spPr>
          <a:xfrm rot="2066400">
            <a:off x="428400" y="492912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909720" y="53323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.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30"/>
          <p:cNvGrpSpPr/>
          <p:nvPr/>
        </p:nvGrpSpPr>
        <p:grpSpPr>
          <a:xfrm>
            <a:off x="4124520" y="1903680"/>
            <a:ext cx="2804760" cy="2600280"/>
            <a:chOff x="4124520" y="1903680"/>
            <a:chExt cx="2804760" cy="2600280"/>
          </a:xfrm>
        </p:grpSpPr>
        <p:sp>
          <p:nvSpPr>
            <p:cNvPr id="178" name="Пятно 2 20"/>
            <p:cNvSpPr/>
            <p:nvPr/>
          </p:nvSpPr>
          <p:spPr>
            <a:xfrm rot="2066400">
              <a:off x="4357440" y="242892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4643280" y="27860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ш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Пятно 2 23"/>
          <p:cNvSpPr/>
          <p:nvPr/>
        </p:nvSpPr>
        <p:spPr>
          <a:xfrm rot="2066400">
            <a:off x="2142720" y="571320"/>
            <a:ext cx="2338560" cy="15490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624040" y="9748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Группа 29"/>
          <p:cNvGrpSpPr/>
          <p:nvPr/>
        </p:nvGrpSpPr>
        <p:grpSpPr>
          <a:xfrm>
            <a:off x="3624480" y="4403880"/>
            <a:ext cx="2804760" cy="2600280"/>
            <a:chOff x="3624480" y="4403880"/>
            <a:chExt cx="2804760" cy="2600280"/>
          </a:xfrm>
        </p:grpSpPr>
        <p:sp>
          <p:nvSpPr>
            <p:cNvPr id="183" name="Пятно 2 26"/>
            <p:cNvSpPr/>
            <p:nvPr/>
          </p:nvSpPr>
          <p:spPr>
            <a:xfrm rot="2066400">
              <a:off x="3857400" y="492912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8"/>
            <p:cNvSpPr/>
            <p:nvPr/>
          </p:nvSpPr>
          <p:spPr>
            <a:xfrm>
              <a:off x="4339080" y="533232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ц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ятно 2 29"/>
          <p:cNvSpPr/>
          <p:nvPr/>
        </p:nvSpPr>
        <p:spPr>
          <a:xfrm rot="2066400">
            <a:off x="2714400" y="314316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3195720" y="35463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2 32"/>
          <p:cNvSpPr/>
          <p:nvPr/>
        </p:nvSpPr>
        <p:spPr>
          <a:xfrm rot="2066400">
            <a:off x="6500520" y="214308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6981840" y="2546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.з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2786040" y="8571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6715080" y="44290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1071720" y="528624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143000" y="278604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3286080" y="34290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7143840" y="242892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правляющая кнопка: далее 41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справка 42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69565E-007 L -0.44896 0.20976 E">
                                      <p:cBhvr>
                                        <p:cTn id="15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019E-007 L 0.42518 0.105 E">
                                      <p:cBhvr>
                                        <p:cTn id="16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5.3654E-007 L -0.29132 0.1575 E">
                                      <p:cBhvr>
                                        <p:cTn id="17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39408E-006 L -0.56702 0.19935 E">
                                      <p:cBhvr>
                                        <p:cTn id="18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2914E-006 L 0.53542 0.0733 E">
                                      <p:cBhvr>
                                        <p:cTn id="19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9.71323E-007 L 0.32292 0.02105 E">
                                      <p:cBhvr>
                                        <p:cTn id="1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014E-008 L -0.33854 0.09435 E">
                                      <p:cBhvr>
                                        <p:cTn id="20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008E-006 L 0.61423 0.02105 E">
                                      <p:cBhvr>
                                        <p:cTn id="21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05735E-006 L 0.37813 8.05735E-006 E">
                                      <p:cBhvr>
                                        <p:cTn id="219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alien-a"/>
          <p:cNvPicPr/>
          <p:nvPr/>
        </p:nvPicPr>
        <p:blipFill>
          <a:blip r:embed="rId2"/>
          <a:stretch/>
        </p:blipFill>
        <p:spPr>
          <a:xfrm>
            <a:off x="3857760" y="2071800"/>
            <a:ext cx="1496880" cy="1676160"/>
          </a:xfrm>
          <a:prstGeom prst="rect">
            <a:avLst/>
          </a:prstGeom>
          <a:ln w="0">
            <a:noFill/>
          </a:ln>
        </p:spPr>
      </p:pic>
      <p:sp>
        <p:nvSpPr>
          <p:cNvPr id="199" name="Пятно 2 8"/>
          <p:cNvSpPr/>
          <p:nvPr/>
        </p:nvSpPr>
        <p:spPr>
          <a:xfrm rot="2066400">
            <a:off x="642600" y="50004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1000080" y="857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30"/>
          <p:cNvGrpSpPr/>
          <p:nvPr/>
        </p:nvGrpSpPr>
        <p:grpSpPr>
          <a:xfrm>
            <a:off x="6053400" y="189000"/>
            <a:ext cx="2804760" cy="2600280"/>
            <a:chOff x="6053400" y="189000"/>
            <a:chExt cx="2804760" cy="2600280"/>
          </a:xfrm>
        </p:grpSpPr>
        <p:sp>
          <p:nvSpPr>
            <p:cNvPr id="202" name="Пятно 2 11"/>
            <p:cNvSpPr/>
            <p:nvPr/>
          </p:nvSpPr>
          <p:spPr>
            <a:xfrm rot="2066400">
              <a:off x="6286320" y="71424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9"/>
            <p:cNvSpPr/>
            <p:nvPr/>
          </p:nvSpPr>
          <p:spPr>
            <a:xfrm>
              <a:off x="6768000" y="11174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.с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ятно 2 14"/>
          <p:cNvSpPr/>
          <p:nvPr/>
        </p:nvSpPr>
        <p:spPr>
          <a:xfrm rot="2066400">
            <a:off x="6500520" y="507204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6910560" y="5475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.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ятно 2 17"/>
          <p:cNvSpPr/>
          <p:nvPr/>
        </p:nvSpPr>
        <p:spPr>
          <a:xfrm rot="2066400">
            <a:off x="285480" y="271476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95160" y="31179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28"/>
          <p:cNvGrpSpPr/>
          <p:nvPr/>
        </p:nvGrpSpPr>
        <p:grpSpPr>
          <a:xfrm>
            <a:off x="3338640" y="-168120"/>
            <a:ext cx="2804760" cy="2600280"/>
            <a:chOff x="3338640" y="-168120"/>
            <a:chExt cx="2804760" cy="2600280"/>
          </a:xfrm>
        </p:grpSpPr>
        <p:sp>
          <p:nvSpPr>
            <p:cNvPr id="209" name="Пятно 2 20"/>
            <p:cNvSpPr/>
            <p:nvPr/>
          </p:nvSpPr>
          <p:spPr>
            <a:xfrm rot="2066400">
              <a:off x="3571560" y="35712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20"/>
            <p:cNvSpPr/>
            <p:nvPr/>
          </p:nvSpPr>
          <p:spPr>
            <a:xfrm>
              <a:off x="3981600" y="7603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27"/>
          <p:cNvGrpSpPr/>
          <p:nvPr/>
        </p:nvGrpSpPr>
        <p:grpSpPr>
          <a:xfrm>
            <a:off x="4267440" y="3475440"/>
            <a:ext cx="2804760" cy="2599920"/>
            <a:chOff x="4267440" y="3475440"/>
            <a:chExt cx="2804760" cy="2599920"/>
          </a:xfrm>
        </p:grpSpPr>
        <p:sp>
          <p:nvSpPr>
            <p:cNvPr id="212" name="Пятно 2 23"/>
            <p:cNvSpPr/>
            <p:nvPr/>
          </p:nvSpPr>
          <p:spPr>
            <a:xfrm rot="2066400">
              <a:off x="4500720" y="4000680"/>
              <a:ext cx="233820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5"/>
            <p:cNvSpPr/>
            <p:nvPr/>
          </p:nvSpPr>
          <p:spPr>
            <a:xfrm>
              <a:off x="4910400" y="440388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в.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ятно 2 26"/>
          <p:cNvSpPr/>
          <p:nvPr/>
        </p:nvSpPr>
        <p:spPr>
          <a:xfrm rot="2066400">
            <a:off x="356760" y="492876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766800" y="53323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ятно 2 29"/>
          <p:cNvSpPr/>
          <p:nvPr/>
        </p:nvSpPr>
        <p:spPr>
          <a:xfrm rot="2066400">
            <a:off x="6214680" y="249984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6624720" y="2903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928800" y="30718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1000080" y="528624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072200" y="53578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786720" y="2857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1214280" y="7858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Группа 30"/>
          <p:cNvGrpSpPr/>
          <p:nvPr/>
        </p:nvGrpSpPr>
        <p:grpSpPr>
          <a:xfrm>
            <a:off x="2552760" y="4475160"/>
            <a:ext cx="2804760" cy="2600280"/>
            <a:chOff x="2552760" y="4475160"/>
            <a:chExt cx="2804760" cy="2600280"/>
          </a:xfrm>
        </p:grpSpPr>
        <p:sp>
          <p:nvSpPr>
            <p:cNvPr id="224" name="Пятно 2 38"/>
            <p:cNvSpPr/>
            <p:nvPr/>
          </p:nvSpPr>
          <p:spPr>
            <a:xfrm rot="2066400">
              <a:off x="2785680" y="5000400"/>
              <a:ext cx="233856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9"/>
            <p:cNvSpPr/>
            <p:nvPr/>
          </p:nvSpPr>
          <p:spPr>
            <a:xfrm>
              <a:off x="3000240" y="5357880"/>
              <a:ext cx="187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.рев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Управляющая кнопка: далее 41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правляющая кнопка: справка 43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88344E-006 L -0.29132 0.14685 E">
                                      <p:cBhvr>
                                        <p:cTn id="22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045E-006 L 0.60625 -0.13645 E">
                                      <p:cBhvr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7123E-006 L -0.27569 0.11541 E">
                                      <p:cBhvr>
                                        <p:cTn id="24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80389E-006 L 0.40156 0.03145 E">
                                      <p:cBhvr>
                                        <p:cTn id="25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5.22664E-006 L 0.59062 -0.0104 E">
                                      <p:cBhvr>
                                        <p:cTn id="26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01203E-006 L -0.29913 0.05249 E">
                                      <p:cBhvr>
                                        <p:cTn id="26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85014E-008 L 0.33074 -0.12581 E">
                                      <p:cBhvr>
                                        <p:cTn id="27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19796E-006 L 0.39375 0.10499 E">
                                      <p:cBhvr>
                                        <p:cTn id="28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956E-006 L 0.7401 0.03146 E">
                                      <p:cBhvr>
                                        <p:cTn id="28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58:39Z</dcterms:created>
  <dc:creator>User</dc:creator>
  <dc:description/>
  <dc:language>en-US</dc:language>
  <cp:lastModifiedBy>Елена Емелина</cp:lastModifiedBy>
  <dcterms:modified xsi:type="dcterms:W3CDTF">2023-02-05T05:58:05Z</dcterms:modified>
  <cp:revision>87</cp:revision>
  <dc:subject/>
  <dc:title>Слайд 1</dc:title>
</cp:coreProperties>
</file>