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0202-01D8-452B-823F-176762CD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75E9-9CE4-4127-B938-D6365C32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5F41-D34D-4C0E-A39C-4448D6FB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48C3-C3D7-4BE1-9969-88912DFA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0778-F13E-487A-BB20-75EB1B37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EC6C-3F20-49EA-8BC3-671861F5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94AB-92A7-41A5-9C31-51E9AAA3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0F1D-8FD9-47AD-844F-42989C85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441C-707C-4057-A0B2-CA5FB395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0642-F5D2-455A-A633-50BE5FE2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1218-9BB8-43A2-AB49-DF9BCCEA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D44E-197A-4AF8-BB63-56792915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AC5A-E9B0-438E-8148-556D6768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7504-2F00-4A97-BFFF-C8ABE581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1198-47CB-4746-83CD-BF681B51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3FC7-AAE3-4C02-A36E-F38C2935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B57E-F2FB-4F04-BFD4-90B725E4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7809-76AA-4FB4-A17A-4EB5B4CB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6E96-AB13-493E-ACF0-7E312ABB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B58C-CF34-496E-B4C2-9246AE86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AF74-DE28-48DA-B279-C198BDAA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893C-7653-4EFF-BF49-841FB76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E6F1-76BD-4D37-9C2C-6E1A0E7D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EAF9-7E8E-484A-B1F8-036D74E8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081F-82DC-477F-AF57-302342727B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7510-9152-4B5C-9734-BF9C0E5854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26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Использование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развивающих тренажеров в начальных классах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для детей с  ОВЗ</a:t>
            </a:r>
            <a:r>
              <a:rPr b="1" lang="ru-RU" sz="4800" spc="-1" strike="noStrike">
                <a:solidFill>
                  <a:srgbClr val="e5e5ff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3828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.Н.Ушакова, 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33520" y="15228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ГБОУ «Турунтаевская СКОШИ»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еликий русский педагог К.Д. Ушинский считал единство слова и наглядности основой обучения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рекционно-развивающей работе при подборе наглядных пособий, дидактических игр учитываем следующе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лядность должна опираться на программный материал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ой материал должен вовлекать в коррекционный процесс самые сохранные анализаторы (зрительный и тактильный) в первую очередь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начение предметов, картинок, пособий, смысл вопросов, условия работы с материалом должны быть ясны и понятны детя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мое пособие должно обеспечить вовлечение всех детей в коррекционный процесс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 пособия должны быть внешне привлекательны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Для развития мелкой моторики, запоминания цвета: различные шнуровки, нанизывание бусин, мягкие пазлы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5" descr="D:\вале фото\изображение_viber_2022-12-30_11-33-34-081.jpg"/>
          <p:cNvPicPr/>
          <p:nvPr/>
        </p:nvPicPr>
        <p:blipFill>
          <a:blip r:embed="rId1"/>
          <a:stretch/>
        </p:blipFill>
        <p:spPr>
          <a:xfrm>
            <a:off x="266760" y="1676520"/>
            <a:ext cx="3543120" cy="472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D:\вале фото\изображение_viber_2022-12-30_11-33-34-239.jpg"/>
          <p:cNvPicPr/>
          <p:nvPr/>
        </p:nvPicPr>
        <p:blipFill>
          <a:blip r:embed="rId2"/>
          <a:stretch/>
        </p:blipFill>
        <p:spPr>
          <a:xfrm>
            <a:off x="4476600" y="1670040"/>
            <a:ext cx="3543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Различные тренажеры с использованием пластиковых крышечек: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«бродилки», «математические ромашки», изучение и закрепление начертания и соответствия  печатных и прописных букв алфавита, закрепление тем «Гласные, согласные», «Буквы, не дающие звука»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2" descr="D:\вале фото\изображение_viber_2022-12-30_11-33-35-367.jpg"/>
          <p:cNvPicPr/>
          <p:nvPr/>
        </p:nvPicPr>
        <p:blipFill>
          <a:blip r:embed="rId1"/>
          <a:stretch/>
        </p:blipFill>
        <p:spPr>
          <a:xfrm>
            <a:off x="152280" y="144792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:\вале фото\изображение_viber_2022-12-30_11-50-09-063.jpg"/>
          <p:cNvPicPr/>
          <p:nvPr/>
        </p:nvPicPr>
        <p:blipFill>
          <a:blip r:embed="rId2"/>
          <a:stretch/>
        </p:blipFill>
        <p:spPr>
          <a:xfrm>
            <a:off x="2492280" y="2819520"/>
            <a:ext cx="2936880" cy="3794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D:\вале фото\изображение_viber_2022-12-30_11-33-35-277.jpg"/>
          <p:cNvPicPr/>
          <p:nvPr/>
        </p:nvPicPr>
        <p:blipFill>
          <a:blip r:embed="rId3"/>
          <a:stretch/>
        </p:blipFill>
        <p:spPr>
          <a:xfrm>
            <a:off x="4451400" y="1371600"/>
            <a:ext cx="46926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e5ff"/>
                </a:solidFill>
                <a:latin typeface="Garamond"/>
              </a:rPr>
              <a:t>Су-джок - не простой мячик, его иголочки стимулируют моторные центры речи, а также активизируют иммунную систему.</a:t>
            </a:r>
            <a:br>
              <a:rPr sz="2000"/>
            </a:br>
            <a:r>
              <a:rPr b="0" lang="ru-RU" sz="2000" spc="-1" strike="noStrike">
                <a:solidFill>
                  <a:srgbClr val="e5e5ff"/>
                </a:solidFill>
                <a:latin typeface="Garamond"/>
              </a:rPr>
              <a:t>Внутри мячика находятся пружинные колечки, массаж пальчиков и ногтей путем надавливания и прокатывания специальных точек активирует и гармонизирует работу внутренних органов и систем. 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2" descr="D:\вале фото\изображение_viber_2022-12-30_11-50-11-192.jpg"/>
          <p:cNvPicPr/>
          <p:nvPr/>
        </p:nvPicPr>
        <p:blipFill>
          <a:blip r:embed="rId1"/>
          <a:stretch/>
        </p:blipFill>
        <p:spPr>
          <a:xfrm>
            <a:off x="1143000" y="2057400"/>
            <a:ext cx="3165480" cy="4221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вале фото\изображение_viber_2022-12-30_11-50-12-230.jpg"/>
          <p:cNvPicPr/>
          <p:nvPr/>
        </p:nvPicPr>
        <p:blipFill>
          <a:blip r:embed="rId2"/>
          <a:stretch/>
        </p:blipFill>
        <p:spPr>
          <a:xfrm>
            <a:off x="5138640" y="2057400"/>
            <a:ext cx="27939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та с марблсами при изучении счета, запоминании цв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2" descr="D:\вале фото\изображение_viber_2022-12-30_11-31-35-039.jpg"/>
          <p:cNvPicPr/>
          <p:nvPr/>
        </p:nvPicPr>
        <p:blipFill>
          <a:blip r:embed="rId1"/>
          <a:stretch/>
        </p:blipFill>
        <p:spPr>
          <a:xfrm>
            <a:off x="1066680" y="210816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вале фото\изображение_viber_2022-12-30_11-31-38-437.jpg"/>
          <p:cNvPicPr/>
          <p:nvPr/>
        </p:nvPicPr>
        <p:blipFill>
          <a:blip r:embed="rId2"/>
          <a:stretch/>
        </p:blipFill>
        <p:spPr>
          <a:xfrm>
            <a:off x="5029200" y="2054160"/>
            <a:ext cx="32637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ри изучении и закреплении букв алфавита, запоминании начертания букв и цифр. Для развития внимания и самостоятельности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2" descr="D:\вале фото\изображение_viber_2022-12-30_11-31-31-746.jpg"/>
          <p:cNvPicPr/>
          <p:nvPr/>
        </p:nvPicPr>
        <p:blipFill>
          <a:blip r:embed="rId1"/>
          <a:stretch/>
        </p:blipFill>
        <p:spPr>
          <a:xfrm>
            <a:off x="380880" y="1600200"/>
            <a:ext cx="4205520" cy="3154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вале фото\изображение_viber_2022-12-30_11-31-31-974.jpg"/>
          <p:cNvPicPr/>
          <p:nvPr/>
        </p:nvPicPr>
        <p:blipFill>
          <a:blip r:embed="rId2"/>
          <a:stretch/>
        </p:blipFill>
        <p:spPr>
          <a:xfrm>
            <a:off x="4038480" y="28954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2" descr="D:\вале фото\изображение_viber_2022-12-30_11-31-32-396.jpg"/>
          <p:cNvPicPr/>
          <p:nvPr/>
        </p:nvPicPr>
        <p:blipFill>
          <a:blip r:embed="rId1"/>
          <a:stretch/>
        </p:blipFill>
        <p:spPr>
          <a:xfrm>
            <a:off x="152280" y="20574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D:\вале фото\изображение_viber_2022-12-30_11-33-44-716.jpg"/>
          <p:cNvPicPr/>
          <p:nvPr/>
        </p:nvPicPr>
        <p:blipFill>
          <a:blip r:embed="rId2"/>
          <a:stretch/>
        </p:blipFill>
        <p:spPr>
          <a:xfrm>
            <a:off x="2895480" y="533520"/>
            <a:ext cx="3400560" cy="3817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:\вале фото\изображение_viber_2022-12-30_11-33-45-378.jpg"/>
          <p:cNvPicPr/>
          <p:nvPr/>
        </p:nvPicPr>
        <p:blipFill>
          <a:blip r:embed="rId3"/>
          <a:stretch/>
        </p:blipFill>
        <p:spPr>
          <a:xfrm>
            <a:off x="6093000" y="2819520"/>
            <a:ext cx="26920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SzFDIqMCg2A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2971800" y="2971800"/>
            <a:ext cx="3900600" cy="31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 !!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23-02-05T09:58:3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