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F1F1-9D48-4F8D-A929-3A155FB0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C8B8-BF2E-4ECD-8A35-CE98AD2F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BE06-7490-45EC-8FCD-FCB69485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E6AC-A873-4679-9A7C-AE98C854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5891-7D7D-4AAA-927D-A1627237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CD34-1FE2-4E51-A3DE-D49595DF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9C46-30EC-4E01-90B1-C1C81FE4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29FC-8F37-4B8B-B7AC-09FD3013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718A-AC42-4BEF-9838-4E113E76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E8FB-E08F-4C87-9CE2-67A8C9E4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1DE4-E7E4-45CE-AEAA-89F7597F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8A1E-C101-4CC9-9D3D-35AEFBF5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61B2-0F92-4535-A9DB-D20CEE0B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70A9-6C0B-40A7-99F3-1A6DCCEC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8631-3024-44CB-BA20-F449D3AA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3DE8-1527-48DB-9824-6D0D2CA3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C0ED-5BFE-4BD4-AB5C-3AEE9306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3A6C-8075-4374-A13E-62A3232F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6993-FE4A-4F1B-BC22-EC713165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0EE4-0E5E-40E4-9257-4B6EDBCC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EC5B-8F19-4717-8299-A1040757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FEBA-E26B-405F-AEE3-3A7DDEBC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8CCC-A017-4B53-9370-77462688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50CF-0E39-4FF8-8DEB-607C5952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B2C9-C776-4FC2-9CC8-B8943C141F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3FF1-5B9C-4B5F-B04F-04F4CD9002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26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Использование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развивающих тренажеров в начальных классах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для детей с  ОВЗ</a:t>
            </a:r>
            <a:r>
              <a:rPr b="1" lang="ru-RU" sz="4800" spc="-1" strike="noStrike">
                <a:solidFill>
                  <a:srgbClr val="e5e5ff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3828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.Н.Ушакова, 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33520" y="15228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ГБОУ «Турунтаевская СКОШИ»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еликий русский педагог К.Д. Ушинский считал единство слова и наглядности основой обучения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рекционно-развивающей работе при подборе наглядных пособий, дидактических игр учитываем следующе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лядность должна опираться на программный материал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ой материал должен вовлекать в коррекционный процесс самые сохранные анализаторы (зрительный и тактильный) в первую очередь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начение предметов, картинок, пособий, смысл вопросов, условия работы с материалом должны быть ясны и понятны детя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мое пособие должно обеспечить вовлечение всех детей в коррекционный процесс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 пособия должны быть внешне привлекательны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Для развития мелкой моторики, запоминания цвета: различные шнуровки, нанизывание бусин, мягкие пазлы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5" descr="D:\вале фото\изображение_viber_2022-12-30_11-33-34-081.jpg"/>
          <p:cNvPicPr/>
          <p:nvPr/>
        </p:nvPicPr>
        <p:blipFill>
          <a:blip r:embed="rId1"/>
          <a:stretch/>
        </p:blipFill>
        <p:spPr>
          <a:xfrm>
            <a:off x="266760" y="1676520"/>
            <a:ext cx="3543120" cy="472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D:\вале фото\изображение_viber_2022-12-30_11-33-34-239.jpg"/>
          <p:cNvPicPr/>
          <p:nvPr/>
        </p:nvPicPr>
        <p:blipFill>
          <a:blip r:embed="rId2"/>
          <a:stretch/>
        </p:blipFill>
        <p:spPr>
          <a:xfrm>
            <a:off x="4476600" y="1670040"/>
            <a:ext cx="3543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Различные тренажеры с использованием пластиковых крышечек: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«бродилки», «математические ромашки», изучение и закрепление начертания и соответствия  печатных и прописных букв алфавита, закрепление тем «Гласные, согласные», «Буквы, не дающие звука»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2" descr="D:\вале фото\изображение_viber_2022-12-30_11-33-35-367.jpg"/>
          <p:cNvPicPr/>
          <p:nvPr/>
        </p:nvPicPr>
        <p:blipFill>
          <a:blip r:embed="rId1"/>
          <a:stretch/>
        </p:blipFill>
        <p:spPr>
          <a:xfrm>
            <a:off x="152280" y="144792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:\вале фото\изображение_viber_2022-12-30_11-50-09-063.jpg"/>
          <p:cNvPicPr/>
          <p:nvPr/>
        </p:nvPicPr>
        <p:blipFill>
          <a:blip r:embed="rId2"/>
          <a:stretch/>
        </p:blipFill>
        <p:spPr>
          <a:xfrm>
            <a:off x="2492280" y="2819520"/>
            <a:ext cx="2936880" cy="3794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D:\вале фото\изображение_viber_2022-12-30_11-33-35-277.jpg"/>
          <p:cNvPicPr/>
          <p:nvPr/>
        </p:nvPicPr>
        <p:blipFill>
          <a:blip r:embed="rId3"/>
          <a:stretch/>
        </p:blipFill>
        <p:spPr>
          <a:xfrm>
            <a:off x="4451400" y="1371600"/>
            <a:ext cx="46926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e5ff"/>
                </a:solidFill>
                <a:latin typeface="Garamond"/>
              </a:rPr>
              <a:t>Су-джок - не простой мячик, его иголочки стимулируют моторные центры речи, а также активизируют иммунную систему.</a:t>
            </a:r>
            <a:br>
              <a:rPr sz="2000"/>
            </a:br>
            <a:r>
              <a:rPr b="0" lang="ru-RU" sz="2000" spc="-1" strike="noStrike">
                <a:solidFill>
                  <a:srgbClr val="e5e5ff"/>
                </a:solidFill>
                <a:latin typeface="Garamond"/>
              </a:rPr>
              <a:t>Внутри мячика находятся пружинные колечки, массаж пальчиков и ногтей путем надавливания и прокатывания специальных точек активирует и гармонизирует работу внутренних органов и систем. 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2" descr="D:\вале фото\изображение_viber_2022-12-30_11-50-11-192.jpg"/>
          <p:cNvPicPr/>
          <p:nvPr/>
        </p:nvPicPr>
        <p:blipFill>
          <a:blip r:embed="rId1"/>
          <a:stretch/>
        </p:blipFill>
        <p:spPr>
          <a:xfrm>
            <a:off x="1143000" y="2057400"/>
            <a:ext cx="3165480" cy="4221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вале фото\изображение_viber_2022-12-30_11-50-12-230.jpg"/>
          <p:cNvPicPr/>
          <p:nvPr/>
        </p:nvPicPr>
        <p:blipFill>
          <a:blip r:embed="rId2"/>
          <a:stretch/>
        </p:blipFill>
        <p:spPr>
          <a:xfrm>
            <a:off x="5138640" y="2057400"/>
            <a:ext cx="27939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та с марблсами при изучении счета, запоминании цв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2" descr="D:\вале фото\изображение_viber_2022-12-30_11-31-35-039.jpg"/>
          <p:cNvPicPr/>
          <p:nvPr/>
        </p:nvPicPr>
        <p:blipFill>
          <a:blip r:embed="rId1"/>
          <a:stretch/>
        </p:blipFill>
        <p:spPr>
          <a:xfrm>
            <a:off x="1066680" y="210816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вале фото\изображение_viber_2022-12-30_11-31-38-437.jpg"/>
          <p:cNvPicPr/>
          <p:nvPr/>
        </p:nvPicPr>
        <p:blipFill>
          <a:blip r:embed="rId2"/>
          <a:stretch/>
        </p:blipFill>
        <p:spPr>
          <a:xfrm>
            <a:off x="5029200" y="2054160"/>
            <a:ext cx="32637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При изучении и закреплении букв алфавита, запоминании начертания букв и цифр. Для развития внимания и самостоятельности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2" descr="D:\вале фото\изображение_viber_2022-12-30_11-31-31-746.jpg"/>
          <p:cNvPicPr/>
          <p:nvPr/>
        </p:nvPicPr>
        <p:blipFill>
          <a:blip r:embed="rId1"/>
          <a:stretch/>
        </p:blipFill>
        <p:spPr>
          <a:xfrm>
            <a:off x="380880" y="1600200"/>
            <a:ext cx="4205520" cy="3154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вале фото\изображение_viber_2022-12-30_11-31-31-974.jpg"/>
          <p:cNvPicPr/>
          <p:nvPr/>
        </p:nvPicPr>
        <p:blipFill>
          <a:blip r:embed="rId2"/>
          <a:stretch/>
        </p:blipFill>
        <p:spPr>
          <a:xfrm>
            <a:off x="4038480" y="28954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2" descr="D:\вале фото\изображение_viber_2022-12-30_11-31-32-396.jpg"/>
          <p:cNvPicPr/>
          <p:nvPr/>
        </p:nvPicPr>
        <p:blipFill>
          <a:blip r:embed="rId1"/>
          <a:stretch/>
        </p:blipFill>
        <p:spPr>
          <a:xfrm>
            <a:off x="152280" y="20574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D:\вале фото\изображение_viber_2022-12-30_11-33-44-716.jpg"/>
          <p:cNvPicPr/>
          <p:nvPr/>
        </p:nvPicPr>
        <p:blipFill>
          <a:blip r:embed="rId2"/>
          <a:stretch/>
        </p:blipFill>
        <p:spPr>
          <a:xfrm>
            <a:off x="2895480" y="533520"/>
            <a:ext cx="3400560" cy="3817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:\вале фото\изображение_viber_2022-12-30_11-33-45-378.jpg"/>
          <p:cNvPicPr/>
          <p:nvPr/>
        </p:nvPicPr>
        <p:blipFill>
          <a:blip r:embed="rId3"/>
          <a:stretch/>
        </p:blipFill>
        <p:spPr>
          <a:xfrm>
            <a:off x="6093000" y="2819520"/>
            <a:ext cx="26920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SzFDIqMCg2A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2971800" y="2971800"/>
            <a:ext cx="3900600" cy="31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 !!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23-02-05T09:58:3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