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EF3C-D83E-4365-9342-1EFD39160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14C2-A481-4A20-8222-2C5D63A7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9B5C-C254-4337-9C25-223386A5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2FB8-105D-4F60-B8C5-D856950B5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5F59-C3DD-4539-8B41-2C672DE3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BE63-C65A-4A04-BB00-E300FE73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DB57-BFFF-4A20-8B9C-1107048C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3B99-7F78-4FF9-B921-84C721D8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6D74-1AFB-4577-B474-493FEAFE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4C8B-491E-4263-A12E-6B89AB59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A7FD-F032-4344-A07E-504FB9E0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932F-D479-4EA2-971A-5C3C23F2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6809-C203-4011-BFCD-B19A07814E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012/ana-smartzone.d/0_aede_8f718a96_L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g-fotki.yandex.ru/get/4609/lenivova-elena.1f6/0_77e1e_47dffecc_XL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g.ethnomuseum.ru/imgp/2928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kult-mus.narod.ru/image/north.jpg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www.ethnospb.ru/photo/poli/c4dbde1ed6f556a5e464.jpg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negufa.ru:16080/img/2006/december/30stol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aimak2school.ucoz.ru/_ph/5/862160664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fashiony.ru/pic/clothing/pic/28602/4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circassianworld.com/Photos/Cherkesska.jpg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takva.ru/pic/costum_m2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poyasok.ucoz.com/_ph/2/2/509946398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goldmoscow.com/pict/24032005220738_C1628.JPG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tihi.ru/pics/2012/01/12/6864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evkray.ru/file/s/600/4235/hlebushko-rzhanoj-da-maslice-lnyanoe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takva.ru/pic/costum_m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takva.ru/pic/costum9.jpg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npn54.ru/ImageHandler.ashx?src=NewsImages/2883-634506020165398638.jpg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&amp;w=385&amp;h=-1" TargetMode="Externa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aukaoren.narod.ru/photo11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boutkazan.com/images/kazan-tatars-national-costumes-views-1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429000" y="4723920"/>
            <a:ext cx="5410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2" name="Picture 5" descr="Картинка 77 из 1435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80880"/>
            <a:ext cx="1504800" cy="1128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Картинка 257 из 14358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4572000"/>
            <a:ext cx="2435400" cy="18223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762120" y="990720"/>
            <a:ext cx="784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«Национальные традици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гостеприимства у разных народов"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Какого народа костюм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Картинка 2 из 6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819520"/>
            <a:ext cx="19191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Картинка 6 из 66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2920" y="2743200"/>
            <a:ext cx="1776240" cy="3733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Картинка 70 из 66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981080" y="1371600"/>
            <a:ext cx="50770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Картинка 60 из 12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295280"/>
            <a:ext cx="4114800" cy="43592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685800" y="3049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Гостеприимство башк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267080" y="1066680"/>
            <a:ext cx="4648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Башкирский народ издавна видел в гостеприимстве надежное средство, позволяющее установить дружеские, теплые, чисто человеческие отношения с окружающими.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Традиционным элементом гостеприимства считается то, что хозяин встречает гостей перед входом  в дом. Проводы гостей также происходят за воротами дом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191120" y="304560"/>
            <a:ext cx="49528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  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Гостям говорят: «Пройдите на почетное место». При угощении гостей башкиры пользуются правилом: «Перед гостями поставь пищу, но не забудь, чтобы их рот и рука были свободны». Если кто-то пришел во время трапезы, его принято сажать за стол и угощать. Если пришедший отказывается, ему напоминают правила этикета: «Нельзя быть выше пищи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Картинка 4 из 13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295280"/>
            <a:ext cx="426744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Какого народа костюм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Картинка 46 из 20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00" y="1219320"/>
            <a:ext cx="2514600" cy="3352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Картинка 47 из 201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53080" y="1219320"/>
            <a:ext cx="2422800" cy="3657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Картинка 76 из 2144"/>
          <p:cNvPicPr/>
          <p:nvPr/>
        </p:nvPicPr>
        <p:blipFill>
          <a:blip r:embed="rId5"/>
          <a:stretch/>
        </p:blipFill>
        <p:spPr>
          <a:xfrm>
            <a:off x="3124080" y="2133720"/>
            <a:ext cx="3143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Гостеприимство народов Кавка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Древнему обычаю гостеприимства кавказцы следуют и сегодня. Старики на Кавказе любят говорить: «Куда не приходит гость, туда не приходит и благодат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Картинка 129 из 214"/>
          <p:cNvPicPr/>
          <p:nvPr/>
        </p:nvPicPr>
        <p:blipFill>
          <a:blip r:embed="rId1"/>
          <a:stretch/>
        </p:blipFill>
        <p:spPr>
          <a:xfrm>
            <a:off x="457200" y="1600200"/>
            <a:ext cx="3809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остеприимство особенно ярко проявляется в сельской местности. Когда кавказская семья садится за стол для приема пищи, всегда накрывают на 1 персону больше, чем людей в семье. Считается, что гость, который может прийти во время еды, сразу должен садиться за стол. Кроме того, в каждом доме имеется «комната гостя», которая всегда готова к при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Картинка 5 из 144986"/>
          <p:cNvPicPr/>
          <p:nvPr/>
        </p:nvPicPr>
        <p:blipFill>
          <a:blip r:embed="rId1"/>
          <a:stretch/>
        </p:blipFill>
        <p:spPr>
          <a:xfrm>
            <a:off x="3048120" y="609480"/>
            <a:ext cx="3200400" cy="2125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3047760"/>
            <a:ext cx="81532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Гостя не полагалось расспрашивать, откуда он и зачем приехал. В гостевом помещении с ним находился самый уважаемый мужчина семьи, при этом все присутствующие должны были стоять. Как бы хозяин ни был занят, он должен был находиться рядом с гост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Хозяин и его домочадцы старались удовлетворить любое желание гостя, что требовало от него ответной сдержанности. Гостю подавалась самая лучшая пища, и если он оставался на ночь, ему резали барана, даже несмотря на то, что в доме было свежее мясо. Перед отъездом гостя должны были накормить горячей пищей. От гостя ожидали умеренности в еде, умения поддержать бесед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6"/>
          <p:cNvSpPr txBox="1"/>
          <p:nvPr/>
        </p:nvSpPr>
        <p:spPr>
          <a:xfrm>
            <a:off x="0" y="533520"/>
            <a:ext cx="861048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остеприимств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 сказка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Лиса и журав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Картинка 6 из 994"/>
          <p:cNvPicPr/>
          <p:nvPr/>
        </p:nvPicPr>
        <p:blipFill>
          <a:blip r:embed="rId1"/>
          <a:stretch/>
        </p:blipFill>
        <p:spPr>
          <a:xfrm>
            <a:off x="762120" y="1066680"/>
            <a:ext cx="754380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Гостеприимств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333399"/>
                </a:solidFill>
                <a:latin typeface="Arial"/>
              </a:rPr>
              <a:t>Радушие по отношению к гостям, любезный прием гостей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61452956_cokotuha01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5715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"/>
          <p:cNvSpPr/>
          <p:nvPr/>
        </p:nvSpPr>
        <p:spPr>
          <a:xfrm>
            <a:off x="609480" y="22860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685800" y="2286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Муха Цокот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Винни-Пух в гостях у Крол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Картинка 2 из 243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Каша из топ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1197780"/>
          <p:cNvPicPr/>
          <p:nvPr/>
        </p:nvPicPr>
        <p:blipFill>
          <a:blip r:embed="rId1"/>
          <a:stretch/>
        </p:blipFill>
        <p:spPr>
          <a:xfrm>
            <a:off x="1143000" y="1295280"/>
            <a:ext cx="685800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Гостеприимств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ы любим дом,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де любят нас.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ускай он сыр, пускай он душен.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 лишь бы теплое радушье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Цвело в окне хозяйских глаз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по любой мудреной карте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ы этот странный дом найдем -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де длинный чай,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де робкий фартук,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де равно - в декабре и в марте -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стречают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лнечным лицом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осиф Уткин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Какого народа одежд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Картинка 28 из 1896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600200"/>
            <a:ext cx="2603520" cy="3886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Картинка 2 из 842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62720" y="1600200"/>
            <a:ext cx="2857320" cy="3809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Картинка 4 из 1220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57600" y="2057400"/>
            <a:ext cx="1698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Русское гостеприим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52388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Гостеприимство всегда было характерной чертой русского человека. Оценивалось оно, прежде всего, хлебосольством. Гостя в старину полагалось напоить и накормить досы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4495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48320" y="304560"/>
            <a:ext cx="44956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бычай диктовал, чуть ли не насильно кормить и поить гостя. Хозяева становились на колени и слезно молили съесть и выпить «еще хоть чуть-чуть». Объяснялось это тем, что селения и поместья располагались вдали друг от друга, и редкий гость, переступавший порог дома, был всегда в радость. С тех пор гостеприимство в России неизменно стоит на первом месте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686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066680"/>
            <a:ext cx="43912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Картинка 2 из 86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609480"/>
            <a:ext cx="4648320" cy="5715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47960" y="609120"/>
            <a:ext cx="43434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 Рус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дорогих гостей всегда встречали хлебом и солью, а приезжего человека было принято обогреть, накормить. Наши предки с радостью принимали гостя – не скупились, ставили на стол все, что имели. Потому и возникла поговорка: «Всё на стол мечи, что есть в печи». Хозяева даже обижались, когда гость мало ел и пил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Какого народа одежд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Картинка 63 из 12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1295280"/>
            <a:ext cx="2543040" cy="3810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Картинка 12 из 127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143000"/>
            <a:ext cx="2581200" cy="3809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Картинка 1 из 127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751120" y="2286000"/>
            <a:ext cx="3268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Гостеприимство тат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21896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 древнему татарскому обычаю в честь гостя расстилалась праздничная скатерть и на стол выставлялись лучшие угощения - сладкий чак- чак, щербет, липовый мед, и, конечно, душистый ча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Картинка 3 из 39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447920"/>
            <a:ext cx="45720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114800" y="762120"/>
            <a:ext cx="45720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«Негостеприимный человек – неполноценный» - считалось у мусульман. Гостей было принято не только угощать, но и одаривать подарками. По обычаю и гость отвечал тем ж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Картинка 2 из 1629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600200"/>
            <a:ext cx="3733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етский сад №5</cp:lastModifiedBy>
  <dcterms:modified xsi:type="dcterms:W3CDTF">2023-02-05T20:18:49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