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C0A-5052-46E9-97CE-EAD3D0FB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913-5BE2-46BF-8CF9-6B32F18F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740-7B58-43F3-8357-9A6BE6B6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530-3C26-46F3-9EE4-9A39EA8A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536-1577-4AB8-9BF2-FA31A965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639-1076-46C4-B2BB-2F68820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CB6-5CDB-4A61-B62B-83F78FD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69A-8DBD-480B-B430-7A309A6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333-2C3C-48DD-A44F-474D9D86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F42-4670-4A87-8046-EBD09CF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68B-9CE8-421E-B4A7-3B72954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8A0-F020-404A-99E2-699F212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D1D6-9E4D-48E2-8F69-56B845CEC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12/ana-smartzone.d/0_aede_8f718a96_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-fotki.yandex.ru/get/4609/lenivova-elena.1f6/0_77e1e_47dffecc_XL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g.ethnomuseum.ru/imgp/2928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ult-mus.narod.ru/image/north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ethnospb.ru/photo/poli/c4dbde1ed6f556a5e464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gufa.ru:16080/img/2006/december/30stol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mak2school.ucoz.ru/_ph/5/862160664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ashiony.ru/pic/clothing/pic/28602/4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circassianworld.com/Photos/Cherkesska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akva.ru/pic/costum_m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poyasok.ucoz.com/_ph/2/2/509946398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ldmoscow.com/pict/24032005220738_C1628.JP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hi.ru/pics/2012/01/12/686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evkray.ru/file/s/600/4235/hlebushko-rzhanoj-da-maslice-lnyano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akva.ru/pic/costum_m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takva.ru/pic/costum9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npn54.ru/ImageHandler.ashx?src=NewsImages/2883-634506020165398638.jpg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%20&amp;w=385&amp;h=-1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aukaoren.narod.ru/photo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boutkazan.com/images/kazan-tatars-national-costumes-views-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47239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Picture 5" descr="Картинка 77 из 1435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1504800" cy="1128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Картинка 257 из 1435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572000"/>
            <a:ext cx="2435400" cy="182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762120" y="9907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«Национальные тради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гостеприимства у разных народов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2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19520"/>
            <a:ext cx="19191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 из 6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743200"/>
            <a:ext cx="177624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Картинка 70 из 6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1371600"/>
            <a:ext cx="5077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Картинка 60 из 1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858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башк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267080" y="10666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шкирский народ издавна видел в гостеприимстве надежное средство, позволяющее установить дружеские, теплые, чисто человеческие отношения с окружающими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Традиционным элементом гостеприимства считается то, что хозяин встречает гостей перед входом  в дом. Проводы гостей также происходят за воротами до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91120" y="3045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стям говорят: «Пройдите на почетное место». При угощении гостей башкиры пользуются правилом: «Перед гостями поставь пищу, но не забудь, чтобы их рот и рука были свободны». Если кто-то пришел во время трапезы, его принято сажать за стол и угощать. Если пришедший отказывается, ему напоминают правила этикета: «Нельзя быть выше пищи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а 4 из 1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2674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костю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Картинка 46 из 20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00" y="12193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Картинка 47 из 20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1219320"/>
            <a:ext cx="242280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Картинка 76 из 2144"/>
          <p:cNvPicPr/>
          <p:nvPr/>
        </p:nvPicPr>
        <p:blipFill>
          <a:blip r:embed="rId5"/>
          <a:stretch/>
        </p:blipFill>
        <p:spPr>
          <a:xfrm>
            <a:off x="3124080" y="2133720"/>
            <a:ext cx="3143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народов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ревнему обычаю гостеприимства кавказцы следуют и сегодня. Старики на Кавказе любят говорить: «Куда не приходит гость, туда не приходит и благода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артинка 129 из 214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остеприимство особенно ярко проявляется в сельской местности. Когда кавказская семья садится за стол для приема пищи, всегда накрывают на 1 персону больше, чем людей в семье. Считается, что гость, который может прийти во время еды, сразу должен садиться за стол. Кроме того, в каждом доме имеется «комната гостя», которая всегда готова к при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Картинка 5 из 144986"/>
          <p:cNvPicPr/>
          <p:nvPr/>
        </p:nvPicPr>
        <p:blipFill>
          <a:blip r:embed="rId1"/>
          <a:stretch/>
        </p:blipFill>
        <p:spPr>
          <a:xfrm>
            <a:off x="3048120" y="60948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остя не полагалось расспрашивать, откуда он и зачем приехал. В гостевом помещении с ним находился самый уважаемый мужчина семьи, при этом все присутствующие должны были стоять. Как бы хозяин ни был занят, он должен был находиться рядом с гос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Хозяин и его домочадцы старались удовлетворить любое желание гостя, что требовало от него ответной сдержанности. Гостю подавалась самая лучшая пища, и если он оставался на ночь, ему резали барана, даже несмотря на то, что в доме было свежее мясо. Перед отъездом гостя должны были накормить горячей пищей. От гостя ожидали умеренности в еде, умения поддержать бес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0" y="533520"/>
            <a:ext cx="86104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степриим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сказк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са и 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артинка 6 из 994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Гостеприим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Радушие по отношению к гостям, любезный прием госте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61452956_cokotuha0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09480" y="2286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85800" y="228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уха Цоко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нни-Пух в гостях у Кро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Картинка 2 из 243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ша из то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197780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любим дом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любят нас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кай он сыр, пускай он душен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лишь бы теплое радушье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вело в окне хозяйских глаз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по любой мудреной карте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этот странный дом найдем -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длинный чай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робкий фартук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равно - в декабре и в марте -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речают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м лиц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осиф Утк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28 из 189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2603520" cy="388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Картинка 2 из 84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16002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Картинка 4 из 122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2057400"/>
            <a:ext cx="1698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усское гостеприим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остеприимство всегда было характерной чертой русского человека. Оценивалось оно, прежде всего, хлебосольством. Гостя в старину полагалось напоить и накормить дос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ычай диктовал, чуть ли не насильно кормить и поить гостя. Хозяева становились на колени и слезно молили съесть и выпить «еще хоть чуть-чуть». Объяснялось это тем, что селения и поместья располагались вдали друг от друга, и редкий гость, переступавший порог дома, был всегда в радость. С тех пор гостеприимство в России неизменно стоит на первом месте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8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066680"/>
            <a:ext cx="4391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2 из 8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6483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7960" y="6091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Рус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рогих гостей всегда встречали хлебом и солью, а приезжего человека было принято обогреть, накормить. Наши предки с радостью принимали гостя – не скупились, ставили на стол все, что имели. Потому и возникла поговорка: «Всё на стол мечи, что есть в печи». Хозяева даже обижались, когда гость мало ел и пи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народа одеж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Картинка 63 из 1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9528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Картинка 12 из 12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143000"/>
            <a:ext cx="25812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Картинка 1 из 12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51120" y="2286000"/>
            <a:ext cx="3268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остеприимство та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 древнему татарскому обычаю в честь гостя расстилалась праздничная скатерть и на стол выставлялись лучшие угощения - сладкий чак- чак, щербет, липовый мед, и, конечно, душистый ч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3 из 3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457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14800" y="762120"/>
            <a:ext cx="4572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«Негостеприимный человек – неполноценный» - считалось у мусульман. Гостей было принято не только угощать, но и одаривать подарками. По обычаю и гость отвечал тем 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2 из 1629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тский сад №5</cp:lastModifiedBy>
  <dcterms:modified xsi:type="dcterms:W3CDTF">2023-02-05T20:18:4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