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C4F-A6E0-42D1-9CF2-7E95637B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604-F174-41A6-BA63-7FD9E12E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09D-347E-41AD-804C-51CDEB9C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C39-6895-4310-A377-EB4B6E4A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3FAD-390A-4C33-93AF-BA3D246C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E774-88D3-4EE4-9DD6-C43984D6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B39F-A130-4B70-B622-19829E53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A9EA-F3AB-48F6-BE9C-678FED7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B266-CF20-4B4C-8B10-018E3E1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F3F-287C-41A2-957A-F65B947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9C2F-D426-4266-8AA5-CB8F7E0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690-EC0C-4EF7-ADF6-FD73AB2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AB2F-1F55-4587-A76E-255455B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CCA-CE4F-42D8-A3C8-1604CF9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455E-5C65-4D86-A87B-843011F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1CEB-9E34-487E-A29E-5AED00D3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C899-5F3D-4AD4-B701-CD699B82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791-FCA5-4971-8021-14014F0D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667-9AF0-40C0-A902-28EC076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FD1-F592-4D6E-AC4B-3CD764E8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36B-79B3-49B0-9477-CA00B0B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2D7-6100-4774-B6FF-26E3674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512-E981-4D5E-95EC-29C1B5B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B37-72B2-4CC9-9064-7AB8B40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B538-FC7E-4129-A5BE-6DB94845E3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2862-F1A5-48E0-BFE8-F28C18E0C2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books_writing"/>
          <p:cNvPicPr/>
          <p:nvPr/>
        </p:nvPicPr>
        <p:blipFill>
          <a:blip r:embed="rId1"/>
          <a:stretch/>
        </p:blipFill>
        <p:spPr>
          <a:xfrm>
            <a:off x="5791320" y="3124080"/>
            <a:ext cx="3352680" cy="2959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 rot="20978400">
            <a:off x="7375320" y="3952800"/>
            <a:ext cx="928440" cy="57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295280" y="304920"/>
            <a:ext cx="7391520" cy="3124080"/>
          </a:xfrm>
          <a:prstGeom prst="cloudCallout">
            <a:avLst>
              <a:gd name="adj1" fmla="val 21004"/>
              <a:gd name="adj2" fmla="val 70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! Готовы к уро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ас надеюсь я, друз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хороший дружный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получится у на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душевленные                Неодушев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то?                                         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Проверь  себя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3314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Одуше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воч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57800" y="1752120"/>
            <a:ext cx="3581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еодуше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ЧТ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ь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books_writing"/>
          <p:cNvPicPr/>
          <p:nvPr/>
        </p:nvPicPr>
        <p:blipFill>
          <a:blip r:embed="rId1"/>
          <a:stretch/>
        </p:blipFill>
        <p:spPr>
          <a:xfrm>
            <a:off x="6477120" y="3733920"/>
            <a:ext cx="2666880" cy="2354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 rot="20978400">
            <a:off x="7687800" y="4419720"/>
            <a:ext cx="762120" cy="3794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4613400"/>
          <a:ext cx="6933960" cy="1189080"/>
        </p:xfrm>
        <a:graphic>
          <a:graphicData uri="http://schemas.openxmlformats.org/drawingml/2006/table">
            <a:tbl>
              <a:tblPr/>
              <a:tblGrid>
                <a:gridCol w="1600200"/>
                <a:gridCol w="3022560"/>
                <a:gridCol w="2311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Дескрип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Определение одушевленных и неодушевленных имен существитель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0 ошибок-   3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1-2 ошибки-2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3 ошибки-   1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ИЗМИНУТ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635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я существительное. Очень удивительн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вопросы кто? И что? Отвечать оно должн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слово будет отвечать на вопрос кт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нимите руки ввер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а вопрос что? Руки вперё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встретятся другие слова - присе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Формативная работ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. Выберите верное утверждение и подчеркни его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Имя существительное – это часть речи, которая отвечает на вопрос какой? какая? како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б) Имя существительное – это часть речи, которая отвечает на вопрос кто?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Выберите верное утверждение и подчеркни его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Имя существительное – это часть речи, которая обозначает признак  предм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имя существительное – это часть речи, которая обозначает действие  предм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в) имя существительное – это часть речи, которая обозначает предм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. Выберите верное утверждение и подчеркни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душевлённые имена существительные отвечают на вопрос что?, а неодушевлённые – на вопрос к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б) одушевлённые имена существительные отвечают на вопрос кто?, а неодушевлённые – на вопрос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.Подчеркните в тексте имена существительные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близил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кабр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ришел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оз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белел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ревь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яц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дел белую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убк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бятиш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залил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то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На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ьках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кат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066680" y="533520"/>
          <a:ext cx="6222960" cy="5554440"/>
        </p:xfrm>
        <a:graphic>
          <a:graphicData uri="http://schemas.openxmlformats.org/drawingml/2006/table">
            <a:tbl>
              <a:tblPr/>
              <a:tblGrid>
                <a:gridCol w="2225880"/>
                <a:gridCol w="3100320"/>
                <a:gridCol w="896760"/>
              </a:tblGrid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скри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ирает верное утверждение об имени существительном(вопрос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ирает верное утверждение об имени существительном(что обознача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ирает верное утверждение об имени существительном(одушевленные и неодушевлен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ходит в тексте и выделяет существ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663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ловарная ра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брь ,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ей, де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тый, у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3429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2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брь, 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бей,д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тый, 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s_writing"/>
          <p:cNvPicPr/>
          <p:nvPr/>
        </p:nvPicPr>
        <p:blipFill>
          <a:blip r:embed="rId1"/>
          <a:stretch/>
        </p:blipFill>
        <p:spPr>
          <a:xfrm>
            <a:off x="6324480" y="3595680"/>
            <a:ext cx="2819520" cy="248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 rot="20978400">
            <a:off x="7620120" y="4343040"/>
            <a:ext cx="836640" cy="414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4108320"/>
          <a:ext cx="6095880" cy="146376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20968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крип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ьно вставить гласную непроверяемую ударением(которую надо запомн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 ошибок-    3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-2 ошибки- 2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ошибки-    1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брь,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ей,де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жёлт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Чтение шифрограммы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1752480"/>
          <a:ext cx="6486480" cy="1036800"/>
        </p:xfrm>
        <a:graphic>
          <a:graphicData uri="http://schemas.openxmlformats.org/drawingml/2006/table">
            <a:tbl>
              <a:tblPr/>
              <a:tblGrid>
                <a:gridCol w="484200"/>
                <a:gridCol w="482760"/>
                <a:gridCol w="483840"/>
                <a:gridCol w="505080"/>
                <a:gridCol w="482400"/>
                <a:gridCol w="484200"/>
                <a:gridCol w="484200"/>
                <a:gridCol w="482760"/>
                <a:gridCol w="484200"/>
                <a:gridCol w="536400"/>
                <a:gridCol w="525600"/>
                <a:gridCol w="525600"/>
                <a:gridCol w="525240"/>
              </a:tblGrid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7"/>
          <p:cNvSpPr/>
          <p:nvPr/>
        </p:nvSpPr>
        <p:spPr>
          <a:xfrm>
            <a:off x="1066680" y="3105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 4,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, 12, 10, 2, 5, 13, 6, 3, 13, 2, 7, 11, 8, 9,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 u="sng">
                <a:solidFill>
                  <a:srgbClr val="002060"/>
                </a:solidFill>
                <a:uFillTx/>
                <a:latin typeface="Arial"/>
              </a:rPr>
              <a:t>Имя Существительное </a:t>
            </a:r>
            <a:br>
              <a:rPr sz="40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420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Ты узнаешь, какая часть речи называется име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уществительным</a:t>
            </a: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ooks_writing"/>
          <p:cNvPicPr/>
          <p:nvPr/>
        </p:nvPicPr>
        <p:blipFill>
          <a:blip r:embed="rId1"/>
          <a:stretch/>
        </p:blipFill>
        <p:spPr>
          <a:xfrm>
            <a:off x="6858000" y="4065480"/>
            <a:ext cx="2286000" cy="2017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 rot="20978400">
            <a:off x="7848360" y="4648320"/>
            <a:ext cx="693720" cy="414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му название дано, - и зверю и предме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щей вокруг полным полно, а безымянных нет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сё, что может видеть глаз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нами и под н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сё, что в памяти у нас,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чено сло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33"/>
                </a:solidFill>
                <a:latin typeface="Garamond"/>
              </a:rPr>
              <a:t>Страна «Морфология »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брь, 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бей, д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books_writing"/>
          <p:cNvPicPr/>
          <p:nvPr/>
        </p:nvPicPr>
        <p:blipFill>
          <a:blip r:embed="rId1"/>
          <a:stretch/>
        </p:blipFill>
        <p:spPr>
          <a:xfrm>
            <a:off x="5791320" y="3124080"/>
            <a:ext cx="3352680" cy="2959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 rot="20978400">
            <a:off x="7375320" y="3952800"/>
            <a:ext cx="928440" cy="57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457200" y="3449520"/>
            <a:ext cx="6248520" cy="2133720"/>
          </a:xfrm>
          <a:prstGeom prst="cloudCallout">
            <a:avLst>
              <a:gd name="adj1" fmla="val 59703"/>
              <a:gd name="adj2" fmla="val -14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какие  группы  можно  разделить  эти  слова?  Почему?  Запишите  их  в  два 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Homebase</cp:lastModifiedBy>
  <dcterms:modified xsi:type="dcterms:W3CDTF">2023-01-18T15:23:30Z</dcterms:modified>
  <cp:revision>38</cp:revision>
  <dc:subject>имя  существительное</dc:subject>
  <dc:title>презентация  по  русскому 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