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283-B706-4122-9FB9-41297327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5DB-C752-422C-99F2-534D26A1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3CD-8A96-4A7C-ABC1-32213A41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870-C8CD-4757-AAD0-7F7BA6AA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B395-F376-4820-BAC8-5848B8CD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E3B6-F744-46B4-983D-F35526E8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25C-33B6-4194-B987-7ED0F5D9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ADD5-DF59-458B-881C-B313AFDA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0DCE-21A7-4F76-9D1F-2E711F4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6EA7-D3E6-4549-82C3-76D033E1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651D-EE17-4379-B7AF-9E4483D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639-1A66-4492-BA0E-9FDCC0D0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EAC2-6907-4C9B-BED5-ED9C30FE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DE30-4F79-4D88-AB48-0FA60A6B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F315-050A-4051-B28A-78E4FA96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C241-DAFE-44FB-B15A-877B764F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A187-0B3A-45AD-948F-73EDB3FB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603-86BA-4FF0-8C07-4176C010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BC3-3F16-4575-A1BB-5CBE5C36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0FC-DCD0-4941-92FB-BC87116E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1DE-90C5-4D19-8910-CBF3928B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CD2-D444-4838-9336-CFB038D9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406-0D16-4EC0-A489-7C93B79E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8A7-5395-491A-BBFC-A2CE7492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DE6B-33CE-41C2-8384-D715B1B04A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50DC-71F5-47E4-875E-70A516837E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books_writing"/>
          <p:cNvPicPr/>
          <p:nvPr/>
        </p:nvPicPr>
        <p:blipFill>
          <a:blip r:embed="rId1"/>
          <a:stretch/>
        </p:blipFill>
        <p:spPr>
          <a:xfrm>
            <a:off x="5791320" y="3124080"/>
            <a:ext cx="3352680" cy="2959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 rot="20978400">
            <a:off x="7375320" y="3952800"/>
            <a:ext cx="928440" cy="576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1295280" y="304920"/>
            <a:ext cx="7391520" cy="3124080"/>
          </a:xfrm>
          <a:prstGeom prst="cloudCallout">
            <a:avLst>
              <a:gd name="adj1" fmla="val 21004"/>
              <a:gd name="adj2" fmla="val 70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ята! Готовы к уро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ас надеюсь я, друз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хороший дружный 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получится у на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душевленные                Неодушевл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то?                                          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Проверь  себя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3314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Одуше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воч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57800" y="1752120"/>
            <a:ext cx="3581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Неодуше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ЧТО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кабр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ь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books_writing"/>
          <p:cNvPicPr/>
          <p:nvPr/>
        </p:nvPicPr>
        <p:blipFill>
          <a:blip r:embed="rId1"/>
          <a:stretch/>
        </p:blipFill>
        <p:spPr>
          <a:xfrm>
            <a:off x="6477120" y="3733920"/>
            <a:ext cx="2666880" cy="23540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 rot="20978400">
            <a:off x="7687800" y="4419720"/>
            <a:ext cx="762120" cy="3794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4613400"/>
          <a:ext cx="6933960" cy="1189080"/>
        </p:xfrm>
        <a:graphic>
          <a:graphicData uri="http://schemas.openxmlformats.org/drawingml/2006/table">
            <a:tbl>
              <a:tblPr/>
              <a:tblGrid>
                <a:gridCol w="1600200"/>
                <a:gridCol w="3022560"/>
                <a:gridCol w="2311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Дескрип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Определение одушевленных и неодушевленных имен существительны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0 ошибок-   3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1-2 ошибки-2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3 ошибки-   1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ИЗМИНУТ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635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я существительное. Очень удивительно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 вопросы кто? И что? Отвечать оно должно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слово будет отвечать на вопрос кт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нимите руки ввер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а вопрос что? Руки вперё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встретятся другие слова - присе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Garamond"/>
              </a:rPr>
              <a:t>Формативная работ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. Выберите верное утверждение и подчеркни его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Имя существительное – это часть речи, которая отвечает на вопрос какой? какая? како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б) Имя существительное – это часть речи, которая отвечает на вопрос кто? ч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.Выберите верное утверждение и подчеркни его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Имя существительное – это часть речи, которая обозначает признак  предм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имя существительное – это часть речи, которая обозначает действие  предм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в) имя существительное – это часть речи, которая обозначает предм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. Выберите верное утверждение и подчеркни 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душевлённые имена существительные отвечают на вопрос что?, а неодушевлённые – на вопрос к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б) одушевлённые имена существительные отвечают на вопрос кто?, а неодушевлённые – на вопрос ч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.Подчеркните в тексте имена существительные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близил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кабр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Пришел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оз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белел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ревь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яц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надел белую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шубку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бятишк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залил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то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На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ньках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катаю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066680" y="533520"/>
          <a:ext cx="6222960" cy="5554440"/>
        </p:xfrm>
        <a:graphic>
          <a:graphicData uri="http://schemas.openxmlformats.org/drawingml/2006/table">
            <a:tbl>
              <a:tblPr/>
              <a:tblGrid>
                <a:gridCol w="2225880"/>
                <a:gridCol w="3100320"/>
                <a:gridCol w="896760"/>
              </a:tblGrid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скрип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ыбирает верное утверждение об имени существительном(вопрос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3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ыбирает верное утверждение об имени существительном(что обознача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ыбирает верное утверждение об имени существительном(одушевленные и неодушевлен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ходит в тексте и выделяет существи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3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663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ловарная рабо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брь ,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ей, де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а, 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ь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тый, у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380880"/>
            <a:ext cx="3429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52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брь, 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бей,де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ка, 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ь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тый, уч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s_writing"/>
          <p:cNvPicPr/>
          <p:nvPr/>
        </p:nvPicPr>
        <p:blipFill>
          <a:blip r:embed="rId1"/>
          <a:stretch/>
        </p:blipFill>
        <p:spPr>
          <a:xfrm>
            <a:off x="6324480" y="3595680"/>
            <a:ext cx="2819520" cy="2487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 rot="20978400">
            <a:off x="7620120" y="4343040"/>
            <a:ext cx="836640" cy="414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4108320"/>
          <a:ext cx="6095880" cy="1463760"/>
        </p:xfrm>
        <a:graphic>
          <a:graphicData uri="http://schemas.openxmlformats.org/drawingml/2006/table">
            <a:tbl>
              <a:tblPr/>
              <a:tblGrid>
                <a:gridCol w="1523880"/>
                <a:gridCol w="2362320"/>
                <a:gridCol w="2209680"/>
              </a:tblGrid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скрип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ильно вставить гласную непроверяемую ударением(которую надо запомни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 ошибок-    3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-2 ошибки- 2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ошибки-    1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брь,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ей,де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а, 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ь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жёлт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Чтение шифрограммы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1752480"/>
          <a:ext cx="6486480" cy="1036800"/>
        </p:xfrm>
        <a:graphic>
          <a:graphicData uri="http://schemas.openxmlformats.org/drawingml/2006/table">
            <a:tbl>
              <a:tblPr/>
              <a:tblGrid>
                <a:gridCol w="484200"/>
                <a:gridCol w="482760"/>
                <a:gridCol w="483840"/>
                <a:gridCol w="505080"/>
                <a:gridCol w="482400"/>
                <a:gridCol w="484200"/>
                <a:gridCol w="484200"/>
                <a:gridCol w="482760"/>
                <a:gridCol w="484200"/>
                <a:gridCol w="536400"/>
                <a:gridCol w="525600"/>
                <a:gridCol w="525600"/>
                <a:gridCol w="525240"/>
              </a:tblGrid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17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00" name="Прямоугольник 7"/>
          <p:cNvSpPr/>
          <p:nvPr/>
        </p:nvSpPr>
        <p:spPr>
          <a:xfrm>
            <a:off x="1066680" y="3105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 4, 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, 12, 10, 2, 5, 13, 6, 3, 13, 2, 7, 11, 8, 9,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 u="sng">
                <a:solidFill>
                  <a:srgbClr val="002060"/>
                </a:solidFill>
                <a:uFillTx/>
                <a:latin typeface="Arial"/>
              </a:rPr>
              <a:t>Имя Существительное </a:t>
            </a:r>
            <a:br>
              <a:rPr sz="40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42004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Ты узнаешь, какая часть речи называется имен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уществительным</a:t>
            </a: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ooks_writing"/>
          <p:cNvPicPr/>
          <p:nvPr/>
        </p:nvPicPr>
        <p:blipFill>
          <a:blip r:embed="rId1"/>
          <a:stretch/>
        </p:blipFill>
        <p:spPr>
          <a:xfrm>
            <a:off x="6858000" y="4065480"/>
            <a:ext cx="2286000" cy="20178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 rot="20978400">
            <a:off x="7848360" y="4648320"/>
            <a:ext cx="693720" cy="414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му название дано, - и зверю и предме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щей вокруг полным полно, а безымянных нет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всё, что может видеть глаз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нами и под нам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всё, что в памяти у нас, 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значено слов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6633"/>
                </a:solidFill>
                <a:latin typeface="Garamond"/>
              </a:rPr>
              <a:t>Страна «Морфология »</a:t>
            </a:r>
            <a:endParaRPr b="0" lang="en-US" sz="9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брь, 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бей, де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ка, 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ь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books_writing"/>
          <p:cNvPicPr/>
          <p:nvPr/>
        </p:nvPicPr>
        <p:blipFill>
          <a:blip r:embed="rId1"/>
          <a:stretch/>
        </p:blipFill>
        <p:spPr>
          <a:xfrm>
            <a:off x="5791320" y="3124080"/>
            <a:ext cx="3352680" cy="2959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 rot="20978400">
            <a:off x="7375320" y="3952800"/>
            <a:ext cx="928440" cy="576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457200" y="3449520"/>
            <a:ext cx="6248520" cy="2133720"/>
          </a:xfrm>
          <a:prstGeom prst="cloudCallout">
            <a:avLst>
              <a:gd name="adj1" fmla="val 59703"/>
              <a:gd name="adj2" fmla="val -149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 какие  группы  можно  разделить  эти  слова?  Почему?  Запишите  их  в  два  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Homebase</cp:lastModifiedBy>
  <dcterms:modified xsi:type="dcterms:W3CDTF">2023-01-18T15:23:30Z</dcterms:modified>
  <cp:revision>38</cp:revision>
  <dc:subject>имя  существительное</dc:subject>
  <dc:title>презентация  по  русскому 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