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drumroll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A0B0-0500-419D-B4A1-1596FA73F2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AC09-F1F6-4E55-9994-1242F6D163C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F4BDB-2127-401A-AC16-3FEEE8EF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97A0-F229-44FE-B398-B69F8A83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3A8BE-067D-466E-AE0A-B842470F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0CCA-EE9F-4ED1-943D-C037D732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AEF5-343B-447A-A83E-3CDBAF48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3C49-5949-42EB-A3F6-126AB8F0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A51B-68C1-45A8-A354-15A82F26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657A-7D3D-43AD-AB95-0FA24608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687A-07D5-406B-9339-B49F5B6E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D9B1-26DC-49D2-A72F-31AE9D73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3669-C81B-4EA8-A28A-91F8B80A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F37B1-0B56-443B-8515-C5F74068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E0E6-9E06-4C59-8DEF-590FF620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DF64-EDD8-414F-8C6E-C0B54FF2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B57A-10F1-420D-9C0E-D8FB55CC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6BC4-1AC4-428C-9673-1EEF78D1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1BFA-F64B-44AE-B45D-EB366F65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AC60A-68A8-4D30-8E3B-3EC6AC6D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A44F-F187-4318-89AE-B26DDCBE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5833-8015-4FF9-A9AC-8CBF2268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AF3CE-3E1F-408C-9453-36FF5F38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DD26-FAB6-40F4-BD6E-CE44CC55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115BE-62F0-41AF-A59F-0482DCF7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BC1AC-7E1D-4780-9413-3042C7A2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B298-6D76-4F97-9B60-76C40D9E1E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C4CA-6CE6-4AE7-9AEB-40C5EA3DE3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" Target="slide11.xml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" Target="slide12.xml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" Target="slide13.xml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" Target="slide4.xml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3.pn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" Target="slide5.xml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" Target="slide6.xml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slide" Target="slide1.xml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" Target="slide7.xml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" Target="slide10.xml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12"/>
          <p:cNvSpPr/>
          <p:nvPr/>
        </p:nvSpPr>
        <p:spPr>
          <a:xfrm>
            <a:off x="4067280" y="189000"/>
            <a:ext cx="475272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>
                  <a:alpha val="68235"/>
                </a:srgbClr>
              </a:gs>
              <a:gs pos="100000">
                <a:srgbClr val="475e76">
                  <a:alpha val="6705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5" descr="C:\Documents and Settings\Елена\Рабочий стол\са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1"/>
          <p:cNvSpPr txBox="1"/>
          <p:nvPr/>
        </p:nvSpPr>
        <p:spPr>
          <a:xfrm>
            <a:off x="714240" y="3143160"/>
            <a:ext cx="7898040" cy="23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cfdfe"/>
                  </a:solidFill>
                  <a:miter/>
                </a:ln>
                <a:gradFill rotWithShape="0">
                  <a:gsLst>
                    <a:gs pos="0">
                      <a:srgbClr val="82ccff"/>
                    </a:gs>
                    <a:gs pos="100000">
                      <a:srgbClr val="006f95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Интерактивная  игра</a:t>
            </a:r>
            <a:endParaRPr b="1" lang="en-US" sz="1800" spc="1" strike="noStrike">
              <a:ln w="17640">
                <a:solidFill>
                  <a:srgbClr val="fcfdfe"/>
                </a:solidFill>
                <a:miter/>
              </a:ln>
              <a:gradFill rotWithShape="0">
                <a:gsLst>
                  <a:gs pos="0">
                    <a:srgbClr val="82ccff"/>
                  </a:gs>
                  <a:gs pos="100000">
                    <a:srgbClr val="006f95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cfdfe"/>
                  </a:solidFill>
                  <a:miter/>
                </a:ln>
                <a:gradFill rotWithShape="0">
                  <a:gsLst>
                    <a:gs pos="0">
                      <a:srgbClr val="82ccff"/>
                    </a:gs>
                    <a:gs pos="100000">
                      <a:srgbClr val="006f95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по   Безопасности  Жизнедеятельности</a:t>
            </a:r>
            <a:endParaRPr b="1" lang="en-US" sz="1800" spc="1" strike="noStrike">
              <a:ln w="17640">
                <a:solidFill>
                  <a:srgbClr val="fcfdfe"/>
                </a:solidFill>
                <a:miter/>
              </a:ln>
              <a:gradFill rotWithShape="0">
                <a:gsLst>
                  <a:gs pos="0">
                    <a:srgbClr val="82ccff"/>
                  </a:gs>
                  <a:gs pos="100000">
                    <a:srgbClr val="006f95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18"/>
          <p:cNvSpPr txBox="1"/>
          <p:nvPr/>
        </p:nvSpPr>
        <p:spPr>
          <a:xfrm>
            <a:off x="324000" y="333360"/>
            <a:ext cx="59626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7640">
                  <a:solidFill>
                    <a:srgbClr val="fcfdfe"/>
                  </a:solidFill>
                  <a:miter/>
                </a:ln>
                <a:gradFill rotWithShape="0">
                  <a:gsLst>
                    <a:gs pos="0">
                      <a:srgbClr val="82ccff"/>
                    </a:gs>
                    <a:gs pos="100000">
                      <a:srgbClr val="006f95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К Т О</a:t>
            </a:r>
            <a:endParaRPr b="1" lang="en-US" sz="2400" spc="1" strike="noStrike">
              <a:ln w="17640">
                <a:solidFill>
                  <a:srgbClr val="fcfdfe"/>
                </a:solidFill>
                <a:miter/>
              </a:ln>
              <a:gradFill rotWithShape="0">
                <a:gsLst>
                  <a:gs pos="0">
                    <a:srgbClr val="82ccff"/>
                  </a:gs>
                  <a:gs pos="100000">
                    <a:srgbClr val="006f95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7640">
                  <a:solidFill>
                    <a:srgbClr val="fcfdfe"/>
                  </a:solidFill>
                  <a:miter/>
                </a:ln>
                <a:gradFill rotWithShape="0">
                  <a:gsLst>
                    <a:gs pos="0">
                      <a:srgbClr val="82ccff"/>
                    </a:gs>
                    <a:gs pos="100000">
                      <a:srgbClr val="006f95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Х О Ч Е Т  С Т А Т Ь</a:t>
            </a:r>
            <a:endParaRPr b="1" lang="en-US" sz="2400" spc="1" strike="noStrike">
              <a:ln w="17640">
                <a:solidFill>
                  <a:srgbClr val="fcfdfe"/>
                </a:solidFill>
                <a:miter/>
              </a:ln>
              <a:gradFill rotWithShape="0">
                <a:gsLst>
                  <a:gs pos="0">
                    <a:srgbClr val="82ccff"/>
                  </a:gs>
                  <a:gs pos="100000">
                    <a:srgbClr val="006f95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7640">
                  <a:solidFill>
                    <a:srgbClr val="fcfdfe"/>
                  </a:solidFill>
                  <a:miter/>
                </a:ln>
                <a:gradFill rotWithShape="0">
                  <a:gsLst>
                    <a:gs pos="0">
                      <a:srgbClr val="82ccff"/>
                    </a:gs>
                    <a:gs pos="100000">
                      <a:srgbClr val="006f95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О Т Л И Ч Н И К О М</a:t>
            </a:r>
            <a:endParaRPr b="1" lang="en-US" sz="2400" spc="1" strike="noStrike">
              <a:ln w="17640">
                <a:solidFill>
                  <a:srgbClr val="fcfdfe"/>
                </a:solidFill>
                <a:miter/>
              </a:ln>
              <a:gradFill rotWithShape="0">
                <a:gsLst>
                  <a:gs pos="0">
                    <a:srgbClr val="82ccff"/>
                  </a:gs>
                  <a:gs pos="100000">
                    <a:srgbClr val="006f95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Прямоугольник 9">
            <a:hlinkClick r:id="rId2" action="ppaction://hlinksldjump"/>
          </p:cNvPr>
          <p:cNvSpPr/>
          <p:nvPr/>
        </p:nvSpPr>
        <p:spPr>
          <a:xfrm>
            <a:off x="4357800" y="5786280"/>
            <a:ext cx="1785960" cy="714600"/>
          </a:xfrm>
          <a:prstGeom prst="rect">
            <a:avLst/>
          </a:prstGeom>
          <a:solidFill>
            <a:srgbClr val="ffcccc">
              <a:alpha val="57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48f"/>
                </a:solidFill>
                <a:latin typeface="Garamond"/>
              </a:rPr>
              <a:t>правил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48f"/>
                </a:solidFill>
                <a:latin typeface="Garamond"/>
              </a:rPr>
              <a:t>игр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Прямоугольник 10">
            <a:hlinkClick r:id="rId3" action="ppaction://hlinksldjump"/>
          </p:cNvPr>
          <p:cNvSpPr/>
          <p:nvPr/>
        </p:nvSpPr>
        <p:spPr>
          <a:xfrm>
            <a:off x="6643800" y="5786280"/>
            <a:ext cx="1785960" cy="714600"/>
          </a:xfrm>
          <a:prstGeom prst="rect">
            <a:avLst/>
          </a:prstGeom>
          <a:solidFill>
            <a:srgbClr val="ffcccc">
              <a:alpha val="57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48f"/>
                </a:solidFill>
                <a:latin typeface="Garamond"/>
              </a:rPr>
              <a:t>начать игр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ELPH7.wav" descr=""/>
          <p:cNvPicPr/>
          <p:nvPr/>
        </p:nvPicPr>
        <p:blipFill>
          <a:blip r:embed="rId1"/>
          <a:stretch/>
        </p:blipFill>
        <p:spPr>
          <a:xfrm>
            <a:off x="2786040" y="714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1" name="j02123.wav" descr=""/>
          <p:cNvPicPr/>
          <p:nvPr/>
        </p:nvPicPr>
        <p:blipFill>
          <a:blip r:embed="rId2"/>
          <a:stretch/>
        </p:blipFill>
        <p:spPr>
          <a:xfrm>
            <a:off x="3500280" y="59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8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Шестиугольник 40"/>
          <p:cNvSpPr/>
          <p:nvPr/>
        </p:nvSpPr>
        <p:spPr>
          <a:xfrm>
            <a:off x="6858000" y="1714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         16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Шестиугольник 39"/>
          <p:cNvSpPr/>
          <p:nvPr/>
        </p:nvSpPr>
        <p:spPr>
          <a:xfrm>
            <a:off x="6858000" y="2000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8            8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AutoShape 17"/>
          <p:cNvSpPr/>
          <p:nvPr/>
        </p:nvSpPr>
        <p:spPr>
          <a:xfrm>
            <a:off x="0" y="3645000"/>
            <a:ext cx="4356000" cy="1584360"/>
          </a:xfrm>
          <a:prstGeom prst="hexagon">
            <a:avLst>
              <a:gd name="adj" fmla="val 6873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ВОЗДУШ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ТРЕВОГ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Rectangle 18"/>
          <p:cNvSpPr/>
          <p:nvPr/>
        </p:nvSpPr>
        <p:spPr>
          <a:xfrm>
            <a:off x="179280" y="1413000"/>
            <a:ext cx="6624720" cy="2087280"/>
          </a:xfrm>
          <a:prstGeom prst="rect">
            <a:avLst/>
          </a:prstGeom>
          <a:solidFill>
            <a:srgbClr val="00b0f0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Какой сигнал ГО означает завыва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сирены, прерывистые гудк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предприятий и транспортны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 Antiqua"/>
              </a:rPr>
              <a:t>средств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AutoShape 20"/>
          <p:cNvSpPr/>
          <p:nvPr/>
        </p:nvSpPr>
        <p:spPr>
          <a:xfrm>
            <a:off x="4427640" y="3645000"/>
            <a:ext cx="4716360" cy="158436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радиационна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опас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AutoShape 21"/>
          <p:cNvSpPr/>
          <p:nvPr/>
        </p:nvSpPr>
        <p:spPr>
          <a:xfrm>
            <a:off x="0" y="5373720"/>
            <a:ext cx="4427640" cy="1295280"/>
          </a:xfrm>
          <a:prstGeom prst="hexagon">
            <a:avLst>
              <a:gd name="adj" fmla="val 85457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нимание вс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AutoShape 22"/>
          <p:cNvSpPr/>
          <p:nvPr/>
        </p:nvSpPr>
        <p:spPr>
          <a:xfrm>
            <a:off x="4643280" y="5373720"/>
            <a:ext cx="4500720" cy="1295280"/>
          </a:xfrm>
          <a:prstGeom prst="hexagon">
            <a:avLst>
              <a:gd name="adj" fmla="val 8686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хим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опас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29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430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1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2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3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34" name="AutoShape 30"/>
          <p:cNvSpPr/>
          <p:nvPr/>
        </p:nvSpPr>
        <p:spPr>
          <a:xfrm>
            <a:off x="0" y="1143000"/>
            <a:ext cx="6858000" cy="285768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5" name="AutoShape 31">
            <a:hlinkClick r:id="rId4" action="ppaction://hlinksldjump"/>
          </p:cNvPr>
          <p:cNvSpPr/>
          <p:nvPr/>
        </p:nvSpPr>
        <p:spPr>
          <a:xfrm>
            <a:off x="0" y="1000080"/>
            <a:ext cx="6858000" cy="30006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8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</a:t>
            </a:r>
            <a:r>
              <a:rPr b="0" lang="ru-RU" sz="3600" spc="-1" strike="noStrike">
                <a:solidFill>
                  <a:srgbClr val="003399"/>
                </a:solidFill>
                <a:latin typeface="Garamond"/>
              </a:rPr>
              <a:t>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AutoShape 32"/>
          <p:cNvSpPr/>
          <p:nvPr/>
        </p:nvSpPr>
        <p:spPr>
          <a:xfrm>
            <a:off x="0" y="1357200"/>
            <a:ext cx="6804000" cy="2016360"/>
          </a:xfrm>
          <a:prstGeom prst="wedgeRoundRectCallout">
            <a:avLst>
              <a:gd name="adj1" fmla="val -9800"/>
              <a:gd name="adj2" fmla="val -63699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Это ответ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AutoShape 33"/>
          <p:cNvSpPr/>
          <p:nvPr/>
        </p:nvSpPr>
        <p:spPr>
          <a:xfrm>
            <a:off x="0" y="1285920"/>
            <a:ext cx="6724800" cy="2025720"/>
          </a:xfrm>
          <a:prstGeom prst="wedgeRoundRectCallout">
            <a:avLst>
              <a:gd name="adj1" fmla="val 12675"/>
              <a:gd name="adj2" fmla="val -72805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Сигнал «Внимание всем!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324000" y="4221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Rectangle 35"/>
          <p:cNvSpPr/>
          <p:nvPr/>
        </p:nvSpPr>
        <p:spPr>
          <a:xfrm>
            <a:off x="39528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Rectangle 36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Rectangle 37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42" name="Picture 40" descr="C:\Documents and Settings\Елена\Рабочий стол\день учит.jpg"/>
          <p:cNvPicPr/>
          <p:nvPr/>
        </p:nvPicPr>
        <p:blipFill>
          <a:blip r:embed="rId5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2" descr="C:\Documents and Settings\Елена\Рабочий стол\кто с телеф.jpg"/>
          <p:cNvPicPr/>
          <p:nvPr/>
        </p:nvPicPr>
        <p:blipFill>
          <a:blip r:embed="rId6"/>
          <a:stretch/>
        </p:blipFill>
        <p:spPr>
          <a:xfrm>
            <a:off x="1785960" y="285840"/>
            <a:ext cx="1428840" cy="928440"/>
          </a:xfrm>
          <a:prstGeom prst="rect">
            <a:avLst/>
          </a:prstGeom>
          <a:ln w="0">
            <a:noFill/>
          </a:ln>
        </p:spPr>
      </p:pic>
      <p:sp>
        <p:nvSpPr>
          <p:cNvPr id="444" name="Управляющая кнопка: возврат 33">
            <a:hlinkClick r:id="rId7" action="ppaction://hlinksldjump"/>
          </p:cNvPr>
          <p:cNvSpPr/>
          <p:nvPr/>
        </p:nvSpPr>
        <p:spPr>
          <a:xfrm>
            <a:off x="8715240" y="6286680"/>
            <a:ext cx="428760" cy="5713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71320"/>
              <a:gd name="textAreaBottom" fmla="*/ 543600 h 57132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1081"/>
                </a:moveTo>
                <a:lnTo>
                  <a:pt x="7301" y="11081"/>
                </a:lnTo>
                <a:lnTo>
                  <a:pt x="7301" y="16416"/>
                </a:lnTo>
                <a:cubicBezTo>
                  <a:pt x="7301" y="17338"/>
                  <a:pt x="8102" y="18070"/>
                  <a:pt x="9138" y="18070"/>
                </a:cubicBezTo>
                <a:lnTo>
                  <a:pt x="10800" y="18070"/>
                </a:lnTo>
                <a:cubicBezTo>
                  <a:pt x="11836" y="18070"/>
                  <a:pt x="12636" y="17338"/>
                  <a:pt x="12636" y="16416"/>
                </a:cubicBezTo>
                <a:lnTo>
                  <a:pt x="12636" y="11081"/>
                </a:lnTo>
                <a:lnTo>
                  <a:pt x="10800" y="11081"/>
                </a:lnTo>
                <a:lnTo>
                  <a:pt x="14308" y="7573"/>
                </a:lnTo>
                <a:lnTo>
                  <a:pt x="17981" y="11081"/>
                </a:lnTo>
                <a:lnTo>
                  <a:pt x="16144" y="11081"/>
                </a:lnTo>
                <a:lnTo>
                  <a:pt x="16144" y="16416"/>
                </a:lnTo>
                <a:cubicBezTo>
                  <a:pt x="16144" y="19184"/>
                  <a:pt x="13568" y="21743"/>
                  <a:pt x="10800" y="21743"/>
                </a:cubicBezTo>
                <a:lnTo>
                  <a:pt x="9138" y="21743"/>
                </a:lnTo>
                <a:cubicBezTo>
                  <a:pt x="6370" y="21743"/>
                  <a:pt x="3794" y="19184"/>
                  <a:pt x="3794" y="1641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831" nodeType="clickEffect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83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842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84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4" dur="4745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8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9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880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4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905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9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3" dur="3992" fill="hold"/>
                                        <p:tgtEl>
                                          <p:spTgt spid="4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923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927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93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ELPH54.wav" descr=""/>
          <p:cNvPicPr/>
          <p:nvPr/>
        </p:nvPicPr>
        <p:blipFill>
          <a:blip r:embed="rId1"/>
          <a:stretch/>
        </p:blipFill>
        <p:spPr>
          <a:xfrm>
            <a:off x="250020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6" name="j02154.wav" descr=""/>
          <p:cNvPicPr/>
          <p:nvPr/>
        </p:nvPicPr>
        <p:blipFill>
          <a:blip r:embed="rId2"/>
          <a:stretch/>
        </p:blipFill>
        <p:spPr>
          <a:xfrm>
            <a:off x="3214800" y="59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8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Шестиугольник 40"/>
          <p:cNvSpPr/>
          <p:nvPr/>
        </p:nvSpPr>
        <p:spPr>
          <a:xfrm>
            <a:off x="6858000" y="1714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         16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AutoShape 17"/>
          <p:cNvSpPr/>
          <p:nvPr/>
        </p:nvSpPr>
        <p:spPr>
          <a:xfrm>
            <a:off x="0" y="3645000"/>
            <a:ext cx="4356000" cy="1584360"/>
          </a:xfrm>
          <a:prstGeom prst="hexagon">
            <a:avLst>
              <a:gd name="adj" fmla="val 6873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укроетесь в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каменном строе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179280" y="1413000"/>
            <a:ext cx="6624720" cy="2087280"/>
          </a:xfrm>
          <a:prstGeom prst="rect">
            <a:avLst/>
          </a:prstGeom>
          <a:solidFill>
            <a:srgbClr val="00b0f0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Book Antiqua"/>
              </a:rPr>
              <a:t>Вы находитесь в населенном пункт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Book Antiqua"/>
              </a:rPr>
              <a:t>к которому приближается пожа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Book Antiqua"/>
              </a:rPr>
              <a:t>Как вы поступите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AutoShape 20"/>
          <p:cNvSpPr/>
          <p:nvPr/>
        </p:nvSpPr>
        <p:spPr>
          <a:xfrm>
            <a:off x="4427640" y="3645000"/>
            <a:ext cx="4716360" cy="158436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ыйдете 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открытое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AutoShape 21"/>
          <p:cNvSpPr/>
          <p:nvPr/>
        </p:nvSpPr>
        <p:spPr>
          <a:xfrm>
            <a:off x="0" y="5373720"/>
            <a:ext cx="4427640" cy="1295280"/>
          </a:xfrm>
          <a:prstGeom prst="hexagon">
            <a:avLst>
              <a:gd name="adj" fmla="val 85457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будите ждать сообщ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штабов ГО и действова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строго по их указания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AutoShape 22"/>
          <p:cNvSpPr/>
          <p:nvPr/>
        </p:nvSpPr>
        <p:spPr>
          <a:xfrm>
            <a:off x="4643280" y="5373720"/>
            <a:ext cx="4500720" cy="1295280"/>
          </a:xfrm>
          <a:prstGeom prst="hexagon">
            <a:avLst>
              <a:gd name="adj" fmla="val 8686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как можно быстре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покинете населенн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пунк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Овал 9"/>
          <p:cNvSpPr/>
          <p:nvPr/>
        </p:nvSpPr>
        <p:spPr>
          <a:xfrm>
            <a:off x="357120" y="35712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63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464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5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6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7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68" name="AutoShape 30"/>
          <p:cNvSpPr/>
          <p:nvPr/>
        </p:nvSpPr>
        <p:spPr>
          <a:xfrm>
            <a:off x="0" y="857160"/>
            <a:ext cx="6786720" cy="27860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AutoShape 31">
            <a:hlinkClick r:id="rId4" action="ppaction://hlinksldjump"/>
          </p:cNvPr>
          <p:cNvSpPr/>
          <p:nvPr/>
        </p:nvSpPr>
        <p:spPr>
          <a:xfrm>
            <a:off x="571680" y="1000080"/>
            <a:ext cx="6858000" cy="302256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16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AutoShape 33"/>
          <p:cNvSpPr/>
          <p:nvPr/>
        </p:nvSpPr>
        <p:spPr>
          <a:xfrm>
            <a:off x="0" y="1214280"/>
            <a:ext cx="7226280" cy="1872000"/>
          </a:xfrm>
          <a:prstGeom prst="wedgeRoundRectCallout">
            <a:avLst>
              <a:gd name="adj1" fmla="val 3842"/>
              <a:gd name="adj2" fmla="val -78499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Думай сам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324000" y="4221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Rectangle 35"/>
          <p:cNvSpPr/>
          <p:nvPr/>
        </p:nvSpPr>
        <p:spPr>
          <a:xfrm>
            <a:off x="39528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Rectangle 36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Rectangle 37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75" name="Picture 40" descr="C:\Documents and Settings\Елена\Рабочий стол\день учит.jpg"/>
          <p:cNvPicPr/>
          <p:nvPr/>
        </p:nvPicPr>
        <p:blipFill>
          <a:blip r:embed="rId5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2" descr="C:\Documents and Settings\Елена\Рабочий стол\кто с телеф.jpg"/>
          <p:cNvPicPr/>
          <p:nvPr/>
        </p:nvPicPr>
        <p:blipFill>
          <a:blip r:embed="rId6"/>
          <a:stretch/>
        </p:blipFill>
        <p:spPr>
          <a:xfrm>
            <a:off x="1714680" y="214200"/>
            <a:ext cx="1428480" cy="1000080"/>
          </a:xfrm>
          <a:prstGeom prst="rect">
            <a:avLst/>
          </a:prstGeom>
          <a:ln w="0">
            <a:noFill/>
          </a:ln>
        </p:spPr>
      </p:pic>
      <p:sp>
        <p:nvSpPr>
          <p:cNvPr id="477" name="Управляющая кнопка: возврат 32">
            <a:hlinkClick r:id="rId7" action="ppaction://hlinksldjump"/>
          </p:cNvPr>
          <p:cNvSpPr/>
          <p:nvPr/>
        </p:nvSpPr>
        <p:spPr>
          <a:xfrm>
            <a:off x="864396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943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9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954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4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965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9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6" dur="4745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981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98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992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7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2" dur="1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6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017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02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4" dur="3992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029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103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ELPH85.wav" descr=""/>
          <p:cNvPicPr/>
          <p:nvPr/>
        </p:nvPicPr>
        <p:blipFill>
          <a:blip r:embed="rId1"/>
          <a:stretch/>
        </p:blipFill>
        <p:spPr>
          <a:xfrm>
            <a:off x="264312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9" name="j02185.wav" descr=""/>
          <p:cNvPicPr/>
          <p:nvPr/>
        </p:nvPicPr>
        <p:blipFill>
          <a:blip r:embed="rId2"/>
          <a:stretch/>
        </p:blipFill>
        <p:spPr>
          <a:xfrm>
            <a:off x="6072120" y="61437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8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AutoShape 17"/>
          <p:cNvSpPr/>
          <p:nvPr/>
        </p:nvSpPr>
        <p:spPr>
          <a:xfrm>
            <a:off x="0" y="3645000"/>
            <a:ext cx="4356000" cy="1584360"/>
          </a:xfrm>
          <a:prstGeom prst="hexagon">
            <a:avLst>
              <a:gd name="adj" fmla="val 6873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5%-ным раство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уксусн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кисло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Rectangle 18"/>
          <p:cNvSpPr/>
          <p:nvPr/>
        </p:nvSpPr>
        <p:spPr>
          <a:xfrm>
            <a:off x="179280" y="1428840"/>
            <a:ext cx="6445440" cy="1714320"/>
          </a:xfrm>
          <a:prstGeom prst="rect">
            <a:avLst/>
          </a:prstGeom>
          <a:solidFill>
            <a:srgbClr val="00b0f0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Каким раствором над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смочить ватно-марлевую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повязку при аварии с утечк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Хлора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AutoShape 20"/>
          <p:cNvSpPr/>
          <p:nvPr/>
        </p:nvSpPr>
        <p:spPr>
          <a:xfrm>
            <a:off x="4427640" y="3645000"/>
            <a:ext cx="4716360" cy="158436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2%-ным раство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нашатырног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спир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AutoShape 21"/>
          <p:cNvSpPr/>
          <p:nvPr/>
        </p:nvSpPr>
        <p:spPr>
          <a:xfrm>
            <a:off x="0" y="5373720"/>
            <a:ext cx="4427640" cy="1295280"/>
          </a:xfrm>
          <a:prstGeom prst="hexagon">
            <a:avLst>
              <a:gd name="adj" fmla="val 85457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5%-ным раство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лимонно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кисло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AutoShape 22"/>
          <p:cNvSpPr/>
          <p:nvPr/>
        </p:nvSpPr>
        <p:spPr>
          <a:xfrm>
            <a:off x="4643280" y="5373720"/>
            <a:ext cx="4500720" cy="1295280"/>
          </a:xfrm>
          <a:prstGeom prst="hexagon">
            <a:avLst>
              <a:gd name="adj" fmla="val 8686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2%-ным раство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со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95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496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7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8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9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00" name="AutoShape 30"/>
          <p:cNvSpPr/>
          <p:nvPr/>
        </p:nvSpPr>
        <p:spPr>
          <a:xfrm>
            <a:off x="0" y="1143000"/>
            <a:ext cx="6715080" cy="22860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AutoShape 31">
            <a:hlinkClick r:id="rId4" action="ppaction://hlinksldjump"/>
          </p:cNvPr>
          <p:cNvSpPr/>
          <p:nvPr/>
        </p:nvSpPr>
        <p:spPr>
          <a:xfrm>
            <a:off x="0" y="1285920"/>
            <a:ext cx="6786720" cy="28796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Вторая несгораемая сумма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32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AutoShape 32"/>
          <p:cNvSpPr/>
          <p:nvPr/>
        </p:nvSpPr>
        <p:spPr>
          <a:xfrm>
            <a:off x="0" y="1428840"/>
            <a:ext cx="6840360" cy="1741320"/>
          </a:xfrm>
          <a:prstGeom prst="wedgeRoundRectCallout">
            <a:avLst>
              <a:gd name="adj1" fmla="val -12217"/>
              <a:gd name="adj2" fmla="val -69962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a831"/>
                </a:solidFill>
                <a:latin typeface="Garamond"/>
              </a:rPr>
              <a:t>УВЕРЕН, ЧТО 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AutoShape 33"/>
          <p:cNvSpPr/>
          <p:nvPr/>
        </p:nvSpPr>
        <p:spPr>
          <a:xfrm>
            <a:off x="0" y="1071720"/>
            <a:ext cx="6948360" cy="1882440"/>
          </a:xfrm>
          <a:prstGeom prst="wedgeRoundRectCallout">
            <a:avLst>
              <a:gd name="adj1" fmla="val 12050"/>
              <a:gd name="adj2" fmla="val -63324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Правильный ответ: 2% -ным раствором со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Rectangle 34"/>
          <p:cNvSpPr/>
          <p:nvPr/>
        </p:nvSpPr>
        <p:spPr>
          <a:xfrm>
            <a:off x="324000" y="4221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Rectangle 35"/>
          <p:cNvSpPr/>
          <p:nvPr/>
        </p:nvSpPr>
        <p:spPr>
          <a:xfrm>
            <a:off x="428760" y="578628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Rectangle 36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Rectangle 37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08" name="Picture 40" descr="C:\Documents and Settings\Елена\Рабочий стол\день учит.jpg"/>
          <p:cNvPicPr/>
          <p:nvPr/>
        </p:nvPicPr>
        <p:blipFill>
          <a:blip r:embed="rId5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C:\Documents and Settings\Елена\Рабочий стол\кто с телеф.jpg"/>
          <p:cNvPicPr/>
          <p:nvPr/>
        </p:nvPicPr>
        <p:blipFill>
          <a:blip r:embed="rId6"/>
          <a:stretch/>
        </p:blipFill>
        <p:spPr>
          <a:xfrm>
            <a:off x="1785960" y="285840"/>
            <a:ext cx="1428840" cy="928440"/>
          </a:xfrm>
          <a:prstGeom prst="rect">
            <a:avLst/>
          </a:prstGeom>
          <a:ln w="0">
            <a:noFill/>
          </a:ln>
        </p:spPr>
      </p:pic>
      <p:sp>
        <p:nvSpPr>
          <p:cNvPr id="510" name="Овал 31"/>
          <p:cNvSpPr/>
          <p:nvPr/>
        </p:nvSpPr>
        <p:spPr>
          <a:xfrm>
            <a:off x="6858000" y="2286000"/>
            <a:ext cx="2286000" cy="1000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73"/>
                </a:solidFill>
                <a:latin typeface="Garamond"/>
              </a:rPr>
              <a:t>Результат- оцен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Прямоугольник 32"/>
          <p:cNvSpPr/>
          <p:nvPr/>
        </p:nvSpPr>
        <p:spPr>
          <a:xfrm>
            <a:off x="7358040" y="2357280"/>
            <a:ext cx="1285920" cy="785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673"/>
                </a:solidFill>
                <a:latin typeface="Garamond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Управляющая кнопка: возврат 33"/>
          <p:cNvSpPr/>
          <p:nvPr/>
        </p:nvSpPr>
        <p:spPr>
          <a:xfrm>
            <a:off x="8715240" y="635796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3794" y="9287"/>
                </a:moveTo>
                <a:lnTo>
                  <a:pt x="7301" y="9287"/>
                </a:lnTo>
                <a:lnTo>
                  <a:pt x="7301" y="14622"/>
                </a:lnTo>
                <a:cubicBezTo>
                  <a:pt x="7301" y="15545"/>
                  <a:pt x="8102" y="16276"/>
                  <a:pt x="9138" y="16276"/>
                </a:cubicBezTo>
                <a:lnTo>
                  <a:pt x="10800" y="16276"/>
                </a:lnTo>
                <a:cubicBezTo>
                  <a:pt x="11836" y="16276"/>
                  <a:pt x="12636" y="15545"/>
                  <a:pt x="12636" y="14622"/>
                </a:cubicBezTo>
                <a:lnTo>
                  <a:pt x="12636" y="9287"/>
                </a:lnTo>
                <a:lnTo>
                  <a:pt x="10800" y="9287"/>
                </a:lnTo>
                <a:lnTo>
                  <a:pt x="14308" y="5779"/>
                </a:lnTo>
                <a:lnTo>
                  <a:pt x="17981" y="9287"/>
                </a:lnTo>
                <a:lnTo>
                  <a:pt x="16144" y="9287"/>
                </a:lnTo>
                <a:lnTo>
                  <a:pt x="16144" y="14622"/>
                </a:lnTo>
                <a:cubicBezTo>
                  <a:pt x="16144" y="17390"/>
                  <a:pt x="13568" y="19949"/>
                  <a:pt x="10800" y="19949"/>
                </a:cubicBezTo>
                <a:lnTo>
                  <a:pt x="9138" y="19949"/>
                </a:lnTo>
                <a:cubicBezTo>
                  <a:pt x="6370" y="19949"/>
                  <a:pt x="3794" y="17390"/>
                  <a:pt x="3794" y="14622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43" dur="indefinite" restart="never" nodeType="tmRoot">
          <p:childTnLst>
            <p:seq>
              <p:cTn id="1044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1045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5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056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06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6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067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07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078" nodeType="clickEffect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108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9" dur="4745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104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9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0" dur="10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5" dur="1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0" dur="1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5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9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130" nodeType="clickEffect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13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7" dur="3992" fill="hold"/>
                                        <p:tgtEl>
                                          <p:spTgt spid="4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1147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0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1151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115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5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1166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9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ELPH116.wav" descr=""/>
          <p:cNvPicPr/>
          <p:nvPr/>
        </p:nvPicPr>
        <p:blipFill>
          <a:blip r:embed="rId1"/>
          <a:stretch/>
        </p:blipFill>
        <p:spPr>
          <a:xfrm>
            <a:off x="228600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4" name="j021132.wav" descr=""/>
          <p:cNvPicPr/>
          <p:nvPr/>
        </p:nvPicPr>
        <p:blipFill>
          <a:blip r:embed="rId2"/>
          <a:stretch/>
        </p:blipFill>
        <p:spPr>
          <a:xfrm>
            <a:off x="3500280" y="585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0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AutoShape 17"/>
          <p:cNvSpPr/>
          <p:nvPr/>
        </p:nvSpPr>
        <p:spPr>
          <a:xfrm>
            <a:off x="0" y="3645000"/>
            <a:ext cx="4356000" cy="1584360"/>
          </a:xfrm>
          <a:prstGeom prst="hexagon">
            <a:avLst>
              <a:gd name="adj" fmla="val 6873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орск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уста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214200" y="1714680"/>
            <a:ext cx="6624720" cy="1285560"/>
          </a:xfrm>
          <a:prstGeom prst="rect">
            <a:avLst/>
          </a:prstGeom>
          <a:solidFill>
            <a:srgbClr val="00b0f0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Какой Устав используетс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на кораблях ВМФ РФ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AutoShape 20"/>
          <p:cNvSpPr/>
          <p:nvPr/>
        </p:nvSpPr>
        <p:spPr>
          <a:xfrm>
            <a:off x="4427640" y="3645000"/>
            <a:ext cx="4716360" cy="158436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устав Российског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Флота Петра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AutoShape 22"/>
          <p:cNvSpPr/>
          <p:nvPr/>
        </p:nvSpPr>
        <p:spPr>
          <a:xfrm>
            <a:off x="4643280" y="5300640"/>
            <a:ext cx="4500720" cy="1368360"/>
          </a:xfrm>
          <a:prstGeom prst="hexagon">
            <a:avLst>
              <a:gd name="adj" fmla="val 8222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такой же как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Сухопутных войск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28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529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0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1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2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33" name="AutoShape 30"/>
          <p:cNvSpPr/>
          <p:nvPr/>
        </p:nvSpPr>
        <p:spPr>
          <a:xfrm>
            <a:off x="0" y="1571760"/>
            <a:ext cx="6858000" cy="22320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AutoShape 31"/>
          <p:cNvSpPr/>
          <p:nvPr/>
        </p:nvSpPr>
        <p:spPr>
          <a:xfrm>
            <a:off x="0" y="1285920"/>
            <a:ext cx="6858000" cy="28796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64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AutoShape 32"/>
          <p:cNvSpPr/>
          <p:nvPr/>
        </p:nvSpPr>
        <p:spPr>
          <a:xfrm>
            <a:off x="500040" y="1285920"/>
            <a:ext cx="6864480" cy="1657440"/>
          </a:xfrm>
          <a:prstGeom prst="wedgeRoundRectCallout">
            <a:avLst>
              <a:gd name="adj1" fmla="val -15981"/>
              <a:gd name="adj2" fmla="val -79310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a831"/>
                </a:solidFill>
                <a:latin typeface="Garamond"/>
              </a:rPr>
              <a:t>На кораблях внутренняя служба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a831"/>
                </a:solidFill>
                <a:latin typeface="Garamond"/>
              </a:rPr>
              <a:t>обязанности должностных лиц определяет Корабельный уста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AutoShape 34"/>
          <p:cNvSpPr/>
          <p:nvPr/>
        </p:nvSpPr>
        <p:spPr>
          <a:xfrm>
            <a:off x="0" y="5373720"/>
            <a:ext cx="4427640" cy="1295280"/>
          </a:xfrm>
          <a:prstGeom prst="hexagon">
            <a:avLst>
              <a:gd name="adj" fmla="val 85457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корабельн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уста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Rectangle 35"/>
          <p:cNvSpPr/>
          <p:nvPr/>
        </p:nvSpPr>
        <p:spPr>
          <a:xfrm>
            <a:off x="468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Rectangle 37"/>
          <p:cNvSpPr/>
          <p:nvPr/>
        </p:nvSpPr>
        <p:spPr>
          <a:xfrm>
            <a:off x="324000" y="4221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Rectangle 38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Rectangle 39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1" name="Picture 40" descr="C:\Documents and Settings\Елена\Рабочий стол\день учит.jpg"/>
          <p:cNvPicPr/>
          <p:nvPr/>
        </p:nvPicPr>
        <p:blipFill>
          <a:blip r:embed="rId4"/>
          <a:stretch/>
        </p:blipFill>
        <p:spPr>
          <a:xfrm>
            <a:off x="3786120" y="428760"/>
            <a:ext cx="928800" cy="5713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2" descr="C:\Documents and Settings\Елена\Рабочий стол\кто с телеф.jpg"/>
          <p:cNvPicPr/>
          <p:nvPr/>
        </p:nvPicPr>
        <p:blipFill>
          <a:blip r:embed="rId5"/>
          <a:stretch/>
        </p:blipFill>
        <p:spPr>
          <a:xfrm>
            <a:off x="1763640" y="285840"/>
            <a:ext cx="1428840" cy="976320"/>
          </a:xfrm>
          <a:prstGeom prst="rect">
            <a:avLst/>
          </a:prstGeom>
          <a:ln w="0">
            <a:noFill/>
          </a:ln>
        </p:spPr>
      </p:pic>
      <p:sp>
        <p:nvSpPr>
          <p:cNvPr id="543" name="Управляющая кнопка: возврат 30"/>
          <p:cNvSpPr/>
          <p:nvPr/>
        </p:nvSpPr>
        <p:spPr>
          <a:xfrm>
            <a:off x="8715240" y="6286680"/>
            <a:ext cx="428760" cy="5713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71320"/>
              <a:gd name="textAreaBottom" fmla="*/ 543600 h 57132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1081"/>
                </a:moveTo>
                <a:lnTo>
                  <a:pt x="7301" y="11081"/>
                </a:lnTo>
                <a:lnTo>
                  <a:pt x="7301" y="16416"/>
                </a:lnTo>
                <a:cubicBezTo>
                  <a:pt x="7301" y="17338"/>
                  <a:pt x="8102" y="18070"/>
                  <a:pt x="9138" y="18070"/>
                </a:cubicBezTo>
                <a:lnTo>
                  <a:pt x="10800" y="18070"/>
                </a:lnTo>
                <a:cubicBezTo>
                  <a:pt x="11836" y="18070"/>
                  <a:pt x="12636" y="17338"/>
                  <a:pt x="12636" y="16416"/>
                </a:cubicBezTo>
                <a:lnTo>
                  <a:pt x="12636" y="11081"/>
                </a:lnTo>
                <a:lnTo>
                  <a:pt x="10800" y="11081"/>
                </a:lnTo>
                <a:lnTo>
                  <a:pt x="14308" y="7573"/>
                </a:lnTo>
                <a:lnTo>
                  <a:pt x="17981" y="11081"/>
                </a:lnTo>
                <a:lnTo>
                  <a:pt x="16144" y="11081"/>
                </a:lnTo>
                <a:lnTo>
                  <a:pt x="16144" y="16416"/>
                </a:lnTo>
                <a:cubicBezTo>
                  <a:pt x="16144" y="19184"/>
                  <a:pt x="13568" y="21743"/>
                  <a:pt x="10800" y="21743"/>
                </a:cubicBezTo>
                <a:lnTo>
                  <a:pt x="9138" y="21743"/>
                </a:lnTo>
                <a:cubicBezTo>
                  <a:pt x="6370" y="21743"/>
                  <a:pt x="3794" y="19184"/>
                  <a:pt x="3794" y="1641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1179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18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9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190" nodeType="clickEffect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1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0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201" nodeType="clickEffect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20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212" nodeType="clickEffect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8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8" dur="10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238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24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5" dur="3992" fill="hold"/>
                                        <p:tgtEl>
                                          <p:spTgt spid="5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1255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259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126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4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1265" nodeType="clickEffect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126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6" dur="4745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ELPH163.wav" descr=""/>
          <p:cNvPicPr/>
          <p:nvPr/>
        </p:nvPicPr>
        <p:blipFill>
          <a:blip r:embed="rId1"/>
          <a:stretch/>
        </p:blipFill>
        <p:spPr>
          <a:xfrm>
            <a:off x="2500200" y="714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5" name="j021163.wav" descr=""/>
          <p:cNvPicPr/>
          <p:nvPr/>
        </p:nvPicPr>
        <p:blipFill>
          <a:blip r:embed="rId2"/>
          <a:stretch/>
        </p:blipFill>
        <p:spPr>
          <a:xfrm>
            <a:off x="5500800" y="3929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8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AutoShape 17"/>
          <p:cNvSpPr/>
          <p:nvPr/>
        </p:nvSpPr>
        <p:spPr>
          <a:xfrm>
            <a:off x="0" y="3645000"/>
            <a:ext cx="4356000" cy="1584360"/>
          </a:xfrm>
          <a:prstGeom prst="hexagon">
            <a:avLst>
              <a:gd name="adj" fmla="val 6873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НА ОДИН Г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Rectangle 18"/>
          <p:cNvSpPr/>
          <p:nvPr/>
        </p:nvSpPr>
        <p:spPr>
          <a:xfrm>
            <a:off x="179280" y="1341360"/>
            <a:ext cx="6624720" cy="2014560"/>
          </a:xfrm>
          <a:prstGeom prst="rect">
            <a:avLst/>
          </a:prstGeom>
          <a:solidFill>
            <a:srgbClr val="00b0f0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На какой срок заключаетс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контракт для поступающи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впервые на службу н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должности солдат,сержантов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AutoShape 20"/>
          <p:cNvSpPr/>
          <p:nvPr/>
        </p:nvSpPr>
        <p:spPr>
          <a:xfrm>
            <a:off x="4427640" y="3645000"/>
            <a:ext cx="4716360" cy="158436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НА ТРИ ГО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AutoShape 21"/>
          <p:cNvSpPr/>
          <p:nvPr/>
        </p:nvSpPr>
        <p:spPr>
          <a:xfrm>
            <a:off x="4643280" y="5300640"/>
            <a:ext cx="4500720" cy="1368360"/>
          </a:xfrm>
          <a:prstGeom prst="hexagon">
            <a:avLst>
              <a:gd name="adj" fmla="val 8222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НА ПЯТЬ Л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58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559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0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1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2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63" name="AutoShape 29"/>
          <p:cNvSpPr/>
          <p:nvPr/>
        </p:nvSpPr>
        <p:spPr>
          <a:xfrm>
            <a:off x="0" y="1000080"/>
            <a:ext cx="6786720" cy="27860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AutoShape 30"/>
          <p:cNvSpPr/>
          <p:nvPr/>
        </p:nvSpPr>
        <p:spPr>
          <a:xfrm>
            <a:off x="0" y="1214280"/>
            <a:ext cx="6786720" cy="28800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125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AutoShape 31"/>
          <p:cNvSpPr/>
          <p:nvPr/>
        </p:nvSpPr>
        <p:spPr>
          <a:xfrm>
            <a:off x="428760" y="1428840"/>
            <a:ext cx="6375240" cy="1511280"/>
          </a:xfrm>
          <a:prstGeom prst="wedgeRoundRectCallout">
            <a:avLst>
              <a:gd name="adj1" fmla="val -13546"/>
              <a:gd name="adj2" fmla="val -71847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Я думаю на 3 го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AutoShape 32"/>
          <p:cNvSpPr/>
          <p:nvPr/>
        </p:nvSpPr>
        <p:spPr>
          <a:xfrm>
            <a:off x="0" y="1214280"/>
            <a:ext cx="6589800" cy="2030400"/>
          </a:xfrm>
          <a:prstGeom prst="wedgeRoundRectCallout">
            <a:avLst>
              <a:gd name="adj1" fmla="val 14925"/>
              <a:gd name="adj2" fmla="val -68532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3 го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AutoShape 33"/>
          <p:cNvSpPr/>
          <p:nvPr/>
        </p:nvSpPr>
        <p:spPr>
          <a:xfrm>
            <a:off x="0" y="5286240"/>
            <a:ext cx="4427640" cy="1295640"/>
          </a:xfrm>
          <a:prstGeom prst="hexagon">
            <a:avLst>
              <a:gd name="adj" fmla="val 85433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НА ДВА ГО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8" name="Rectangle 34"/>
          <p:cNvSpPr/>
          <p:nvPr/>
        </p:nvSpPr>
        <p:spPr>
          <a:xfrm>
            <a:off x="468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9" name="Rectangle 35"/>
          <p:cNvSpPr/>
          <p:nvPr/>
        </p:nvSpPr>
        <p:spPr>
          <a:xfrm>
            <a:off x="324000" y="4221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Rectangle 36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Rectangle 37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72" name="Picture 40" descr="C:\Documents and Settings\Елена\Рабочий стол\день учит.jpg"/>
          <p:cNvPicPr/>
          <p:nvPr/>
        </p:nvPicPr>
        <p:blipFill>
          <a:blip r:embed="rId4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2" descr="C:\Documents and Settings\Елена\Рабочий стол\кто с телеф.jpg"/>
          <p:cNvPicPr/>
          <p:nvPr/>
        </p:nvPicPr>
        <p:blipFill>
          <a:blip r:embed="rId5"/>
          <a:stretch/>
        </p:blipFill>
        <p:spPr>
          <a:xfrm>
            <a:off x="1763640" y="214200"/>
            <a:ext cx="1428840" cy="1000080"/>
          </a:xfrm>
          <a:prstGeom prst="rect">
            <a:avLst/>
          </a:prstGeom>
          <a:ln w="0">
            <a:noFill/>
          </a:ln>
        </p:spPr>
      </p:pic>
      <p:sp>
        <p:nvSpPr>
          <p:cNvPr id="574" name="Управляющая кнопка: возврат 29"/>
          <p:cNvSpPr/>
          <p:nvPr/>
        </p:nvSpPr>
        <p:spPr>
          <a:xfrm>
            <a:off x="8715240" y="6286680"/>
            <a:ext cx="428760" cy="5713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71320"/>
              <a:gd name="textAreaBottom" fmla="*/ 543600 h 57132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1081"/>
                </a:moveTo>
                <a:lnTo>
                  <a:pt x="7301" y="11081"/>
                </a:lnTo>
                <a:lnTo>
                  <a:pt x="7301" y="16416"/>
                </a:lnTo>
                <a:cubicBezTo>
                  <a:pt x="7301" y="17338"/>
                  <a:pt x="8102" y="18070"/>
                  <a:pt x="9138" y="18070"/>
                </a:cubicBezTo>
                <a:lnTo>
                  <a:pt x="10800" y="18070"/>
                </a:lnTo>
                <a:cubicBezTo>
                  <a:pt x="11836" y="18070"/>
                  <a:pt x="12636" y="17338"/>
                  <a:pt x="12636" y="16416"/>
                </a:cubicBezTo>
                <a:lnTo>
                  <a:pt x="12636" y="11081"/>
                </a:lnTo>
                <a:lnTo>
                  <a:pt x="10800" y="11081"/>
                </a:lnTo>
                <a:lnTo>
                  <a:pt x="14308" y="7573"/>
                </a:lnTo>
                <a:lnTo>
                  <a:pt x="17981" y="11081"/>
                </a:lnTo>
                <a:lnTo>
                  <a:pt x="16144" y="11081"/>
                </a:lnTo>
                <a:lnTo>
                  <a:pt x="16144" y="16416"/>
                </a:lnTo>
                <a:cubicBezTo>
                  <a:pt x="16144" y="19184"/>
                  <a:pt x="13568" y="21743"/>
                  <a:pt x="10800" y="21743"/>
                </a:cubicBezTo>
                <a:lnTo>
                  <a:pt x="9138" y="21743"/>
                </a:lnTo>
                <a:cubicBezTo>
                  <a:pt x="6370" y="21743"/>
                  <a:pt x="3794" y="19184"/>
                  <a:pt x="3794" y="1641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82" dur="indefinite" restart="never" nodeType="tmRoot">
          <p:childTnLst>
            <p:seq>
              <p:cTn id="1283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284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28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4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1295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129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4" dur="4745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311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31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1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322" nodeType="clickEffect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28" dur="1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3" dur="10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8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3" dur="10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7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1348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35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5" dur="3992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1365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8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369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137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0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384" nodeType="clickEffect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38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j021194.wav" descr=""/>
          <p:cNvPicPr/>
          <p:nvPr/>
        </p:nvPicPr>
        <p:blipFill>
          <a:blip r:embed="rId1"/>
          <a:stretch/>
        </p:blipFill>
        <p:spPr>
          <a:xfrm>
            <a:off x="3286080" y="4286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6" name="ELPH194.wav" descr=""/>
          <p:cNvPicPr/>
          <p:nvPr/>
        </p:nvPicPr>
        <p:blipFill>
          <a:blip r:embed="rId2"/>
          <a:stretch/>
        </p:blipFill>
        <p:spPr>
          <a:xfrm>
            <a:off x="2571840" y="7858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8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AutoShape 17"/>
          <p:cNvSpPr/>
          <p:nvPr/>
        </p:nvSpPr>
        <p:spPr>
          <a:xfrm>
            <a:off x="0" y="3645000"/>
            <a:ext cx="4356000" cy="1584360"/>
          </a:xfrm>
          <a:prstGeom prst="hexagon">
            <a:avLst>
              <a:gd name="adj" fmla="val 6873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В год достижен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17 л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Rectangle 18"/>
          <p:cNvSpPr/>
          <p:nvPr/>
        </p:nvSpPr>
        <p:spPr>
          <a:xfrm>
            <a:off x="357120" y="1428840"/>
            <a:ext cx="6357960" cy="1643040"/>
          </a:xfrm>
          <a:prstGeom prst="rect">
            <a:avLst/>
          </a:prstGeom>
          <a:solidFill>
            <a:srgbClr val="00b0f0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Граждане мужского пол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подлежат постановке  н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первоначальный воински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уче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AutoShape 20"/>
          <p:cNvSpPr/>
          <p:nvPr/>
        </p:nvSpPr>
        <p:spPr>
          <a:xfrm>
            <a:off x="4427640" y="3645000"/>
            <a:ext cx="4716360" cy="158436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В год достижен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18 л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AutoShape 21"/>
          <p:cNvSpPr/>
          <p:nvPr/>
        </p:nvSpPr>
        <p:spPr>
          <a:xfrm>
            <a:off x="4643280" y="5300640"/>
            <a:ext cx="4500720" cy="1368360"/>
          </a:xfrm>
          <a:prstGeom prst="hexagon">
            <a:avLst>
              <a:gd name="adj" fmla="val 8222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По достижени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18 л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7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88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589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0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1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2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3" name="AutoShape 29"/>
          <p:cNvSpPr/>
          <p:nvPr/>
        </p:nvSpPr>
        <p:spPr>
          <a:xfrm>
            <a:off x="285840" y="1071720"/>
            <a:ext cx="6481800" cy="22320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AutoShape 30"/>
          <p:cNvSpPr/>
          <p:nvPr/>
        </p:nvSpPr>
        <p:spPr>
          <a:xfrm>
            <a:off x="285840" y="785880"/>
            <a:ext cx="6553080" cy="28796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250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AutoShape 31"/>
          <p:cNvSpPr/>
          <p:nvPr/>
        </p:nvSpPr>
        <p:spPr>
          <a:xfrm>
            <a:off x="0" y="1428840"/>
            <a:ext cx="6481800" cy="1886040"/>
          </a:xfrm>
          <a:prstGeom prst="wedgeRoundRectCallout">
            <a:avLst>
              <a:gd name="adj1" fmla="val -14782"/>
              <a:gd name="adj2" fmla="val -63634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Наверное 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AutoShape 32"/>
          <p:cNvSpPr/>
          <p:nvPr/>
        </p:nvSpPr>
        <p:spPr>
          <a:xfrm>
            <a:off x="428760" y="1285920"/>
            <a:ext cx="6870600" cy="1741320"/>
          </a:xfrm>
          <a:prstGeom prst="wedgeRoundRectCallout">
            <a:avLst>
              <a:gd name="adj1" fmla="val 5222"/>
              <a:gd name="adj2" fmla="val -72879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Ответ: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AutoShape 33"/>
          <p:cNvSpPr/>
          <p:nvPr/>
        </p:nvSpPr>
        <p:spPr>
          <a:xfrm>
            <a:off x="0" y="5373720"/>
            <a:ext cx="4427640" cy="1295280"/>
          </a:xfrm>
          <a:prstGeom prst="hexagon">
            <a:avLst>
              <a:gd name="adj" fmla="val 85457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По достижению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17 л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Rectangle 34"/>
          <p:cNvSpPr/>
          <p:nvPr/>
        </p:nvSpPr>
        <p:spPr>
          <a:xfrm>
            <a:off x="468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Rectangle 35"/>
          <p:cNvSpPr/>
          <p:nvPr/>
        </p:nvSpPr>
        <p:spPr>
          <a:xfrm>
            <a:off x="324000" y="4221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Rectangle 36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Rectangle 37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02" name="Picture 40" descr="C:\Documents and Settings\Елена\Рабочий стол\день учит.jpg"/>
          <p:cNvPicPr/>
          <p:nvPr/>
        </p:nvPicPr>
        <p:blipFill>
          <a:blip r:embed="rId4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2" descr="C:\Documents and Settings\Елена\Рабочий стол\кто с телеф.jpg"/>
          <p:cNvPicPr/>
          <p:nvPr/>
        </p:nvPicPr>
        <p:blipFill>
          <a:blip r:embed="rId5"/>
          <a:stretch/>
        </p:blipFill>
        <p:spPr>
          <a:xfrm>
            <a:off x="1763640" y="285840"/>
            <a:ext cx="1428840" cy="976320"/>
          </a:xfrm>
          <a:prstGeom prst="rect">
            <a:avLst/>
          </a:prstGeom>
          <a:ln w="0">
            <a:noFill/>
          </a:ln>
        </p:spPr>
      </p:pic>
      <p:sp>
        <p:nvSpPr>
          <p:cNvPr id="604" name="Управляющая кнопка: возврат 28"/>
          <p:cNvSpPr/>
          <p:nvPr/>
        </p:nvSpPr>
        <p:spPr>
          <a:xfrm>
            <a:off x="8715240" y="6286680"/>
            <a:ext cx="428760" cy="5713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71320"/>
              <a:gd name="textAreaBottom" fmla="*/ 543600 h 57132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1081"/>
                </a:moveTo>
                <a:lnTo>
                  <a:pt x="7301" y="11081"/>
                </a:lnTo>
                <a:lnTo>
                  <a:pt x="7301" y="16416"/>
                </a:lnTo>
                <a:cubicBezTo>
                  <a:pt x="7301" y="17338"/>
                  <a:pt x="8102" y="18070"/>
                  <a:pt x="9138" y="18070"/>
                </a:cubicBezTo>
                <a:lnTo>
                  <a:pt x="10800" y="18070"/>
                </a:lnTo>
                <a:cubicBezTo>
                  <a:pt x="11836" y="18070"/>
                  <a:pt x="12636" y="17338"/>
                  <a:pt x="12636" y="16416"/>
                </a:cubicBezTo>
                <a:lnTo>
                  <a:pt x="12636" y="11081"/>
                </a:lnTo>
                <a:lnTo>
                  <a:pt x="10800" y="11081"/>
                </a:lnTo>
                <a:lnTo>
                  <a:pt x="14308" y="7573"/>
                </a:lnTo>
                <a:lnTo>
                  <a:pt x="17981" y="11081"/>
                </a:lnTo>
                <a:lnTo>
                  <a:pt x="16144" y="11081"/>
                </a:lnTo>
                <a:lnTo>
                  <a:pt x="16144" y="16416"/>
                </a:lnTo>
                <a:cubicBezTo>
                  <a:pt x="16144" y="19184"/>
                  <a:pt x="13568" y="21743"/>
                  <a:pt x="10800" y="21743"/>
                </a:cubicBezTo>
                <a:lnTo>
                  <a:pt x="9138" y="21743"/>
                </a:lnTo>
                <a:cubicBezTo>
                  <a:pt x="6370" y="21743"/>
                  <a:pt x="3794" y="19184"/>
                  <a:pt x="3794" y="1641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394" dur="indefinite" restart="never" nodeType="tmRoot">
          <p:childTnLst>
            <p:seq>
              <p:cTn id="1395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396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140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5" dur="4745" fill="hold"/>
                                        <p:tgtEl>
                                          <p:spTgt spid="5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1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412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2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423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42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3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434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9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1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4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6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10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4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8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459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46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6" dur="3992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1476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9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480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148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1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4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495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49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j021225.wav" descr=""/>
          <p:cNvPicPr/>
          <p:nvPr/>
        </p:nvPicPr>
        <p:blipFill>
          <a:blip r:embed="rId1"/>
          <a:stretch/>
        </p:blipFill>
        <p:spPr>
          <a:xfrm>
            <a:off x="3071880" y="564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6" name="ELPH225.wav" descr=""/>
          <p:cNvPicPr/>
          <p:nvPr/>
        </p:nvPicPr>
        <p:blipFill>
          <a:blip r:embed="rId2"/>
          <a:stretch/>
        </p:blipFill>
        <p:spPr>
          <a:xfrm>
            <a:off x="264312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9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0" name="AutoShape 17"/>
          <p:cNvSpPr/>
          <p:nvPr/>
        </p:nvSpPr>
        <p:spPr>
          <a:xfrm>
            <a:off x="0" y="3645000"/>
            <a:ext cx="4356000" cy="1584360"/>
          </a:xfrm>
          <a:prstGeom prst="hexagon">
            <a:avLst>
              <a:gd name="adj" fmla="val 6873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С январ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2003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1" name="Rectangle 18"/>
          <p:cNvSpPr/>
          <p:nvPr/>
        </p:nvSpPr>
        <p:spPr>
          <a:xfrm>
            <a:off x="179280" y="1285920"/>
            <a:ext cx="6624720" cy="2214360"/>
          </a:xfrm>
          <a:prstGeom prst="rect">
            <a:avLst/>
          </a:prstGeom>
          <a:solidFill>
            <a:srgbClr val="00b0f0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514"/>
                </a:solidFill>
                <a:latin typeface="Book Antiqua"/>
              </a:rPr>
              <a:t>В каком году вступил в сил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514"/>
                </a:solidFill>
                <a:latin typeface="Book Antiqua"/>
              </a:rPr>
              <a:t>Федеральный закон « Об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514"/>
                </a:solidFill>
                <a:latin typeface="Book Antiqua"/>
              </a:rPr>
              <a:t>Альтернативной военной службе»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AutoShape 20"/>
          <p:cNvSpPr/>
          <p:nvPr/>
        </p:nvSpPr>
        <p:spPr>
          <a:xfrm>
            <a:off x="4427640" y="3645000"/>
            <a:ext cx="4716360" cy="158436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С январ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2005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4" name="AutoShape 21"/>
          <p:cNvSpPr/>
          <p:nvPr/>
        </p:nvSpPr>
        <p:spPr>
          <a:xfrm>
            <a:off x="4643280" y="5300640"/>
            <a:ext cx="4500720" cy="1368360"/>
          </a:xfrm>
          <a:prstGeom prst="hexagon">
            <a:avLst>
              <a:gd name="adj" fmla="val 8222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С январ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2006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17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618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9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0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1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22" name="AutoShape 29"/>
          <p:cNvSpPr/>
          <p:nvPr/>
        </p:nvSpPr>
        <p:spPr>
          <a:xfrm>
            <a:off x="0" y="1071720"/>
            <a:ext cx="6786720" cy="30002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AutoShape 30"/>
          <p:cNvSpPr/>
          <p:nvPr/>
        </p:nvSpPr>
        <p:spPr>
          <a:xfrm>
            <a:off x="0" y="1000080"/>
            <a:ext cx="6786720" cy="30006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500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AutoShape 31"/>
          <p:cNvSpPr/>
          <p:nvPr/>
        </p:nvSpPr>
        <p:spPr>
          <a:xfrm>
            <a:off x="0" y="1214280"/>
            <a:ext cx="6553080" cy="1366920"/>
          </a:xfrm>
          <a:prstGeom prst="wedgeRoundRectCallout">
            <a:avLst>
              <a:gd name="adj1" fmla="val -7171"/>
              <a:gd name="adj2" fmla="val -75666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Точно не зна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5" name="AutoShape 32"/>
          <p:cNvSpPr/>
          <p:nvPr/>
        </p:nvSpPr>
        <p:spPr>
          <a:xfrm>
            <a:off x="285840" y="1357200"/>
            <a:ext cx="7057800" cy="1440000"/>
          </a:xfrm>
          <a:prstGeom prst="wedgeRoundRectCallout">
            <a:avLst>
              <a:gd name="adj1" fmla="val 6768"/>
              <a:gd name="adj2" fmla="val -70175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Нет отве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AutoShape 33"/>
          <p:cNvSpPr/>
          <p:nvPr/>
        </p:nvSpPr>
        <p:spPr>
          <a:xfrm>
            <a:off x="0" y="5373720"/>
            <a:ext cx="4427640" cy="1295280"/>
          </a:xfrm>
          <a:prstGeom prst="hexagon">
            <a:avLst>
              <a:gd name="adj" fmla="val 85457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С январ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2004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Rectangle 34"/>
          <p:cNvSpPr/>
          <p:nvPr/>
        </p:nvSpPr>
        <p:spPr>
          <a:xfrm>
            <a:off x="468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Rectangle 35"/>
          <p:cNvSpPr/>
          <p:nvPr/>
        </p:nvSpPr>
        <p:spPr>
          <a:xfrm>
            <a:off x="324000" y="4221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Rectangle 36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Rectangle 37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31" name="Picture 40" descr="C:\Documents and Settings\Елена\Рабочий стол\день учит.jpg"/>
          <p:cNvPicPr/>
          <p:nvPr/>
        </p:nvPicPr>
        <p:blipFill>
          <a:blip r:embed="rId4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42" descr="C:\Documents and Settings\Елена\Рабочий стол\кто с телеф.jpg"/>
          <p:cNvPicPr/>
          <p:nvPr/>
        </p:nvPicPr>
        <p:blipFill>
          <a:blip r:embed="rId5"/>
          <a:stretch/>
        </p:blipFill>
        <p:spPr>
          <a:xfrm>
            <a:off x="1785960" y="285840"/>
            <a:ext cx="1428840" cy="928440"/>
          </a:xfrm>
          <a:prstGeom prst="rect">
            <a:avLst/>
          </a:prstGeom>
          <a:ln w="0">
            <a:noFill/>
          </a:ln>
        </p:spPr>
      </p:pic>
      <p:sp>
        <p:nvSpPr>
          <p:cNvPr id="633" name="Управляющая кнопка: возврат 27"/>
          <p:cNvSpPr/>
          <p:nvPr/>
        </p:nvSpPr>
        <p:spPr>
          <a:xfrm>
            <a:off x="8643960" y="628668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3794" y="9031"/>
                </a:moveTo>
                <a:lnTo>
                  <a:pt x="7301" y="9031"/>
                </a:lnTo>
                <a:lnTo>
                  <a:pt x="7301" y="14366"/>
                </a:lnTo>
                <a:cubicBezTo>
                  <a:pt x="7301" y="15289"/>
                  <a:pt x="8102" y="16020"/>
                  <a:pt x="9138" y="16020"/>
                </a:cubicBezTo>
                <a:lnTo>
                  <a:pt x="10800" y="16020"/>
                </a:lnTo>
                <a:cubicBezTo>
                  <a:pt x="11836" y="16020"/>
                  <a:pt x="12636" y="15289"/>
                  <a:pt x="12636" y="14366"/>
                </a:cubicBezTo>
                <a:lnTo>
                  <a:pt x="12636" y="9031"/>
                </a:lnTo>
                <a:lnTo>
                  <a:pt x="10800" y="9031"/>
                </a:lnTo>
                <a:lnTo>
                  <a:pt x="14308" y="5523"/>
                </a:lnTo>
                <a:lnTo>
                  <a:pt x="17981" y="9031"/>
                </a:lnTo>
                <a:lnTo>
                  <a:pt x="16144" y="9031"/>
                </a:lnTo>
                <a:lnTo>
                  <a:pt x="16144" y="14366"/>
                </a:lnTo>
                <a:cubicBezTo>
                  <a:pt x="16144" y="17134"/>
                  <a:pt x="13568" y="19693"/>
                  <a:pt x="10800" y="19693"/>
                </a:cubicBezTo>
                <a:lnTo>
                  <a:pt x="9138" y="19693"/>
                </a:lnTo>
                <a:cubicBezTo>
                  <a:pt x="6370" y="19693"/>
                  <a:pt x="3794" y="17134"/>
                  <a:pt x="3794" y="1436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05" dur="indefinite" restart="never" nodeType="tmRoot">
          <p:childTnLst>
            <p:seq>
              <p:cTn id="1506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1507" nodeType="clickEffect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51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7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1518" nodeType="clickEffect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52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529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53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9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540" nodeType="clickEffect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5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46" dur="10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1" dur="10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3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6" dur="1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1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3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5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566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3" dur="3992" fill="hold"/>
                                        <p:tgtEl>
                                          <p:spTgt spid="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1583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6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587" nodeType="clickEffect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1591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1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602" nodeType="clickEffect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160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3" dur="4745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j021241.wav" descr=""/>
          <p:cNvPicPr/>
          <p:nvPr/>
        </p:nvPicPr>
        <p:blipFill>
          <a:blip r:embed="rId1"/>
          <a:stretch/>
        </p:blipFill>
        <p:spPr>
          <a:xfrm>
            <a:off x="7572240" y="4857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5" name="j021257.wav" descr=""/>
          <p:cNvPicPr/>
          <p:nvPr/>
        </p:nvPicPr>
        <p:blipFill>
          <a:blip r:embed="rId2"/>
          <a:stretch/>
        </p:blipFill>
        <p:spPr>
          <a:xfrm>
            <a:off x="8839080" y="4357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6" name="ELPH257.wav" descr=""/>
          <p:cNvPicPr/>
          <p:nvPr/>
        </p:nvPicPr>
        <p:blipFill>
          <a:blip r:embed="rId3"/>
          <a:stretch/>
        </p:blipFill>
        <p:spPr>
          <a:xfrm>
            <a:off x="2428920" y="357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0" descr="C:\Documents and Settings\Елена\Рабочий стол\сад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8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AutoShape 17"/>
          <p:cNvSpPr/>
          <p:nvPr/>
        </p:nvSpPr>
        <p:spPr>
          <a:xfrm>
            <a:off x="0" y="3645000"/>
            <a:ext cx="4356000" cy="1427040"/>
          </a:xfrm>
          <a:prstGeom prst="hexagon">
            <a:avLst>
              <a:gd name="adj" fmla="val 68737"/>
              <a:gd name="vf" fmla="val 115470"/>
            </a:avLst>
          </a:prstGeom>
          <a:solidFill>
            <a:srgbClr val="c3de3a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день прибытия в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часть по мест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прохождения служб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Rectangle 18"/>
          <p:cNvSpPr/>
          <p:nvPr/>
        </p:nvSpPr>
        <p:spPr>
          <a:xfrm>
            <a:off x="179280" y="928800"/>
            <a:ext cx="6624720" cy="2571480"/>
          </a:xfrm>
          <a:prstGeom prst="rect">
            <a:avLst/>
          </a:prstGeom>
          <a:solidFill>
            <a:srgbClr val="00b0f0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514"/>
                </a:solidFill>
                <a:latin typeface="Book Antiqua"/>
              </a:rPr>
              <a:t>Началом военной службы дл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514"/>
                </a:solidFill>
                <a:latin typeface="Book Antiqua"/>
              </a:rPr>
              <a:t>граждан, призванных на военну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514"/>
                </a:solidFill>
                <a:latin typeface="Book Antiqua"/>
              </a:rPr>
              <a:t>службу считается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Oval 19"/>
          <p:cNvSpPr/>
          <p:nvPr/>
        </p:nvSpPr>
        <p:spPr>
          <a:xfrm>
            <a:off x="3357720" y="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AutoShape 20"/>
          <p:cNvSpPr/>
          <p:nvPr/>
        </p:nvSpPr>
        <p:spPr>
          <a:xfrm>
            <a:off x="4427640" y="3714840"/>
            <a:ext cx="4716360" cy="142884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день убытия и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военкомата к ме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служб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AutoShape 21"/>
          <p:cNvSpPr/>
          <p:nvPr/>
        </p:nvSpPr>
        <p:spPr>
          <a:xfrm>
            <a:off x="4643280" y="5357880"/>
            <a:ext cx="4500720" cy="1285920"/>
          </a:xfrm>
          <a:prstGeom prst="hexagon">
            <a:avLst>
              <a:gd name="adj" fmla="val 8221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день принят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оенной присяг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Овал 9"/>
          <p:cNvSpPr/>
          <p:nvPr/>
        </p:nvSpPr>
        <p:spPr>
          <a:xfrm>
            <a:off x="214200" y="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Овал 10"/>
          <p:cNvSpPr/>
          <p:nvPr/>
        </p:nvSpPr>
        <p:spPr>
          <a:xfrm>
            <a:off x="1785960" y="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46" name="Группа 27"/>
          <p:cNvGrpSpPr/>
          <p:nvPr/>
        </p:nvGrpSpPr>
        <p:grpSpPr>
          <a:xfrm>
            <a:off x="1928880" y="214200"/>
            <a:ext cx="874800" cy="504360"/>
            <a:chOff x="1928880" y="214200"/>
            <a:chExt cx="874800" cy="504360"/>
          </a:xfrm>
        </p:grpSpPr>
        <p:sp>
          <p:nvSpPr>
            <p:cNvPr id="647" name="Арка 22"/>
            <p:cNvSpPr/>
            <p:nvPr/>
          </p:nvSpPr>
          <p:spPr>
            <a:xfrm rot="7310400">
              <a:off x="2400480" y="3744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8" name="Восьмиугольник 24"/>
            <p:cNvSpPr/>
            <p:nvPr/>
          </p:nvSpPr>
          <p:spPr>
            <a:xfrm>
              <a:off x="2397240" y="52704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9" name="Восьмиугольник 25"/>
            <p:cNvSpPr/>
            <p:nvPr/>
          </p:nvSpPr>
          <p:spPr>
            <a:xfrm>
              <a:off x="2578320" y="214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0" name="Полилиния 26"/>
            <p:cNvSpPr/>
            <p:nvPr/>
          </p:nvSpPr>
          <p:spPr>
            <a:xfrm>
              <a:off x="1928880" y="287280"/>
              <a:ext cx="465120" cy="29700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51" name="AutoShape 29"/>
          <p:cNvSpPr/>
          <p:nvPr/>
        </p:nvSpPr>
        <p:spPr>
          <a:xfrm>
            <a:off x="0" y="571680"/>
            <a:ext cx="6786720" cy="357156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AutoShape 30"/>
          <p:cNvSpPr/>
          <p:nvPr/>
        </p:nvSpPr>
        <p:spPr>
          <a:xfrm>
            <a:off x="0" y="714240"/>
            <a:ext cx="6786720" cy="34290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1000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С ПОБЕДОЙ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AutoShape 31"/>
          <p:cNvSpPr/>
          <p:nvPr/>
        </p:nvSpPr>
        <p:spPr>
          <a:xfrm>
            <a:off x="357120" y="1143000"/>
            <a:ext cx="6408720" cy="1800360"/>
          </a:xfrm>
          <a:prstGeom prst="wedgeRoundRectCallout">
            <a:avLst>
              <a:gd name="adj1" fmla="val -12768"/>
              <a:gd name="adj2" fmla="val -81217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Сейчас я тебе не помощник !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4" name="AutoShape 32"/>
          <p:cNvSpPr/>
          <p:nvPr/>
        </p:nvSpPr>
        <p:spPr>
          <a:xfrm>
            <a:off x="0" y="928800"/>
            <a:ext cx="7056360" cy="1887480"/>
          </a:xfrm>
          <a:prstGeom prst="wedgeRoundRectCallout">
            <a:avLst>
              <a:gd name="adj1" fmla="val 8356"/>
              <a:gd name="adj2" fmla="val -70268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Решай сам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AutoShape 33"/>
          <p:cNvSpPr/>
          <p:nvPr/>
        </p:nvSpPr>
        <p:spPr>
          <a:xfrm>
            <a:off x="0" y="5373720"/>
            <a:ext cx="4427640" cy="1270080"/>
          </a:xfrm>
          <a:prstGeom prst="hexagon">
            <a:avLst>
              <a:gd name="adj" fmla="val 85442"/>
              <a:gd name="vf" fmla="val 115470"/>
            </a:avLst>
          </a:prstGeom>
          <a:solidFill>
            <a:srgbClr val="c3de3a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день издан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приказа о зачисле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 списки ча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Rectangle 34"/>
          <p:cNvSpPr/>
          <p:nvPr/>
        </p:nvSpPr>
        <p:spPr>
          <a:xfrm>
            <a:off x="468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Rectangle 35"/>
          <p:cNvSpPr/>
          <p:nvPr/>
        </p:nvSpPr>
        <p:spPr>
          <a:xfrm>
            <a:off x="324000" y="4221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Rectangle 36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Rectangle 37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60" name="Picture 42" descr="C:\Documents and Settings\Елена\Рабочий стол\кто с телеф.jpg"/>
          <p:cNvPicPr/>
          <p:nvPr/>
        </p:nvPicPr>
        <p:blipFill>
          <a:blip r:embed="rId5"/>
          <a:stretch/>
        </p:blipFill>
        <p:spPr>
          <a:xfrm>
            <a:off x="1714680" y="0"/>
            <a:ext cx="1428480" cy="9288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0" descr="C:\Documents and Settings\Елена\Рабочий стол\день учит.jpg"/>
          <p:cNvPicPr/>
          <p:nvPr/>
        </p:nvPicPr>
        <p:blipFill>
          <a:blip r:embed="rId6"/>
          <a:stretch/>
        </p:blipFill>
        <p:spPr>
          <a:xfrm>
            <a:off x="3492360" y="189000"/>
            <a:ext cx="928800" cy="571320"/>
          </a:xfrm>
          <a:prstGeom prst="rect">
            <a:avLst/>
          </a:prstGeom>
          <a:ln w="0">
            <a:noFill/>
          </a:ln>
        </p:spPr>
      </p:pic>
      <p:sp>
        <p:nvSpPr>
          <p:cNvPr id="662" name="Блок-схема: альтернативный процесс 29"/>
          <p:cNvSpPr/>
          <p:nvPr/>
        </p:nvSpPr>
        <p:spPr>
          <a:xfrm>
            <a:off x="1071720" y="3857760"/>
            <a:ext cx="7572240" cy="3000240"/>
          </a:xfrm>
          <a:prstGeom prst="flowChartAlternateProcess">
            <a:avLst/>
          </a:prstGeom>
          <a:solidFill>
            <a:srgbClr val="ffcc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                            </a:t>
            </a: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ВЫ СТАЛИ ОТЛИЧНИКОМ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              </a:t>
            </a: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ОЦЕН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                         </a:t>
            </a:r>
            <a:r>
              <a:rPr b="1" lang="ru-RU" sz="2400" spc="-1" strike="noStrike">
                <a:solidFill>
                  <a:srgbClr val="000079"/>
                </a:solidFill>
                <a:latin typeface="Garamond"/>
              </a:rPr>
              <a:t>ПОДАРОК ПОБЕДИТЕЛЮ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5-конечная звезда 31"/>
          <p:cNvSpPr/>
          <p:nvPr/>
        </p:nvSpPr>
        <p:spPr>
          <a:xfrm>
            <a:off x="5500800" y="4572000"/>
            <a:ext cx="2000160" cy="1214280"/>
          </a:xfrm>
          <a:prstGeom prst="pi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79"/>
                </a:solidFill>
                <a:latin typeface="Garamond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Управляющая кнопка: возврат 32"/>
          <p:cNvSpPr/>
          <p:nvPr/>
        </p:nvSpPr>
        <p:spPr>
          <a:xfrm>
            <a:off x="8715240" y="635796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3794" y="9287"/>
                </a:moveTo>
                <a:lnTo>
                  <a:pt x="7301" y="9287"/>
                </a:lnTo>
                <a:lnTo>
                  <a:pt x="7301" y="14622"/>
                </a:lnTo>
                <a:cubicBezTo>
                  <a:pt x="7301" y="15545"/>
                  <a:pt x="8102" y="16276"/>
                  <a:pt x="9138" y="16276"/>
                </a:cubicBezTo>
                <a:lnTo>
                  <a:pt x="10800" y="16276"/>
                </a:lnTo>
                <a:cubicBezTo>
                  <a:pt x="11836" y="16276"/>
                  <a:pt x="12636" y="15545"/>
                  <a:pt x="12636" y="14622"/>
                </a:cubicBezTo>
                <a:lnTo>
                  <a:pt x="12636" y="9287"/>
                </a:lnTo>
                <a:lnTo>
                  <a:pt x="10800" y="9287"/>
                </a:lnTo>
                <a:lnTo>
                  <a:pt x="14308" y="5779"/>
                </a:lnTo>
                <a:lnTo>
                  <a:pt x="17981" y="9287"/>
                </a:lnTo>
                <a:lnTo>
                  <a:pt x="16144" y="9287"/>
                </a:lnTo>
                <a:lnTo>
                  <a:pt x="16144" y="14622"/>
                </a:lnTo>
                <a:cubicBezTo>
                  <a:pt x="16144" y="17390"/>
                  <a:pt x="13568" y="19949"/>
                  <a:pt x="10800" y="19949"/>
                </a:cubicBezTo>
                <a:lnTo>
                  <a:pt x="9138" y="19949"/>
                </a:lnTo>
                <a:cubicBezTo>
                  <a:pt x="6370" y="19949"/>
                  <a:pt x="3794" y="17390"/>
                  <a:pt x="3794" y="14622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17" dur="indefinite" restart="never" nodeType="tmRoot">
          <p:childTnLst>
            <p:seq>
              <p:cTn id="1618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619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62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8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9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630" nodeType="clickEffect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1" dur="4745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3" dur="1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54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7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3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4745"/>
                            </p:stCondLst>
                            <p:childTnLst>
                              <p:par>
                                <p:cTn id="1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3" dur="4745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4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685" nodeType="clickEffect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5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696" nodeType="clickEffect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1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02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4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7" dur="10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0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9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2" dur="1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4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7" dur="1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1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1722" nodeType="clickEffect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2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9" dur="3992" fill="hold"/>
                                        <p:tgtEl>
                                          <p:spTgt spid="6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1739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2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743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174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4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7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1758" nodeType="clickEffect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4" descr="C:\Documents and Settings\Елена\Рабочий стол\са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213840" y="214200"/>
            <a:ext cx="4429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10bcb"/>
                </a:solidFill>
                <a:latin typeface="SchoolBook"/>
              </a:rPr>
              <a:t>ПУСТЬ РАСЦВЕТАЮ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10bcb"/>
                </a:solidFill>
                <a:latin typeface="SchoolBook"/>
              </a:rPr>
              <a:t>  </a:t>
            </a:r>
            <a:r>
              <a:rPr b="0" lang="ru-RU" sz="4000" spc="-1" strike="noStrike">
                <a:solidFill>
                  <a:srgbClr val="f10bcb"/>
                </a:solidFill>
                <a:latin typeface="SchoolBook"/>
              </a:rPr>
              <a:t>ВСЕ ЦВЕТ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10bcb"/>
                </a:solidFill>
                <a:latin typeface="SchoolBook"/>
              </a:rPr>
              <a:t>В ЧЕСТ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10bcb"/>
                </a:solidFill>
                <a:latin typeface="SchoolBook"/>
              </a:rPr>
              <a:t> </a:t>
            </a:r>
            <a:r>
              <a:rPr b="0" lang="ru-RU" sz="4000" spc="-1" strike="noStrike">
                <a:solidFill>
                  <a:srgbClr val="f10bcb"/>
                </a:solidFill>
                <a:latin typeface="SchoolBook"/>
              </a:rPr>
              <a:t>ПОБЕДИТЕЛ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10bcb"/>
                </a:solidFill>
                <a:latin typeface="SchoolBook"/>
              </a:rPr>
              <a:t>ИГРЫ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67" name="Picture 5" descr="C:\Documents and Settings\Елена\Рабочий стол\сад\белы цветок2.gif"/>
          <p:cNvPicPr/>
          <p:nvPr/>
        </p:nvPicPr>
        <p:blipFill>
          <a:blip r:embed="rId2"/>
          <a:stretch/>
        </p:blipFill>
        <p:spPr>
          <a:xfrm>
            <a:off x="5429160" y="2786040"/>
            <a:ext cx="1123920" cy="10476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" descr="C:\Documents and Settings\Елена\Рабочий стол\сад\белы цветок2.gif"/>
          <p:cNvPicPr/>
          <p:nvPr/>
        </p:nvPicPr>
        <p:blipFill>
          <a:blip r:embed="rId3"/>
          <a:stretch/>
        </p:blipFill>
        <p:spPr>
          <a:xfrm>
            <a:off x="5500800" y="714240"/>
            <a:ext cx="1123920" cy="10479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7" descr="C:\Documents and Settings\Елена\Рабочий стол\сад\белы цветок2.gif"/>
          <p:cNvPicPr/>
          <p:nvPr/>
        </p:nvPicPr>
        <p:blipFill>
          <a:blip r:embed="rId4"/>
          <a:stretch/>
        </p:blipFill>
        <p:spPr>
          <a:xfrm>
            <a:off x="5857920" y="1714680"/>
            <a:ext cx="1123920" cy="10476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8" descr="C:\Documents and Settings\Елена\Рабочий стол\сад\белы цветок2.gif"/>
          <p:cNvPicPr/>
          <p:nvPr/>
        </p:nvPicPr>
        <p:blipFill>
          <a:blip r:embed="rId5"/>
          <a:stretch/>
        </p:blipFill>
        <p:spPr>
          <a:xfrm>
            <a:off x="5072040" y="-214200"/>
            <a:ext cx="1123920" cy="10476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5" descr="C:\Documents and Settings\Елена\Рабочий стол\сад\белы цветок2.gif"/>
          <p:cNvPicPr/>
          <p:nvPr/>
        </p:nvPicPr>
        <p:blipFill>
          <a:blip r:embed="rId6"/>
          <a:stretch/>
        </p:blipFill>
        <p:spPr>
          <a:xfrm>
            <a:off x="4572000" y="3786120"/>
            <a:ext cx="1123920" cy="10479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C:\Documents and Settings\Елена\Рабочий стол\сад\белы цветок2.gif"/>
          <p:cNvPicPr/>
          <p:nvPr/>
        </p:nvPicPr>
        <p:blipFill>
          <a:blip r:embed="rId7"/>
          <a:stretch/>
        </p:blipFill>
        <p:spPr>
          <a:xfrm>
            <a:off x="3714840" y="4714920"/>
            <a:ext cx="1123920" cy="10476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5" descr="C:\Documents and Settings\Елена\Рабочий стол\сад\белы цветок2.gif"/>
          <p:cNvPicPr/>
          <p:nvPr/>
        </p:nvPicPr>
        <p:blipFill>
          <a:blip r:embed="rId8"/>
          <a:stretch/>
        </p:blipFill>
        <p:spPr>
          <a:xfrm>
            <a:off x="2500200" y="5000760"/>
            <a:ext cx="1123920" cy="1047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C:\Documents and Settings\Елена\Рабочий стол\сад\белы цветок2.gif"/>
          <p:cNvPicPr/>
          <p:nvPr/>
        </p:nvPicPr>
        <p:blipFill>
          <a:blip r:embed="rId9"/>
          <a:stretch/>
        </p:blipFill>
        <p:spPr>
          <a:xfrm>
            <a:off x="1214280" y="5000760"/>
            <a:ext cx="1124280" cy="1047600"/>
          </a:xfrm>
          <a:prstGeom prst="rect">
            <a:avLst/>
          </a:prstGeom>
          <a:ln w="0">
            <a:noFill/>
          </a:ln>
        </p:spPr>
      </p:pic>
      <p:sp>
        <p:nvSpPr>
          <p:cNvPr id="675" name="Управляющая кнопка: возврат 11"/>
          <p:cNvSpPr/>
          <p:nvPr/>
        </p:nvSpPr>
        <p:spPr>
          <a:xfrm>
            <a:off x="8643960" y="628668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3794" y="9031"/>
                </a:moveTo>
                <a:lnTo>
                  <a:pt x="7301" y="9031"/>
                </a:lnTo>
                <a:lnTo>
                  <a:pt x="7301" y="14366"/>
                </a:lnTo>
                <a:cubicBezTo>
                  <a:pt x="7301" y="15289"/>
                  <a:pt x="8102" y="16020"/>
                  <a:pt x="9138" y="16020"/>
                </a:cubicBezTo>
                <a:lnTo>
                  <a:pt x="10800" y="16020"/>
                </a:lnTo>
                <a:cubicBezTo>
                  <a:pt x="11836" y="16020"/>
                  <a:pt x="12636" y="15289"/>
                  <a:pt x="12636" y="14366"/>
                </a:cubicBezTo>
                <a:lnTo>
                  <a:pt x="12636" y="9031"/>
                </a:lnTo>
                <a:lnTo>
                  <a:pt x="10800" y="9031"/>
                </a:lnTo>
                <a:lnTo>
                  <a:pt x="14308" y="5523"/>
                </a:lnTo>
                <a:lnTo>
                  <a:pt x="17981" y="9031"/>
                </a:lnTo>
                <a:lnTo>
                  <a:pt x="16144" y="9031"/>
                </a:lnTo>
                <a:lnTo>
                  <a:pt x="16144" y="14366"/>
                </a:lnTo>
                <a:cubicBezTo>
                  <a:pt x="16144" y="17134"/>
                  <a:pt x="13568" y="19693"/>
                  <a:pt x="10800" y="19693"/>
                </a:cubicBezTo>
                <a:lnTo>
                  <a:pt x="9138" y="19693"/>
                </a:lnTo>
                <a:cubicBezTo>
                  <a:pt x="6370" y="19693"/>
                  <a:pt x="3794" y="17134"/>
                  <a:pt x="3794" y="1436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Овал 14"/>
          <p:cNvSpPr/>
          <p:nvPr/>
        </p:nvSpPr>
        <p:spPr>
          <a:xfrm>
            <a:off x="6000840" y="4500720"/>
            <a:ext cx="1071360" cy="571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4" descr="C:\Documents and Settings\Елена\Рабочий стол\са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cc"/>
                </a:solidFill>
                <a:latin typeface="Garamond"/>
              </a:rPr>
              <a:t>Правила игры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428760" y="642960"/>
            <a:ext cx="8215200" cy="785880"/>
          </a:xfrm>
          <a:prstGeom prst="rect">
            <a:avLst/>
          </a:prstGeom>
          <a:solidFill>
            <a:srgbClr val="0099cc">
              <a:alpha val="54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1.</a:t>
            </a:r>
            <a:r>
              <a:rPr b="1" i="1" lang="ru-RU" sz="1800" spc="-1" strike="noStrike">
                <a:solidFill>
                  <a:srgbClr val="ffff00"/>
                </a:solidFill>
                <a:latin typeface="Garamond"/>
              </a:rPr>
              <a:t>В ходе игры  из четырёх вариантов ответа на вопрос  нужно найти один правильны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Прямоугольник 8"/>
          <p:cNvSpPr/>
          <p:nvPr/>
        </p:nvSpPr>
        <p:spPr>
          <a:xfrm>
            <a:off x="428760" y="1643040"/>
            <a:ext cx="8215200" cy="785880"/>
          </a:xfrm>
          <a:prstGeom prst="rect">
            <a:avLst/>
          </a:prstGeom>
          <a:solidFill>
            <a:srgbClr val="0099cc">
              <a:alpha val="49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2. Для выбора ответа необходимо нажать на  один из ответов, когда появится ладошка</a:t>
            </a:r>
            <a:r>
              <a:rPr b="1" i="1" lang="ru-RU" sz="24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Прямоугольник 9"/>
          <p:cNvSpPr/>
          <p:nvPr/>
        </p:nvSpPr>
        <p:spPr>
          <a:xfrm>
            <a:off x="428760" y="2571840"/>
            <a:ext cx="8215200" cy="785880"/>
          </a:xfrm>
          <a:prstGeom prst="rect">
            <a:avLst/>
          </a:prstGeom>
          <a:solidFill>
            <a:srgbClr val="0099cc">
              <a:alpha val="49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3.Вопросы постепенно усложняются, соответственно растет и сумма  выигрыша: от 100 до 1000000.  </a:t>
            </a:r>
            <a:r>
              <a:rPr b="1" i="1" lang="ru-RU" sz="1800" spc="-1" strike="noStrike">
                <a:solidFill>
                  <a:srgbClr val="ffff00"/>
                </a:solidFill>
                <a:latin typeface="Garamond"/>
              </a:rPr>
              <a:t>После выигрыша 1000 очков – оценка «3» , 32000 очков – оценка «4», 1000000 – оценка «5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Прямоугольник 10"/>
          <p:cNvSpPr/>
          <p:nvPr/>
        </p:nvSpPr>
        <p:spPr>
          <a:xfrm>
            <a:off x="428760" y="3571920"/>
            <a:ext cx="8215200" cy="1500120"/>
          </a:xfrm>
          <a:prstGeom prst="rect">
            <a:avLst/>
          </a:prstGeom>
          <a:solidFill>
            <a:srgbClr val="0099cc">
              <a:alpha val="48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4. Игрок может воспользоваться подсказками:                  – компьютер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уберет  два неверных варианта;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помощь учителя -                          звонок другу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-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Прямоугольник 11"/>
          <p:cNvSpPr/>
          <p:nvPr/>
        </p:nvSpPr>
        <p:spPr>
          <a:xfrm>
            <a:off x="428760" y="5286240"/>
            <a:ext cx="8215200" cy="1143000"/>
          </a:xfrm>
          <a:prstGeom prst="rect">
            <a:avLst/>
          </a:prstGeom>
          <a:solidFill>
            <a:srgbClr val="0099cc">
              <a:alpha val="49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Garamond"/>
              </a:rPr>
              <a:t>5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.</a:t>
            </a: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Garamond"/>
              </a:rPr>
              <a:t>Переход к следующему вопросу  в случае верного ответа – по щелчку на табличку с результатом, если вопрос дан неверный  - возвращаемся к началу игры         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Овал 12"/>
          <p:cNvSpPr/>
          <p:nvPr/>
        </p:nvSpPr>
        <p:spPr>
          <a:xfrm>
            <a:off x="5857920" y="3786120"/>
            <a:ext cx="1071360" cy="5716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0" descr="C:\Documents and Settings\Елена\Рабочий стол\день учит.jpg"/>
          <p:cNvPicPr/>
          <p:nvPr/>
        </p:nvPicPr>
        <p:blipFill>
          <a:blip r:embed="rId2"/>
          <a:stretch/>
        </p:blipFill>
        <p:spPr>
          <a:xfrm>
            <a:off x="2714760" y="4500720"/>
            <a:ext cx="928440" cy="57132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возврат 20">
            <a:hlinkClick r:id="" action="ppaction://hlinkshowjump?jump=previousslide"/>
          </p:cNvPr>
          <p:cNvSpPr/>
          <p:nvPr/>
        </p:nvSpPr>
        <p:spPr>
          <a:xfrm>
            <a:off x="1143000" y="592920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cc">
              <a:alpha val="78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Овал 23"/>
          <p:cNvSpPr/>
          <p:nvPr/>
        </p:nvSpPr>
        <p:spPr>
          <a:xfrm>
            <a:off x="6000840" y="4500720"/>
            <a:ext cx="1143000" cy="571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6" name="Группа 27"/>
          <p:cNvGrpSpPr/>
          <p:nvPr/>
        </p:nvGrpSpPr>
        <p:grpSpPr>
          <a:xfrm>
            <a:off x="6072120" y="4572000"/>
            <a:ext cx="864360" cy="461520"/>
            <a:chOff x="6072120" y="4572000"/>
            <a:chExt cx="864360" cy="461520"/>
          </a:xfrm>
        </p:grpSpPr>
        <p:sp>
          <p:nvSpPr>
            <p:cNvPr id="127" name="Арка 22"/>
            <p:cNvSpPr/>
            <p:nvPr/>
          </p:nvSpPr>
          <p:spPr>
            <a:xfrm rot="7310400">
              <a:off x="6563520" y="4706280"/>
              <a:ext cx="362160" cy="2268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" name="Восьмиугольник 26"/>
            <p:cNvSpPr/>
            <p:nvPr/>
          </p:nvSpPr>
          <p:spPr>
            <a:xfrm>
              <a:off x="6540480" y="4854600"/>
              <a:ext cx="136440" cy="1206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" name="Восьмиугольник 27"/>
            <p:cNvSpPr/>
            <p:nvPr/>
          </p:nvSpPr>
          <p:spPr>
            <a:xfrm>
              <a:off x="6721560" y="4572000"/>
              <a:ext cx="136440" cy="1206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0" name="Полилиния 28"/>
            <p:cNvSpPr/>
            <p:nvPr/>
          </p:nvSpPr>
          <p:spPr>
            <a:xfrm>
              <a:off x="6072120" y="4638600"/>
              <a:ext cx="465120" cy="26676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1" name="Управляющая кнопка: возврат 29">
            <a:hlinkClick r:id="rId3" action="ppaction://hlinksldjump"/>
          </p:cNvPr>
          <p:cNvSpPr/>
          <p:nvPr/>
        </p:nvSpPr>
        <p:spPr>
          <a:xfrm>
            <a:off x="8715240" y="6286680"/>
            <a:ext cx="428760" cy="5713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71320"/>
              <a:gd name="textAreaBottom" fmla="*/ 543600 h 57132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1081"/>
                </a:moveTo>
                <a:lnTo>
                  <a:pt x="7301" y="11081"/>
                </a:lnTo>
                <a:lnTo>
                  <a:pt x="7301" y="16416"/>
                </a:lnTo>
                <a:cubicBezTo>
                  <a:pt x="7301" y="17338"/>
                  <a:pt x="8102" y="18070"/>
                  <a:pt x="9138" y="18070"/>
                </a:cubicBezTo>
                <a:lnTo>
                  <a:pt x="10800" y="18070"/>
                </a:lnTo>
                <a:cubicBezTo>
                  <a:pt x="11836" y="18070"/>
                  <a:pt x="12636" y="17338"/>
                  <a:pt x="12636" y="16416"/>
                </a:cubicBezTo>
                <a:lnTo>
                  <a:pt x="12636" y="11081"/>
                </a:lnTo>
                <a:lnTo>
                  <a:pt x="10800" y="11081"/>
                </a:lnTo>
                <a:lnTo>
                  <a:pt x="14308" y="7573"/>
                </a:lnTo>
                <a:lnTo>
                  <a:pt x="17981" y="11081"/>
                </a:lnTo>
                <a:lnTo>
                  <a:pt x="16144" y="11081"/>
                </a:lnTo>
                <a:lnTo>
                  <a:pt x="16144" y="16416"/>
                </a:lnTo>
                <a:cubicBezTo>
                  <a:pt x="16144" y="19184"/>
                  <a:pt x="13568" y="21743"/>
                  <a:pt x="10800" y="21743"/>
                </a:cubicBezTo>
                <a:lnTo>
                  <a:pt x="9138" y="21743"/>
                </a:lnTo>
                <a:cubicBezTo>
                  <a:pt x="6370" y="21743"/>
                  <a:pt x="3794" y="19184"/>
                  <a:pt x="3794" y="1641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ELPH3822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ELPH3823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992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992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ELPH3823.wav" descr=""/>
          <p:cNvPicPr/>
          <p:nvPr/>
        </p:nvPicPr>
        <p:blipFill>
          <a:blip r:embed="rId1"/>
          <a:stretch/>
        </p:blipFill>
        <p:spPr>
          <a:xfrm>
            <a:off x="2428920" y="571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j0213822.wav" descr=""/>
          <p:cNvPicPr/>
          <p:nvPr/>
        </p:nvPicPr>
        <p:blipFill>
          <a:blip r:embed="rId2"/>
          <a:stretch/>
        </p:blipFill>
        <p:spPr>
          <a:xfrm>
            <a:off x="4857840" y="4643280"/>
            <a:ext cx="1214280" cy="642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2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Шестиугольник 40"/>
          <p:cNvSpPr/>
          <p:nvPr/>
        </p:nvSpPr>
        <p:spPr>
          <a:xfrm>
            <a:off x="6858000" y="1714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         16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Шестиугольник 39"/>
          <p:cNvSpPr/>
          <p:nvPr/>
        </p:nvSpPr>
        <p:spPr>
          <a:xfrm>
            <a:off x="6858000" y="2000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8            8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Шестиугольник 38"/>
          <p:cNvSpPr/>
          <p:nvPr/>
        </p:nvSpPr>
        <p:spPr>
          <a:xfrm>
            <a:off x="6858000" y="2286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7            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Шестиугольник 37"/>
          <p:cNvSpPr/>
          <p:nvPr/>
        </p:nvSpPr>
        <p:spPr>
          <a:xfrm>
            <a:off x="6858000" y="2571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6            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Шестиугольник 36"/>
          <p:cNvSpPr/>
          <p:nvPr/>
        </p:nvSpPr>
        <p:spPr>
          <a:xfrm>
            <a:off x="6858000" y="2857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5            1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Шестиугольник 35"/>
          <p:cNvSpPr/>
          <p:nvPr/>
        </p:nvSpPr>
        <p:spPr>
          <a:xfrm>
            <a:off x="6858000" y="3143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4               5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Шестиугольник 34"/>
          <p:cNvSpPr/>
          <p:nvPr/>
        </p:nvSpPr>
        <p:spPr>
          <a:xfrm>
            <a:off x="6858000" y="3429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               3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Шестиугольник 32"/>
          <p:cNvSpPr/>
          <p:nvPr/>
        </p:nvSpPr>
        <p:spPr>
          <a:xfrm>
            <a:off x="6858000" y="4000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               100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Шестиугольник 33"/>
          <p:cNvSpPr/>
          <p:nvPr/>
        </p:nvSpPr>
        <p:spPr>
          <a:xfrm>
            <a:off x="6858000" y="3714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               2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35"/>
          <p:cNvSpPr/>
          <p:nvPr/>
        </p:nvSpPr>
        <p:spPr>
          <a:xfrm>
            <a:off x="0" y="4365720"/>
            <a:ext cx="3490920" cy="1079280"/>
          </a:xfrm>
          <a:prstGeom prst="hexagon">
            <a:avLst>
              <a:gd name="adj" fmla="val 80862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пистол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39"/>
          <p:cNvSpPr/>
          <p:nvPr/>
        </p:nvSpPr>
        <p:spPr>
          <a:xfrm>
            <a:off x="250920" y="2060640"/>
            <a:ext cx="6481800" cy="1511280"/>
          </a:xfrm>
          <a:prstGeom prst="rect">
            <a:avLst/>
          </a:prstGeom>
          <a:solidFill>
            <a:srgbClr val="00b0f0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К средствам индивидуально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защиты относятс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Oval 42"/>
          <p:cNvSpPr/>
          <p:nvPr/>
        </p:nvSpPr>
        <p:spPr>
          <a:xfrm>
            <a:off x="3429000" y="285840"/>
            <a:ext cx="1285920" cy="9349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AutoShape 43"/>
          <p:cNvSpPr/>
          <p:nvPr/>
        </p:nvSpPr>
        <p:spPr>
          <a:xfrm>
            <a:off x="3780000" y="4365720"/>
            <a:ext cx="3384360" cy="1079280"/>
          </a:xfrm>
          <a:prstGeom prst="hexagon">
            <a:avLst>
              <a:gd name="adj" fmla="val 7839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противога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AutoShape 44"/>
          <p:cNvSpPr/>
          <p:nvPr/>
        </p:nvSpPr>
        <p:spPr>
          <a:xfrm>
            <a:off x="0" y="5589720"/>
            <a:ext cx="3490920" cy="1079280"/>
          </a:xfrm>
          <a:prstGeom prst="hexagon">
            <a:avLst>
              <a:gd name="adj" fmla="val 80862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огнетушите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AutoShape 45"/>
          <p:cNvSpPr/>
          <p:nvPr/>
        </p:nvSpPr>
        <p:spPr>
          <a:xfrm>
            <a:off x="3780000" y="5589720"/>
            <a:ext cx="3384360" cy="1079280"/>
          </a:xfrm>
          <a:prstGeom prst="hexagon">
            <a:avLst>
              <a:gd name="adj" fmla="val 7839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:</a:t>
            </a: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укрыт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0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161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5" name="AutoShape 55"/>
          <p:cNvSpPr/>
          <p:nvPr/>
        </p:nvSpPr>
        <p:spPr>
          <a:xfrm>
            <a:off x="0" y="1643040"/>
            <a:ext cx="6481800" cy="237636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AutoShape 56">
            <a:hlinkClick r:id="rId4" action="ppaction://hlinksldjump"/>
          </p:cNvPr>
          <p:cNvSpPr/>
          <p:nvPr/>
        </p:nvSpPr>
        <p:spPr>
          <a:xfrm>
            <a:off x="0" y="1643040"/>
            <a:ext cx="6553080" cy="28796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1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AutoShape 57"/>
          <p:cNvSpPr/>
          <p:nvPr/>
        </p:nvSpPr>
        <p:spPr>
          <a:xfrm>
            <a:off x="500040" y="1428840"/>
            <a:ext cx="7039080" cy="1643040"/>
          </a:xfrm>
          <a:prstGeom prst="wedgeRoundRectCallout">
            <a:avLst>
              <a:gd name="adj1" fmla="val -20435"/>
              <a:gd name="adj2" fmla="val -82462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a831"/>
                </a:solidFill>
                <a:latin typeface="Garamond"/>
              </a:rPr>
              <a:t>Противогаз . Не тупи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AutoShape 58"/>
          <p:cNvSpPr/>
          <p:nvPr/>
        </p:nvSpPr>
        <p:spPr>
          <a:xfrm>
            <a:off x="857160" y="1643040"/>
            <a:ext cx="7345440" cy="1857240"/>
          </a:xfrm>
          <a:prstGeom prst="wedgeRoundRectCallout">
            <a:avLst>
              <a:gd name="adj1" fmla="val -981"/>
              <a:gd name="adj2" fmla="val -99314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a831"/>
                </a:solidFill>
                <a:latin typeface="Garamond"/>
              </a:rPr>
              <a:t>в 1915 году. Изобретен русским ученым П.Д.Зелински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Rectangle 59"/>
          <p:cNvSpPr/>
          <p:nvPr/>
        </p:nvSpPr>
        <p:spPr>
          <a:xfrm>
            <a:off x="395280" y="465300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Rectangle 60"/>
          <p:cNvSpPr/>
          <p:nvPr/>
        </p:nvSpPr>
        <p:spPr>
          <a:xfrm>
            <a:off x="395280" y="587700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Rectangle 61"/>
          <p:cNvSpPr/>
          <p:nvPr/>
        </p:nvSpPr>
        <p:spPr>
          <a:xfrm>
            <a:off x="4211640" y="472428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0" descr="C:\Documents and Settings\Елена\Рабочий стол\день учит.jpg"/>
          <p:cNvPicPr/>
          <p:nvPr/>
        </p:nvPicPr>
        <p:blipFill>
          <a:blip r:embed="rId5"/>
          <a:stretch/>
        </p:blipFill>
        <p:spPr>
          <a:xfrm>
            <a:off x="3635280" y="476280"/>
            <a:ext cx="928800" cy="571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2" descr="C:\Documents and Settings\Елена\Рабочий стол\кто с телеф.jpg"/>
          <p:cNvPicPr/>
          <p:nvPr/>
        </p:nvPicPr>
        <p:blipFill>
          <a:blip r:embed="rId6"/>
          <a:stretch/>
        </p:blipFill>
        <p:spPr>
          <a:xfrm>
            <a:off x="1857240" y="285840"/>
            <a:ext cx="1428840" cy="928440"/>
          </a:xfrm>
          <a:prstGeom prst="rect">
            <a:avLst/>
          </a:prstGeom>
          <a:ln w="0">
            <a:noFill/>
          </a:ln>
        </p:spPr>
      </p:pic>
      <p:sp>
        <p:nvSpPr>
          <p:cNvPr id="174" name="Управляющая кнопка: возврат 41">
            <a:hlinkClick r:id="rId7" action="ppaction://hlinksldjump"/>
          </p:cNvPr>
          <p:cNvSpPr/>
          <p:nvPr/>
        </p:nvSpPr>
        <p:spPr>
          <a:xfrm>
            <a:off x="8643960" y="6215040"/>
            <a:ext cx="500040" cy="64296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642960"/>
              <a:gd name="textAreaBottom" fmla="*/ 610560 h 642960"/>
            </a:gdLst>
            <a:ahLst/>
            <a:rect l="textAreaLeft" t="textAreaTop" r="textAreaRight" b="textAreaBottom"/>
            <a:pathLst>
              <a:path w="21600" h="27769">
                <a:moveTo>
                  <a:pt x="0" y="0"/>
                </a:moveTo>
                <a:lnTo>
                  <a:pt x="21600" y="0"/>
                </a:lnTo>
                <a:lnTo>
                  <a:pt x="21600" y="27769"/>
                </a:lnTo>
                <a:lnTo>
                  <a:pt x="0" y="27769"/>
                </a:lnTo>
                <a:close/>
              </a:path>
              <a:path fill="lightenLess" w="21600" h="2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9">
                <a:moveTo>
                  <a:pt x="21600" y="0"/>
                </a:moveTo>
                <a:lnTo>
                  <a:pt x="21600" y="27769"/>
                </a:lnTo>
                <a:lnTo>
                  <a:pt x="20200" y="26369"/>
                </a:lnTo>
                <a:lnTo>
                  <a:pt x="20200" y="1400"/>
                </a:lnTo>
                <a:close/>
              </a:path>
              <a:path fill="darkenLess" w="21600" h="27769">
                <a:moveTo>
                  <a:pt x="21600" y="27769"/>
                </a:moveTo>
                <a:lnTo>
                  <a:pt x="0" y="27769"/>
                </a:lnTo>
                <a:lnTo>
                  <a:pt x="1400" y="26369"/>
                </a:lnTo>
                <a:lnTo>
                  <a:pt x="20200" y="26369"/>
                </a:lnTo>
                <a:close/>
              </a:path>
              <a:path fill="lighten" w="21600" h="27769">
                <a:moveTo>
                  <a:pt x="0" y="2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9"/>
                </a:lnTo>
                <a:close/>
              </a:path>
              <a:path fill="darken" w="21600" h="27769">
                <a:moveTo>
                  <a:pt x="3794" y="10577"/>
                </a:moveTo>
                <a:lnTo>
                  <a:pt x="7301" y="10577"/>
                </a:lnTo>
                <a:lnTo>
                  <a:pt x="7301" y="15913"/>
                </a:lnTo>
                <a:cubicBezTo>
                  <a:pt x="7301" y="16835"/>
                  <a:pt x="8102" y="17566"/>
                  <a:pt x="9138" y="17566"/>
                </a:cubicBezTo>
                <a:lnTo>
                  <a:pt x="10800" y="17566"/>
                </a:lnTo>
                <a:cubicBezTo>
                  <a:pt x="11836" y="17566"/>
                  <a:pt x="12636" y="16835"/>
                  <a:pt x="12636" y="15913"/>
                </a:cubicBezTo>
                <a:lnTo>
                  <a:pt x="12636" y="10577"/>
                </a:lnTo>
                <a:lnTo>
                  <a:pt x="10800" y="10577"/>
                </a:lnTo>
                <a:lnTo>
                  <a:pt x="14308" y="7070"/>
                </a:lnTo>
                <a:lnTo>
                  <a:pt x="17981" y="10577"/>
                </a:lnTo>
                <a:lnTo>
                  <a:pt x="16144" y="10577"/>
                </a:lnTo>
                <a:lnTo>
                  <a:pt x="16144" y="15913"/>
                </a:lnTo>
                <a:cubicBezTo>
                  <a:pt x="16144" y="18680"/>
                  <a:pt x="13568" y="21239"/>
                  <a:pt x="10800" y="21239"/>
                </a:cubicBezTo>
                <a:lnTo>
                  <a:pt x="9138" y="21239"/>
                </a:lnTo>
                <a:cubicBezTo>
                  <a:pt x="6370" y="21239"/>
                  <a:pt x="3794" y="18680"/>
                  <a:pt x="3794" y="15913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ELPH3853.wav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4745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992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1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4745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3992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3992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ELPH3869.wav" descr=""/>
          <p:cNvPicPr/>
          <p:nvPr/>
        </p:nvPicPr>
        <p:blipFill>
          <a:blip r:embed="rId1"/>
          <a:stretch/>
        </p:blipFill>
        <p:spPr>
          <a:xfrm>
            <a:off x="235728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j0213869.wav" descr=""/>
          <p:cNvPicPr/>
          <p:nvPr/>
        </p:nvPicPr>
        <p:blipFill>
          <a:blip r:embed="rId2"/>
          <a:stretch/>
        </p:blipFill>
        <p:spPr>
          <a:xfrm>
            <a:off x="2357280" y="5786280"/>
            <a:ext cx="438480" cy="438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8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Шестиугольник 40"/>
          <p:cNvSpPr/>
          <p:nvPr/>
        </p:nvSpPr>
        <p:spPr>
          <a:xfrm>
            <a:off x="6858000" y="1714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         16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Шестиугольник 39"/>
          <p:cNvSpPr/>
          <p:nvPr/>
        </p:nvSpPr>
        <p:spPr>
          <a:xfrm>
            <a:off x="6858000" y="2000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8            8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Шестиугольник 38"/>
          <p:cNvSpPr/>
          <p:nvPr/>
        </p:nvSpPr>
        <p:spPr>
          <a:xfrm>
            <a:off x="6858000" y="2286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7            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Шестиугольник 37"/>
          <p:cNvSpPr/>
          <p:nvPr/>
        </p:nvSpPr>
        <p:spPr>
          <a:xfrm>
            <a:off x="6858000" y="2571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6            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Шестиугольник 36"/>
          <p:cNvSpPr/>
          <p:nvPr/>
        </p:nvSpPr>
        <p:spPr>
          <a:xfrm>
            <a:off x="6858000" y="2857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5            1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Шестиугольник 35"/>
          <p:cNvSpPr/>
          <p:nvPr/>
        </p:nvSpPr>
        <p:spPr>
          <a:xfrm>
            <a:off x="6858000" y="3143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4               5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Шестиугольник 34"/>
          <p:cNvSpPr/>
          <p:nvPr/>
        </p:nvSpPr>
        <p:spPr>
          <a:xfrm>
            <a:off x="6858000" y="3429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               3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Шестиугольник 33"/>
          <p:cNvSpPr/>
          <p:nvPr/>
        </p:nvSpPr>
        <p:spPr>
          <a:xfrm>
            <a:off x="6858000" y="3714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               2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AutoShape 17"/>
          <p:cNvSpPr/>
          <p:nvPr/>
        </p:nvSpPr>
        <p:spPr>
          <a:xfrm>
            <a:off x="0" y="4365720"/>
            <a:ext cx="4356000" cy="1079280"/>
          </a:xfrm>
          <a:prstGeom prst="hexagon">
            <a:avLst>
              <a:gd name="adj" fmla="val 10090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наследствен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214200" y="2143080"/>
            <a:ext cx="6481800" cy="1224000"/>
          </a:xfrm>
          <a:prstGeom prst="rect">
            <a:avLst/>
          </a:prstGeom>
          <a:solidFill>
            <a:srgbClr val="00b0f0">
              <a:alpha val="8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Здоровье человека на 5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полностью зависит от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AutoShape 20"/>
          <p:cNvSpPr/>
          <p:nvPr/>
        </p:nvSpPr>
        <p:spPr>
          <a:xfrm>
            <a:off x="4500720" y="4365720"/>
            <a:ext cx="4032000" cy="1079280"/>
          </a:xfrm>
          <a:prstGeom prst="hexagon">
            <a:avLst>
              <a:gd name="adj" fmla="val 93396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социальног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полож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AutoShape 21"/>
          <p:cNvSpPr/>
          <p:nvPr/>
        </p:nvSpPr>
        <p:spPr>
          <a:xfrm>
            <a:off x="0" y="5516640"/>
            <a:ext cx="4284720" cy="1079280"/>
          </a:xfrm>
          <a:prstGeom prst="hexagon">
            <a:avLst>
              <a:gd name="adj" fmla="val 99249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образа жиз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AutoShape 22"/>
          <p:cNvSpPr/>
          <p:nvPr/>
        </p:nvSpPr>
        <p:spPr>
          <a:xfrm>
            <a:off x="4572000" y="5516640"/>
            <a:ext cx="3960720" cy="1079280"/>
          </a:xfrm>
          <a:prstGeom prst="hexagon">
            <a:avLst>
              <a:gd name="adj" fmla="val 9174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экологически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фактор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01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202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3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4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06" name="AutoShape 30"/>
          <p:cNvSpPr/>
          <p:nvPr/>
        </p:nvSpPr>
        <p:spPr>
          <a:xfrm>
            <a:off x="0" y="1714680"/>
            <a:ext cx="6715080" cy="22320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AutoShape 31">
            <a:hlinkClick r:id="rId4" action="ppaction://hlinksldjump"/>
          </p:cNvPr>
          <p:cNvSpPr/>
          <p:nvPr/>
        </p:nvSpPr>
        <p:spPr>
          <a:xfrm>
            <a:off x="0" y="1500120"/>
            <a:ext cx="6715080" cy="28796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2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AutoShape 32"/>
          <p:cNvSpPr/>
          <p:nvPr/>
        </p:nvSpPr>
        <p:spPr>
          <a:xfrm>
            <a:off x="357120" y="1357200"/>
            <a:ext cx="6826320" cy="1440000"/>
          </a:xfrm>
          <a:prstGeom prst="wedgeRoundRectCallout">
            <a:avLst>
              <a:gd name="adj1" fmla="val -14629"/>
              <a:gd name="adj2" fmla="val -90462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a831"/>
                </a:solidFill>
                <a:latin typeface="Garamond"/>
              </a:rPr>
              <a:t>Наверное от образа жиз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AutoShape 33"/>
          <p:cNvSpPr/>
          <p:nvPr/>
        </p:nvSpPr>
        <p:spPr>
          <a:xfrm>
            <a:off x="285840" y="1285920"/>
            <a:ext cx="6404040" cy="2071800"/>
          </a:xfrm>
          <a:prstGeom prst="wedgeRoundRectCallout">
            <a:avLst>
              <a:gd name="adj1" fmla="val 5865"/>
              <a:gd name="adj2" fmla="val -83578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a831"/>
                </a:solidFill>
                <a:latin typeface="Garamond"/>
              </a:rPr>
              <a:t>Конечно же образ жиз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Rectangle 34"/>
          <p:cNvSpPr/>
          <p:nvPr/>
        </p:nvSpPr>
        <p:spPr>
          <a:xfrm>
            <a:off x="395280" y="465300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Rectangle 35"/>
          <p:cNvSpPr/>
          <p:nvPr/>
        </p:nvSpPr>
        <p:spPr>
          <a:xfrm>
            <a:off x="39528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Rectangle 36"/>
          <p:cNvSpPr/>
          <p:nvPr/>
        </p:nvSpPr>
        <p:spPr>
          <a:xfrm>
            <a:off x="4859280" y="4581360"/>
            <a:ext cx="50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Rectangle 37"/>
          <p:cNvSpPr/>
          <p:nvPr/>
        </p:nvSpPr>
        <p:spPr>
          <a:xfrm>
            <a:off x="4932360" y="5805360"/>
            <a:ext cx="43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Picture 40" descr="C:\Documents and Settings\Елена\Рабочий стол\день учит.jpg"/>
          <p:cNvPicPr/>
          <p:nvPr/>
        </p:nvPicPr>
        <p:blipFill>
          <a:blip r:embed="rId5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2" descr="C:\Documents and Settings\Елена\Рабочий стол\кто с телеф.jpg"/>
          <p:cNvPicPr/>
          <p:nvPr/>
        </p:nvPicPr>
        <p:blipFill>
          <a:blip r:embed="rId6"/>
          <a:stretch/>
        </p:blipFill>
        <p:spPr>
          <a:xfrm>
            <a:off x="1785960" y="285840"/>
            <a:ext cx="1428840" cy="928440"/>
          </a:xfrm>
          <a:prstGeom prst="rect">
            <a:avLst/>
          </a:prstGeom>
          <a:ln w="0">
            <a:noFill/>
          </a:ln>
        </p:spPr>
      </p:pic>
      <p:sp>
        <p:nvSpPr>
          <p:cNvPr id="216" name="Управляющая кнопка: возврат 41">
            <a:hlinkClick r:id="rId7" action="ppaction://hlinksldjump"/>
          </p:cNvPr>
          <p:cNvSpPr/>
          <p:nvPr/>
        </p:nvSpPr>
        <p:spPr>
          <a:xfrm>
            <a:off x="8643960" y="6215040"/>
            <a:ext cx="500040" cy="64296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642960"/>
              <a:gd name="textAreaBottom" fmla="*/ 610560 h 642960"/>
            </a:gdLst>
            <a:ahLst/>
            <a:rect l="textAreaLeft" t="textAreaTop" r="textAreaRight" b="textAreaBottom"/>
            <a:pathLst>
              <a:path w="21600" h="27769">
                <a:moveTo>
                  <a:pt x="0" y="0"/>
                </a:moveTo>
                <a:lnTo>
                  <a:pt x="21600" y="0"/>
                </a:lnTo>
                <a:lnTo>
                  <a:pt x="21600" y="27769"/>
                </a:lnTo>
                <a:lnTo>
                  <a:pt x="0" y="27769"/>
                </a:lnTo>
                <a:close/>
              </a:path>
              <a:path fill="lightenLess" w="21600" h="2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9">
                <a:moveTo>
                  <a:pt x="21600" y="0"/>
                </a:moveTo>
                <a:lnTo>
                  <a:pt x="21600" y="27769"/>
                </a:lnTo>
                <a:lnTo>
                  <a:pt x="20200" y="26369"/>
                </a:lnTo>
                <a:lnTo>
                  <a:pt x="20200" y="1400"/>
                </a:lnTo>
                <a:close/>
              </a:path>
              <a:path fill="darkenLess" w="21600" h="27769">
                <a:moveTo>
                  <a:pt x="21600" y="27769"/>
                </a:moveTo>
                <a:lnTo>
                  <a:pt x="0" y="27769"/>
                </a:lnTo>
                <a:lnTo>
                  <a:pt x="1400" y="26369"/>
                </a:lnTo>
                <a:lnTo>
                  <a:pt x="20200" y="26369"/>
                </a:lnTo>
                <a:close/>
              </a:path>
              <a:path fill="lighten" w="21600" h="27769">
                <a:moveTo>
                  <a:pt x="0" y="2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9"/>
                </a:lnTo>
                <a:close/>
              </a:path>
              <a:path fill="darken" w="21600" h="27769">
                <a:moveTo>
                  <a:pt x="3794" y="10577"/>
                </a:moveTo>
                <a:lnTo>
                  <a:pt x="7301" y="10577"/>
                </a:lnTo>
                <a:lnTo>
                  <a:pt x="7301" y="15913"/>
                </a:lnTo>
                <a:cubicBezTo>
                  <a:pt x="7301" y="16835"/>
                  <a:pt x="8102" y="17566"/>
                  <a:pt x="9138" y="17566"/>
                </a:cubicBezTo>
                <a:lnTo>
                  <a:pt x="10800" y="17566"/>
                </a:lnTo>
                <a:cubicBezTo>
                  <a:pt x="11836" y="17566"/>
                  <a:pt x="12636" y="16835"/>
                  <a:pt x="12636" y="15913"/>
                </a:cubicBezTo>
                <a:lnTo>
                  <a:pt x="12636" y="10577"/>
                </a:lnTo>
                <a:lnTo>
                  <a:pt x="10800" y="10577"/>
                </a:lnTo>
                <a:lnTo>
                  <a:pt x="14308" y="7070"/>
                </a:lnTo>
                <a:lnTo>
                  <a:pt x="17981" y="10577"/>
                </a:lnTo>
                <a:lnTo>
                  <a:pt x="16144" y="10577"/>
                </a:lnTo>
                <a:lnTo>
                  <a:pt x="16144" y="15913"/>
                </a:lnTo>
                <a:cubicBezTo>
                  <a:pt x="16144" y="18680"/>
                  <a:pt x="13568" y="21239"/>
                  <a:pt x="10800" y="21239"/>
                </a:cubicBezTo>
                <a:lnTo>
                  <a:pt x="9138" y="21239"/>
                </a:lnTo>
                <a:cubicBezTo>
                  <a:pt x="6370" y="21239"/>
                  <a:pt x="3794" y="18680"/>
                  <a:pt x="3794" y="15913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4745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3992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23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xit" presetID="9">
                                  <p:stCondLst>
                                    <p:cond delay="6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j0213916.wav" descr=""/>
          <p:cNvPicPr/>
          <p:nvPr/>
        </p:nvPicPr>
        <p:blipFill>
          <a:blip r:embed="rId1"/>
          <a:stretch/>
        </p:blipFill>
        <p:spPr>
          <a:xfrm>
            <a:off x="1500120" y="450072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218" name="ELPH3916.wav" descr=""/>
          <p:cNvPicPr/>
          <p:nvPr/>
        </p:nvPicPr>
        <p:blipFill>
          <a:blip r:embed="rId2"/>
          <a:stretch/>
        </p:blipFill>
        <p:spPr>
          <a:xfrm>
            <a:off x="2214720" y="642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0" descr="C:\Documents and Settings\Елена\Рабочий стол\день учит.jpg"/>
          <p:cNvPicPr/>
          <p:nvPr/>
        </p:nvPicPr>
        <p:blipFill>
          <a:blip r:embed="rId3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8" descr="C:\Documents and Settings\Елена\Рабочий стол\сад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Шестиугольник 40"/>
          <p:cNvSpPr/>
          <p:nvPr/>
        </p:nvSpPr>
        <p:spPr>
          <a:xfrm>
            <a:off x="6858000" y="1714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         16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Шестиугольник 39"/>
          <p:cNvSpPr/>
          <p:nvPr/>
        </p:nvSpPr>
        <p:spPr>
          <a:xfrm>
            <a:off x="6858000" y="2000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8            8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Шестиугольник 38"/>
          <p:cNvSpPr/>
          <p:nvPr/>
        </p:nvSpPr>
        <p:spPr>
          <a:xfrm>
            <a:off x="6858000" y="2286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7            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Шестиугольник 37"/>
          <p:cNvSpPr/>
          <p:nvPr/>
        </p:nvSpPr>
        <p:spPr>
          <a:xfrm>
            <a:off x="6858000" y="2571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6            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Шестиугольник 36"/>
          <p:cNvSpPr/>
          <p:nvPr/>
        </p:nvSpPr>
        <p:spPr>
          <a:xfrm>
            <a:off x="6858000" y="2857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5            1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Шестиугольник 35"/>
          <p:cNvSpPr/>
          <p:nvPr/>
        </p:nvSpPr>
        <p:spPr>
          <a:xfrm>
            <a:off x="6858000" y="3143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4               5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Шестиугольник 34"/>
          <p:cNvSpPr/>
          <p:nvPr/>
        </p:nvSpPr>
        <p:spPr>
          <a:xfrm>
            <a:off x="6858000" y="3429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               3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0" y="4365720"/>
            <a:ext cx="3490920" cy="1079280"/>
          </a:xfrm>
          <a:prstGeom prst="hexagon">
            <a:avLst>
              <a:gd name="adj" fmla="val 80862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директ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Rectangle 18"/>
          <p:cNvSpPr/>
          <p:nvPr/>
        </p:nvSpPr>
        <p:spPr>
          <a:xfrm>
            <a:off x="0" y="1571760"/>
            <a:ext cx="6767640" cy="1939680"/>
          </a:xfrm>
          <a:prstGeom prst="rect">
            <a:avLst/>
          </a:prstGeom>
          <a:solidFill>
            <a:srgbClr val="00b0f0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Комиссию по ЧС в школ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возглавляет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3780000" y="4365720"/>
            <a:ext cx="3384360" cy="1079280"/>
          </a:xfrm>
          <a:prstGeom prst="hexagon">
            <a:avLst>
              <a:gd name="adj" fmla="val 7839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учите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ОБЖ </a:t>
            </a: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0" y="5589720"/>
            <a:ext cx="3490920" cy="1079280"/>
          </a:xfrm>
          <a:prstGeom prst="hexagon">
            <a:avLst>
              <a:gd name="adj" fmla="val 80862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завхо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AutoShape 22"/>
          <p:cNvSpPr/>
          <p:nvPr/>
        </p:nvSpPr>
        <p:spPr>
          <a:xfrm>
            <a:off x="3780000" y="5589720"/>
            <a:ext cx="3384360" cy="1079280"/>
          </a:xfrm>
          <a:prstGeom prst="hexagon">
            <a:avLst>
              <a:gd name="adj" fmla="val 7839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учите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физ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1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242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3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4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5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46" name="AutoShape 30"/>
          <p:cNvSpPr/>
          <p:nvPr/>
        </p:nvSpPr>
        <p:spPr>
          <a:xfrm>
            <a:off x="0" y="1285920"/>
            <a:ext cx="6786720" cy="25718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AutoShape 31">
            <a:hlinkClick r:id="rId5" action="ppaction://hlinksldjump"/>
          </p:cNvPr>
          <p:cNvSpPr/>
          <p:nvPr/>
        </p:nvSpPr>
        <p:spPr>
          <a:xfrm>
            <a:off x="0" y="1285920"/>
            <a:ext cx="6858000" cy="28796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3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AutoShape 32"/>
          <p:cNvSpPr/>
          <p:nvPr/>
        </p:nvSpPr>
        <p:spPr>
          <a:xfrm>
            <a:off x="785880" y="1357200"/>
            <a:ext cx="6041880" cy="1714680"/>
          </a:xfrm>
          <a:prstGeom prst="wedgeRoundRectCallout">
            <a:avLst>
              <a:gd name="adj1" fmla="val -18995"/>
              <a:gd name="adj2" fmla="val -88425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Точно не знаю, скорей всего директор школ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AutoShape 33"/>
          <p:cNvSpPr/>
          <p:nvPr/>
        </p:nvSpPr>
        <p:spPr>
          <a:xfrm>
            <a:off x="571680" y="1643040"/>
            <a:ext cx="6260760" cy="1571760"/>
          </a:xfrm>
          <a:prstGeom prst="wedgeRoundRectCallout">
            <a:avLst>
              <a:gd name="adj1" fmla="val 6287"/>
              <a:gd name="adj2" fmla="val -89611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a831"/>
                </a:solidFill>
                <a:latin typeface="Garamond"/>
              </a:rPr>
              <a:t>Руководитель учре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Rectangle 34"/>
          <p:cNvSpPr/>
          <p:nvPr/>
        </p:nvSpPr>
        <p:spPr>
          <a:xfrm>
            <a:off x="324000" y="465300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Rectangle 35"/>
          <p:cNvSpPr/>
          <p:nvPr/>
        </p:nvSpPr>
        <p:spPr>
          <a:xfrm>
            <a:off x="395280" y="587700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Rectangle 36"/>
          <p:cNvSpPr/>
          <p:nvPr/>
        </p:nvSpPr>
        <p:spPr>
          <a:xfrm>
            <a:off x="3995640" y="472428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Rectangle 37"/>
          <p:cNvSpPr/>
          <p:nvPr/>
        </p:nvSpPr>
        <p:spPr>
          <a:xfrm>
            <a:off x="4140360" y="595008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4" name="Picture 42" descr="C:\Documents and Settings\Елена\Рабочий стол\кто с телеф.jpg"/>
          <p:cNvPicPr/>
          <p:nvPr/>
        </p:nvPicPr>
        <p:blipFill>
          <a:blip r:embed="rId6"/>
          <a:stretch/>
        </p:blipFill>
        <p:spPr>
          <a:xfrm>
            <a:off x="1785960" y="285840"/>
            <a:ext cx="1428840" cy="928440"/>
          </a:xfrm>
          <a:prstGeom prst="rect">
            <a:avLst/>
          </a:prstGeom>
          <a:ln w="0">
            <a:noFill/>
          </a:ln>
        </p:spPr>
      </p:pic>
      <p:sp>
        <p:nvSpPr>
          <p:cNvPr id="255" name="Oval 19"/>
          <p:cNvSpPr/>
          <p:nvPr/>
        </p:nvSpPr>
        <p:spPr>
          <a:xfrm>
            <a:off x="3419640" y="333360"/>
            <a:ext cx="136836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6" name="Picture 40" descr="C:\Documents and Settings\Елена\Рабочий стол\день учит.jpg"/>
          <p:cNvPicPr/>
          <p:nvPr/>
        </p:nvPicPr>
        <p:blipFill>
          <a:blip r:embed="rId7"/>
          <a:stretch/>
        </p:blipFill>
        <p:spPr>
          <a:xfrm>
            <a:off x="3635280" y="476280"/>
            <a:ext cx="928800" cy="571320"/>
          </a:xfrm>
          <a:prstGeom prst="rect">
            <a:avLst/>
          </a:prstGeom>
          <a:ln w="0">
            <a:noFill/>
          </a:ln>
        </p:spPr>
      </p:pic>
      <p:sp>
        <p:nvSpPr>
          <p:cNvPr id="257" name="Управляющая кнопка: возврат 41">
            <a:hlinkClick r:id="rId8" action="ppaction://hlinksldjump"/>
          </p:cNvPr>
          <p:cNvSpPr/>
          <p:nvPr/>
        </p:nvSpPr>
        <p:spPr>
          <a:xfrm>
            <a:off x="8715240" y="6286680"/>
            <a:ext cx="428760" cy="5713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71320"/>
              <a:gd name="textAreaBottom" fmla="*/ 543600 h 57132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1081"/>
                </a:moveTo>
                <a:lnTo>
                  <a:pt x="7301" y="11081"/>
                </a:lnTo>
                <a:lnTo>
                  <a:pt x="7301" y="16416"/>
                </a:lnTo>
                <a:cubicBezTo>
                  <a:pt x="7301" y="17338"/>
                  <a:pt x="8102" y="18070"/>
                  <a:pt x="9138" y="18070"/>
                </a:cubicBezTo>
                <a:lnTo>
                  <a:pt x="10800" y="18070"/>
                </a:lnTo>
                <a:cubicBezTo>
                  <a:pt x="11836" y="18070"/>
                  <a:pt x="12636" y="17338"/>
                  <a:pt x="12636" y="16416"/>
                </a:cubicBezTo>
                <a:lnTo>
                  <a:pt x="12636" y="11081"/>
                </a:lnTo>
                <a:lnTo>
                  <a:pt x="10800" y="11081"/>
                </a:lnTo>
                <a:lnTo>
                  <a:pt x="14308" y="7573"/>
                </a:lnTo>
                <a:lnTo>
                  <a:pt x="17981" y="11081"/>
                </a:lnTo>
                <a:lnTo>
                  <a:pt x="16144" y="11081"/>
                </a:lnTo>
                <a:lnTo>
                  <a:pt x="16144" y="16416"/>
                </a:lnTo>
                <a:cubicBezTo>
                  <a:pt x="16144" y="19184"/>
                  <a:pt x="13568" y="21743"/>
                  <a:pt x="10800" y="21743"/>
                </a:cubicBezTo>
                <a:lnTo>
                  <a:pt x="9138" y="21743"/>
                </a:lnTo>
                <a:cubicBezTo>
                  <a:pt x="6370" y="21743"/>
                  <a:pt x="3794" y="19184"/>
                  <a:pt x="3794" y="1641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4745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22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3992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340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34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ELPH3947.wav" descr=""/>
          <p:cNvPicPr/>
          <p:nvPr/>
        </p:nvPicPr>
        <p:blipFill>
          <a:blip r:embed="rId1"/>
          <a:stretch/>
        </p:blipFill>
        <p:spPr>
          <a:xfrm>
            <a:off x="242892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9" name="j0213947.wav" descr=""/>
          <p:cNvPicPr/>
          <p:nvPr/>
        </p:nvPicPr>
        <p:blipFill>
          <a:blip r:embed="rId2"/>
          <a:stretch/>
        </p:blipFill>
        <p:spPr>
          <a:xfrm>
            <a:off x="2286000" y="6072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9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Шестиугольник 40"/>
          <p:cNvSpPr/>
          <p:nvPr/>
        </p:nvSpPr>
        <p:spPr>
          <a:xfrm>
            <a:off x="6858000" y="1714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         16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Шестиугольник 39"/>
          <p:cNvSpPr/>
          <p:nvPr/>
        </p:nvSpPr>
        <p:spPr>
          <a:xfrm>
            <a:off x="6858000" y="2000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8            8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Шестиугольник 38"/>
          <p:cNvSpPr/>
          <p:nvPr/>
        </p:nvSpPr>
        <p:spPr>
          <a:xfrm>
            <a:off x="6858000" y="2286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7            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Шестиугольник 37"/>
          <p:cNvSpPr/>
          <p:nvPr/>
        </p:nvSpPr>
        <p:spPr>
          <a:xfrm>
            <a:off x="6858000" y="2571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6            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Шестиугольник 36"/>
          <p:cNvSpPr/>
          <p:nvPr/>
        </p:nvSpPr>
        <p:spPr>
          <a:xfrm>
            <a:off x="6858000" y="2857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5            1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Шестиугольник 35"/>
          <p:cNvSpPr/>
          <p:nvPr/>
        </p:nvSpPr>
        <p:spPr>
          <a:xfrm>
            <a:off x="6858000" y="3143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4               5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AutoShape 17"/>
          <p:cNvSpPr/>
          <p:nvPr/>
        </p:nvSpPr>
        <p:spPr>
          <a:xfrm>
            <a:off x="0" y="4365720"/>
            <a:ext cx="4067280" cy="1079280"/>
          </a:xfrm>
          <a:prstGeom prst="hexagon">
            <a:avLst>
              <a:gd name="adj" fmla="val 94213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с 12 л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214200" y="1428840"/>
            <a:ext cx="6553440" cy="2286000"/>
          </a:xfrm>
          <a:prstGeom prst="rect">
            <a:avLst/>
          </a:prstGeom>
          <a:solidFill>
            <a:srgbClr val="00b0f0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Book Antiqua"/>
              </a:rPr>
              <a:t>С какого возраста разрешается управлять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Book Antiqua"/>
              </a:rPr>
              <a:t>велосипедом при движении по дорогам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AutoShape 20"/>
          <p:cNvSpPr/>
          <p:nvPr/>
        </p:nvSpPr>
        <p:spPr>
          <a:xfrm>
            <a:off x="4427640" y="4365720"/>
            <a:ext cx="4105080" cy="1150920"/>
          </a:xfrm>
          <a:prstGeom prst="hexagon">
            <a:avLst>
              <a:gd name="adj" fmla="val 89170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с 16 л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AutoShape 21"/>
          <p:cNvSpPr/>
          <p:nvPr/>
        </p:nvSpPr>
        <p:spPr>
          <a:xfrm>
            <a:off x="0" y="5589720"/>
            <a:ext cx="4140360" cy="1079280"/>
          </a:xfrm>
          <a:prstGeom prst="hexagon">
            <a:avLst>
              <a:gd name="adj" fmla="val 95906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с 14 л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AutoShape 22"/>
          <p:cNvSpPr/>
          <p:nvPr/>
        </p:nvSpPr>
        <p:spPr>
          <a:xfrm>
            <a:off x="4643280" y="5589720"/>
            <a:ext cx="3889440" cy="1079280"/>
          </a:xfrm>
          <a:prstGeom prst="hexagon">
            <a:avLst>
              <a:gd name="adj" fmla="val 90093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с 18 л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Овал 9"/>
          <p:cNvSpPr/>
          <p:nvPr/>
        </p:nvSpPr>
        <p:spPr>
          <a:xfrm>
            <a:off x="214200" y="35712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81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282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3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4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5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86" name="AutoShape 30"/>
          <p:cNvSpPr/>
          <p:nvPr/>
        </p:nvSpPr>
        <p:spPr>
          <a:xfrm>
            <a:off x="0" y="1000080"/>
            <a:ext cx="6786720" cy="307188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AutoShape 31">
            <a:hlinkClick r:id="rId4" action="ppaction://hlinksldjump"/>
          </p:cNvPr>
          <p:cNvSpPr/>
          <p:nvPr/>
        </p:nvSpPr>
        <p:spPr>
          <a:xfrm>
            <a:off x="0" y="928800"/>
            <a:ext cx="6786720" cy="314316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5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AutoShape 32"/>
          <p:cNvSpPr/>
          <p:nvPr/>
        </p:nvSpPr>
        <p:spPr>
          <a:xfrm>
            <a:off x="785880" y="1500120"/>
            <a:ext cx="5392800" cy="1440000"/>
          </a:xfrm>
          <a:prstGeom prst="wedgeRoundRectCallout">
            <a:avLst>
              <a:gd name="adj1" fmla="val -17708"/>
              <a:gd name="adj2" fmla="val -82856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По-моему с 14 л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AutoShape 33"/>
          <p:cNvSpPr/>
          <p:nvPr/>
        </p:nvSpPr>
        <p:spPr>
          <a:xfrm>
            <a:off x="857160" y="1571760"/>
            <a:ext cx="5761080" cy="1795320"/>
          </a:xfrm>
          <a:prstGeom prst="wedgeRoundRectCallout">
            <a:avLst>
              <a:gd name="adj1" fmla="val 8078"/>
              <a:gd name="adj2" fmla="val -87638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                           </a:t>
            </a: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С 14 лет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Rectangle 34"/>
          <p:cNvSpPr/>
          <p:nvPr/>
        </p:nvSpPr>
        <p:spPr>
          <a:xfrm>
            <a:off x="324000" y="4653000"/>
            <a:ext cx="502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Rectangle 35"/>
          <p:cNvSpPr/>
          <p:nvPr/>
        </p:nvSpPr>
        <p:spPr>
          <a:xfrm>
            <a:off x="395280" y="587700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4859280" y="472428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Rectangle 37"/>
          <p:cNvSpPr/>
          <p:nvPr/>
        </p:nvSpPr>
        <p:spPr>
          <a:xfrm>
            <a:off x="4932360" y="595008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4" name="Picture 40" descr="C:\Documents and Settings\Елена\Рабочий стол\день учит.jpg"/>
          <p:cNvPicPr/>
          <p:nvPr/>
        </p:nvPicPr>
        <p:blipFill>
          <a:blip r:embed="rId5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2" descr="C:\Documents and Settings\Елена\Рабочий стол\кто с телеф.jpg"/>
          <p:cNvPicPr/>
          <p:nvPr/>
        </p:nvPicPr>
        <p:blipFill>
          <a:blip r:embed="rId6"/>
          <a:stretch/>
        </p:blipFill>
        <p:spPr>
          <a:xfrm>
            <a:off x="1714680" y="285840"/>
            <a:ext cx="1428480" cy="928440"/>
          </a:xfrm>
          <a:prstGeom prst="rect">
            <a:avLst/>
          </a:prstGeom>
          <a:ln w="0">
            <a:noFill/>
          </a:ln>
        </p:spPr>
      </p:pic>
      <p:sp>
        <p:nvSpPr>
          <p:cNvPr id="296" name="Управляющая кнопка: возврат 41">
            <a:hlinkClick r:id="rId7" action="ppaction://hlinksldjump"/>
          </p:cNvPr>
          <p:cNvSpPr/>
          <p:nvPr/>
        </p:nvSpPr>
        <p:spPr>
          <a:xfrm>
            <a:off x="8643960" y="6215040"/>
            <a:ext cx="500040" cy="64296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642960"/>
              <a:gd name="textAreaBottom" fmla="*/ 610560 h 642960"/>
            </a:gdLst>
            <a:ahLst/>
            <a:rect l="textAreaLeft" t="textAreaTop" r="textAreaRight" b="textAreaBottom"/>
            <a:pathLst>
              <a:path w="21600" h="27769">
                <a:moveTo>
                  <a:pt x="0" y="0"/>
                </a:moveTo>
                <a:lnTo>
                  <a:pt x="21600" y="0"/>
                </a:lnTo>
                <a:lnTo>
                  <a:pt x="21600" y="27769"/>
                </a:lnTo>
                <a:lnTo>
                  <a:pt x="0" y="27769"/>
                </a:lnTo>
                <a:close/>
              </a:path>
              <a:path fill="lightenLess" w="21600" h="2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9">
                <a:moveTo>
                  <a:pt x="21600" y="0"/>
                </a:moveTo>
                <a:lnTo>
                  <a:pt x="21600" y="27769"/>
                </a:lnTo>
                <a:lnTo>
                  <a:pt x="20200" y="26369"/>
                </a:lnTo>
                <a:lnTo>
                  <a:pt x="20200" y="1400"/>
                </a:lnTo>
                <a:close/>
              </a:path>
              <a:path fill="darkenLess" w="21600" h="27769">
                <a:moveTo>
                  <a:pt x="21600" y="27769"/>
                </a:moveTo>
                <a:lnTo>
                  <a:pt x="0" y="27769"/>
                </a:lnTo>
                <a:lnTo>
                  <a:pt x="1400" y="26369"/>
                </a:lnTo>
                <a:lnTo>
                  <a:pt x="20200" y="26369"/>
                </a:lnTo>
                <a:close/>
              </a:path>
              <a:path fill="lighten" w="21600" h="27769">
                <a:moveTo>
                  <a:pt x="0" y="2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9"/>
                </a:lnTo>
                <a:close/>
              </a:path>
              <a:path fill="darken" w="21600" h="27769">
                <a:moveTo>
                  <a:pt x="3794" y="10577"/>
                </a:moveTo>
                <a:lnTo>
                  <a:pt x="7301" y="10577"/>
                </a:lnTo>
                <a:lnTo>
                  <a:pt x="7301" y="15913"/>
                </a:lnTo>
                <a:cubicBezTo>
                  <a:pt x="7301" y="16835"/>
                  <a:pt x="8102" y="17566"/>
                  <a:pt x="9138" y="17566"/>
                </a:cubicBezTo>
                <a:lnTo>
                  <a:pt x="10800" y="17566"/>
                </a:lnTo>
                <a:cubicBezTo>
                  <a:pt x="11836" y="17566"/>
                  <a:pt x="12636" y="16835"/>
                  <a:pt x="12636" y="15913"/>
                </a:cubicBezTo>
                <a:lnTo>
                  <a:pt x="12636" y="10577"/>
                </a:lnTo>
                <a:lnTo>
                  <a:pt x="10800" y="10577"/>
                </a:lnTo>
                <a:lnTo>
                  <a:pt x="14308" y="7070"/>
                </a:lnTo>
                <a:lnTo>
                  <a:pt x="17981" y="10577"/>
                </a:lnTo>
                <a:lnTo>
                  <a:pt x="16144" y="10577"/>
                </a:lnTo>
                <a:lnTo>
                  <a:pt x="16144" y="15913"/>
                </a:lnTo>
                <a:cubicBezTo>
                  <a:pt x="16144" y="18680"/>
                  <a:pt x="13568" y="21239"/>
                  <a:pt x="10800" y="21239"/>
                </a:cubicBezTo>
                <a:lnTo>
                  <a:pt x="9138" y="21239"/>
                </a:lnTo>
                <a:cubicBezTo>
                  <a:pt x="6370" y="21239"/>
                  <a:pt x="3794" y="18680"/>
                  <a:pt x="3794" y="15913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382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4745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4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409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435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4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3992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453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57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6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ELPH3994.wav" descr=""/>
          <p:cNvPicPr/>
          <p:nvPr/>
        </p:nvPicPr>
        <p:blipFill>
          <a:blip r:embed="rId1"/>
          <a:stretch/>
        </p:blipFill>
        <p:spPr>
          <a:xfrm>
            <a:off x="242892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8" name="j0213994.wav" descr=""/>
          <p:cNvPicPr/>
          <p:nvPr/>
        </p:nvPicPr>
        <p:blipFill>
          <a:blip r:embed="rId2"/>
          <a:stretch/>
        </p:blipFill>
        <p:spPr>
          <a:xfrm>
            <a:off x="6572160" y="6072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9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Шестиугольник 40"/>
          <p:cNvSpPr/>
          <p:nvPr/>
        </p:nvSpPr>
        <p:spPr>
          <a:xfrm>
            <a:off x="6858000" y="1714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         16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Шестиугольник 39"/>
          <p:cNvSpPr/>
          <p:nvPr/>
        </p:nvSpPr>
        <p:spPr>
          <a:xfrm>
            <a:off x="6858000" y="2000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8            8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Шестиугольник 38"/>
          <p:cNvSpPr/>
          <p:nvPr/>
        </p:nvSpPr>
        <p:spPr>
          <a:xfrm>
            <a:off x="6858000" y="2286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7            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Шестиугольник 37"/>
          <p:cNvSpPr/>
          <p:nvPr/>
        </p:nvSpPr>
        <p:spPr>
          <a:xfrm>
            <a:off x="6858000" y="2571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6            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Шестиугольник 36"/>
          <p:cNvSpPr/>
          <p:nvPr/>
        </p:nvSpPr>
        <p:spPr>
          <a:xfrm>
            <a:off x="6858000" y="2857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5            1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AutoShape 17"/>
          <p:cNvSpPr/>
          <p:nvPr/>
        </p:nvSpPr>
        <p:spPr>
          <a:xfrm>
            <a:off x="0" y="4365720"/>
            <a:ext cx="4284720" cy="1079280"/>
          </a:xfrm>
          <a:prstGeom prst="hexagon">
            <a:avLst>
              <a:gd name="adj" fmla="val 99249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цветочна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пыльц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Rectangle 18"/>
          <p:cNvSpPr/>
          <p:nvPr/>
        </p:nvSpPr>
        <p:spPr>
          <a:xfrm>
            <a:off x="214200" y="1571760"/>
            <a:ext cx="6553440" cy="1643040"/>
          </a:xfrm>
          <a:prstGeom prst="rect">
            <a:avLst/>
          </a:prstGeom>
          <a:solidFill>
            <a:srgbClr val="00b0f0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Естественным источнико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ионизирующих излучени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является 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AutoShape 20"/>
          <p:cNvSpPr/>
          <p:nvPr/>
        </p:nvSpPr>
        <p:spPr>
          <a:xfrm>
            <a:off x="4427640" y="4365720"/>
            <a:ext cx="4716360" cy="1150920"/>
          </a:xfrm>
          <a:prstGeom prst="hexagon">
            <a:avLst>
              <a:gd name="adj" fmla="val 10244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злучение солнц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AutoShape 21"/>
          <p:cNvSpPr/>
          <p:nvPr/>
        </p:nvSpPr>
        <p:spPr>
          <a:xfrm>
            <a:off x="0" y="5589720"/>
            <a:ext cx="4427640" cy="1079280"/>
          </a:xfrm>
          <a:prstGeom prst="hexagon">
            <a:avLst>
              <a:gd name="adj" fmla="val 102560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злучение луны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AutoShape 22"/>
          <p:cNvSpPr/>
          <p:nvPr/>
        </p:nvSpPr>
        <p:spPr>
          <a:xfrm>
            <a:off x="4643280" y="5589720"/>
            <a:ext cx="4500720" cy="1079280"/>
          </a:xfrm>
          <a:prstGeom prst="hexagon">
            <a:avLst>
              <a:gd name="adj" fmla="val 104253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агнитное пол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зем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19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320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1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2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3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24" name="AutoShape 30"/>
          <p:cNvSpPr/>
          <p:nvPr/>
        </p:nvSpPr>
        <p:spPr>
          <a:xfrm>
            <a:off x="0" y="785880"/>
            <a:ext cx="6715080" cy="32148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AutoShape 31">
            <a:hlinkClick r:id="rId4" action="ppaction://hlinksldjump"/>
          </p:cNvPr>
          <p:cNvSpPr/>
          <p:nvPr/>
        </p:nvSpPr>
        <p:spPr>
          <a:xfrm>
            <a:off x="0" y="928800"/>
            <a:ext cx="6858000" cy="28796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1000 очков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ервая несгораемая сумма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AutoShape 32"/>
          <p:cNvSpPr/>
          <p:nvPr/>
        </p:nvSpPr>
        <p:spPr>
          <a:xfrm>
            <a:off x="0" y="1643040"/>
            <a:ext cx="6821640" cy="1738440"/>
          </a:xfrm>
          <a:prstGeom prst="wedgeRoundRectCallout">
            <a:avLst>
              <a:gd name="adj1" fmla="val -9972"/>
              <a:gd name="adj2" fmla="val -88083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Затрудняюсь ответить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AutoShape 33"/>
          <p:cNvSpPr/>
          <p:nvPr/>
        </p:nvSpPr>
        <p:spPr>
          <a:xfrm>
            <a:off x="0" y="1571760"/>
            <a:ext cx="5761080" cy="1296720"/>
          </a:xfrm>
          <a:prstGeom prst="wedgeRoundRectCallout">
            <a:avLst>
              <a:gd name="adj1" fmla="val 18199"/>
              <a:gd name="adj2" fmla="val -96754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Магнитное поле зем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Rectangle 34"/>
          <p:cNvSpPr/>
          <p:nvPr/>
        </p:nvSpPr>
        <p:spPr>
          <a:xfrm>
            <a:off x="395280" y="465300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Rectangle 35"/>
          <p:cNvSpPr/>
          <p:nvPr/>
        </p:nvSpPr>
        <p:spPr>
          <a:xfrm>
            <a:off x="395280" y="5950080"/>
            <a:ext cx="431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Rectangle 36"/>
          <p:cNvSpPr/>
          <p:nvPr/>
        </p:nvSpPr>
        <p:spPr>
          <a:xfrm>
            <a:off x="4859280" y="479736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Rectangle 38"/>
          <p:cNvSpPr/>
          <p:nvPr/>
        </p:nvSpPr>
        <p:spPr>
          <a:xfrm>
            <a:off x="4932360" y="595008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2" name="Picture 40" descr="C:\Documents and Settings\Елена\Рабочий стол\день учит.jpg"/>
          <p:cNvPicPr/>
          <p:nvPr/>
        </p:nvPicPr>
        <p:blipFill>
          <a:blip r:embed="rId6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2" descr="C:\Documents and Settings\Елена\Рабочий стол\кто с телеф.jpg"/>
          <p:cNvPicPr/>
          <p:nvPr/>
        </p:nvPicPr>
        <p:blipFill>
          <a:blip r:embed="rId7"/>
          <a:stretch/>
        </p:blipFill>
        <p:spPr>
          <a:xfrm>
            <a:off x="1763640" y="333360"/>
            <a:ext cx="1428840" cy="928800"/>
          </a:xfrm>
          <a:prstGeom prst="rect">
            <a:avLst/>
          </a:prstGeom>
          <a:ln w="0">
            <a:noFill/>
          </a:ln>
        </p:spPr>
      </p:pic>
      <p:sp>
        <p:nvSpPr>
          <p:cNvPr id="334" name="Овал 41"/>
          <p:cNvSpPr/>
          <p:nvPr/>
        </p:nvSpPr>
        <p:spPr>
          <a:xfrm>
            <a:off x="6858000" y="3286080"/>
            <a:ext cx="2286000" cy="1000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73"/>
                </a:solidFill>
                <a:latin typeface="Garamond"/>
              </a:rPr>
              <a:t>Результат- оцен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Прямоугольник 44"/>
          <p:cNvSpPr/>
          <p:nvPr/>
        </p:nvSpPr>
        <p:spPr>
          <a:xfrm>
            <a:off x="7572240" y="3357720"/>
            <a:ext cx="857520" cy="785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673"/>
                </a:solidFill>
                <a:latin typeface="Garamond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Управляющая кнопка: возврат 45">
            <a:hlinkClick r:id="rId8" action="ppaction://hlinksldjump"/>
          </p:cNvPr>
          <p:cNvSpPr/>
          <p:nvPr/>
        </p:nvSpPr>
        <p:spPr>
          <a:xfrm>
            <a:off x="8786880" y="6286680"/>
            <a:ext cx="357120" cy="5713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571320"/>
              <a:gd name="textAreaBottom" fmla="*/ 548280 h 571320"/>
            </a:gdLst>
            <a:ahLst/>
            <a:rect l="textAreaLeft" t="textAreaTop" r="textAreaRight" b="textAreaBottom"/>
            <a:pathLst>
              <a:path w="21600" h="34543">
                <a:moveTo>
                  <a:pt x="0" y="0"/>
                </a:moveTo>
                <a:lnTo>
                  <a:pt x="21600" y="0"/>
                </a:lnTo>
                <a:lnTo>
                  <a:pt x="21600" y="34543"/>
                </a:lnTo>
                <a:lnTo>
                  <a:pt x="0" y="34543"/>
                </a:lnTo>
                <a:close/>
              </a:path>
              <a:path fill="lightenLess" w="21600" h="345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3">
                <a:moveTo>
                  <a:pt x="21600" y="0"/>
                </a:moveTo>
                <a:lnTo>
                  <a:pt x="21600" y="34543"/>
                </a:lnTo>
                <a:lnTo>
                  <a:pt x="20200" y="33143"/>
                </a:lnTo>
                <a:lnTo>
                  <a:pt x="20200" y="1400"/>
                </a:lnTo>
                <a:close/>
              </a:path>
              <a:path fill="darkenLess" w="21600" h="34543">
                <a:moveTo>
                  <a:pt x="21600" y="34543"/>
                </a:moveTo>
                <a:lnTo>
                  <a:pt x="0" y="34543"/>
                </a:lnTo>
                <a:lnTo>
                  <a:pt x="1400" y="33143"/>
                </a:lnTo>
                <a:lnTo>
                  <a:pt x="20200" y="33143"/>
                </a:lnTo>
                <a:close/>
              </a:path>
              <a:path fill="lighten" w="21600" h="34543">
                <a:moveTo>
                  <a:pt x="0" y="34543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3"/>
                </a:lnTo>
                <a:close/>
              </a:path>
              <a:path fill="darken" w="21600" h="34543">
                <a:moveTo>
                  <a:pt x="3794" y="13964"/>
                </a:moveTo>
                <a:lnTo>
                  <a:pt x="7301" y="13964"/>
                </a:lnTo>
                <a:lnTo>
                  <a:pt x="7301" y="19299"/>
                </a:lnTo>
                <a:cubicBezTo>
                  <a:pt x="7301" y="20222"/>
                  <a:pt x="8102" y="20953"/>
                  <a:pt x="9138" y="20953"/>
                </a:cubicBezTo>
                <a:lnTo>
                  <a:pt x="10800" y="20953"/>
                </a:lnTo>
                <a:cubicBezTo>
                  <a:pt x="11836" y="20953"/>
                  <a:pt x="12636" y="20222"/>
                  <a:pt x="12636" y="19299"/>
                </a:cubicBezTo>
                <a:lnTo>
                  <a:pt x="12636" y="13964"/>
                </a:lnTo>
                <a:lnTo>
                  <a:pt x="10800" y="13964"/>
                </a:lnTo>
                <a:lnTo>
                  <a:pt x="14308" y="10456"/>
                </a:lnTo>
                <a:lnTo>
                  <a:pt x="17981" y="13964"/>
                </a:lnTo>
                <a:lnTo>
                  <a:pt x="16144" y="13964"/>
                </a:lnTo>
                <a:lnTo>
                  <a:pt x="16144" y="19299"/>
                </a:lnTo>
                <a:cubicBezTo>
                  <a:pt x="16144" y="22067"/>
                  <a:pt x="13568" y="24626"/>
                  <a:pt x="10800" y="24626"/>
                </a:cubicBezTo>
                <a:lnTo>
                  <a:pt x="9138" y="24626"/>
                </a:lnTo>
                <a:cubicBezTo>
                  <a:pt x="6370" y="24626"/>
                  <a:pt x="3794" y="22067"/>
                  <a:pt x="3794" y="19299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473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4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4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4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506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5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7" dur="4745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532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7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557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56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5" dur="3992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575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579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8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594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ELPH4041.wav" descr=""/>
          <p:cNvPicPr/>
          <p:nvPr/>
        </p:nvPicPr>
        <p:blipFill>
          <a:blip r:embed="rId1"/>
          <a:stretch/>
        </p:blipFill>
        <p:spPr>
          <a:xfrm>
            <a:off x="2286000" y="857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8" name="j0214041.wav" descr=""/>
          <p:cNvPicPr/>
          <p:nvPr/>
        </p:nvPicPr>
        <p:blipFill>
          <a:blip r:embed="rId2"/>
          <a:stretch/>
        </p:blipFill>
        <p:spPr>
          <a:xfrm>
            <a:off x="2428920" y="4429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8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Шестиугольник 40"/>
          <p:cNvSpPr/>
          <p:nvPr/>
        </p:nvSpPr>
        <p:spPr>
          <a:xfrm>
            <a:off x="6858000" y="1714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         16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Шестиугольник 39"/>
          <p:cNvSpPr/>
          <p:nvPr/>
        </p:nvSpPr>
        <p:spPr>
          <a:xfrm>
            <a:off x="6858000" y="2000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8            8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Шестиугольник 38"/>
          <p:cNvSpPr/>
          <p:nvPr/>
        </p:nvSpPr>
        <p:spPr>
          <a:xfrm>
            <a:off x="6858000" y="2286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7            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Шестиугольник 37"/>
          <p:cNvSpPr/>
          <p:nvPr/>
        </p:nvSpPr>
        <p:spPr>
          <a:xfrm>
            <a:off x="6858000" y="2571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6            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AutoShape 17"/>
          <p:cNvSpPr/>
          <p:nvPr/>
        </p:nvSpPr>
        <p:spPr>
          <a:xfrm>
            <a:off x="0" y="3645000"/>
            <a:ext cx="4356000" cy="1584360"/>
          </a:xfrm>
          <a:prstGeom prst="hexagon">
            <a:avLst>
              <a:gd name="adj" fmla="val 6873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УРАГА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Rectangle 18"/>
          <p:cNvSpPr/>
          <p:nvPr/>
        </p:nvSpPr>
        <p:spPr>
          <a:xfrm>
            <a:off x="214200" y="1785960"/>
            <a:ext cx="6553440" cy="1152360"/>
          </a:xfrm>
          <a:prstGeom prst="rect">
            <a:avLst/>
          </a:prstGeom>
          <a:solidFill>
            <a:srgbClr val="00b0f0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Ветер , скорость которог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превышает 32 м\с 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AutoShape 20"/>
          <p:cNvSpPr/>
          <p:nvPr/>
        </p:nvSpPr>
        <p:spPr>
          <a:xfrm>
            <a:off x="4427640" y="3645000"/>
            <a:ext cx="4716360" cy="158436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штор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AutoShape 21"/>
          <p:cNvSpPr/>
          <p:nvPr/>
        </p:nvSpPr>
        <p:spPr>
          <a:xfrm>
            <a:off x="0" y="5373720"/>
            <a:ext cx="4427640" cy="1295280"/>
          </a:xfrm>
          <a:prstGeom prst="hexagon">
            <a:avLst>
              <a:gd name="adj" fmla="val 85457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смер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AutoShape 22"/>
          <p:cNvSpPr/>
          <p:nvPr/>
        </p:nvSpPr>
        <p:spPr>
          <a:xfrm>
            <a:off x="4643280" y="5373720"/>
            <a:ext cx="4500720" cy="1295280"/>
          </a:xfrm>
          <a:prstGeom prst="hexagon">
            <a:avLst>
              <a:gd name="adj" fmla="val 8686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ВИХР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58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359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0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1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2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63" name="AutoShape 30"/>
          <p:cNvSpPr/>
          <p:nvPr/>
        </p:nvSpPr>
        <p:spPr>
          <a:xfrm>
            <a:off x="0" y="1500120"/>
            <a:ext cx="6715080" cy="22320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AutoShape 31">
            <a:hlinkClick r:id="rId4" action="ppaction://hlinksldjump"/>
          </p:cNvPr>
          <p:cNvSpPr/>
          <p:nvPr/>
        </p:nvSpPr>
        <p:spPr>
          <a:xfrm>
            <a:off x="285840" y="1500120"/>
            <a:ext cx="6786360" cy="28796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2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AutoShape 32"/>
          <p:cNvSpPr/>
          <p:nvPr/>
        </p:nvSpPr>
        <p:spPr>
          <a:xfrm>
            <a:off x="714240" y="1500120"/>
            <a:ext cx="6048360" cy="1584360"/>
          </a:xfrm>
          <a:prstGeom prst="wedgeRoundRectCallout">
            <a:avLst>
              <a:gd name="adj1" fmla="val -16143"/>
              <a:gd name="adj2" fmla="val -79356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Уверен, что ответ «А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AutoShape 33"/>
          <p:cNvSpPr/>
          <p:nvPr/>
        </p:nvSpPr>
        <p:spPr>
          <a:xfrm>
            <a:off x="0" y="1500120"/>
            <a:ext cx="6302520" cy="1511280"/>
          </a:xfrm>
          <a:prstGeom prst="wedgeRoundRectCallout">
            <a:avLst>
              <a:gd name="adj1" fmla="val 13351"/>
              <a:gd name="adj2" fmla="val -87291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УРАГАН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Rectangle 34"/>
          <p:cNvSpPr/>
          <p:nvPr/>
        </p:nvSpPr>
        <p:spPr>
          <a:xfrm>
            <a:off x="250920" y="42210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Rectangle 35"/>
          <p:cNvSpPr/>
          <p:nvPr/>
        </p:nvSpPr>
        <p:spPr>
          <a:xfrm>
            <a:off x="39528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Rectangle 36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1" name="Picture 40" descr="C:\Documents and Settings\Елена\Рабочий стол\день учит.jpg"/>
          <p:cNvPicPr/>
          <p:nvPr/>
        </p:nvPicPr>
        <p:blipFill>
          <a:blip r:embed="rId5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2" descr="C:\Documents and Settings\Елена\Рабочий стол\кто с телеф.jpg"/>
          <p:cNvPicPr/>
          <p:nvPr/>
        </p:nvPicPr>
        <p:blipFill>
          <a:blip r:embed="rId6"/>
          <a:stretch/>
        </p:blipFill>
        <p:spPr>
          <a:xfrm>
            <a:off x="1763640" y="333360"/>
            <a:ext cx="1428840" cy="928800"/>
          </a:xfrm>
          <a:prstGeom prst="rect">
            <a:avLst/>
          </a:prstGeom>
          <a:ln w="0">
            <a:noFill/>
          </a:ln>
        </p:spPr>
      </p:pic>
      <p:sp>
        <p:nvSpPr>
          <p:cNvPr id="373" name="Управляющая кнопка: возврат 35">
            <a:hlinkClick r:id="rId7" action="ppaction://hlinksldjump"/>
          </p:cNvPr>
          <p:cNvSpPr/>
          <p:nvPr/>
        </p:nvSpPr>
        <p:spPr>
          <a:xfrm>
            <a:off x="8715240" y="6286680"/>
            <a:ext cx="428760" cy="5713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71320"/>
              <a:gd name="textAreaBottom" fmla="*/ 543600 h 57132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1081"/>
                </a:moveTo>
                <a:lnTo>
                  <a:pt x="7301" y="11081"/>
                </a:lnTo>
                <a:lnTo>
                  <a:pt x="7301" y="16416"/>
                </a:lnTo>
                <a:cubicBezTo>
                  <a:pt x="7301" y="17338"/>
                  <a:pt x="8102" y="18070"/>
                  <a:pt x="9138" y="18070"/>
                </a:cubicBezTo>
                <a:lnTo>
                  <a:pt x="10800" y="18070"/>
                </a:lnTo>
                <a:cubicBezTo>
                  <a:pt x="11836" y="18070"/>
                  <a:pt x="12636" y="17338"/>
                  <a:pt x="12636" y="16416"/>
                </a:cubicBezTo>
                <a:lnTo>
                  <a:pt x="12636" y="11081"/>
                </a:lnTo>
                <a:lnTo>
                  <a:pt x="10800" y="11081"/>
                </a:lnTo>
                <a:lnTo>
                  <a:pt x="14308" y="7573"/>
                </a:lnTo>
                <a:lnTo>
                  <a:pt x="17981" y="11081"/>
                </a:lnTo>
                <a:lnTo>
                  <a:pt x="16144" y="11081"/>
                </a:lnTo>
                <a:lnTo>
                  <a:pt x="16144" y="16416"/>
                </a:lnTo>
                <a:cubicBezTo>
                  <a:pt x="16144" y="19184"/>
                  <a:pt x="13568" y="21743"/>
                  <a:pt x="10800" y="21743"/>
                </a:cubicBezTo>
                <a:lnTo>
                  <a:pt x="9138" y="21743"/>
                </a:lnTo>
                <a:cubicBezTo>
                  <a:pt x="6370" y="21743"/>
                  <a:pt x="3794" y="19184"/>
                  <a:pt x="3794" y="1641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607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6" dur="4745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623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6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634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6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64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656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1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1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6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9" dur="3992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699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70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ELPH4072.wav" descr=""/>
          <p:cNvPicPr/>
          <p:nvPr/>
        </p:nvPicPr>
        <p:blipFill>
          <a:blip r:embed="rId1"/>
          <a:stretch/>
        </p:blipFill>
        <p:spPr>
          <a:xfrm>
            <a:off x="264312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5" name="j0214072.wav" descr=""/>
          <p:cNvPicPr/>
          <p:nvPr/>
        </p:nvPicPr>
        <p:blipFill>
          <a:blip r:embed="rId2"/>
          <a:stretch/>
        </p:blipFill>
        <p:spPr>
          <a:xfrm>
            <a:off x="2500200" y="4429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8" descr="C:\Documents and Settings\Елена\Рабочий стол\сад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Шестиугольник 46"/>
          <p:cNvSpPr/>
          <p:nvPr/>
        </p:nvSpPr>
        <p:spPr>
          <a:xfrm>
            <a:off x="6858000" y="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5  1 0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Шестиугольник 45"/>
          <p:cNvSpPr/>
          <p:nvPr/>
        </p:nvSpPr>
        <p:spPr>
          <a:xfrm>
            <a:off x="6858000" y="2602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4     50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Шестиугольник 44"/>
          <p:cNvSpPr/>
          <p:nvPr/>
        </p:nvSpPr>
        <p:spPr>
          <a:xfrm>
            <a:off x="6858000" y="571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3     250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Шестиугольник 43"/>
          <p:cNvSpPr/>
          <p:nvPr/>
        </p:nvSpPr>
        <p:spPr>
          <a:xfrm>
            <a:off x="6858000" y="857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    125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Шестиугольник 42"/>
          <p:cNvSpPr/>
          <p:nvPr/>
        </p:nvSpPr>
        <p:spPr>
          <a:xfrm>
            <a:off x="6858000" y="1143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1       6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Шестиугольник 41"/>
          <p:cNvSpPr/>
          <p:nvPr/>
        </p:nvSpPr>
        <p:spPr>
          <a:xfrm>
            <a:off x="6858000" y="142884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Times New Roman"/>
                <a:ea typeface="Times New Roman"/>
              </a:rPr>
              <a:t>10       32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Шестиугольник 40"/>
          <p:cNvSpPr/>
          <p:nvPr/>
        </p:nvSpPr>
        <p:spPr>
          <a:xfrm>
            <a:off x="6858000" y="171468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         16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Шестиугольник 39"/>
          <p:cNvSpPr/>
          <p:nvPr/>
        </p:nvSpPr>
        <p:spPr>
          <a:xfrm>
            <a:off x="6858000" y="200016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8            8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Шестиугольник 38"/>
          <p:cNvSpPr/>
          <p:nvPr/>
        </p:nvSpPr>
        <p:spPr>
          <a:xfrm>
            <a:off x="6858000" y="2286000"/>
            <a:ext cx="2286000" cy="295200"/>
          </a:xfrm>
          <a:prstGeom prst="hexagon">
            <a:avLst>
              <a:gd name="adj" fmla="val 25024"/>
              <a:gd name="vf" fmla="val 115470"/>
            </a:avLst>
          </a:prstGeom>
          <a:solidFill>
            <a:srgbClr val="000514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7            4 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AutoShape 17"/>
          <p:cNvSpPr/>
          <p:nvPr/>
        </p:nvSpPr>
        <p:spPr>
          <a:xfrm>
            <a:off x="0" y="3645000"/>
            <a:ext cx="4356000" cy="1584360"/>
          </a:xfrm>
          <a:prstGeom prst="hexagon">
            <a:avLst>
              <a:gd name="adj" fmla="val 68734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БУДИТЕ ЛИТЬ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КИСЛОТУ В ВОД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Rectangle 18"/>
          <p:cNvSpPr/>
          <p:nvPr/>
        </p:nvSpPr>
        <p:spPr>
          <a:xfrm>
            <a:off x="179280" y="1413000"/>
            <a:ext cx="6553440" cy="2087280"/>
          </a:xfrm>
          <a:prstGeom prst="rect">
            <a:avLst/>
          </a:prstGeom>
          <a:solidFill>
            <a:srgbClr val="00b0f0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Необходимо разбавить серну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кислоту водой. Как в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 Antiqua"/>
              </a:rPr>
              <a:t>поступите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Oval 19"/>
          <p:cNvSpPr/>
          <p:nvPr/>
        </p:nvSpPr>
        <p:spPr>
          <a:xfrm>
            <a:off x="3419640" y="333360"/>
            <a:ext cx="1223640" cy="863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AutoShape 20"/>
          <p:cNvSpPr/>
          <p:nvPr/>
        </p:nvSpPr>
        <p:spPr>
          <a:xfrm>
            <a:off x="4427640" y="3645000"/>
            <a:ext cx="4716360" cy="1584360"/>
          </a:xfrm>
          <a:prstGeom prst="hexagon">
            <a:avLst>
              <a:gd name="adj" fmla="val 74421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БУДИТЕ ЛИТЬ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ЕМКОСТЬ ВОДУ 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КИСЛОТУ ОДНОВРЕМЕН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AutoShape 21"/>
          <p:cNvSpPr/>
          <p:nvPr/>
        </p:nvSpPr>
        <p:spPr>
          <a:xfrm>
            <a:off x="0" y="5373720"/>
            <a:ext cx="4427640" cy="1295280"/>
          </a:xfrm>
          <a:prstGeom prst="hexagon">
            <a:avLst>
              <a:gd name="adj" fmla="val 85457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будите лить вод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 кислот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AutoShape 22"/>
          <p:cNvSpPr/>
          <p:nvPr/>
        </p:nvSpPr>
        <p:spPr>
          <a:xfrm>
            <a:off x="4643280" y="5373720"/>
            <a:ext cx="4500720" cy="1295280"/>
          </a:xfrm>
          <a:prstGeom prst="hexagon">
            <a:avLst>
              <a:gd name="adj" fmla="val 86868"/>
              <a:gd name="vf" fmla="val 115470"/>
            </a:avLst>
          </a:prstGeom>
          <a:solidFill>
            <a:srgbClr val="c3de3a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не зна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Овал 9"/>
          <p:cNvSpPr/>
          <p:nvPr/>
        </p:nvSpPr>
        <p:spPr>
          <a:xfrm>
            <a:off x="324000" y="333360"/>
            <a:ext cx="121428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50: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Овал 10"/>
          <p:cNvSpPr/>
          <p:nvPr/>
        </p:nvSpPr>
        <p:spPr>
          <a:xfrm>
            <a:off x="1908000" y="333360"/>
            <a:ext cx="1214640" cy="8571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94" name="Группа 27"/>
          <p:cNvGrpSpPr/>
          <p:nvPr/>
        </p:nvGrpSpPr>
        <p:grpSpPr>
          <a:xfrm>
            <a:off x="1979640" y="549360"/>
            <a:ext cx="874800" cy="504000"/>
            <a:chOff x="1979640" y="549360"/>
            <a:chExt cx="874800" cy="504000"/>
          </a:xfrm>
        </p:grpSpPr>
        <p:sp>
          <p:nvSpPr>
            <p:cNvPr id="395" name="Арка 22"/>
            <p:cNvSpPr/>
            <p:nvPr/>
          </p:nvSpPr>
          <p:spPr>
            <a:xfrm rot="7310400">
              <a:off x="2451240" y="709200"/>
              <a:ext cx="401760" cy="2268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26800"/>
                <a:gd name="textAreaBottom" fmla="*/ 113400 h 226800"/>
              </a:gdLst>
              <a:ahLst/>
              <a:rect l="textAreaLeft" t="textAreaTop" r="textAreaRight" b="textAreaBottom"/>
              <a:pathLst>
                <a:path w="643264" h="358214">
                  <a:moveTo>
                    <a:pt x="0" y="179107"/>
                  </a:moveTo>
                  <a:lnTo>
                    <a:pt x="0" y="179107"/>
                  </a:lnTo>
                  <a:cubicBezTo>
                    <a:pt x="0" y="80188"/>
                    <a:pt x="143999" y="0"/>
                    <a:pt x="321632" y="0"/>
                  </a:cubicBezTo>
                  <a:cubicBezTo>
                    <a:pt x="499264" y="0"/>
                    <a:pt x="643264" y="80188"/>
                    <a:pt x="643264" y="179107"/>
                  </a:cubicBezTo>
                  <a:cubicBezTo>
                    <a:pt x="643264" y="179107"/>
                    <a:pt x="643263" y="179107"/>
                    <a:pt x="643263" y="179107"/>
                  </a:cubicBezTo>
                  <a:lnTo>
                    <a:pt x="553711" y="179107"/>
                  </a:lnTo>
                  <a:cubicBezTo>
                    <a:pt x="553711" y="129647"/>
                    <a:pt x="449805" y="89553"/>
                    <a:pt x="321632" y="89553"/>
                  </a:cubicBezTo>
                  <a:cubicBezTo>
                    <a:pt x="193458" y="89553"/>
                    <a:pt x="89553" y="129647"/>
                    <a:pt x="89553" y="179107"/>
                  </a:cubicBezTo>
                  <a:lnTo>
                    <a:pt x="0" y="17910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6" name="Восьмиугольник 24"/>
            <p:cNvSpPr/>
            <p:nvPr/>
          </p:nvSpPr>
          <p:spPr>
            <a:xfrm>
              <a:off x="2448000" y="86220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7" name="Восьмиугольник 25"/>
            <p:cNvSpPr/>
            <p:nvPr/>
          </p:nvSpPr>
          <p:spPr>
            <a:xfrm>
              <a:off x="2629080" y="549360"/>
              <a:ext cx="136440" cy="1332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8" name="Полилиния 26"/>
            <p:cNvSpPr/>
            <p:nvPr/>
          </p:nvSpPr>
          <p:spPr>
            <a:xfrm>
              <a:off x="1979640" y="622080"/>
              <a:ext cx="465120" cy="296640"/>
            </a:xfrm>
            <a:custGeom>
              <a:avLst/>
              <a:gdLst/>
              <a:ahLst/>
              <a:rect l="l" t="t" r="r" b="b"/>
              <a:pathLst>
                <a:path w="734291" h="476451">
                  <a:moveTo>
                    <a:pt x="734291" y="467447"/>
                  </a:moveTo>
                  <a:cubicBezTo>
                    <a:pt x="697346" y="462829"/>
                    <a:pt x="652845" y="476451"/>
                    <a:pt x="623455" y="453592"/>
                  </a:cubicBezTo>
                  <a:cubicBezTo>
                    <a:pt x="616734" y="448365"/>
                    <a:pt x="609455" y="332183"/>
                    <a:pt x="595746" y="315047"/>
                  </a:cubicBezTo>
                  <a:cubicBezTo>
                    <a:pt x="586623" y="303643"/>
                    <a:pt x="568037" y="305810"/>
                    <a:pt x="554182" y="301192"/>
                  </a:cubicBezTo>
                  <a:cubicBezTo>
                    <a:pt x="512618" y="305810"/>
                    <a:pt x="470741" y="308172"/>
                    <a:pt x="429491" y="315047"/>
                  </a:cubicBezTo>
                  <a:cubicBezTo>
                    <a:pt x="415086" y="317448"/>
                    <a:pt x="401487" y="334325"/>
                    <a:pt x="387927" y="328901"/>
                  </a:cubicBezTo>
                  <a:cubicBezTo>
                    <a:pt x="372467" y="322717"/>
                    <a:pt x="369454" y="301192"/>
                    <a:pt x="360218" y="287338"/>
                  </a:cubicBezTo>
                  <a:cubicBezTo>
                    <a:pt x="355600" y="231920"/>
                    <a:pt x="362718" y="174234"/>
                    <a:pt x="346364" y="121083"/>
                  </a:cubicBezTo>
                  <a:cubicBezTo>
                    <a:pt x="342069" y="107125"/>
                    <a:pt x="319404" y="107228"/>
                    <a:pt x="304800" y="107228"/>
                  </a:cubicBezTo>
                  <a:cubicBezTo>
                    <a:pt x="262981" y="107228"/>
                    <a:pt x="221673" y="116465"/>
                    <a:pt x="180109" y="121083"/>
                  </a:cubicBezTo>
                  <a:cubicBezTo>
                    <a:pt x="166255" y="125701"/>
                    <a:pt x="152105" y="140362"/>
                    <a:pt x="138546" y="134938"/>
                  </a:cubicBezTo>
                  <a:cubicBezTo>
                    <a:pt x="102985" y="120714"/>
                    <a:pt x="111776" y="60147"/>
                    <a:pt x="96982" y="37956"/>
                  </a:cubicBezTo>
                  <a:cubicBezTo>
                    <a:pt x="71678" y="0"/>
                    <a:pt x="36979" y="10247"/>
                    <a:pt x="0" y="1024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99" name="AutoShape 30"/>
          <p:cNvSpPr/>
          <p:nvPr/>
        </p:nvSpPr>
        <p:spPr>
          <a:xfrm>
            <a:off x="0" y="1285920"/>
            <a:ext cx="6715080" cy="280836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вы, Вы проиграл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Игра законче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AutoShape 31">
            <a:hlinkClick r:id="rId4" action="ppaction://hlinksldjump"/>
          </p:cNvPr>
          <p:cNvSpPr/>
          <p:nvPr/>
        </p:nvSpPr>
        <p:spPr>
          <a:xfrm>
            <a:off x="0" y="1285920"/>
            <a:ext cx="6786720" cy="302256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авильно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У Вас 4000 очков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Продолжаем игр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AutoShape 32"/>
          <p:cNvSpPr/>
          <p:nvPr/>
        </p:nvSpPr>
        <p:spPr>
          <a:xfrm>
            <a:off x="500040" y="1357200"/>
            <a:ext cx="6337440" cy="2448000"/>
          </a:xfrm>
          <a:prstGeom prst="wedgeRoundRectCallout">
            <a:avLst>
              <a:gd name="adj1" fmla="val -16009"/>
              <a:gd name="adj2" fmla="val -64009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a831"/>
                </a:solidFill>
                <a:latin typeface="Garamond"/>
              </a:rPr>
              <a:t>ОТВЕТ 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AutoShape 33"/>
          <p:cNvSpPr/>
          <p:nvPr/>
        </p:nvSpPr>
        <p:spPr>
          <a:xfrm>
            <a:off x="571680" y="1214280"/>
            <a:ext cx="5760720" cy="1584360"/>
          </a:xfrm>
          <a:prstGeom prst="wedgeRoundRectCallout">
            <a:avLst>
              <a:gd name="adj1" fmla="val 10541"/>
              <a:gd name="adj2" fmla="val -87574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a831"/>
                </a:solidFill>
                <a:latin typeface="Garamond"/>
              </a:rPr>
              <a:t>Ответ 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Rectangle 34"/>
          <p:cNvSpPr/>
          <p:nvPr/>
        </p:nvSpPr>
        <p:spPr>
          <a:xfrm>
            <a:off x="250920" y="4221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Rectangle 35"/>
          <p:cNvSpPr/>
          <p:nvPr/>
        </p:nvSpPr>
        <p:spPr>
          <a:xfrm>
            <a:off x="39528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Rectangle 36"/>
          <p:cNvSpPr/>
          <p:nvPr/>
        </p:nvSpPr>
        <p:spPr>
          <a:xfrm>
            <a:off x="4859280" y="422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Rectangle 37"/>
          <p:cNvSpPr/>
          <p:nvPr/>
        </p:nvSpPr>
        <p:spPr>
          <a:xfrm>
            <a:off x="4932360" y="5805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07" name="Picture 40" descr="C:\Documents and Settings\Елена\Рабочий стол\день учит.jpg"/>
          <p:cNvPicPr/>
          <p:nvPr/>
        </p:nvPicPr>
        <p:blipFill>
          <a:blip r:embed="rId5"/>
          <a:stretch/>
        </p:blipFill>
        <p:spPr>
          <a:xfrm>
            <a:off x="3571920" y="50004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2" descr="C:\Documents and Settings\Елена\Рабочий стол\кто с телеф.jpg"/>
          <p:cNvPicPr/>
          <p:nvPr/>
        </p:nvPicPr>
        <p:blipFill>
          <a:blip r:embed="rId6"/>
          <a:stretch/>
        </p:blipFill>
        <p:spPr>
          <a:xfrm>
            <a:off x="1785960" y="285840"/>
            <a:ext cx="1428840" cy="928440"/>
          </a:xfrm>
          <a:prstGeom prst="rect">
            <a:avLst/>
          </a:prstGeom>
          <a:ln w="0">
            <a:noFill/>
          </a:ln>
        </p:spPr>
      </p:pic>
      <p:sp>
        <p:nvSpPr>
          <p:cNvPr id="409" name="Управляющая кнопка: возврат 34">
            <a:hlinkClick r:id="rId7" action="ppaction://hlinksldjump"/>
          </p:cNvPr>
          <p:cNvSpPr/>
          <p:nvPr/>
        </p:nvSpPr>
        <p:spPr>
          <a:xfrm>
            <a:off x="8715240" y="6286680"/>
            <a:ext cx="428760" cy="5713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71320"/>
              <a:gd name="textAreaBottom" fmla="*/ 543600 h 571320"/>
            </a:gdLst>
            <a:ahLst/>
            <a:rect l="textAreaLeft" t="textAreaTop" r="textAreaRight" b="textAreaBottom"/>
            <a:pathLst>
              <a:path w="21600" h="28776">
                <a:moveTo>
                  <a:pt x="0" y="0"/>
                </a:moveTo>
                <a:lnTo>
                  <a:pt x="21600" y="0"/>
                </a:lnTo>
                <a:lnTo>
                  <a:pt x="21600" y="28776"/>
                </a:lnTo>
                <a:lnTo>
                  <a:pt x="0" y="28776"/>
                </a:lnTo>
                <a:close/>
              </a:path>
              <a:path fill="lightenLess" w="21600" h="28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76">
                <a:moveTo>
                  <a:pt x="21600" y="0"/>
                </a:moveTo>
                <a:lnTo>
                  <a:pt x="21600" y="28776"/>
                </a:lnTo>
                <a:lnTo>
                  <a:pt x="20200" y="27376"/>
                </a:lnTo>
                <a:lnTo>
                  <a:pt x="20200" y="1400"/>
                </a:lnTo>
                <a:close/>
              </a:path>
              <a:path fill="darkenLess" w="21600" h="28776">
                <a:moveTo>
                  <a:pt x="21600" y="28776"/>
                </a:moveTo>
                <a:lnTo>
                  <a:pt x="0" y="28776"/>
                </a:lnTo>
                <a:lnTo>
                  <a:pt x="1400" y="27376"/>
                </a:lnTo>
                <a:lnTo>
                  <a:pt x="20200" y="27376"/>
                </a:lnTo>
                <a:close/>
              </a:path>
              <a:path fill="lighten" w="21600" h="28776">
                <a:moveTo>
                  <a:pt x="0" y="28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76"/>
                </a:lnTo>
                <a:close/>
              </a:path>
              <a:path fill="darken" w="21600" h="28776">
                <a:moveTo>
                  <a:pt x="3794" y="11081"/>
                </a:moveTo>
                <a:lnTo>
                  <a:pt x="7301" y="11081"/>
                </a:lnTo>
                <a:lnTo>
                  <a:pt x="7301" y="16416"/>
                </a:lnTo>
                <a:cubicBezTo>
                  <a:pt x="7301" y="17338"/>
                  <a:pt x="8102" y="18070"/>
                  <a:pt x="9138" y="18070"/>
                </a:cubicBezTo>
                <a:lnTo>
                  <a:pt x="10800" y="18070"/>
                </a:lnTo>
                <a:cubicBezTo>
                  <a:pt x="11836" y="18070"/>
                  <a:pt x="12636" y="17338"/>
                  <a:pt x="12636" y="16416"/>
                </a:cubicBezTo>
                <a:lnTo>
                  <a:pt x="12636" y="11081"/>
                </a:lnTo>
                <a:lnTo>
                  <a:pt x="10800" y="11081"/>
                </a:lnTo>
                <a:lnTo>
                  <a:pt x="14308" y="7573"/>
                </a:lnTo>
                <a:lnTo>
                  <a:pt x="17981" y="11081"/>
                </a:lnTo>
                <a:lnTo>
                  <a:pt x="16144" y="11081"/>
                </a:lnTo>
                <a:lnTo>
                  <a:pt x="16144" y="16416"/>
                </a:lnTo>
                <a:cubicBezTo>
                  <a:pt x="16144" y="19184"/>
                  <a:pt x="13568" y="21743"/>
                  <a:pt x="10800" y="21743"/>
                </a:cubicBezTo>
                <a:lnTo>
                  <a:pt x="9138" y="21743"/>
                </a:lnTo>
                <a:cubicBezTo>
                  <a:pt x="6370" y="21743"/>
                  <a:pt x="3794" y="19184"/>
                  <a:pt x="3794" y="16416"/>
                </a:cubicBezTo>
                <a:close/>
              </a:path>
            </a:pathLst>
          </a:custGeom>
          <a:solidFill>
            <a:srgbClr val="ffcccc">
              <a:alpha val="86000"/>
            </a:srgbClr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719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8a831"/>
                                      </p:to>
                                    </p:animClr>
                                    <p:set>
                                      <p:cBhvr>
                                        <p:cTn id="72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8" dur="4745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735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7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746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75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757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80013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8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3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8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793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7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51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1" dur="3992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3992"/>
                            </p:stCondLst>
                            <p:childTnLst>
                              <p:par>
                                <p:cTn id="811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815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81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23-02-05T16:00:47Z</dcterms:modified>
  <cp:revision>88</cp:revision>
  <dc:subject/>
  <dc:title>PowerPoint Presentation</dc:title>
</cp:coreProperties>
</file>