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796C-9C97-4DFB-B43B-2803CF41E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D6D5-4CCC-45CB-8591-6A7B32060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450A-B498-4D7E-80C4-45CF38934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3C37-88A3-406E-83A5-3093B1FC1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F365-82DD-4610-9ECE-D07642E5B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874F-A11D-4BE7-BD0B-586BC3BBF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73CB-D816-46A8-8F69-D2373E495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BAA8-4733-4B2E-BBE1-DD4F01989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C3D9-5111-45BC-B3D7-560F66531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1B1A-30C3-4750-A6DE-B7FF459ED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431E-9852-45A8-8AEB-15F067CAA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5FF7-5C38-4354-971C-CC15E0924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25B83-F940-4BAB-8A5C-88AABBD9E6A2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5"/>
          <p:cNvSpPr/>
          <p:nvPr/>
        </p:nvSpPr>
        <p:spPr>
          <a:xfrm>
            <a:off x="5219640" y="5877000"/>
            <a:ext cx="371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Педагог-дефектолог: Злобина В.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прол"/>
          <p:cNvPicPr/>
          <p:nvPr/>
        </p:nvPicPr>
        <p:blipFill>
          <a:blip r:embed="rId1"/>
          <a:stretch/>
        </p:blipFill>
        <p:spPr>
          <a:xfrm>
            <a:off x="174600" y="2378160"/>
            <a:ext cx="5630760" cy="4483080"/>
          </a:xfrm>
          <a:prstGeom prst="rect">
            <a:avLst/>
          </a:prstGeom>
          <a:ln w="0">
            <a:noFill/>
          </a:ln>
        </p:spPr>
      </p:pic>
      <p:sp>
        <p:nvSpPr>
          <p:cNvPr id="43" name="WordArt 7"/>
          <p:cNvSpPr txBox="1"/>
          <p:nvPr/>
        </p:nvSpPr>
        <p:spPr>
          <a:xfrm>
            <a:off x="1116000" y="588960"/>
            <a:ext cx="720108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Impact"/>
              </a:rPr>
              <a:t>Пуговичная терап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Impact"/>
              <a:ea typeface="Impact"/>
            </a:endParaRPr>
          </a:p>
        </p:txBody>
      </p:sp>
      <p:sp>
        <p:nvSpPr>
          <p:cNvPr id="44" name="Text Box 10"/>
          <p:cNvSpPr/>
          <p:nvPr/>
        </p:nvSpPr>
        <p:spPr>
          <a:xfrm>
            <a:off x="468360" y="220680"/>
            <a:ext cx="813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МАДОУ «Детский сад №25»  г. Верхний Таги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Рисунок 1" descr=""/>
          <p:cNvPicPr/>
          <p:nvPr/>
        </p:nvPicPr>
        <p:blipFill>
          <a:blip r:embed="rId1"/>
          <a:srcRect l="0" t="0" r="0" b="9392"/>
          <a:stretch/>
        </p:blipFill>
        <p:spPr>
          <a:xfrm>
            <a:off x="0" y="0"/>
            <a:ext cx="9134640" cy="685800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2" descr=""/>
          <p:cNvPicPr/>
          <p:nvPr/>
        </p:nvPicPr>
        <p:blipFill>
          <a:blip r:embed="rId2"/>
          <a:stretch/>
        </p:blipFill>
        <p:spPr>
          <a:xfrm>
            <a:off x="468360" y="476280"/>
            <a:ext cx="5075280" cy="380664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7" descr=""/>
          <p:cNvPicPr/>
          <p:nvPr/>
        </p:nvPicPr>
        <p:blipFill>
          <a:blip r:embed="rId3"/>
          <a:srcRect l="0" t="17774" r="7823" b="0"/>
          <a:stretch/>
        </p:blipFill>
        <p:spPr>
          <a:xfrm>
            <a:off x="5292720" y="2379600"/>
            <a:ext cx="3363840" cy="400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Рисунок 1" descr=""/>
          <p:cNvPicPr/>
          <p:nvPr/>
        </p:nvPicPr>
        <p:blipFill>
          <a:blip r:embed="rId1"/>
          <a:srcRect l="0" t="0" r="0" b="9392"/>
          <a:stretch/>
        </p:blipFill>
        <p:spPr>
          <a:xfrm>
            <a:off x="0" y="0"/>
            <a:ext cx="9134640" cy="685800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4" descr=""/>
          <p:cNvPicPr/>
          <p:nvPr/>
        </p:nvPicPr>
        <p:blipFill>
          <a:blip r:embed="rId2"/>
          <a:stretch/>
        </p:blipFill>
        <p:spPr>
          <a:xfrm>
            <a:off x="2595600" y="1378080"/>
            <a:ext cx="3943440" cy="491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Рисунок 1" descr=""/>
          <p:cNvPicPr/>
          <p:nvPr/>
        </p:nvPicPr>
        <p:blipFill>
          <a:blip r:embed="rId1"/>
          <a:srcRect l="0" t="0" r="0" b="9392"/>
          <a:stretch/>
        </p:blipFill>
        <p:spPr>
          <a:xfrm>
            <a:off x="0" y="0"/>
            <a:ext cx="9134640" cy="685800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2" descr=""/>
          <p:cNvPicPr/>
          <p:nvPr/>
        </p:nvPicPr>
        <p:blipFill>
          <a:blip r:embed="rId2"/>
          <a:srcRect l="0" t="15594" r="0" b="0"/>
          <a:stretch/>
        </p:blipFill>
        <p:spPr>
          <a:xfrm>
            <a:off x="619200" y="692280"/>
            <a:ext cx="3932280" cy="442728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3" descr=""/>
          <p:cNvPicPr/>
          <p:nvPr/>
        </p:nvPicPr>
        <p:blipFill>
          <a:blip r:embed="rId3"/>
          <a:srcRect l="0" t="19046" r="0" b="5684"/>
          <a:stretch/>
        </p:blipFill>
        <p:spPr>
          <a:xfrm>
            <a:off x="4788000" y="2205000"/>
            <a:ext cx="3571920" cy="358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Рисунок 1" descr=""/>
          <p:cNvPicPr/>
          <p:nvPr/>
        </p:nvPicPr>
        <p:blipFill>
          <a:blip r:embed="rId1"/>
          <a:srcRect l="0" t="0" r="0" b="9392"/>
          <a:stretch/>
        </p:blipFill>
        <p:spPr>
          <a:xfrm>
            <a:off x="0" y="0"/>
            <a:ext cx="913464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2" descr=""/>
          <p:cNvPicPr/>
          <p:nvPr/>
        </p:nvPicPr>
        <p:blipFill>
          <a:blip r:embed="rId2"/>
          <a:srcRect l="0" t="0" r="7637" b="15880"/>
          <a:stretch/>
        </p:blipFill>
        <p:spPr>
          <a:xfrm>
            <a:off x="1379520" y="1628640"/>
            <a:ext cx="6326280" cy="432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Рисунок 2" descr=""/>
          <p:cNvPicPr/>
          <p:nvPr/>
        </p:nvPicPr>
        <p:blipFill>
          <a:blip r:embed="rId1"/>
          <a:stretch/>
        </p:blipFill>
        <p:spPr>
          <a:xfrm>
            <a:off x="-27000" y="-1440"/>
            <a:ext cx="9171000" cy="685944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4000" y="428760"/>
            <a:ext cx="7272360" cy="600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i="1" lang="ru-RU" sz="3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Работа с родителями</a:t>
            </a:r>
            <a:br>
              <a:rPr sz="3600"/>
            </a:br>
            <a:br>
              <a:rPr sz="2900"/>
            </a:br>
            <a:r>
              <a:rPr b="1" lang="ru-RU" sz="29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</a:t>
            </a: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Консультации:</a:t>
            </a:r>
            <a:br>
              <a:rPr sz="2900"/>
            </a:b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«Развитие мелкой моторики у ребенка        дошкольного возраста»</a:t>
            </a:r>
            <a:br>
              <a:rPr sz="2900"/>
            </a:br>
            <a:br>
              <a:rPr sz="2900"/>
            </a:b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Рекомендации</a:t>
            </a:r>
            <a:br>
              <a:rPr sz="2900"/>
            </a:b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«Пуговичная терапия»</a:t>
            </a:r>
            <a:br>
              <a:rPr sz="2900"/>
            </a:b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«Изготовление рамки из пуговиц»</a:t>
            </a:r>
            <a:br>
              <a:rPr sz="2900"/>
            </a:b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«Тренируем руку ребенка»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1" descr=""/>
          <p:cNvPicPr/>
          <p:nvPr/>
        </p:nvPicPr>
        <p:blipFill>
          <a:blip r:embed="rId1"/>
          <a:stretch/>
        </p:blipFill>
        <p:spPr>
          <a:xfrm>
            <a:off x="0" y="11160"/>
            <a:ext cx="9086760" cy="68468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87280" y="1047600"/>
            <a:ext cx="3670560" cy="47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УГОВИЧНАЯ ТЕРАПИЯ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КОМПЛЕКС КОРРЕКЦИОННЫХ, РАЗВИВАЮЩИХ И РЕЛАКСАЦИОННЫХ ИГР И УПРАЖНЕН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5" descr="podelki-iz-pugovic-3923"/>
          <p:cNvPicPr/>
          <p:nvPr/>
        </p:nvPicPr>
        <p:blipFill>
          <a:blip r:embed="rId2"/>
          <a:stretch/>
        </p:blipFill>
        <p:spPr>
          <a:xfrm>
            <a:off x="4986360" y="2205000"/>
            <a:ext cx="2984400" cy="2827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1763640" y="1125360"/>
            <a:ext cx="5400720" cy="46692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Рисунок 1" descr=""/>
          <p:cNvPicPr/>
          <p:nvPr/>
        </p:nvPicPr>
        <p:blipFill>
          <a:blip r:embed="rId1"/>
          <a:stretch/>
        </p:blipFill>
        <p:spPr>
          <a:xfrm>
            <a:off x="0" y="25560"/>
            <a:ext cx="9144000" cy="6832440"/>
          </a:xfrm>
          <a:prstGeom prst="rect">
            <a:avLst/>
          </a:prstGeom>
          <a:ln w="0">
            <a:noFill/>
          </a:ln>
        </p:spPr>
      </p:pic>
      <p:sp>
        <p:nvSpPr>
          <p:cNvPr id="50" name="Text Box 8"/>
          <p:cNvSpPr/>
          <p:nvPr/>
        </p:nvSpPr>
        <p:spPr>
          <a:xfrm>
            <a:off x="1619280" y="1103400"/>
            <a:ext cx="66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уговичная терапия реализу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1619280" y="1989000"/>
            <a:ext cx="597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1116000" y="1989000"/>
            <a:ext cx="69120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развитие мелкой мотор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координацию движ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развитие познавательных процес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роизвольность психических процес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релаксационное воздейств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усидчив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Рисунок 3" descr=""/>
          <p:cNvPicPr/>
          <p:nvPr/>
        </p:nvPicPr>
        <p:blipFill>
          <a:blip r:embed="rId1"/>
          <a:srcRect l="0" t="0" r="0" b="9675"/>
          <a:stretch/>
        </p:blipFill>
        <p:spPr>
          <a:xfrm>
            <a:off x="0" y="0"/>
            <a:ext cx="916308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0200" y="1341360"/>
            <a:ext cx="704196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58ed5"/>
                </a:solidFill>
                <a:latin typeface="Calibri"/>
              </a:rPr>
              <a:t> </a:t>
            </a: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ОРГАНИЗАЦИЯ И ПРОВЕДЕ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0" y="2420640"/>
            <a:ext cx="8229600" cy="370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 ПОДГРУППА ДЕТЕЙ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 ИНДИВИДУАЛЬНО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ЦЕЛОЕ ЗАНЯТИЕ ИЛИ ЧАСТЬ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ЗАНЯТИЯ ПРОХОДЯ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 КОНТРОЛЕМ ВЗРОСЛОГО!!!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026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752040" y="404280"/>
            <a:ext cx="7564680" cy="566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ЦЕЛЬ</a:t>
            </a: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ЛЛЕКТУАЛЬНЫХ                 СПОСОБНОСТЕЙ ДЕТЕЙ ДОШКОЛЬНОГО ВОЗРАС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104320" cy="642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ЗАДАЧИ:</a:t>
            </a:r>
            <a:br>
              <a:rPr sz="28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ОЗДАТЬ УСЛОВИЯ ДЛЯ РАЦИОНАЛЬНОЙ ОРГАНИЗАЦИИ КОРРЕКЦИОННОЙ РАБОТЫ;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АЗВИВАТЬ ПОЗНАВАТЕЛЬНЫЕ ПРОЦЕССЫ, МЕЛКУЮ МОТОРИКУ, СЕНСОРНЫЙ ОПЫТ;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ОСПИТЫВАТЬ НРАВСТВЕННО-ВОЛЕВЫЕ КАЧЕСТВА;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ОЗДАТЬ УСЛОВИЯ ДЛЯ ПОИСКОВО-ПОЗНАВАТЕЛЬНОЙ ДЕЯТЕЛЬНОСТИ ДОШКОЛЬНИКОВ, РОДИТЕЛЕЙ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6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6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6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6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Рисунок 2" descr=""/>
          <p:cNvPicPr/>
          <p:nvPr/>
        </p:nvPicPr>
        <p:blipFill>
          <a:blip r:embed="rId1"/>
          <a:srcRect l="0" t="0" r="0" b="8812"/>
          <a:stretch/>
        </p:blipFill>
        <p:spPr>
          <a:xfrm>
            <a:off x="0" y="0"/>
            <a:ext cx="91836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15640" y="846000"/>
            <a:ext cx="7272360" cy="601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РОГНОЗИРУЕМЫЕ РЕЗУЛЬТАТЫ:</a:t>
            </a:r>
            <a:br>
              <a:rPr sz="28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ВЫШЕНИЕ УРОВНЯ ПОЗНАВАТЕЛЬНЫХ ПРОЦЕССОВ И МЕЛКОЙ МОТОРИКИ ДЕТЕЙ ДОШКОЛЬНОГО ВОЗРАСТА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АКТИВИЗАЦИЯ РОДИТЕЛЕЙ КАК УЧАСТНИКОВ РАЗВИВАЮЩЕЙ ДЕЯТЕЛЬНОСТИ 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СНАЩЕНИЕ ГРУППЫ ТЕХНИЧЕСКИМ МАТЕРИАЛО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Рисунок 2" descr=""/>
          <p:cNvPicPr/>
          <p:nvPr/>
        </p:nvPicPr>
        <p:blipFill>
          <a:blip r:embed="rId1"/>
          <a:stretch/>
        </p:blipFill>
        <p:spPr>
          <a:xfrm>
            <a:off x="0" y="936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8920" y="2147400"/>
            <a:ext cx="799308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430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ПОДБОР  ТЕХНИЧЕСКОГО МАТЕРИАЛА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ИЗГОТОВЛЕНИЕ ДИДАКТИЧЕСКИХ ИГР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ПОДБОР КОНСУЛЬТАЦИОННОГО МАТЕРИАЛА ДЛЯ  РОДИТЕЛЕЙ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СОСТАВЛЕНИЕ ПЕРСПЕКТИВНО-ТЕМАТИЧЕСКОГО ПЛАНА </a:t>
            </a:r>
            <a:br>
              <a:rPr sz="2400"/>
            </a:br>
            <a:br>
              <a:rPr sz="4000"/>
            </a:br>
            <a:br>
              <a:rPr sz="38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687240" y="1251000"/>
            <a:ext cx="777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Основные этап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4360" y="155700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Рисунок 1" descr=""/>
          <p:cNvPicPr/>
          <p:nvPr/>
        </p:nvPicPr>
        <p:blipFill>
          <a:blip r:embed="rId1"/>
          <a:srcRect l="0" t="0" r="0" b="9774"/>
          <a:stretch/>
        </p:blipFill>
        <p:spPr>
          <a:xfrm>
            <a:off x="0" y="4680"/>
            <a:ext cx="9166320" cy="685332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02920" y="1341360"/>
            <a:ext cx="6697800" cy="57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Рисунок 3" descr=""/>
          <p:cNvPicPr/>
          <p:nvPr/>
        </p:nvPicPr>
        <p:blipFill>
          <a:blip r:embed="rId2"/>
          <a:srcRect l="0" t="20864" r="0" b="9682"/>
          <a:stretch/>
        </p:blipFill>
        <p:spPr>
          <a:xfrm>
            <a:off x="2359080" y="2036880"/>
            <a:ext cx="4448160" cy="411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ePack by Diakov</cp:lastModifiedBy>
  <dcterms:modified xsi:type="dcterms:W3CDTF">2023-02-05T16:38:34Z</dcterms:modified>
  <cp:revision>74</cp:revision>
  <dc:subject/>
  <dc:title>ЗАКАРЯЕВА ИРИНА БАТРАЗОВНА ПЕДАГОГ-ПСИХОЛОГ МБДОУ№92</dc:title>
</cp:coreProperties>
</file>