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2D4-BF24-4BA5-8C5F-DD461CCB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F0A-580C-41B3-8CC5-8216EBB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120-7BC7-4279-B976-322F3726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D7F-A629-4A74-8DF2-97256266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751-D1B1-430E-81DD-0A4D1D6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731-74C7-4E14-BCAF-260A583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88A-F4FD-4F74-810F-BA01AAB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1A2-709A-4C49-A0EA-55A499F0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FF1-CDE8-46CE-AD63-1974CEF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2B7-76B3-44C6-B4C7-7B59D74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23C-81E4-46EF-8E15-75690C7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800-FAC1-4370-91DB-A7431F4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2FD-6B01-4C76-B0FD-CBBF82E155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5219640" y="587700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дагог-дефектолог: Злобина В.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рол"/>
          <p:cNvPicPr/>
          <p:nvPr/>
        </p:nvPicPr>
        <p:blipFill>
          <a:blip r:embed="rId1"/>
          <a:stretch/>
        </p:blipFill>
        <p:spPr>
          <a:xfrm>
            <a:off x="174600" y="2378160"/>
            <a:ext cx="5630760" cy="44830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1116000" y="588960"/>
            <a:ext cx="720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Пуговичная терап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68360" y="2206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ДОУ «Детский сад №25»  г. Верхний Таг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075280" cy="3806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3"/>
          <a:srcRect l="0" t="17774" r="7823" b="0"/>
          <a:stretch/>
        </p:blipFill>
        <p:spPr>
          <a:xfrm>
            <a:off x="5292720" y="2379600"/>
            <a:ext cx="336384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2595600" y="1378080"/>
            <a:ext cx="3943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2"/>
          <a:srcRect l="0" t="15594" r="0" b="0"/>
          <a:stretch/>
        </p:blipFill>
        <p:spPr>
          <a:xfrm>
            <a:off x="619200" y="692280"/>
            <a:ext cx="3932280" cy="4427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3"/>
          <a:srcRect l="0" t="19046" r="0" b="5684"/>
          <a:stretch/>
        </p:blipFill>
        <p:spPr>
          <a:xfrm>
            <a:off x="4788000" y="2205000"/>
            <a:ext cx="35719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"/>
          <p:cNvPicPr/>
          <p:nvPr/>
        </p:nvPicPr>
        <p:blipFill>
          <a:blip r:embed="rId2"/>
          <a:srcRect l="0" t="0" r="7637" b="15880"/>
          <a:stretch/>
        </p:blipFill>
        <p:spPr>
          <a:xfrm>
            <a:off x="1379520" y="1628640"/>
            <a:ext cx="632628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-27000" y="-144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28760"/>
            <a:ext cx="72723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а с родителями</a:t>
            </a:r>
            <a:br>
              <a:rPr sz="3600"/>
            </a:br>
            <a:br>
              <a:rPr sz="2900"/>
            </a:br>
            <a:r>
              <a:rPr b="1" lang="ru-RU" sz="2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ультации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Развитие мелкой моторики у ребенка        дошкольного возраста»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Рекомендации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Пуговичная терапия»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Изготовление рамки из пуговиц»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Тренируем руку ребенка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08676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047600"/>
            <a:ext cx="3670560" cy="47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ГОВИЧНАЯ ТЕРАП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ПЛЕКС КОРРЕКЦИОННЫХ, РАЗВИВАЮЩИХ И РЕЛАКСАЦИОННЫХ ИГР И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podelki-iz-pugovic-3923"/>
          <p:cNvPicPr/>
          <p:nvPr/>
        </p:nvPicPr>
        <p:blipFill>
          <a:blip r:embed="rId2"/>
          <a:stretch/>
        </p:blipFill>
        <p:spPr>
          <a:xfrm>
            <a:off x="4986360" y="2205000"/>
            <a:ext cx="298440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63640" y="1125360"/>
            <a:ext cx="5400720" cy="466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1619280" y="11034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уговичная терапия реализ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619280" y="19890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6000" y="1989000"/>
            <a:ext cx="691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мелк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ординацию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познаватель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извольность психически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лаксационное 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ид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rcRect l="0" t="0" r="0" b="9675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0200" y="1341360"/>
            <a:ext cx="70419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РГАНИЗАЦИЯ И ПР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ПОДГРУППА ДЕ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ИНДИВИДУАЛЬ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ЦЕЛОЕ ЗАНЯТИЕ ИЛИ ЧА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НЯТИЯ ПРОХОД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НТРОЛЕМ ВЗРОСЛОГО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2040" y="404280"/>
            <a:ext cx="75646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                 СПОСОБНОСТЕЙ ДЕТЕЙ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0432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РАЦИОНАЛЬНОЙ ОРГАНИЗАЦИИ КОРРЕКЦИОННОЙ РАБОТЫ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ПОЗНАВАТЕЛЬНЫЕ ПРОЦЕССЫ, МЕЛКУЮ МОТОРИКУ, СЕНСОРНЫЙ ОПЫТ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НРАВСТВЕННО-ВОЛЕВЫЕ КАЧЕСТВ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ПОИСКОВО-ПОЗНАВАТЕЛЬНОЙ ДЕЯТЕЛЬНОСТИ ДОШКОЛЬНИКОВ, РОД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6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rcRect l="0" t="0" r="0" b="881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846000"/>
            <a:ext cx="727236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ГНОЗИРУЕМЫЕ РЕЗУЛЬТАТЫ: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УРОВНЯ ПОЗНАВАТЕЛЬНЫХ ПРОЦЕССОВ И МЕЛКОЙ МОТОРИКИ ДЕТЕЙ ДОШКОЛЬНОГО ВОЗРАСТ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АЦИЯ РОДИТЕЛЕЙ КАК УЧАСТНИКОВ РАЗВИВАЮЩЕЙ ДЕЯТЕЛЬНОСТИ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АЩЕНИЕ ГРУППЫ ТЕХНИЧЕСКИМ МАТЕРИА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2147400"/>
            <a:ext cx="799308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ДБОР  ТЕХНИЧЕСКОГО МАТЕРИАЛ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ГОТОВЛЕНИЕ ДИДАКТИЧЕСКИХ ИГР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ДБОР КОНСУЛЬТАЦИОННОГО МАТЕРИАЛА ДЛЯ  РОДИТЕЛЕ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СТАВЛЕНИЕ ПЕРСПЕКТИВНО-ТЕМАТИЧЕСКОГО ПЛАНА </a:t>
            </a:r>
            <a:br>
              <a:rPr sz="2400"/>
            </a:br>
            <a:br>
              <a:rPr sz="4000"/>
            </a:br>
            <a:br>
              <a:rPr sz="3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7240" y="125100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сновные эта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rcRect l="0" t="0" r="0" b="9774"/>
          <a:stretch/>
        </p:blipFill>
        <p:spPr>
          <a:xfrm>
            <a:off x="0" y="4680"/>
            <a:ext cx="916632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66978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2"/>
          <a:srcRect l="0" t="20864" r="0" b="9682"/>
          <a:stretch/>
        </p:blipFill>
        <p:spPr>
          <a:xfrm>
            <a:off x="2359080" y="2036880"/>
            <a:ext cx="4448160" cy="41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23-02-05T16:38:34Z</dcterms:modified>
  <cp:revision>74</cp:revision>
  <dc:subject/>
  <dc:title>ЗАКАРЯЕВА ИРИНА БАТРАЗОВНА ПЕДАГОГ-ПСИХОЛОГ МБДОУ№92</dc:title>
</cp:coreProperties>
</file>