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FB8-341D-42E4-BE4F-304AF495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5B9-E210-4530-BD71-336000C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FE8-F73E-46AC-8340-86E41F79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445-815A-45B3-A8B6-431F1250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9895-69C7-4F55-845A-F5C55CB7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ECA2-A7A1-4EB6-B9AE-F7F8553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49D-80F7-4137-85D0-90EDC84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E63-DAF8-41C7-83FC-97CFD84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404-7072-4198-BA80-C8E3B01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244-2928-4EF0-AD0E-C7B72BA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7F79-C8E4-4C35-BE95-91D54AC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613-B5DC-4D3F-8545-5538CC21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5507-1754-45E4-8497-DDC1A62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ED7C-FF54-4429-81FF-005D009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7EE-E61E-4CCF-91D6-6B26E560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B57A-78FD-412C-9988-26C56DF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C96D-8868-4C1A-A3F4-5AE78C46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9A3E-3AB9-4A93-8F6E-D41E9F4B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D2AC-9540-49D7-B42C-4A727C86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1EEB-46F7-4A7E-813C-88873460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06FA-903A-4ABB-9D7C-3FEF1D3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CB9C-A250-4393-8F40-B12FD4E2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F0B-8362-48CF-A2B8-2896329D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2CBD-6E0B-4B4C-AF9E-0EFF780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800B-4774-46D3-B78E-CEC5138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02F2-C73A-42F6-9E67-98B4CA3F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CA4A-09E4-4FED-8CCA-0A69CD8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E4A1-35F1-41D9-9BF0-1909051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57E7-3635-47FC-B2A2-AA8B7B9F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7AA8-B7ED-42E9-9F68-9320DD53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F7DE-6ECE-4CDB-8780-EFB56DF2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710E-8322-49C1-92F9-6AD10B9E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7EBE-F749-43F6-AC86-5BCD2A6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C88-D165-4F59-B7CC-E0453273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3D24-D598-444D-9703-F4D0BB4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2C9A-A6B7-47D0-9CBB-35951866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6498-A6DF-4972-94F9-4E835672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3282-A6A5-43EF-BA29-8AB4C42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6074-1FC0-451E-A08F-48E5D3B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DB96-290A-4602-B811-C303D45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FFBB-9269-4E18-AB15-B400E59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3E94-A1DA-4CD1-928F-B282AC15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A1B4-794F-4BEB-BE7A-644A6F73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6DF-E41E-4196-B7E7-84B0694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BB1-10BC-4EC7-98BE-FF2FCFE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C1F-90DD-4D9F-9B1D-71D8CCB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E39-55FC-453E-AD8F-4EAA7D9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018-88B8-4978-A0EE-FE102BA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71F1-7E79-4287-9D8A-426DA070A2B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6806-2F36-49B2-873B-002DFFA2D19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14F-00A2-405A-9DFA-C052FBD8D0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F32-6578-4762-A4AE-A69739123CF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1960" y="764640"/>
            <a:ext cx="84204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Times New Roman"/>
              </a:rPr>
              <a:t>Михаил Васильевич Ломоносов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371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Урок литературы в 9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1сл"/>
          <p:cNvPicPr/>
          <p:nvPr/>
        </p:nvPicPr>
        <p:blipFill>
          <a:blip r:embed="rId1"/>
          <a:stretch/>
        </p:blipFill>
        <p:spPr>
          <a:xfrm>
            <a:off x="4572000" y="2852640"/>
            <a:ext cx="4248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3108240" y="47628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539640" y="53737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55 по инициативе Ломоносова и по его проекту был основан Московский университет, «открытый для всех лиц, способных к наукам», а не только для двор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5"/>
          <p:cNvPicPr/>
          <p:nvPr/>
        </p:nvPicPr>
        <p:blipFill>
          <a:blip r:embed="rId2"/>
          <a:stretch/>
        </p:blipFill>
        <p:spPr>
          <a:xfrm>
            <a:off x="0" y="260280"/>
            <a:ext cx="298764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407520"/>
            <a:ext cx="856908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Занимаясь лингвистикой, он разработал</a:t>
            </a:r>
            <a:br>
              <a:rPr sz="2500"/>
            </a:b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первую научную грамматику русского языка-</a:t>
            </a:r>
            <a:br>
              <a:rPr sz="2500"/>
            </a:b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«Российскую грамматику»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4" descr="8"/>
          <p:cNvPicPr/>
          <p:nvPr/>
        </p:nvPicPr>
        <p:blipFill>
          <a:blip r:embed="rId1"/>
          <a:stretch/>
        </p:blipFill>
        <p:spPr>
          <a:xfrm>
            <a:off x="395280" y="1628640"/>
            <a:ext cx="83091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ркпкпрп"/>
          <p:cNvPicPr/>
          <p:nvPr/>
        </p:nvPicPr>
        <p:blipFill>
          <a:blip r:embed="rId1"/>
          <a:stretch/>
        </p:blipFill>
        <p:spPr>
          <a:xfrm>
            <a:off x="0" y="404640"/>
            <a:ext cx="4873680" cy="5832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827600" y="475920"/>
            <a:ext cx="43164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смотря на усиленные занятия точными науками, Ломоносов серьезно занимался русской поэзией. Опираясь на опыт античной и европейской литературы, Ломоносов создал стройную теорию русского стихосложения, изложенную в «Письме о правилах российского стихотворства» (1739 г.) и в основных чертах существующую в наши дн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c3c43"/>
                </a:solidFill>
                <a:latin typeface="Times New Roman"/>
              </a:rPr>
              <a:t>Теория трех сти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356000" y="1052640"/>
            <a:ext cx="446400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 для упорядочения письменной речи (деловой, научной, художественной) разделил язык на "три рода речений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 "трех штилей" имела демократический характ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ограничила употребление старославянских сл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ла литературный язык к разговор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ые и научные произведения, написанные в соответствии с требованиями этой теории, были доступны более широкому кругу чит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еория"/>
          <p:cNvPicPr/>
          <p:nvPr/>
        </p:nvPicPr>
        <p:blipFill>
          <a:blip r:embed="rId1"/>
          <a:stretch/>
        </p:blipFill>
        <p:spPr>
          <a:xfrm>
            <a:off x="395280" y="1484280"/>
            <a:ext cx="3809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2340000" y="3573360"/>
            <a:ext cx="58672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еформа стихос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43876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 не замечаем, что многие из научных выражений, применяемых нами всеми сегодня, составлены по правилам. Например, земная ось, законы движения, удельный вес, негашеная известь. Именно Ломоносов ввел в науку ряд русских слов, имевших бытовое значение, таких как: опыт, движение, явление, частиц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6" descr="Для Насти"/>
          <p:cNvPicPr/>
          <p:nvPr/>
        </p:nvPicPr>
        <p:blipFill>
          <a:blip r:embed="rId1"/>
          <a:stretch/>
        </p:blipFill>
        <p:spPr>
          <a:xfrm>
            <a:off x="5272200" y="1871640"/>
            <a:ext cx="279072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4716360" y="1266480"/>
            <a:ext cx="42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1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тоге ломоносовские научные и технические слова и выражения мало-помалу заменили собой прежние неуклюжие термины. Так великий ученый земли русской положил начало нашему точному научно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у, без которого теперь никто не может об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_photo2"/>
          <p:cNvPicPr/>
          <p:nvPr/>
        </p:nvPicPr>
        <p:blipFill>
          <a:blip r:embed="rId1"/>
          <a:stretch/>
        </p:blipFill>
        <p:spPr>
          <a:xfrm>
            <a:off x="468360" y="1197000"/>
            <a:ext cx="40323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39560" y="2349360"/>
            <a:ext cx="82296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 своё скрывает ден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 _ _  _ _  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ямб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дарение на 2-ой слог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 мглою небо кро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 _ _  _ _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хоре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дарение на 1-ый слог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1760400" y="3168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2411280" y="31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68360" y="2241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68436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386000" y="494172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2124000" y="4925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386000" y="22780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564000" y="2278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4549680" y="2319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971640" y="3213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2700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356400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вусложные размеры стих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457200" y="2133720"/>
            <a:ext cx="829152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ю темнотою по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_ _ _ _ _ _ _ _ _ _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дактиль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напест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мфибрах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332000" y="2349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771640" y="2421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5078520" y="20685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076720" y="24210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2773440" y="349884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3132000" y="4129200"/>
            <a:ext cx="1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3635280" y="4724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1617840" y="2035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564000" y="203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7020000" y="207972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рёхсложные размеры стих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404640"/>
            <a:ext cx="3851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оносов закончил реформу русского стихосложения и подкрепил ее своими поэтическими произведениями. Он содействовал созданию русского классицизма в литературе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4" descr="Lomonosov_%282%29"/>
          <p:cNvPicPr/>
          <p:nvPr/>
        </p:nvPicPr>
        <p:blipFill>
          <a:blip r:embed="rId1"/>
          <a:stretch/>
        </p:blipFill>
        <p:spPr>
          <a:xfrm>
            <a:off x="3851280" y="333360"/>
            <a:ext cx="49687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400720" y="188640"/>
            <a:ext cx="374328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ь Ломоносова, его научная и литературна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ятельность сыгра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остепенную роль 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и сознания русског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ества и остави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убокий след в истор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ой культу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8" descr="Lomonosov%20collage"/>
          <p:cNvPicPr/>
          <p:nvPr/>
        </p:nvPicPr>
        <p:blipFill>
          <a:blip r:embed="rId1"/>
          <a:stretch/>
        </p:blipFill>
        <p:spPr>
          <a:xfrm>
            <a:off x="0" y="1557360"/>
            <a:ext cx="510048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Биография</a:t>
            </a:r>
            <a:br>
              <a:rPr sz="3200"/>
            </a:b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М.В. Ломоносов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24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Родился 21 ноября 1711 года в Архангельской губернии в д. Денисовка близ Холмогор в семье крестьянина-помор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Сын государственног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крестьяни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Ломоносов вырос в условия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северорусской культуры, тесно связанной с традициям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допетровской Рус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6" descr="post-3616-1158587111[1]"/>
          <p:cNvPicPr/>
          <p:nvPr/>
        </p:nvPicPr>
        <p:blipFill>
          <a:blip r:embed="rId1"/>
          <a:stretch/>
        </p:blipFill>
        <p:spPr>
          <a:xfrm>
            <a:off x="5364000" y="18900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24557809_dom_lomonosova"/>
          <p:cNvPicPr/>
          <p:nvPr/>
        </p:nvPicPr>
        <p:blipFill>
          <a:blip r:embed="rId2"/>
          <a:stretch/>
        </p:blipFill>
        <p:spPr>
          <a:xfrm>
            <a:off x="4427640" y="3573360"/>
            <a:ext cx="45370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5"/>
          <p:cNvPicPr/>
          <p:nvPr/>
        </p:nvPicPr>
        <p:blipFill>
          <a:blip r:embed="rId1"/>
          <a:stretch/>
        </p:blipFill>
        <p:spPr>
          <a:xfrm>
            <a:off x="4788000" y="333360"/>
            <a:ext cx="4032000" cy="6048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 flipH="1">
            <a:off x="4939560" y="633744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ила М.В.Ломоно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памятник 2"/>
          <p:cNvPicPr/>
          <p:nvPr/>
        </p:nvPicPr>
        <p:blipFill>
          <a:blip r:embed="rId2"/>
          <a:stretch/>
        </p:blipFill>
        <p:spPr>
          <a:xfrm>
            <a:off x="395280" y="33336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в москву"/>
          <p:cNvPicPr/>
          <p:nvPr/>
        </p:nvPicPr>
        <p:blipFill>
          <a:blip r:embed="rId1"/>
          <a:stretch/>
        </p:blipFill>
        <p:spPr>
          <a:xfrm>
            <a:off x="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395280" y="26028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9 лет тайком от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правляется из дере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лмогоры в Моск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ает в Славян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еко – латин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адемию и становится одним из лучши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Рисунок1"/>
          <p:cNvPicPr/>
          <p:nvPr/>
        </p:nvPicPr>
        <p:blipFill>
          <a:blip r:embed="rId2"/>
          <a:stretch/>
        </p:blipFill>
        <p:spPr>
          <a:xfrm>
            <a:off x="4643280" y="333360"/>
            <a:ext cx="417672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250920" y="6093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И. Кисляков «Юноша Ломоносов на пути в Моск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295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736 году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хаила Васильевич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ылают в Германи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изучения горного дел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нувшись в Россию, он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ся академиком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ором хим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11" descr="1"/>
          <p:cNvPicPr/>
          <p:nvPr/>
        </p:nvPicPr>
        <p:blipFill>
          <a:blip r:embed="rId1"/>
          <a:stretch/>
        </p:blipFill>
        <p:spPr>
          <a:xfrm>
            <a:off x="5040360" y="765000"/>
            <a:ext cx="4103640" cy="4983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859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руг интересов Ломонос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был очень широк: физик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химия, астрономия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атематика, техника, горно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дело, геология, металлургия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роизводство стекл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озаичное производство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география физическая 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экономическая, истор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филология, - и в каждой из этих  научных или практических областей Ломоносов остави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значительный след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lomonosov[1]"/>
          <p:cNvPicPr/>
          <p:nvPr/>
        </p:nvPicPr>
        <p:blipFill>
          <a:blip r:embed="rId1"/>
          <a:stretch/>
        </p:blipFill>
        <p:spPr>
          <a:xfrm>
            <a:off x="0" y="1052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c911d"/>
                </a:solidFill>
                <a:latin typeface="Trebuchet MS"/>
              </a:rPr>
              <a:t>Открытия Ломоносов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28640"/>
            <a:ext cx="512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рганизовал первую в России химическую лабораторию./Химия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Развивал атомно-молекулярные представления о строении вещества /физика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Создал ряд оптических приборов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ткрыл атмосферу на Вене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писал строение Земл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бъяснил происхождение многих полезных ископаемых и минерал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публиковал руководство по металлург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Подчеркивал важность исследования Северного морского пути и освоения Сибир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Автор трудов по русской истор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По инициативе Ломоносова основан Московский университет (1755).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3"/>
          <p:cNvPicPr/>
          <p:nvPr/>
        </p:nvPicPr>
        <p:blipFill>
          <a:blip r:embed="rId1"/>
          <a:stretch/>
        </p:blipFill>
        <p:spPr>
          <a:xfrm>
            <a:off x="5477040" y="1341360"/>
            <a:ext cx="348768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5672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c911d"/>
                </a:solidFill>
                <a:latin typeface="Times New Roman"/>
              </a:rPr>
              <a:t>22 года работал он в Академии наук,  выступал с крупными работами по химии и физике, геологии и географии, изучал астрономию, разработал основы металлургии, организовал производство и изготовление мозаики, составлял географически карты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Picture 5" descr="lomonosov"/>
          <p:cNvPicPr/>
          <p:nvPr/>
        </p:nvPicPr>
        <p:blipFill>
          <a:blip r:embed="rId1"/>
          <a:stretch/>
        </p:blipFill>
        <p:spPr>
          <a:xfrm rot="21192000">
            <a:off x="826920" y="2226960"/>
            <a:ext cx="273708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6" descr="350x280"/>
          <p:cNvPicPr/>
          <p:nvPr/>
        </p:nvPicPr>
        <p:blipFill>
          <a:blip r:embed="rId2"/>
          <a:stretch/>
        </p:blipFill>
        <p:spPr>
          <a:xfrm>
            <a:off x="3924360" y="2565360"/>
            <a:ext cx="4824360" cy="36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</a:rPr>
              <a:t>ВЕЛИКОЕ МОЗАИЧНОЕ ДЕЛО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7640" y="1628280"/>
            <a:ext cx="878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раф М.И. Воронцов, приехав из Италии, привез мозаику. Именно она вдохновила Ломоносова на открытие стеклянной фабрик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0" y="4005360"/>
            <a:ext cx="2268360" cy="285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2519280" cy="306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3"/>
          <a:stretch/>
        </p:blipFill>
        <p:spPr>
          <a:xfrm>
            <a:off x="5580000" y="3429000"/>
            <a:ext cx="273708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4"/>
          <a:stretch/>
        </p:blipFill>
        <p:spPr>
          <a:xfrm>
            <a:off x="5364000" y="5300640"/>
            <a:ext cx="1152720" cy="1557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151272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11280" y="3942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УССКИЙ  ФАР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5280" y="1764720"/>
            <a:ext cx="396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фарфор был известен со второй полови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 Над способом производства фарфора из отечественных материалов рабо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В. Ломоносов. Первый в России фарфоровый завод был открыт в Петербурге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50072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8:10:00Z</dcterms:created>
  <dc:creator>USER</dc:creator>
  <dc:description/>
  <dc:language>en-US</dc:language>
  <cp:lastModifiedBy>Galina</cp:lastModifiedBy>
  <dcterms:modified xsi:type="dcterms:W3CDTF">2023-02-05T20:02:38Z</dcterms:modified>
  <cp:revision>65</cp:revision>
  <dc:subject/>
  <dc:title>Михаил Васильевич Ломоносов (1711-1765 гг.)</dc:title>
</cp:coreProperties>
</file>