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656E-1C49-4AF4-AB23-3E587353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6F6-7615-421F-9BBB-A13B3B76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592-BDDA-46F1-A229-60F59934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41F7-B287-4D25-AFE0-D2BF25BC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C700-6FC9-47AE-BC82-10D5ADB4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1C0A-82AA-4208-A693-4A9ECE87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8F1F-BD12-4159-8939-5A13BEBE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706D-9B46-42ED-AB99-6F2D62FF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4CEC-9206-407C-A70D-0B361700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78FA-B0B1-4306-B57B-7CBA5559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B680-A6C2-484A-8DA9-C45E0C7B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F2BB-7E84-487F-B0DF-7024615F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EC25-37C1-446F-92DB-A9ED61EE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BC9E-9B7C-43CF-B503-8BA5D36C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7780-6DCF-4976-972B-E771F848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4038-14E8-4208-97D4-0F59175C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C903-1115-45A9-B631-B818764B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4930B-463B-42FA-8B38-4EEFE56C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DB756-83A6-47DD-B50F-C511993A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47675-3F05-4390-B41B-8892BC4E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528AE-E615-4C35-A01E-45F8E18D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8CCCF-93AF-45DB-AF3A-D6094BC7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3753-328F-4FDC-82FF-6499711B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C6007-6B2C-463B-B7C8-AB56ECC0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78778-46A3-4831-BDC1-3A458919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A977D-1045-4683-8428-6240DADE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8E30C-D011-446C-89A4-BC943808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46829-4BD6-493F-940E-E66F06E2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6B2BC-9D5C-4B40-8331-81BCB9FE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394F6-7E25-4F68-9E1B-C76BF073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34EC4-EA57-44A1-8E91-9E127129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62200-8C46-4C7B-A1EE-48F29A35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140EA-AE31-40DB-A4A3-87168BF1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5FE-1B4A-4501-9C7C-06DF385D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835DD-6AF5-49DC-AE3F-2C8A2B61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52024-ED9D-4A66-A43F-6C355ED2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E8F08-D463-4737-B0F7-76992635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6879E-FD8A-487B-B163-05DACE10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13FC8-4E4A-45E6-BC48-280C71FC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E45FB-C978-4243-AE59-912DB62A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DA097-7F51-46CD-B440-BC0C636B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32B47-AFFA-4080-8521-1DFBA3EA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B181D-85AA-4341-9B1E-B9E8F392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CBDA-5845-4D9A-A220-D57B233D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F128-8E09-4DED-AB24-706A19B7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764-01F5-430E-AE6F-FB6D27D2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7769-1911-4E43-B654-6D123E66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C95-F772-4079-8C8E-158954BD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2CEE-3192-4130-93C0-8B855EDDC71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0583-DBD5-4487-A552-ED0203FAECE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E2FF-6D97-4AEE-91E2-75FBC903284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8762-027D-43D0-A9BB-3E695243987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1960" y="764640"/>
            <a:ext cx="8420400" cy="23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Times New Roman"/>
              </a:rPr>
              <a:t>Михаил Васильевич Ломоносов</a:t>
            </a: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611280" y="3716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18655"/>
                </a:solidFill>
                <a:latin typeface="Times New Roman"/>
                <a:ea typeface="Times New Roman"/>
              </a:rPr>
              <a:t>Урок литературы в 9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1сл"/>
          <p:cNvPicPr/>
          <p:nvPr/>
        </p:nvPicPr>
        <p:blipFill>
          <a:blip r:embed="rId1"/>
          <a:stretch/>
        </p:blipFill>
        <p:spPr>
          <a:xfrm>
            <a:off x="4572000" y="2852640"/>
            <a:ext cx="424800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9" descr=""/>
          <p:cNvPicPr/>
          <p:nvPr/>
        </p:nvPicPr>
        <p:blipFill>
          <a:blip r:embed="rId1"/>
          <a:stretch/>
        </p:blipFill>
        <p:spPr>
          <a:xfrm>
            <a:off x="3108240" y="47628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1"/>
          <p:cNvSpPr/>
          <p:nvPr/>
        </p:nvSpPr>
        <p:spPr>
          <a:xfrm>
            <a:off x="539640" y="537372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755 по инициативе Ломоносова и по его проекту был основан Московский университет, «открытый для всех лиц, способных к наукам», а не только для двор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3" descr="5"/>
          <p:cNvPicPr/>
          <p:nvPr/>
        </p:nvPicPr>
        <p:blipFill>
          <a:blip r:embed="rId2"/>
          <a:stretch/>
        </p:blipFill>
        <p:spPr>
          <a:xfrm>
            <a:off x="0" y="260280"/>
            <a:ext cx="298764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560" y="407520"/>
            <a:ext cx="8569080" cy="10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6c911d"/>
                </a:solidFill>
                <a:latin typeface="Times New Roman"/>
              </a:rPr>
              <a:t>Занимаясь лингвистикой, он разработал</a:t>
            </a:r>
            <a:br>
              <a:rPr sz="2500"/>
            </a:br>
            <a:r>
              <a:rPr b="0" lang="ru-RU" sz="2500" spc="-1" strike="noStrike">
                <a:solidFill>
                  <a:srgbClr val="6c911d"/>
                </a:solidFill>
                <a:latin typeface="Times New Roman"/>
              </a:rPr>
              <a:t>первую научную грамматику русского языка-</a:t>
            </a:r>
            <a:br>
              <a:rPr sz="2500"/>
            </a:br>
            <a:r>
              <a:rPr b="0" lang="ru-RU" sz="2500" spc="-1" strike="noStrike">
                <a:solidFill>
                  <a:srgbClr val="6c911d"/>
                </a:solidFill>
                <a:latin typeface="Times New Roman"/>
              </a:rPr>
              <a:t>«Российскую грамматику»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8" name="Picture 4" descr="8"/>
          <p:cNvPicPr/>
          <p:nvPr/>
        </p:nvPicPr>
        <p:blipFill>
          <a:blip r:embed="rId1"/>
          <a:stretch/>
        </p:blipFill>
        <p:spPr>
          <a:xfrm>
            <a:off x="395280" y="1628640"/>
            <a:ext cx="830916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7" descr="ркпкпрп"/>
          <p:cNvPicPr/>
          <p:nvPr/>
        </p:nvPicPr>
        <p:blipFill>
          <a:blip r:embed="rId1"/>
          <a:stretch/>
        </p:blipFill>
        <p:spPr>
          <a:xfrm>
            <a:off x="0" y="404640"/>
            <a:ext cx="4873680" cy="5832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827600" y="475920"/>
            <a:ext cx="43164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Несмотря на усиленные занятия точными науками, Ломоносов серьезно занимался русской поэзией. Опираясь на опыт античной и европейской литературы, Ломоносов создал стройную теорию русского стихосложения, изложенную в «Письме о правилах российского стихотворства» (1739 г.) и в основных чертах существующую в наши дни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c3c43"/>
                </a:solidFill>
                <a:latin typeface="Times New Roman"/>
              </a:rPr>
              <a:t>Теория трех сти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4356000" y="1052640"/>
            <a:ext cx="446400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 для упорядочения письменной речи (деловой, научной, художественной) разделил язык на "три рода речений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ория "трех штилей" имела демократический характ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а ограничила употребление старославянских сл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близила литературный язык к разговор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ые и научные произведения, написанные в соответствии с требованиями этой теории, были доступны более широкому кругу чита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теория"/>
          <p:cNvPicPr/>
          <p:nvPr/>
        </p:nvPicPr>
        <p:blipFill>
          <a:blip r:embed="rId1"/>
          <a:stretch/>
        </p:blipFill>
        <p:spPr>
          <a:xfrm>
            <a:off x="395280" y="1484280"/>
            <a:ext cx="380988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2340000" y="3573360"/>
            <a:ext cx="58672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Реформа стихослож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8000" y="1773360"/>
            <a:ext cx="43876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и не замечаем, что многие из научных выражений, применяемых нами всеми сегодня, составлены по правилам. Например, земная ось, законы движения, удельный вес, негашеная известь. Именно Ломоносов ввел в науку ряд русских слов, имевших бытовое значение, таких как: опыт, движение, явление, частиц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6" descr="Для Насти"/>
          <p:cNvPicPr/>
          <p:nvPr/>
        </p:nvPicPr>
        <p:blipFill>
          <a:blip r:embed="rId1"/>
          <a:stretch/>
        </p:blipFill>
        <p:spPr>
          <a:xfrm>
            <a:off x="5272200" y="1871640"/>
            <a:ext cx="2790720" cy="3981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4716360" y="1266480"/>
            <a:ext cx="42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21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тоге ломоносовские научные и технические слова и выражения мало-помалу заменили собой прежние неуклюжие термины. Так великий ученый земли русской положил начало нашему точному научном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у, без которого теперь никто не может обход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_photo2"/>
          <p:cNvPicPr/>
          <p:nvPr/>
        </p:nvPicPr>
        <p:blipFill>
          <a:blip r:embed="rId1"/>
          <a:stretch/>
        </p:blipFill>
        <p:spPr>
          <a:xfrm>
            <a:off x="468360" y="1197000"/>
            <a:ext cx="403236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439560" y="2349360"/>
            <a:ext cx="82296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е своё скрывает день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 _  _ _  _ _   </a:t>
            </a:r>
            <a:r>
              <a:rPr b="0" i="1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ямб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дарение на 2-ой слог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я мглою небо кро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 _  _ _  _ _ 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хорей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дарение на 1-ый слог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5"/>
          <p:cNvSpPr/>
          <p:nvPr/>
        </p:nvSpPr>
        <p:spPr>
          <a:xfrm>
            <a:off x="1760400" y="3168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"/>
          <p:cNvSpPr/>
          <p:nvPr/>
        </p:nvSpPr>
        <p:spPr>
          <a:xfrm>
            <a:off x="2411280" y="3139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2268360" y="2241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684360" y="49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1386000" y="494172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2124000" y="49258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1"/>
          <p:cNvSpPr/>
          <p:nvPr/>
        </p:nvSpPr>
        <p:spPr>
          <a:xfrm>
            <a:off x="1386000" y="227808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3564000" y="2278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3"/>
          <p:cNvSpPr/>
          <p:nvPr/>
        </p:nvSpPr>
        <p:spPr>
          <a:xfrm>
            <a:off x="4549680" y="23194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4"/>
          <p:cNvSpPr/>
          <p:nvPr/>
        </p:nvSpPr>
        <p:spPr>
          <a:xfrm>
            <a:off x="971640" y="3213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5"/>
          <p:cNvSpPr/>
          <p:nvPr/>
        </p:nvSpPr>
        <p:spPr>
          <a:xfrm>
            <a:off x="2700360" y="27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3564000" y="27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Двусложные размеры стих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457200" y="2133720"/>
            <a:ext cx="829152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ною темнотою покрылись неб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 _ _ _ _ _ _ _ _ _ _ _ 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дактиль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_ _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)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анапест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_ _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)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амфибрах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 _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6"/>
          <p:cNvSpPr/>
          <p:nvPr/>
        </p:nvSpPr>
        <p:spPr>
          <a:xfrm>
            <a:off x="1332000" y="234936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7"/>
          <p:cNvSpPr/>
          <p:nvPr/>
        </p:nvSpPr>
        <p:spPr>
          <a:xfrm>
            <a:off x="2771640" y="242100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8"/>
          <p:cNvSpPr/>
          <p:nvPr/>
        </p:nvSpPr>
        <p:spPr>
          <a:xfrm>
            <a:off x="5078520" y="206856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5076720" y="242100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2773440" y="3498840"/>
            <a:ext cx="14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3132000" y="4129200"/>
            <a:ext cx="18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>
            <a:off x="3635280" y="4724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1617840" y="203508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4"/>
          <p:cNvSpPr/>
          <p:nvPr/>
        </p:nvSpPr>
        <p:spPr>
          <a:xfrm>
            <a:off x="3564000" y="2033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>
            <a:off x="7020000" y="2079720"/>
            <a:ext cx="1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Трёхсложные размеры стих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0" y="404640"/>
            <a:ext cx="3851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моносов закончил реформу русского стихосложения и подкрепил ее своими поэтическими произведениями. Он содействовал созданию русского классицизма в литературе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7" name="Picture 4" descr="Lomonosov_%282%29"/>
          <p:cNvPicPr/>
          <p:nvPr/>
        </p:nvPicPr>
        <p:blipFill>
          <a:blip r:embed="rId1"/>
          <a:stretch/>
        </p:blipFill>
        <p:spPr>
          <a:xfrm>
            <a:off x="3851280" y="333360"/>
            <a:ext cx="4968720" cy="6191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5400720" y="188640"/>
            <a:ext cx="3743280" cy="60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чность Ломоносова, его научная и литературна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ятельность сыграл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остепенную роль 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и сознания русског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щества и оставил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убокий след в истори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сской культур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9" name="Picture 8" descr="Lomonosov%20collage"/>
          <p:cNvPicPr/>
          <p:nvPr/>
        </p:nvPicPr>
        <p:blipFill>
          <a:blip r:embed="rId1"/>
          <a:stretch/>
        </p:blipFill>
        <p:spPr>
          <a:xfrm>
            <a:off x="0" y="1557360"/>
            <a:ext cx="5100480" cy="4352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7f7f7f"/>
                </a:solidFill>
                <a:latin typeface="Times New Roman"/>
              </a:rPr>
              <a:t>Биография</a:t>
            </a:r>
            <a:br>
              <a:rPr sz="3200"/>
            </a:br>
            <a:r>
              <a:rPr b="0" i="1" lang="ru-RU" sz="3200" spc="-1" strike="noStrike">
                <a:solidFill>
                  <a:srgbClr val="7f7f7f"/>
                </a:solidFill>
                <a:latin typeface="Times New Roman"/>
              </a:rPr>
              <a:t>М.В. Ломоносова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4248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Родился 21 ноября 1711 года в Архангельской губернии в д. Денисовка близ Холмогор в семье крестьянина-помор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Сын государственног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крестьянина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Ломоносов вырос в условиях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северорусской культуры, тесно связанной с традициями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допетровской Рус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Picture 6" descr="post-3616-1158587111[1]"/>
          <p:cNvPicPr/>
          <p:nvPr/>
        </p:nvPicPr>
        <p:blipFill>
          <a:blip r:embed="rId1"/>
          <a:stretch/>
        </p:blipFill>
        <p:spPr>
          <a:xfrm>
            <a:off x="5364000" y="189000"/>
            <a:ext cx="2808360" cy="3168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24557809_dom_lomonosova"/>
          <p:cNvPicPr/>
          <p:nvPr/>
        </p:nvPicPr>
        <p:blipFill>
          <a:blip r:embed="rId2"/>
          <a:stretch/>
        </p:blipFill>
        <p:spPr>
          <a:xfrm>
            <a:off x="4427640" y="3573360"/>
            <a:ext cx="4537080" cy="2951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5"/>
          <p:cNvPicPr/>
          <p:nvPr/>
        </p:nvPicPr>
        <p:blipFill>
          <a:blip r:embed="rId1"/>
          <a:stretch/>
        </p:blipFill>
        <p:spPr>
          <a:xfrm>
            <a:off x="4788000" y="333360"/>
            <a:ext cx="4032000" cy="60483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6"/>
          <p:cNvSpPr/>
          <p:nvPr/>
        </p:nvSpPr>
        <p:spPr>
          <a:xfrm flipH="1">
            <a:off x="4939560" y="633744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ила М.В.Ломоно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7" descr="памятник 2"/>
          <p:cNvPicPr/>
          <p:nvPr/>
        </p:nvPicPr>
        <p:blipFill>
          <a:blip r:embed="rId2"/>
          <a:stretch/>
        </p:blipFill>
        <p:spPr>
          <a:xfrm>
            <a:off x="395280" y="333360"/>
            <a:ext cx="4032360" cy="604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в москву"/>
          <p:cNvPicPr/>
          <p:nvPr/>
        </p:nvPicPr>
        <p:blipFill>
          <a:blip r:embed="rId1"/>
          <a:stretch/>
        </p:blipFill>
        <p:spPr>
          <a:xfrm>
            <a:off x="0" y="2637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395280" y="260280"/>
            <a:ext cx="33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19 лет тайком от от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.В.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правляется из дерев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лмогоры в Москву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упает в Славян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еко – латинск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кадемию и становится одним из лучших уче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Рисунок1"/>
          <p:cNvPicPr/>
          <p:nvPr/>
        </p:nvPicPr>
        <p:blipFill>
          <a:blip r:embed="rId2"/>
          <a:stretch/>
        </p:blipFill>
        <p:spPr>
          <a:xfrm>
            <a:off x="4643280" y="333360"/>
            <a:ext cx="4176720" cy="62643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250920" y="60930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.И. Кисляков «Юноша Ломоносов на пути в Москв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2952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736 году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хаила Васильевич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ылают в Германию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изучения горного дел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рнувшись в Россию, он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новится академиком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ессором хим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4" name="Picture 11" descr="1"/>
          <p:cNvPicPr/>
          <p:nvPr/>
        </p:nvPicPr>
        <p:blipFill>
          <a:blip r:embed="rId1"/>
          <a:stretch/>
        </p:blipFill>
        <p:spPr>
          <a:xfrm>
            <a:off x="5040360" y="765000"/>
            <a:ext cx="4103640" cy="4983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284720" y="260280"/>
            <a:ext cx="48592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Круг интересов Ломоносов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был очень широк: физика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химия, астрономия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математика, техника, горно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дело, геология, металлургия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производство стекла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мозаичное производство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география физическая 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экономическая, история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филология, - и в каждой из этих  научных или практических областей Ломоносов остави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значительный след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4" descr="lomonosov[1]"/>
          <p:cNvPicPr/>
          <p:nvPr/>
        </p:nvPicPr>
        <p:blipFill>
          <a:blip r:embed="rId1"/>
          <a:stretch/>
        </p:blipFill>
        <p:spPr>
          <a:xfrm>
            <a:off x="0" y="1052640"/>
            <a:ext cx="360036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6c911d"/>
                </a:solidFill>
                <a:latin typeface="Trebuchet MS"/>
              </a:rPr>
              <a:t>Открытия Ломоносов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28640"/>
            <a:ext cx="512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Организовал первую в России химическую лабораторию./Химия/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Развивал атомно-молекулярные представления о строении вещества /физика/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Создал ряд оптических приборов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Открыл атмосферу на Венер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Описал строение Земл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Объяснил происхождение многих полезных ископаемых и минерало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Опубликовал руководство по металлурги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Подчеркивал важность исследования Северного морского пути и освоения Сибир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Автор трудов по русской истори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</a:rPr>
              <a:t>По инициативе Ломоносова основан Московский университет (1755).</a:t>
            </a:r>
            <a:r>
              <a:rPr b="0" i="1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Picture 4" descr="3"/>
          <p:cNvPicPr/>
          <p:nvPr/>
        </p:nvPicPr>
        <p:blipFill>
          <a:blip r:embed="rId1"/>
          <a:stretch/>
        </p:blipFill>
        <p:spPr>
          <a:xfrm>
            <a:off x="5477040" y="1341360"/>
            <a:ext cx="348768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85672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6c911d"/>
                </a:solidFill>
                <a:latin typeface="Times New Roman"/>
              </a:rPr>
              <a:t>22 года работал он в Академии наук,  выступал с крупными работами по химии и физике, геологии и географии, изучал астрономию, разработал основы металлургии, организовал производство и изготовление мозаики, составлял географически карты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1" name="Picture 5" descr="lomonosov"/>
          <p:cNvPicPr/>
          <p:nvPr/>
        </p:nvPicPr>
        <p:blipFill>
          <a:blip r:embed="rId1"/>
          <a:stretch/>
        </p:blipFill>
        <p:spPr>
          <a:xfrm rot="21192000">
            <a:off x="826920" y="2226960"/>
            <a:ext cx="273708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2" name="Picture 6" descr="350x280"/>
          <p:cNvPicPr/>
          <p:nvPr/>
        </p:nvPicPr>
        <p:blipFill>
          <a:blip r:embed="rId2"/>
          <a:stretch/>
        </p:blipFill>
        <p:spPr>
          <a:xfrm>
            <a:off x="3924360" y="2565360"/>
            <a:ext cx="4824360" cy="362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Trebuchet MS"/>
              </a:rPr>
              <a:t>ВЕЛИКОЕ МОЗАИЧНОЕ ДЕЛО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7640" y="1628280"/>
            <a:ext cx="8785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раф М.И. Воронцов, приехав из Италии, привез мозаику. Именно она вдохновила Ломоносова на открытие стеклянной фабрик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0" y="4005360"/>
            <a:ext cx="2268360" cy="2852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2519280" cy="3068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3"/>
          <a:stretch/>
        </p:blipFill>
        <p:spPr>
          <a:xfrm>
            <a:off x="5580000" y="3429000"/>
            <a:ext cx="2737080" cy="1800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4"/>
          <a:stretch/>
        </p:blipFill>
        <p:spPr>
          <a:xfrm>
            <a:off x="5364000" y="5300640"/>
            <a:ext cx="1152720" cy="1557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"/>
          <p:cNvPicPr/>
          <p:nvPr/>
        </p:nvPicPr>
        <p:blipFill>
          <a:blip r:embed="rId5"/>
          <a:stretch/>
        </p:blipFill>
        <p:spPr>
          <a:xfrm>
            <a:off x="7236000" y="5300640"/>
            <a:ext cx="1512720" cy="1557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5"/>
          <p:cNvSpPr/>
          <p:nvPr/>
        </p:nvSpPr>
        <p:spPr>
          <a:xfrm>
            <a:off x="611280" y="39420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РУССКИЙ  ФАРФ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95280" y="1764720"/>
            <a:ext cx="39607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фарфор был известен со второй половин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а. Над способом производства фарфора из отечественных материалов рабо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В. Ломоносов. Первый в России фарфоровый завод был открыт в Петербурге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450072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8:10:00Z</dcterms:created>
  <dc:creator>USER</dc:creator>
  <dc:description/>
  <dc:language>en-US</dc:language>
  <cp:lastModifiedBy>Galina</cp:lastModifiedBy>
  <dcterms:modified xsi:type="dcterms:W3CDTF">2023-02-05T20:02:38Z</dcterms:modified>
  <cp:revision>65</cp:revision>
  <dc:subject/>
  <dc:title>Михаил Васильевич Ломоносов (1711-1765 гг.)</dc:title>
</cp:coreProperties>
</file>