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627-5189-48BC-8560-E010883A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67A-119F-4618-99F3-7FF0F3E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50B-D94E-4245-AEC6-1CCAA794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2CA-6F62-4E93-9E7B-5DA54F90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81C-EFD4-4E79-982F-4CDCCBEA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1FE-4AFD-4C9A-A1C9-13D3CF39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97C-B409-417F-9A72-540CE05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74C-147B-4C25-AE25-272E678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EC1-70AE-4E78-B723-71E3A781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7E6-DBD0-41D2-928C-BB267CA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479-5593-4BDE-8BA0-74230491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C2E-D2A0-4852-91BA-22E00EF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67C-0B8D-406C-85A8-6BC684263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814392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Ы ЗАПОМИНАНИЯ ТАБЛИЦЫ УМНОЖ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2880" y="3857400"/>
            <a:ext cx="4714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Ивченко Ян Игоревич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3 «А»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Есауль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ченко Татьяна Викторовна, учитель начальных классов МБОУ «Есауль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зучить способы запоминания таблицы умноже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4240" y="199980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 изучить литературу с целью получения информации о таблице умножения и способах её запомин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одноклассников по теме: «Как ты запоминал таблицу умножения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 письменную проверку знания таблицы умножения  у обучающихся 3 класс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знакомить учеников нашей школы со способами запоминания таблицы умн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5680" y="213840"/>
            <a:ext cx="4429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85920" y="3714840"/>
            <a:ext cx="350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умножение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умное с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умней умножить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слагать всё целый ч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я таб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м нам в жизни пригод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даром назв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ем о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9720" y="1143000"/>
            <a:ext cx="77151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амый популярный математический инструмент для вычислений. Он используется практически всеми и на каждом шагу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071720" y="107172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умножения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*5=3+3+3+3+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на сложения умножением и наоборот. Важно, что при умножении первый множитель показывает слагаемое,  а второй множитель – количество этих слагаемых. 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t9Z7E37cBJk.jpg"/>
          <p:cNvPicPr/>
          <p:nvPr/>
        </p:nvPicPr>
        <p:blipFill>
          <a:blip r:embed="rId1"/>
          <a:srcRect l="9703" t="19367" r="8580" b="0"/>
          <a:stretch/>
        </p:blipFill>
        <p:spPr>
          <a:xfrm>
            <a:off x="5214960" y="3857760"/>
            <a:ext cx="2604960" cy="2714400"/>
          </a:xfrm>
          <a:prstGeom prst="rect">
            <a:avLst/>
          </a:prstGeom>
          <a:ln w="0">
            <a:noFill/>
          </a:ln>
        </p:spPr>
      </p:pic>
      <p:sp>
        <p:nvSpPr>
          <p:cNvPr id="50" name="Солнце 6"/>
          <p:cNvSpPr/>
          <p:nvPr/>
        </p:nvSpPr>
        <p:spPr>
          <a:xfrm>
            <a:off x="7929720" y="357120"/>
            <a:ext cx="571320" cy="64296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я создания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ы умно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3000240" y="1214280"/>
            <a:ext cx="328644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сии создания ТАБЛИЦЫ УМНОЖЕНИЯ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6"/>
          <p:cNvSpPr/>
          <p:nvPr/>
        </p:nvSpPr>
        <p:spPr>
          <a:xfrm>
            <a:off x="3071880" y="3214800"/>
            <a:ext cx="32860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70 - 490 гг. до н. э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ttp://www.piplz.ru/photo/Pifagor.jpg"/>
          <p:cNvPicPr/>
          <p:nvPr/>
        </p:nvPicPr>
        <p:blipFill>
          <a:blip r:embed="rId1"/>
          <a:stretch/>
        </p:blipFill>
        <p:spPr>
          <a:xfrm>
            <a:off x="3643200" y="4357800"/>
            <a:ext cx="1998720" cy="222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5" name="Скругленный прямоугольник 13"/>
          <p:cNvSpPr/>
          <p:nvPr/>
        </p:nvSpPr>
        <p:spPr>
          <a:xfrm>
            <a:off x="500040" y="3214800"/>
            <a:ext cx="2500200" cy="20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яные таблички умножения из раскопок древних городов Месопота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5000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6"/>
          <p:cNvCxnSpPr>
            <a:endCxn id="55" idx="0"/>
          </p:cNvCxnSpPr>
          <p:nvPr/>
        </p:nvCxnSpPr>
        <p:spPr>
          <a:xfrm flipH="1">
            <a:off x="1749240" y="2357280"/>
            <a:ext cx="2923200" cy="858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9"/>
          <p:cNvCxnSpPr>
            <a:stCxn id="52" idx="4"/>
          </p:cNvCxnSpPr>
          <p:nvPr/>
        </p:nvCxnSpPr>
        <p:spPr>
          <a:xfrm flipH="1">
            <a:off x="4642560" y="2356920"/>
            <a:ext cx="25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8" name="Picture 9" descr="https://fs00.infourok.ru/images/doc/186/212474/img2.jpg"/>
          <p:cNvPicPr/>
          <p:nvPr/>
        </p:nvPicPr>
        <p:blipFill>
          <a:blip r:embed="rId2"/>
          <a:srcRect l="51547" t="37570" r="6268" b="30142"/>
          <a:stretch/>
        </p:blipFill>
        <p:spPr>
          <a:xfrm>
            <a:off x="642960" y="5413320"/>
            <a:ext cx="2143080" cy="12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Скругленный прямоугольник 22"/>
          <p:cNvSpPr/>
          <p:nvPr/>
        </p:nvSpPr>
        <p:spPr>
          <a:xfrm>
            <a:off x="6429240" y="3214800"/>
            <a:ext cx="250056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таблички умножения из раскопок в Японии и в  Китае, датированных 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3"/>
          <a:srcRect l="25173" t="38917" r="49654" b="31747"/>
          <a:stretch/>
        </p:blipFill>
        <p:spPr>
          <a:xfrm>
            <a:off x="6572160" y="5500800"/>
            <a:ext cx="2286000" cy="107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61" name="Прямая со стрелкой 27"/>
          <p:cNvCxnSpPr>
            <a:stCxn id="52" idx="4"/>
          </p:cNvCxnSpPr>
          <p:nvPr/>
        </p:nvCxnSpPr>
        <p:spPr>
          <a:xfrm>
            <a:off x="4643280" y="2356920"/>
            <a:ext cx="292968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Молния 12"/>
          <p:cNvSpPr/>
          <p:nvPr/>
        </p:nvSpPr>
        <p:spPr>
          <a:xfrm>
            <a:off x="8143920" y="285840"/>
            <a:ext cx="357120" cy="64296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https://fs00.infourok.ru/images/doc/186/212474/img2.jpg"/>
          <p:cNvPicPr/>
          <p:nvPr/>
        </p:nvPicPr>
        <p:blipFill>
          <a:blip r:embed="rId4"/>
          <a:srcRect l="51547" t="37570" r="6268" b="30142"/>
          <a:stretch/>
        </p:blipFill>
        <p:spPr>
          <a:xfrm>
            <a:off x="642960" y="5429160"/>
            <a:ext cx="2143080" cy="12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080" y="214200"/>
            <a:ext cx="911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ые способы запоминание таблицы умножения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3" descr=""/>
          <p:cNvPicPr/>
          <p:nvPr/>
        </p:nvPicPr>
        <p:blipFill>
          <a:blip r:embed="rId1"/>
          <a:stretch/>
        </p:blipFill>
        <p:spPr>
          <a:xfrm>
            <a:off x="396720" y="1212840"/>
            <a:ext cx="8442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способы запоминания таблицы умн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71760" y="1643040"/>
            <a:ext cx="65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ложе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+5+5+5+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вление слагаемого к предыдущему результат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*7=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*8=35+5=4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лыбающееся лицо 3"/>
          <p:cNvSpPr/>
          <p:nvPr/>
        </p:nvSpPr>
        <p:spPr>
          <a:xfrm>
            <a:off x="8143920" y="1143000"/>
            <a:ext cx="428760" cy="42876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071720" y="1571760"/>
            <a:ext cx="7500960" cy="46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,4,6,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esktop\готовое НОУ 2016-2017 120217\материал для написания НОУ\tablica_umnozheniya_na_2.jpg"/>
          <p:cNvPicPr/>
          <p:nvPr/>
        </p:nvPicPr>
        <p:blipFill>
          <a:blip r:embed="rId1"/>
          <a:srcRect l="25394" t="56252" r="19530" b="9378"/>
          <a:stretch/>
        </p:blipFill>
        <p:spPr>
          <a:xfrm>
            <a:off x="3071880" y="3857760"/>
            <a:ext cx="4000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1000080" y="1500120"/>
            <a:ext cx="735192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rcRect l="0" t="6209" r="0" b="0"/>
          <a:stretch/>
        </p:blipFill>
        <p:spPr>
          <a:xfrm>
            <a:off x="1857240" y="2214720"/>
            <a:ext cx="5786640" cy="4143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14308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39:09Z</dcterms:modified>
  <cp:revision>166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