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04F-0B62-4DDC-AB11-D67ABE2E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A8A-CDB3-4D88-960F-7AF0E2EC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1E3-385B-4599-8237-B3042409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A0C-B8A8-4313-BBF3-62684155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C4D-8AFD-4596-A0EA-15F2C02A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F2A-6C09-4987-8A9C-15F1C634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EFD3-8315-4933-9ADB-23838335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89F0-1464-46A7-812E-ED311525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AB1-6207-494B-B87C-F2626DD5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495-C9D6-4DF3-9268-30557A20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1F75-2577-4A9C-BB90-120BD0BA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04FA-22B4-4D3B-A565-BFDA2061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F2C9-8FBF-46B4-9BEC-4480ED80E5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571760"/>
            <a:ext cx="814392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СОБЫ ЗАПОМИНАНИЯ ТАБЛИЦЫ УМНОЖЕНИЯ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2880" y="3857400"/>
            <a:ext cx="47149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 Ивченко Ян Игоревич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3 «А» класс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Есаульская СОШ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Ивченко Татьяна Викторовна, учитель начальных классов МБОУ «Есаульская СОШ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6800" y="100008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работы: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зучить способы запоминания таблицы умножени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14240" y="1999800"/>
            <a:ext cx="8229600" cy="40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и изучить литературу с целью получения информации о таблице умножения и способах её запомин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сти анкетирование одноклассников по теме: «Как ты запоминал таблицу умножения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вести  письменную проверку знания таблицы умножения  у обучающихся 3 класс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знакомить учеников нашей школы со способами запоминания таблицы умно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85680" y="213840"/>
            <a:ext cx="4429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а умно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285920" y="3714840"/>
            <a:ext cx="3500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такое умножение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умное сло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дь умней умножить раз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 слагать всё целый ча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ножения табл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м нам в жизни пригоди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едаром назв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НОжением он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9720" y="1143000"/>
            <a:ext cx="77151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амый популярный математический инструмент для вычислений. Он используется практически всеми и на каждом шагу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1071720" y="1071720"/>
            <a:ext cx="757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цип умножения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*5=3+3+3+3+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мена сложения умножением и наоборот. Важно, что при умножении первый множитель показывает слагаемое,  а второй множитель – количество этих слагаемых.  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5" descr="t9Z7E37cBJk.jpg"/>
          <p:cNvPicPr/>
          <p:nvPr/>
        </p:nvPicPr>
        <p:blipFill>
          <a:blip r:embed="rId1"/>
          <a:srcRect l="9703" t="19367" r="8580" b="0"/>
          <a:stretch/>
        </p:blipFill>
        <p:spPr>
          <a:xfrm>
            <a:off x="5214960" y="3857760"/>
            <a:ext cx="2604960" cy="2714400"/>
          </a:xfrm>
          <a:prstGeom prst="rect">
            <a:avLst/>
          </a:prstGeom>
          <a:ln w="0">
            <a:noFill/>
          </a:ln>
        </p:spPr>
      </p:pic>
      <p:sp>
        <p:nvSpPr>
          <p:cNvPr id="50" name="Солнце 6"/>
          <p:cNvSpPr/>
          <p:nvPr/>
        </p:nvSpPr>
        <p:spPr>
          <a:xfrm>
            <a:off x="7929720" y="357120"/>
            <a:ext cx="571320" cy="64296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рия создания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ы умнож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3"/>
          <p:cNvSpPr/>
          <p:nvPr/>
        </p:nvSpPr>
        <p:spPr>
          <a:xfrm>
            <a:off x="3000240" y="1214280"/>
            <a:ext cx="3286440" cy="1143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сии создания ТАБЛИЦЫ УМНОЖЕНИЯ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кругленный прямоугольник 6"/>
          <p:cNvSpPr/>
          <p:nvPr/>
        </p:nvSpPr>
        <p:spPr>
          <a:xfrm>
            <a:off x="3071880" y="3214800"/>
            <a:ext cx="32860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ФАГОР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70 - 490 гг. до н. э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http://www.piplz.ru/photo/Pifagor.jpg"/>
          <p:cNvPicPr/>
          <p:nvPr/>
        </p:nvPicPr>
        <p:blipFill>
          <a:blip r:embed="rId1"/>
          <a:stretch/>
        </p:blipFill>
        <p:spPr>
          <a:xfrm>
            <a:off x="3643200" y="4357800"/>
            <a:ext cx="1998720" cy="2225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5" name="Скругленный прямоугольник 13"/>
          <p:cNvSpPr/>
          <p:nvPr/>
        </p:nvSpPr>
        <p:spPr>
          <a:xfrm>
            <a:off x="500040" y="3214800"/>
            <a:ext cx="2500200" cy="207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няные таблички умножения из раскопок древних городов Месопотам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раст 5000ле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Прямая со стрелкой 16"/>
          <p:cNvCxnSpPr>
            <a:endCxn id="55" idx="0"/>
          </p:cNvCxnSpPr>
          <p:nvPr/>
        </p:nvCxnSpPr>
        <p:spPr>
          <a:xfrm flipH="1">
            <a:off x="1749240" y="2357280"/>
            <a:ext cx="2923200" cy="8582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9"/>
          <p:cNvCxnSpPr>
            <a:stCxn id="52" idx="4"/>
          </p:cNvCxnSpPr>
          <p:nvPr/>
        </p:nvCxnSpPr>
        <p:spPr>
          <a:xfrm flipH="1">
            <a:off x="4642560" y="2356920"/>
            <a:ext cx="2520" cy="7866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8" name="Picture 9" descr="https://fs00.infourok.ru/images/doc/186/212474/img2.jpg"/>
          <p:cNvPicPr/>
          <p:nvPr/>
        </p:nvPicPr>
        <p:blipFill>
          <a:blip r:embed="rId2"/>
          <a:srcRect l="51547" t="37570" r="6268" b="30142"/>
          <a:stretch/>
        </p:blipFill>
        <p:spPr>
          <a:xfrm>
            <a:off x="642960" y="5413320"/>
            <a:ext cx="2143080" cy="1230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9" name="Скругленный прямоугольник 22"/>
          <p:cNvSpPr/>
          <p:nvPr/>
        </p:nvSpPr>
        <p:spPr>
          <a:xfrm>
            <a:off x="6429240" y="3214800"/>
            <a:ext cx="2500560" cy="214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е таблички умножения из раскопок в Японии и в  Китае, датированных V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2" descr=""/>
          <p:cNvPicPr/>
          <p:nvPr/>
        </p:nvPicPr>
        <p:blipFill>
          <a:blip r:embed="rId3"/>
          <a:srcRect l="25173" t="38917" r="49654" b="31747"/>
          <a:stretch/>
        </p:blipFill>
        <p:spPr>
          <a:xfrm>
            <a:off x="6572160" y="5500800"/>
            <a:ext cx="2286000" cy="1071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61" name="Прямая со стрелкой 27"/>
          <p:cNvCxnSpPr>
            <a:stCxn id="52" idx="4"/>
          </p:cNvCxnSpPr>
          <p:nvPr/>
        </p:nvCxnSpPr>
        <p:spPr>
          <a:xfrm>
            <a:off x="4643280" y="2356920"/>
            <a:ext cx="2929680" cy="7866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Молния 12"/>
          <p:cNvSpPr/>
          <p:nvPr/>
        </p:nvSpPr>
        <p:spPr>
          <a:xfrm>
            <a:off x="8143920" y="285840"/>
            <a:ext cx="357120" cy="64296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https://fs00.infourok.ru/images/doc/186/212474/img2.jpg"/>
          <p:cNvPicPr/>
          <p:nvPr/>
        </p:nvPicPr>
        <p:blipFill>
          <a:blip r:embed="rId4"/>
          <a:srcRect l="51547" t="37570" r="6268" b="30142"/>
          <a:stretch/>
        </p:blipFill>
        <p:spPr>
          <a:xfrm>
            <a:off x="642960" y="5429160"/>
            <a:ext cx="2143080" cy="1230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with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with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080" y="214200"/>
            <a:ext cx="91155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ные способы запоминание таблицы умножения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3" descr=""/>
          <p:cNvPicPr/>
          <p:nvPr/>
        </p:nvPicPr>
        <p:blipFill>
          <a:blip r:embed="rId1"/>
          <a:stretch/>
        </p:blipFill>
        <p:spPr>
          <a:xfrm>
            <a:off x="396720" y="1212840"/>
            <a:ext cx="8442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диционные способы запоминания таблицы умно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571760" y="1643040"/>
            <a:ext cx="6500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сложени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+5+5+5+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авление слагаемого к предыдущему результат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*7=3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*8=35+5=40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Улыбающееся лицо 3"/>
          <p:cNvSpPr/>
          <p:nvPr/>
        </p:nvSpPr>
        <p:spPr>
          <a:xfrm>
            <a:off x="8143920" y="1143000"/>
            <a:ext cx="428760" cy="42876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ёмы и «секреты» по запоминанию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 и интернет- ресурс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3"/>
          <p:cNvSpPr/>
          <p:nvPr/>
        </p:nvSpPr>
        <p:spPr>
          <a:xfrm>
            <a:off x="1071720" y="1571760"/>
            <a:ext cx="7500960" cy="46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а умножения на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ический повтор цифр в ряде едини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,4,6,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User\Desktop\готовое НОУ 2016-2017 120217\материал для написания НОУ\tablica_umnozheniya_na_2.jpg"/>
          <p:cNvPicPr/>
          <p:nvPr/>
        </p:nvPicPr>
        <p:blipFill>
          <a:blip r:embed="rId1"/>
          <a:srcRect l="25394" t="56252" r="19530" b="9378"/>
          <a:stretch/>
        </p:blipFill>
        <p:spPr>
          <a:xfrm>
            <a:off x="3071880" y="3857760"/>
            <a:ext cx="40003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ёмы и «секреты» по запоминанию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 и интернет- ресурс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2"/>
          <p:cNvSpPr/>
          <p:nvPr/>
        </p:nvSpPr>
        <p:spPr>
          <a:xfrm>
            <a:off x="1000080" y="1500120"/>
            <a:ext cx="735192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"/>
          <p:cNvPicPr/>
          <p:nvPr/>
        </p:nvPicPr>
        <p:blipFill>
          <a:blip r:embed="rId1"/>
          <a:srcRect l="0" t="6209" r="0" b="0"/>
          <a:stretch/>
        </p:blipFill>
        <p:spPr>
          <a:xfrm>
            <a:off x="1857240" y="2214720"/>
            <a:ext cx="5786640" cy="414324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2143080" y="164304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а умножения на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0:23:18Z</dcterms:created>
  <dc:creator>User</dc:creator>
  <dc:description/>
  <dc:language>en-US</dc:language>
  <cp:lastModifiedBy>Lenovo</cp:lastModifiedBy>
  <dcterms:modified xsi:type="dcterms:W3CDTF">2023-02-05T16:39:09Z</dcterms:modified>
  <cp:revision>166</cp:revision>
  <dc:subject/>
  <dc:title>Делители и кратны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80000000000010250300207f7000400038000</vt:lpwstr>
  </property>
</Properties>
</file>