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AC9-D248-4753-943D-86870A64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D38-04C1-483D-AFF1-93AF6A3C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E858-0B11-420D-95B3-8B675213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1EE-57BC-4687-85D5-76C8CC50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2532-4D75-4ECD-B74B-57E7BA36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627A-E0FC-4F4B-9988-C4FDD817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EC6C-F675-4921-84AA-83BFEC17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5C6-8AF5-4F48-A064-F8DA9837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870-D366-4465-A4CC-BB58F5C1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9BE-4CC2-4F42-9108-78FDA06C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081-AE77-4C9A-9108-CDCFEAD3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D5E-A8C6-4134-B3BD-522EBF59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C294-19EA-4B7E-82B2-83A3E8877F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ёмы и «секреты» по запоминанию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 и интернет- ресурс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2"/>
          <p:cNvSpPr/>
          <p:nvPr/>
        </p:nvSpPr>
        <p:spPr>
          <a:xfrm>
            <a:off x="900000" y="1725480"/>
            <a:ext cx="7494840" cy="455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а на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ический повтор цифр в ряде едини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,2,8,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*0=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6*5=3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*1=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6*6=3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*2=1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6*7=4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*3=1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6*8=4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*4=2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6*9=5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ёмы и «секреты» по запоминанию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 и интернет- ресурс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2"/>
          <p:cNvSpPr/>
          <p:nvPr/>
        </p:nvSpPr>
        <p:spPr>
          <a:xfrm>
            <a:off x="825480" y="1571760"/>
            <a:ext cx="7493040" cy="502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а на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ический повтор цифр в ряде едини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,6,4,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*0=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8*5=4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*1=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8*6=4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*2=1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8*7=5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*3=2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8*8=6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*4=3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8*9=7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7" descr=""/>
          <p:cNvPicPr/>
          <p:nvPr/>
        </p:nvPicPr>
        <p:blipFill>
          <a:blip r:embed="rId1"/>
          <a:stretch/>
        </p:blipFill>
        <p:spPr>
          <a:xfrm>
            <a:off x="4105440" y="3137040"/>
            <a:ext cx="9331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ёмы и «секреты» по запоминанию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 и интернет- ресурс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кругленный прямоугольник 2"/>
          <p:cNvSpPr/>
          <p:nvPr/>
        </p:nvSpPr>
        <p:spPr>
          <a:xfrm>
            <a:off x="900000" y="1725480"/>
            <a:ext cx="7632720" cy="455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rcRect l="57767" t="10370" r="0" b="56825"/>
          <a:stretch/>
        </p:blipFill>
        <p:spPr>
          <a:xfrm>
            <a:off x="5715000" y="3643200"/>
            <a:ext cx="2664000" cy="1500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rcRect l="37336" t="36137" r="48392" b="25782"/>
          <a:stretch/>
        </p:blipFill>
        <p:spPr>
          <a:xfrm>
            <a:off x="3500280" y="2571840"/>
            <a:ext cx="2143440" cy="32860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rcRect l="-1127" t="10370" r="66025" b="53370"/>
          <a:stretch/>
        </p:blipFill>
        <p:spPr>
          <a:xfrm>
            <a:off x="1143000" y="3571920"/>
            <a:ext cx="2214720" cy="1643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8"/>
          <p:cNvSpPr/>
          <p:nvPr/>
        </p:nvSpPr>
        <p:spPr>
          <a:xfrm>
            <a:off x="1928880" y="192888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а умножения на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ёмы и «секреты» по запоминанию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 и интернет- ресур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3"/>
          <p:cNvSpPr/>
          <p:nvPr/>
        </p:nvSpPr>
        <p:spPr>
          <a:xfrm>
            <a:off x="1000080" y="1643040"/>
            <a:ext cx="75726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rcRect l="30200" t="38086" r="31919" b="30664"/>
          <a:stretch/>
        </p:blipFill>
        <p:spPr>
          <a:xfrm>
            <a:off x="1357200" y="1928880"/>
            <a:ext cx="6858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ёмы и «секреты» по запоминанию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 и интернет- ресурс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2"/>
          <p:cNvSpPr/>
          <p:nvPr/>
        </p:nvSpPr>
        <p:spPr>
          <a:xfrm>
            <a:off x="900000" y="1571760"/>
            <a:ext cx="7494840" cy="502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7" descr=""/>
          <p:cNvPicPr/>
          <p:nvPr/>
        </p:nvPicPr>
        <p:blipFill>
          <a:blip r:embed="rId1"/>
          <a:stretch/>
        </p:blipFill>
        <p:spPr>
          <a:xfrm>
            <a:off x="4105440" y="3137040"/>
            <a:ext cx="933120" cy="583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"/>
          <p:cNvPicPr/>
          <p:nvPr/>
        </p:nvPicPr>
        <p:blipFill>
          <a:blip r:embed="rId2"/>
          <a:srcRect l="38742" t="38391" r="37461" b="18297"/>
          <a:stretch/>
        </p:blipFill>
        <p:spPr>
          <a:xfrm>
            <a:off x="2071800" y="1928880"/>
            <a:ext cx="541656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ёмы и «секреты» по запоминанию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 и интернет- ресурс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2"/>
          <p:cNvSpPr/>
          <p:nvPr/>
        </p:nvSpPr>
        <p:spPr>
          <a:xfrm>
            <a:off x="825480" y="1571760"/>
            <a:ext cx="7493040" cy="502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а на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*2=1 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*3= 2 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*4=3 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*5=4 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*6=5 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*7=6 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*8=7 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*9=8 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7" descr=""/>
          <p:cNvPicPr/>
          <p:nvPr/>
        </p:nvPicPr>
        <p:blipFill>
          <a:blip r:embed="rId1"/>
          <a:stretch/>
        </p:blipFill>
        <p:spPr>
          <a:xfrm>
            <a:off x="4105440" y="3137040"/>
            <a:ext cx="933120" cy="583920"/>
          </a:xfrm>
          <a:prstGeom prst="rect">
            <a:avLst/>
          </a:prstGeom>
          <a:ln w="0">
            <a:noFill/>
          </a:ln>
        </p:spPr>
      </p:pic>
      <p:cxnSp>
        <p:nvCxnSpPr>
          <p:cNvPr id="68" name="Прямая со стрелкой 7"/>
          <p:cNvCxnSpPr/>
          <p:nvPr/>
        </p:nvCxnSpPr>
        <p:spPr>
          <a:xfrm flipH="1">
            <a:off x="5000400" y="2286000"/>
            <a:ext cx="2160" cy="36439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69" name="Прямая со стрелкой 10"/>
          <p:cNvCxnSpPr/>
          <p:nvPr/>
        </p:nvCxnSpPr>
        <p:spPr>
          <a:xfrm flipV="1">
            <a:off x="5356800" y="2214360"/>
            <a:ext cx="1080" cy="3645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и, в которых описаны приёмы и «секреты» по запоминанию таблиц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rcRect l="19827" t="26201" r="43788" b="24867"/>
          <a:stretch/>
        </p:blipFill>
        <p:spPr>
          <a:xfrm>
            <a:off x="5929200" y="4357800"/>
            <a:ext cx="2928960" cy="221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rcRect l="42278" t="37111" r="42900" b="28711"/>
          <a:stretch/>
        </p:blipFill>
        <p:spPr>
          <a:xfrm>
            <a:off x="6929280" y="4000680"/>
            <a:ext cx="1928880" cy="2500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8"/>
          <p:cNvSpPr/>
          <p:nvPr/>
        </p:nvSpPr>
        <p:spPr>
          <a:xfrm>
            <a:off x="857160" y="1500120"/>
            <a:ext cx="7858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омендуемые книги для чтения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а Э.И. «Математика. 2 класс». Москва, «Дом педагогики», 1997г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арова А.М., Фещенко Т.И. «Математика. 2 класс». Москва, «Инфолайн», 1993г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окин П.И. «Занимательные задачи по математике». Москва, «Просвещение», переизд., 2012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4240" y="7142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оминание таблицы с помощью пальцев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5" descr="26613"/>
          <p:cNvPicPr/>
          <p:nvPr/>
        </p:nvPicPr>
        <p:blipFill>
          <a:blip r:embed="rId1"/>
          <a:srcRect l="3492" t="6646" r="4006" b="3654"/>
          <a:stretch/>
        </p:blipFill>
        <p:spPr>
          <a:xfrm>
            <a:off x="3000240" y="4643280"/>
            <a:ext cx="3786480" cy="1928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714240" y="1190160"/>
            <a:ext cx="8143920" cy="44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ножение на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нумеруем пальцы обоих рук, начиная с левого мизин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ше, например, умножаем 9 на 6. Для этого сгибаем шестой пале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ва до согнутого пальца пальцы показывают десятки. Справа- единиц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м, 9*6=54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0:23:18Z</dcterms:created>
  <dc:creator>User</dc:creator>
  <dc:description/>
  <dc:language>en-US</dc:language>
  <cp:lastModifiedBy>Lenovo</cp:lastModifiedBy>
  <dcterms:modified xsi:type="dcterms:W3CDTF">2023-02-05T16:41:36Z</dcterms:modified>
  <cp:revision>168</cp:revision>
  <dc:subject/>
  <dc:title>Делители и кратны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80000000000010250300207f7000400038000</vt:lpwstr>
  </property>
</Properties>
</file>