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2E2-699F-42C4-95DE-A678C46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AAA-EE42-48E9-93AC-563E7F6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EBB-9E50-4692-8E8E-36AE421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E6D-C6AF-4B30-8342-6335D97A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FBB-95DD-43E3-BCF2-DDEFCC4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A84-9218-4855-846F-441DAAB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83B-4070-4CCC-AD2B-E18DE4A1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A58-1AE1-40F2-9BAD-8CBD59C8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496-C6BF-4EE4-9920-FF8B1F6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44D-4F45-4F12-BFF2-36F2B9D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0E1-F0DC-4B7A-A061-185E623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DC2-F3F3-4370-8F15-C3FC96A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AC7-91E0-49EC-B426-7101DBD1C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2"/>
          <p:cNvSpPr/>
          <p:nvPr/>
        </p:nvSpPr>
        <p:spPr>
          <a:xfrm>
            <a:off x="900000" y="1725480"/>
            <a:ext cx="7494840" cy="45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,2,8,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0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5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1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6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2=1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7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3=1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6*8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4=2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6*9=5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2"/>
          <p:cNvSpPr/>
          <p:nvPr/>
        </p:nvSpPr>
        <p:spPr>
          <a:xfrm>
            <a:off x="825480" y="1571760"/>
            <a:ext cx="74930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,6,4,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0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5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1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6=4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2=1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7=5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3=2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8*8=6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*4=3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8*9=7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2"/>
          <p:cNvSpPr/>
          <p:nvPr/>
        </p:nvSpPr>
        <p:spPr>
          <a:xfrm>
            <a:off x="900000" y="1725480"/>
            <a:ext cx="7632720" cy="45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rcRect l="57767" t="10370" r="0" b="56825"/>
          <a:stretch/>
        </p:blipFill>
        <p:spPr>
          <a:xfrm>
            <a:off x="5715000" y="3643200"/>
            <a:ext cx="2664000" cy="150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37336" t="36137" r="48392" b="25782"/>
          <a:stretch/>
        </p:blipFill>
        <p:spPr>
          <a:xfrm>
            <a:off x="3500280" y="2571840"/>
            <a:ext cx="214344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rcRect l="-1127" t="10370" r="66025" b="53370"/>
          <a:stretch/>
        </p:blipFill>
        <p:spPr>
          <a:xfrm>
            <a:off x="1143000" y="3571920"/>
            <a:ext cx="2214720" cy="164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1928880" y="192888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3"/>
          <p:cNvSpPr/>
          <p:nvPr/>
        </p:nvSpPr>
        <p:spPr>
          <a:xfrm>
            <a:off x="1000080" y="1643040"/>
            <a:ext cx="75726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rcRect l="30200" t="38086" r="31919" b="30664"/>
          <a:stretch/>
        </p:blipFill>
        <p:spPr>
          <a:xfrm>
            <a:off x="1357200" y="1928880"/>
            <a:ext cx="6858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2"/>
          <p:cNvSpPr/>
          <p:nvPr/>
        </p:nvSpPr>
        <p:spPr>
          <a:xfrm>
            <a:off x="900000" y="1571760"/>
            <a:ext cx="74948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2"/>
          <a:srcRect l="38742" t="38391" r="37461" b="18297"/>
          <a:stretch/>
        </p:blipFill>
        <p:spPr>
          <a:xfrm>
            <a:off x="2071800" y="1928880"/>
            <a:ext cx="5416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2"/>
          <p:cNvSpPr/>
          <p:nvPr/>
        </p:nvSpPr>
        <p:spPr>
          <a:xfrm>
            <a:off x="825480" y="1571760"/>
            <a:ext cx="7493040" cy="50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на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2=1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3= 2 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4=3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5=4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6=5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7=6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8=7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*9=8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4105440" y="3137040"/>
            <a:ext cx="933120" cy="58392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7"/>
          <p:cNvCxnSpPr/>
          <p:nvPr/>
        </p:nvCxnSpPr>
        <p:spPr>
          <a:xfrm flipH="1">
            <a:off x="5000400" y="2286000"/>
            <a:ext cx="2160" cy="36439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 flipV="1">
            <a:off x="5356800" y="2214360"/>
            <a:ext cx="1080" cy="3645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и, в которых описаны приёмы и «секреты» по запоминанию табл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9827" t="26201" r="43788" b="24867"/>
          <a:stretch/>
        </p:blipFill>
        <p:spPr>
          <a:xfrm>
            <a:off x="5929200" y="4357800"/>
            <a:ext cx="2928960" cy="221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42278" t="37111" r="42900" b="28711"/>
          <a:stretch/>
        </p:blipFill>
        <p:spPr>
          <a:xfrm>
            <a:off x="6929280" y="4000680"/>
            <a:ext cx="1928880" cy="2500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857160" y="15001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мые книги для чтения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 Э.И. «Математика. 2 класс». Москва, «Дом педагогики», 1997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а А.М., Фещенко Т.И. «Математика. 2 класс». Москва, «Инфолайн», 1993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 П.И. «Занимательные задачи по математике». Москва, «Просвещение», переизд., 2012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инание таблицы с помощью пальцев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26613"/>
          <p:cNvPicPr/>
          <p:nvPr/>
        </p:nvPicPr>
        <p:blipFill>
          <a:blip r:embed="rId1"/>
          <a:srcRect l="3492" t="6646" r="4006" b="3654"/>
          <a:stretch/>
        </p:blipFill>
        <p:spPr>
          <a:xfrm>
            <a:off x="3000240" y="4643280"/>
            <a:ext cx="3786480" cy="192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14240" y="1190160"/>
            <a:ext cx="814392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е н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умеруем пальцы обоих рук, начиная с левого мизи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, например, умножаем 9 на 6. Для этого сгибаем шестой пал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до согнутого пальца пальцы показывают десятки. Справа- един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, 9*6=5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41:36Z</dcterms:modified>
  <cp:revision>168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