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0DB-FCF1-4D0A-8BEC-005307CE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D3B-D7FF-41A6-8BDF-413D5D49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38C-1963-449C-9983-EB2E73F6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A99-7E9C-4340-8A80-74CC4116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6B3-B519-4DF1-8C71-09E53C05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CD8-D459-4056-9A0D-EBB85523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222-ACF8-433C-93BA-FA81D53D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FD9B-7119-4D08-8398-4EBA529F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E2C-3D40-477C-8398-19E9D6BD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99A-7CAA-4F44-A5E0-D11E6ABC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D0B-DE97-45D7-9278-98B6DF52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637-F7A6-4BC6-A044-0DC155AE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C563-432C-4EE3-8E7F-DB7FF6BEAB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ный способ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 таблицу умножения с помощью стих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63dveri.ru/prefix/9d2edce5d6fc2e59f9442d265473b2a0.jpg"/>
          <p:cNvPicPr/>
          <p:nvPr/>
        </p:nvPicPr>
        <p:blipFill>
          <a:blip r:embed="rId1"/>
          <a:stretch/>
        </p:blipFill>
        <p:spPr>
          <a:xfrm>
            <a:off x="5857920" y="1285920"/>
            <a:ext cx="3071880" cy="39290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6"/>
          <p:cNvSpPr/>
          <p:nvPr/>
        </p:nvSpPr>
        <p:spPr>
          <a:xfrm>
            <a:off x="6490800" y="528624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Усачев 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1714680" y="185724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57160" y="1622160"/>
            <a:ext cx="4786560" cy="52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и учениц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было проще вам считат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ифагорову таблиц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ихах решили напис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на старт выходи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ЙК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ив два на единиц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 ДВОЙКУ - лебедь-птиц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ает каждый уче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этих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че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й дневн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 детям в целом мир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важды два рав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также следует учест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важды три получи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на четыре - буд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ЕМ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643040" y="6358320"/>
            <a:ext cx="31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арина Казар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зыкальный способ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м таблицу умножения с помощью песен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1714680" y="185724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30477" t="16732" r="31365" b="15399"/>
          <a:stretch/>
        </p:blipFill>
        <p:spPr>
          <a:xfrm>
            <a:off x="5429160" y="185724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0"/>
          <p:cNvSpPr/>
          <p:nvPr/>
        </p:nvSpPr>
        <p:spPr>
          <a:xfrm>
            <a:off x="857160" y="2143080"/>
            <a:ext cx="43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сенно-игровая методика обучен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о- диски с Музыкальными таблицами умн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о-файлы «Таблица умножения в песнях» из сети Интер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ablica_umnozheniya_-_7_(iPlayer.fm).mp3" descr=""/>
          <p:cNvPicPr/>
          <p:nvPr/>
        </p:nvPicPr>
        <p:blipFill>
          <a:blip r:embed="rId2"/>
          <a:stretch/>
        </p:blipFill>
        <p:spPr>
          <a:xfrm>
            <a:off x="6858000" y="55008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ественный способ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714680" y="185724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https://im0-tub-ru.yandex.net/i?id=e1dd944ff94452260452aa18bc12d358&amp;n=33&amp;h=215&amp;w=203"/>
          <p:cNvPicPr/>
          <p:nvPr/>
        </p:nvPicPr>
        <p:blipFill>
          <a:blip r:embed="rId1"/>
          <a:stretch/>
        </p:blipFill>
        <p:spPr>
          <a:xfrm>
            <a:off x="2143080" y="4572000"/>
            <a:ext cx="1933560" cy="2048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714240" y="142884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чала попробуйте пофантазировать и представить, с чем у  вас  ассоциируются цифры от 1 до 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фломастеры, карандаш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0" descr="http://www.bilingual.sk/picture/645.jpg"/>
          <p:cNvPicPr/>
          <p:nvPr/>
        </p:nvPicPr>
        <p:blipFill>
          <a:blip r:embed="rId2"/>
          <a:stretch/>
        </p:blipFill>
        <p:spPr>
          <a:xfrm>
            <a:off x="3857760" y="5072040"/>
            <a:ext cx="1071360" cy="80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http://pandia.ru/text/78/260/images/image300.jpg"/>
          <p:cNvPicPr/>
          <p:nvPr/>
        </p:nvPicPr>
        <p:blipFill>
          <a:blip r:embed="rId3"/>
          <a:stretch/>
        </p:blipFill>
        <p:spPr>
          <a:xfrm>
            <a:off x="4643280" y="4572000"/>
            <a:ext cx="1436760" cy="1733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http://cdns2.freepik.com/fotos-kostenlos/_318-10514.jpg"/>
          <p:cNvPicPr/>
          <p:nvPr/>
        </p:nvPicPr>
        <p:blipFill>
          <a:blip r:embed="rId4"/>
          <a:stretch/>
        </p:blipFill>
        <p:spPr>
          <a:xfrm>
            <a:off x="5857920" y="5143680"/>
            <a:ext cx="642960" cy="642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"/>
          <p:cNvPicPr/>
          <p:nvPr/>
        </p:nvPicPr>
        <p:blipFill>
          <a:blip r:embed="rId5"/>
          <a:srcRect l="30748" t="29296" r="53882" b="19921"/>
          <a:stretch/>
        </p:blipFill>
        <p:spPr>
          <a:xfrm>
            <a:off x="6643800" y="4286160"/>
            <a:ext cx="1116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rcRect l="0" t="0" r="23644" b="0"/>
          <a:stretch/>
        </p:blipFill>
        <p:spPr>
          <a:xfrm>
            <a:off x="3214800" y="3571920"/>
            <a:ext cx="3500280" cy="2577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-тренажё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42960" y="1357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ые игр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лайн- тренажёр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ти Интерне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rcRect l="33139" t="13573" r="32253" b="5925"/>
          <a:stretch/>
        </p:blipFill>
        <p:spPr>
          <a:xfrm>
            <a:off x="928800" y="3143160"/>
            <a:ext cx="2214360" cy="2895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http://actor.china-films.info/file/tablitsa-umnojeniya-nabor-kartochek-16323-small.png"/>
          <p:cNvPicPr/>
          <p:nvPr/>
        </p:nvPicPr>
        <p:blipFill>
          <a:blip r:embed="rId3"/>
          <a:stretch/>
        </p:blipFill>
        <p:spPr>
          <a:xfrm>
            <a:off x="6786720" y="3143160"/>
            <a:ext cx="207144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ктические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"/>
          <p:cNvPicPr/>
          <p:nvPr/>
        </p:nvPicPr>
        <p:blipFill>
          <a:blip r:embed="rId1"/>
          <a:stretch/>
        </p:blipFill>
        <p:spPr>
          <a:xfrm>
            <a:off x="714240" y="1600200"/>
            <a:ext cx="797256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1071720" y="12142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л ли Ты трудности при заучивании таблицы умножени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ктические исслед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Диаграмма 3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81439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обие для школьника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креты таблицы умножения для быстрого запоминания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C:\Users\User\Pictures\Сканы\Скан_20170216 (2).jpg"/>
          <p:cNvPicPr/>
          <p:nvPr/>
        </p:nvPicPr>
        <p:blipFill>
          <a:blip r:embed="rId1"/>
          <a:stretch/>
        </p:blipFill>
        <p:spPr>
          <a:xfrm>
            <a:off x="3000240" y="1643040"/>
            <a:ext cx="35816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4240" y="78588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ьном курсе математики рассматривается лишь незначительная часть имеющихся сведений о табличном умножен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 более простые способы запоминания таблицы умн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КАЖДОГО  ЧЕЛОВЕКА НАЙДЕТСЯ  СВОЙ  СПОСОБ ЗАПОМИНАНИЯ  ТАБЛИЦЫ УМНОЖЕНИЯ,  КОТОРЫЙ  ПОЗВОЛИТ  В НЕПРИНУЖДЕННОЙ  ФОРМЕ,  ИНТЕРЕСНО,  БЕЗ  «ЗУБРЕЖКИ»,  ЗАПОМНИТЬ ЕЁ   РЕЗУЛЬТА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Волна 3"/>
          <p:cNvSpPr/>
          <p:nvPr/>
        </p:nvSpPr>
        <p:spPr>
          <a:xfrm>
            <a:off x="6786720" y="285840"/>
            <a:ext cx="642960" cy="357120"/>
          </a:xfrm>
          <a:custGeom>
            <a:avLst/>
            <a:gdLst>
              <a:gd name="textAreaLeft" fmla="*/ 0 w 642960"/>
              <a:gd name="textAreaRight" fmla="*/ 642960 w 64296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0:23:18Z</dcterms:created>
  <dc:creator>User</dc:creator>
  <dc:description/>
  <dc:language>en-US</dc:language>
  <cp:lastModifiedBy>Lenovo</cp:lastModifiedBy>
  <dcterms:modified xsi:type="dcterms:W3CDTF">2023-02-05T16:42:53Z</dcterms:modified>
  <cp:revision>166</cp:revision>
  <dc:subject/>
  <dc:title>Делители и кратны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80000000000010250300207f7000400038000</vt:lpwstr>
  </property>
</Properties>
</file>