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462F-8959-4EA7-AAF2-06930A7B7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B9A9-F153-4D69-89B0-289578AE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E439-2F9D-49FE-8D65-A6EAFA664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5C46-E345-4CBC-B948-86C52DC58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046B-68D3-4A51-91FB-239A18CB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7C1C-8F4B-4BEE-8BF6-911F023E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9619-71C8-45DA-8E03-6D794A5A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1352-6FDC-44B9-8AF2-C1522331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C32F-47D6-4C42-AB93-190745EB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2A59-69BF-4F4B-B61D-C945A1B7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C142-EF1D-4218-B531-96554675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1817-0CF6-489E-B6E6-B5C3FF92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63D1-C320-43A6-A872-FD00F1674E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7142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тературный способ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м таблицу умножения с помощью стих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://www.63dveri.ru/prefix/9d2edce5d6fc2e59f9442d265473b2a0.jpg"/>
          <p:cNvPicPr/>
          <p:nvPr/>
        </p:nvPicPr>
        <p:blipFill>
          <a:blip r:embed="rId1"/>
          <a:stretch/>
        </p:blipFill>
        <p:spPr>
          <a:xfrm>
            <a:off x="5857920" y="1285920"/>
            <a:ext cx="3071880" cy="392904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6"/>
          <p:cNvSpPr/>
          <p:nvPr/>
        </p:nvSpPr>
        <p:spPr>
          <a:xfrm>
            <a:off x="6490800" y="5286240"/>
            <a:ext cx="197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Усачев 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1714680" y="185724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857160" y="1622160"/>
            <a:ext cx="4786560" cy="52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и и ученицы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 было проще вам считать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Пифагорову таблиц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ихах решили написа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к, на старт выходи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ЙКА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ожив два на единиц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м ДВОЙКУ - лебедь-птиц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ает каждый учени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этих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чек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вой дневни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стно детям в целом мир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важды два равн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ЫР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 также следует учесть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важды три получим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на четыре - буде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ЕМ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1643040" y="6358320"/>
            <a:ext cx="314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Марина Казари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14240" y="7858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зыкальный способ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им таблицу умножения с помощью песен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1714680" y="185724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rcRect l="30477" t="16732" r="31365" b="15399"/>
          <a:stretch/>
        </p:blipFill>
        <p:spPr>
          <a:xfrm>
            <a:off x="5429160" y="185724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0"/>
          <p:cNvSpPr/>
          <p:nvPr/>
        </p:nvSpPr>
        <p:spPr>
          <a:xfrm>
            <a:off x="857160" y="2143080"/>
            <a:ext cx="435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сенно-игровая методика обучения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дио- диски с Музыкальными таблицами умноже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дио-файлы «Таблица умножения в песнях» из сети Интерн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Tablica_umnozheniya_-_7_(iPlayer.fm).mp3" descr=""/>
          <p:cNvPicPr/>
          <p:nvPr/>
        </p:nvPicPr>
        <p:blipFill>
          <a:blip r:embed="rId2"/>
          <a:stretch/>
        </p:blipFill>
        <p:spPr>
          <a:xfrm>
            <a:off x="6858000" y="5500800"/>
            <a:ext cx="7239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4240" y="7858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удожественный способ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1714680" y="185724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8" descr="https://im0-tub-ru.yandex.net/i?id=e1dd944ff94452260452aa18bc12d358&amp;n=33&amp;h=215&amp;w=203"/>
          <p:cNvPicPr/>
          <p:nvPr/>
        </p:nvPicPr>
        <p:blipFill>
          <a:blip r:embed="rId1"/>
          <a:stretch/>
        </p:blipFill>
        <p:spPr>
          <a:xfrm>
            <a:off x="2143080" y="4572000"/>
            <a:ext cx="1933560" cy="20480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714240" y="142884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начала попробуйте пофантазировать и представить, с чем у  вас  ассоциируются цифры от 1 до 9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йте фломастеры, карандаш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0" descr="http://www.bilingual.sk/picture/645.jpg"/>
          <p:cNvPicPr/>
          <p:nvPr/>
        </p:nvPicPr>
        <p:blipFill>
          <a:blip r:embed="rId2"/>
          <a:stretch/>
        </p:blipFill>
        <p:spPr>
          <a:xfrm>
            <a:off x="3857760" y="5072040"/>
            <a:ext cx="1071360" cy="803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http://pandia.ru/text/78/260/images/image300.jpg"/>
          <p:cNvPicPr/>
          <p:nvPr/>
        </p:nvPicPr>
        <p:blipFill>
          <a:blip r:embed="rId3"/>
          <a:stretch/>
        </p:blipFill>
        <p:spPr>
          <a:xfrm>
            <a:off x="4643280" y="4572000"/>
            <a:ext cx="1436760" cy="1733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http://cdns2.freepik.com/fotos-kostenlos/_318-10514.jpg"/>
          <p:cNvPicPr/>
          <p:nvPr/>
        </p:nvPicPr>
        <p:blipFill>
          <a:blip r:embed="rId4"/>
          <a:stretch/>
        </p:blipFill>
        <p:spPr>
          <a:xfrm>
            <a:off x="5857920" y="5143680"/>
            <a:ext cx="642960" cy="642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"/>
          <p:cNvPicPr/>
          <p:nvPr/>
        </p:nvPicPr>
        <p:blipFill>
          <a:blip r:embed="rId5"/>
          <a:srcRect l="30748" t="29296" r="53882" b="19921"/>
          <a:stretch/>
        </p:blipFill>
        <p:spPr>
          <a:xfrm>
            <a:off x="6643800" y="4286160"/>
            <a:ext cx="11160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"/>
          <p:cNvPicPr/>
          <p:nvPr/>
        </p:nvPicPr>
        <p:blipFill>
          <a:blip r:embed="rId1"/>
          <a:srcRect l="0" t="0" r="23644" b="0"/>
          <a:stretch/>
        </p:blipFill>
        <p:spPr>
          <a:xfrm>
            <a:off x="3214800" y="3571920"/>
            <a:ext cx="3500280" cy="25779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ы-тренажё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42960" y="1357200"/>
            <a:ext cx="822960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г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льные игр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лайн- тренажёр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ти Интерне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rcRect l="33139" t="13573" r="32253" b="5925"/>
          <a:stretch/>
        </p:blipFill>
        <p:spPr>
          <a:xfrm>
            <a:off x="928800" y="3143160"/>
            <a:ext cx="2214360" cy="2895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http://actor.china-films.info/file/tablitsa-umnojeniya-nabor-kartochek-16323-small.png"/>
          <p:cNvPicPr/>
          <p:nvPr/>
        </p:nvPicPr>
        <p:blipFill>
          <a:blip r:embed="rId3"/>
          <a:stretch/>
        </p:blipFill>
        <p:spPr>
          <a:xfrm>
            <a:off x="6786720" y="3143160"/>
            <a:ext cx="207144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актические исследов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"/>
          <p:cNvPicPr/>
          <p:nvPr/>
        </p:nvPicPr>
        <p:blipFill>
          <a:blip r:embed="rId1"/>
          <a:stretch/>
        </p:blipFill>
        <p:spPr>
          <a:xfrm>
            <a:off x="714240" y="1600200"/>
            <a:ext cx="7972560" cy="452592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1071720" y="1214280"/>
            <a:ext cx="771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ытывал ли Ты трудности при заучивании таблицы умножении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актические исследов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Диаграмма 3" descr=""/>
          <p:cNvPicPr/>
          <p:nvPr/>
        </p:nvPicPr>
        <p:blipFill>
          <a:blip r:embed="rId1"/>
          <a:stretch/>
        </p:blipFill>
        <p:spPr>
          <a:xfrm>
            <a:off x="785880" y="1143000"/>
            <a:ext cx="81439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обие для школьника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екреты таблицы умножения для быстрого запоминания»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C:\Users\User\Pictures\Сканы\Скан_20170216 (2).jpg"/>
          <p:cNvPicPr/>
          <p:nvPr/>
        </p:nvPicPr>
        <p:blipFill>
          <a:blip r:embed="rId1"/>
          <a:stretch/>
        </p:blipFill>
        <p:spPr>
          <a:xfrm>
            <a:off x="3000240" y="1643040"/>
            <a:ext cx="358164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14240" y="78588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школьном курсе математики рассматривается лишь незначительная часть имеющихся сведений о табличном умножени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ют  более простые способы запоминания таблицы умноже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 КАЖДОГО  ЧЕЛОВЕКА НАЙДЕТСЯ  СВОЙ  СПОСОБ ЗАПОМИНАНИЯ  ТАБЛИЦЫ УМНОЖЕНИЯ,  КОТОРЫЙ  ПОЗВОЛИТ  В НЕПРИНУЖДЕННОЙ  ФОРМЕ,  ИНТЕРЕСНО,  БЕЗ  «ЗУБРЕЖКИ»,  ЗАПОМНИТЬ ЕЁ   РЕЗУЛЬТА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Волна 3"/>
          <p:cNvSpPr/>
          <p:nvPr/>
        </p:nvSpPr>
        <p:spPr>
          <a:xfrm>
            <a:off x="6786720" y="285840"/>
            <a:ext cx="642960" cy="357120"/>
          </a:xfrm>
          <a:custGeom>
            <a:avLst/>
            <a:gdLst>
              <a:gd name="textAreaLeft" fmla="*/ 0 w 642960"/>
              <a:gd name="textAreaRight" fmla="*/ 642960 w 64296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30T10:23:18Z</dcterms:created>
  <dc:creator>User</dc:creator>
  <dc:description/>
  <dc:language>en-US</dc:language>
  <cp:lastModifiedBy>Lenovo</cp:lastModifiedBy>
  <dcterms:modified xsi:type="dcterms:W3CDTF">2023-02-05T16:42:53Z</dcterms:modified>
  <cp:revision>166</cp:revision>
  <dc:subject/>
  <dc:title>Делители и кратны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2080000000000010250300207f7000400038000</vt:lpwstr>
  </property>
</Properties>
</file>