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E69-F467-4A2A-916D-32FB10BA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F4D-1873-4325-87B0-A83E6DB0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468-F9F4-4B4E-8845-D653AD03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EA9-4913-4704-9FB7-6384EB1B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BDA-5FC9-456E-944F-8BD432C0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364-A147-4860-AE78-3C459D40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43E-5E80-4DAE-BD0C-4CEA0445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1C1-5D97-4EC2-9429-89C69215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412-5515-49F3-A39C-ECBFFA2E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82F-3DCB-473A-AA05-9A762EEC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679-3528-4582-8995-EC85E369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D19-2A47-4812-91EE-E56282FC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5E40-525B-4CEB-BDD7-B70702B56C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4" descr=""/>
          <p:cNvPicPr/>
          <p:nvPr/>
        </p:nvPicPr>
        <p:blipFill>
          <a:blip r:embed="rId1"/>
          <a:stretch/>
        </p:blipFill>
        <p:spPr>
          <a:xfrm>
            <a:off x="1852560" y="1884240"/>
            <a:ext cx="56577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8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стр.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69228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За 10 дней израсходовали 40 кг картофеля, поровну в каждый день. Сколько килограммов картофеля расходовали в день?</a:t>
            </a: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На сколько дней хватит 40 кг картофеля, если в день расходовать по 10 кг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68360" y="329580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0 : 10 = 4 (кг) – расходовали за один де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: 4 килограм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0 : 10 = 4 (дн.) – на столько хватит 40 кг картоф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: на 4 дн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2857320" y="1268280"/>
            <a:ext cx="23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,8 стр.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Рефлекс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4360" y="115920"/>
            <a:ext cx="7991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, 11 стр.8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ма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483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Работа по карточ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0" t="0" r="0" b="15448"/>
          <a:stretch/>
        </p:blipFill>
        <p:spPr>
          <a:xfrm>
            <a:off x="1763640" y="765000"/>
            <a:ext cx="5616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93600" y="333360"/>
            <a:ext cx="864072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Найди сумму чисел 46 и 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Уменьшаемое — 17, вычитаемое — 9. Найди раз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На сколько 87 больше, чем 60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Какое число меньше 90 на 7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Запиши выражение и вычисли его значение: сумму чисел 35 и 5 уменьшить на 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Запиши выражение и вычисли его значение: 58 уменьшить на сумму чисел 10 и 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Какое число надо вычесть из 60, чтобы по­лучить сумму чисел 46 и 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247760" y="6176880"/>
            <a:ext cx="48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3, 8, 27, 83, (35+5)-7=33, 58-(10+2)= 46, 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900000" y="10526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50920" y="18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стр. 8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609920" y="3887640"/>
            <a:ext cx="7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4797720" y="388764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684360" y="1052640"/>
            <a:ext cx="7775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Зоя купила 2 альбома, по 6 р. за альбом.</a:t>
            </a: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Сколько стоила эта покуп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71680" y="4471920"/>
            <a:ext cx="756756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Roboto-Regular"/>
              </a:rPr>
              <a:t>Купила – 2 ал. по 6 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Roboto-Regular"/>
              </a:rPr>
              <a:t>Всего – ? 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Roboto-Regular"/>
              </a:rPr>
              <a:t>6 ∙ 2 = 12 (р.) – стоимость покуп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Roboto-Regular"/>
              </a:rPr>
              <a:t>Ответ: 12 рублей.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1"/>
          <a:stretch/>
        </p:blipFill>
        <p:spPr>
          <a:xfrm>
            <a:off x="4067280" y="2428920"/>
            <a:ext cx="1987560" cy="1438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992160" y="2475000"/>
            <a:ext cx="19875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456120" y="15228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С.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92120" y="4184640"/>
            <a:ext cx="83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кг              2кг                2кг               2кг                 2кг                 2кг             2кг              2к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492120" y="668160"/>
            <a:ext cx="847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Для ремонта купили 8 банок краски, по 2 кг в каждой. Сколько килограммов краски куп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622440" y="4584600"/>
            <a:ext cx="742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Купили – 8 б. по 2 к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Всего – ? К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2 ∙ 8 = 16 (кг) – краски купили вс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Ответ: 16 килограм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5" descr=""/>
          <p:cNvPicPr/>
          <p:nvPr/>
        </p:nvPicPr>
        <p:blipFill>
          <a:blip r:embed="rId1"/>
          <a:stretch/>
        </p:blipFill>
        <p:spPr>
          <a:xfrm>
            <a:off x="622440" y="2270160"/>
            <a:ext cx="117612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2"/>
          <a:stretch/>
        </p:blipFill>
        <p:spPr>
          <a:xfrm>
            <a:off x="1692360" y="2274840"/>
            <a:ext cx="117612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3"/>
          <a:stretch/>
        </p:blipFill>
        <p:spPr>
          <a:xfrm>
            <a:off x="2806560" y="2274840"/>
            <a:ext cx="117648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"/>
          <p:cNvPicPr/>
          <p:nvPr/>
        </p:nvPicPr>
        <p:blipFill>
          <a:blip r:embed="rId4"/>
          <a:stretch/>
        </p:blipFill>
        <p:spPr>
          <a:xfrm>
            <a:off x="3801960" y="2274840"/>
            <a:ext cx="1176480" cy="1523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/>
          <p:cNvPicPr/>
          <p:nvPr/>
        </p:nvPicPr>
        <p:blipFill>
          <a:blip r:embed="rId5"/>
          <a:stretch/>
        </p:blipFill>
        <p:spPr>
          <a:xfrm>
            <a:off x="4859280" y="2249640"/>
            <a:ext cx="117648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"/>
          <p:cNvPicPr/>
          <p:nvPr/>
        </p:nvPicPr>
        <p:blipFill>
          <a:blip r:embed="rId6"/>
          <a:stretch/>
        </p:blipFill>
        <p:spPr>
          <a:xfrm>
            <a:off x="5796000" y="2274840"/>
            <a:ext cx="117648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"/>
          <p:cNvPicPr/>
          <p:nvPr/>
        </p:nvPicPr>
        <p:blipFill>
          <a:blip r:embed="rId7"/>
          <a:stretch/>
        </p:blipFill>
        <p:spPr>
          <a:xfrm>
            <a:off x="6838920" y="2230560"/>
            <a:ext cx="117648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"/>
          <p:cNvPicPr/>
          <p:nvPr/>
        </p:nvPicPr>
        <p:blipFill>
          <a:blip r:embed="rId8"/>
          <a:stretch/>
        </p:blipFill>
        <p:spPr>
          <a:xfrm>
            <a:off x="7967520" y="2230560"/>
            <a:ext cx="117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564560" y="2060640"/>
            <a:ext cx="60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делени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611280" y="765000"/>
            <a:ext cx="806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№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2 стр.88 (Устно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Зимние каникулы длились 14 дней. Сколько это недель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Roboto-Regular"/>
              </a:rPr>
              <a:t>1)14 : 7 = 2 (н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Roboto-Regular"/>
              </a:rPr>
              <a:t>Ответ: 2 нед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Папа был в командировке 2 недели. Сколько дней папа был в командиров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Roboto-Regular"/>
              </a:rPr>
              <a:t>2) 2 ∙ 7 = 14 (дн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Roboto-Regular"/>
              </a:rPr>
              <a:t>Ответ: 14 д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58680" y="-30240"/>
            <a:ext cx="919152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10:33:44Z</dcterms:created>
  <dc:creator>User</dc:creator>
  <dc:description/>
  <dc:language>en-US</dc:language>
  <cp:lastModifiedBy>Admin</cp:lastModifiedBy>
  <dcterms:modified xsi:type="dcterms:W3CDTF">2022-05-23T05:43:14Z</dcterms:modified>
  <cp:revision>94</cp:revision>
  <dc:subject/>
  <dc:title>Слайд 1</dc:title>
</cp:coreProperties>
</file>