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A02-974F-43DF-BF4B-FD8F214F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612-68FE-409D-A632-DC94772B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B6D-F517-43D2-8E1F-7AE30FA4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BAC-EEAF-49CC-B946-D5A01EA1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343-0ED2-4B0D-8CF6-B29B5298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1CA-59D5-466C-8A2A-080B4765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CD4-B377-47CF-A77F-6CAE7B9A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7DA-45CB-4D3A-973D-CD6A2F04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CCE-8D36-4DE3-8C27-8A76784E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882-2FEC-4F92-A195-3905605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DA7-0EE6-49EC-9DBC-949779DA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1CB-37AA-4251-A7A3-9F9501F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02F8-6546-4939-9337-AFC38E515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4" descr=""/>
          <p:cNvPicPr/>
          <p:nvPr/>
        </p:nvPicPr>
        <p:blipFill>
          <a:blip r:embed="rId1"/>
          <a:stretch/>
        </p:blipFill>
        <p:spPr>
          <a:xfrm>
            <a:off x="1852560" y="1884240"/>
            <a:ext cx="56577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8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стр.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69228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За 10 дней израсходовали 40 кг картофеля, поровну в каждый день. Сколько килограммов картофеля расходовали в день?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На сколько дней хватит 40 кг картофеля, если в день расходовать по 10 кг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68360" y="329580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0 : 10 = 4 (кг) – расходовали за один де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: 4 кило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0 : 10 = 4 (дн.) – на столько хватит 40 кг картоф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: на 4 дн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2857320" y="1268280"/>
            <a:ext cx="23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,8 стр.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, 11 стр.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ма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483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Работа по кар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0" t="0" r="0" b="15448"/>
          <a:stretch/>
        </p:blipFill>
        <p:spPr>
          <a:xfrm>
            <a:off x="1763640" y="765000"/>
            <a:ext cx="5616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93600" y="333360"/>
            <a:ext cx="86407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айди сумму чисел 46 и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Уменьшаемое — 17, вычитаемое — 9. Найди раз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а сколько 87 больше, чем 6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Какое число меньше 90 на 7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Запиши выражение и вычисли его значение: сумму чисел 35 и 5 уменьшить на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Запиши выражение и вычисли его значение: 58 уменьшить на сумму чисел 10 и 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Какое число надо вычесть из 60, чтобы по­лучить сумму чисел 46 и 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247760" y="6176880"/>
            <a:ext cx="48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3, 8, 27, 83, (35+5)-7=33, 58-(10+2)= 46, 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900000" y="10526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50920" y="18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стр. 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609920" y="3887640"/>
            <a:ext cx="7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797720" y="388764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84360" y="1052640"/>
            <a:ext cx="777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Зоя купила 2 альбома, по 6 р. за альбом.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Сколько стоила эта покуп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71680" y="4471920"/>
            <a:ext cx="75675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Roboto-Regular"/>
              </a:rPr>
              <a:t>Купила – 2 ал. по 6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Roboto-Regular"/>
              </a:rPr>
              <a:t>Всего – ?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Roboto-Regular"/>
              </a:rPr>
              <a:t>6 ∙ 2 = 12 (р.) – стоимость покуп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Roboto-Regular"/>
              </a:rPr>
              <a:t>Ответ: 12 рублей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4067280" y="2428920"/>
            <a:ext cx="1987560" cy="143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992160" y="2475000"/>
            <a:ext cx="1987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456120" y="1522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С.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92120" y="4184640"/>
            <a:ext cx="83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кг              2кг                2кг               2кг                 2кг                 2кг             2кг              2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92120" y="668160"/>
            <a:ext cx="847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Для ремонта купили 8 банок краски, по 2 кг в каждой. Сколько килограммов краски куп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622440" y="4584600"/>
            <a:ext cx="742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Купили – 8 б. по 2 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Всего – ? 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2 ∙ 8 = 16 (кг) – краски купили вс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Ответ: 16 килограм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1"/>
          <a:stretch/>
        </p:blipFill>
        <p:spPr>
          <a:xfrm>
            <a:off x="622440" y="2270160"/>
            <a:ext cx="117612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2"/>
          <a:stretch/>
        </p:blipFill>
        <p:spPr>
          <a:xfrm>
            <a:off x="1692360" y="2274840"/>
            <a:ext cx="117612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3"/>
          <a:stretch/>
        </p:blipFill>
        <p:spPr>
          <a:xfrm>
            <a:off x="2806560" y="227484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"/>
          <p:cNvPicPr/>
          <p:nvPr/>
        </p:nvPicPr>
        <p:blipFill>
          <a:blip r:embed="rId4"/>
          <a:stretch/>
        </p:blipFill>
        <p:spPr>
          <a:xfrm>
            <a:off x="3801960" y="227484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5"/>
          <a:stretch/>
        </p:blipFill>
        <p:spPr>
          <a:xfrm>
            <a:off x="4859280" y="224964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"/>
          <p:cNvPicPr/>
          <p:nvPr/>
        </p:nvPicPr>
        <p:blipFill>
          <a:blip r:embed="rId6"/>
          <a:stretch/>
        </p:blipFill>
        <p:spPr>
          <a:xfrm>
            <a:off x="5796000" y="227484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"/>
          <p:cNvPicPr/>
          <p:nvPr/>
        </p:nvPicPr>
        <p:blipFill>
          <a:blip r:embed="rId7"/>
          <a:stretch/>
        </p:blipFill>
        <p:spPr>
          <a:xfrm>
            <a:off x="6838920" y="223056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8"/>
          <a:stretch/>
        </p:blipFill>
        <p:spPr>
          <a:xfrm>
            <a:off x="7967520" y="2230560"/>
            <a:ext cx="117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564560" y="2060640"/>
            <a:ext cx="60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деле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611280" y="765000"/>
            <a:ext cx="80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 стр.88 (Устно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Зимние каникулы длились 14 дней. Сколько это недел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Roboto-Regular"/>
              </a:rPr>
              <a:t>1)14 : 7 = 2 (н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Roboto-Regular"/>
              </a:rPr>
              <a:t>Ответ: 2 нед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Папа был в командировке 2 недели. Сколько дней папа был в командиров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Roboto-Regular"/>
              </a:rPr>
              <a:t>2) 2 ∙ 7 = 14 (дн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Roboto-Regular"/>
              </a:rPr>
              <a:t>Ответ: 14 д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58680" y="-30240"/>
            <a:ext cx="91915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0:33:44Z</dcterms:created>
  <dc:creator>User</dc:creator>
  <dc:description/>
  <dc:language>en-US</dc:language>
  <cp:lastModifiedBy>Admin</cp:lastModifiedBy>
  <dcterms:modified xsi:type="dcterms:W3CDTF">2022-05-23T05:43:14Z</dcterms:modified>
  <cp:revision>94</cp:revision>
  <dc:subject/>
  <dc:title>Слайд 1</dc:title>
</cp:coreProperties>
</file>