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107-7C38-440A-AF8F-74EE7131528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8560" y="1243080"/>
            <a:ext cx="4473360" cy="3354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D9A-E962-4B2C-8C0D-AC5CAC7967C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5D66-69DE-4B99-936E-8A5EC608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D833-B939-47A0-9C87-442120E9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4061-BF80-4608-9750-71321449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D91B-75EB-487D-A2D5-427405D8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E2D5-0886-40C1-853E-7A971068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DA2C-3085-42E3-A582-6F02623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EE85-DEF5-4308-9F67-FF800D7B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7ADC-3A92-4F72-82BB-FE592E4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647C-F556-40B8-9DFD-F211B35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EAEE-3467-4E68-9B57-E66DE66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F325-28A1-4402-84AA-45D1E38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8CFF-6323-4F0D-8B04-3BA7F2B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903-8DB0-4058-AF83-A8EE8D5CB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582040" cy="2676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200" y="476280"/>
            <a:ext cx="8643960" cy="337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  <a:ea typeface="DejaVu Sans"/>
              </a:rPr>
              <a:t>Комитет образования Администрации города Новоалтайск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4214880" y="4857840"/>
            <a:ext cx="457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Царева Наталия Анатольевна,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заместитель директора по ВР,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учитель ОДНКНР МБОУ «СОШ № 10 г. Новоалтайска Алтайского края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ни лицейского братс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38200" y="1504800"/>
            <a:ext cx="3152880" cy="242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43360" y="4114800"/>
            <a:ext cx="301644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59000" y="3981600"/>
            <a:ext cx="3193920" cy="244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743360" y="1530360"/>
            <a:ext cx="31878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Пушкинский ба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16440" y="1231920"/>
            <a:ext cx="357192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3360" y="4237200"/>
            <a:ext cx="3182760" cy="219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32080" y="1170000"/>
            <a:ext cx="2030400" cy="2932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97360" y="4121280"/>
            <a:ext cx="332892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/>
          <p:nvPr/>
        </p:nvCxnSpPr>
        <p:spPr>
          <a:xfrm flipV="1">
            <a:off x="2643120" y="1928520"/>
            <a:ext cx="9309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"/>
          <p:cNvCxnSpPr/>
          <p:nvPr/>
        </p:nvCxnSpPr>
        <p:spPr>
          <a:xfrm>
            <a:off x="5643720" y="1928880"/>
            <a:ext cx="100224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0840" y="1122480"/>
            <a:ext cx="8242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04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85640" y="1285920"/>
            <a:ext cx="65617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намики уровня воспитанности обучающихс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за три года по уровням образования (Методика Н.П. Капустиной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5360" y="1143000"/>
            <a:ext cx="78098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намики активности участия обучающихся в воспитательных мероприятиях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0960" y="6480"/>
            <a:ext cx="8266320" cy="1438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8760" y="1600200"/>
            <a:ext cx="8258040" cy="452592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з Президента Российской Федераци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21.07.202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474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О национальных целях развития Российской Федерации на период до 2030 года»-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й закон № 304-ФЗ от 31.07.2020 «О внесении изменений в Федеральный закон «Об образовании в РФ» по вопросам воспитания обучающихся»-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Примерная программа воспитания, разработана ФГБНУ «Институт стратегии развития образования Российской академии образования» и утв. 2.07.2020 года на заседании Федерального учебно-методического объединения по общему образованию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720" y="1500120"/>
            <a:ext cx="407196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6360"/>
            <a:ext cx="9144000" cy="966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7132" dir="7370424" blurRad="0" rotWithShape="0">
              <a:srgbClr val="43434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1560" y="384120"/>
            <a:ext cx="7991280" cy="98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000" y="1341360"/>
            <a:ext cx="264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274680" y="4268880"/>
            <a:ext cx="167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42960" y="1428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ная ча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1571760"/>
            <a:ext cx="31431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а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440" y="2444760"/>
            <a:ext cx="3254400" cy="3949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52960" y="2567160"/>
            <a:ext cx="335268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321760" cy="127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826776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68200"/>
            <a:ext cx="7899120" cy="84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1360" y="1398600"/>
            <a:ext cx="3867120" cy="882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статус семей обучающихся МБОУ «СОШ № 10 г. Новоалтайска Алтайского края»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46000" y="1855800"/>
            <a:ext cx="4119840" cy="484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0760" y="1285920"/>
            <a:ext cx="3979800" cy="5429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(далее-ОО) находится в центральной части города. Транспортная сеть обеспечивает беспрепятственный  подъезд обучающихся из отдаленных районов, мобильную взаимосвязь ОО с правовыми, социальными, культурными центрами г. Новоалтайска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обучающихся ежегодно увеличивается в среднем на 10% и в настоящее время составляет 1024 человека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реализации основных образовательных программ ОО ориентируется на основные тенденции развития Российского образования, социальный статус семей, контингент обучающихся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ю образовательной деятельности, организуемой в МБОУ «СОШ № 10г. Новоалтайска Алтайского края» является направленность на инклюзивное образование: из 37 классов-комплектов в 21 реализуются  программы  для обучающихся с разными образовательными  потребностями. 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46000" y="1865160"/>
            <a:ext cx="4119840" cy="48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267760" cy="143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каз Президента Российской Федерации от 29.05.2017 г. № 240 «Об объявлении в Российской Федерации Десятилетия детства»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цепция духовно-нравственного развития и воспитания личности гражданина России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рамма развития воспитательной компоненты в общеобразовательных учреждениях (рекомендована Минобрнауки России)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тегии развития воспитания в РФ на период до 2025 года (Распоряжение от 29.05.2015 г. №996-р)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ГОС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680680" cy="118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5840" y="1285920"/>
            <a:ext cx="3500280" cy="5214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 свободного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жданина с развиты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ллектуальны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ями, творчески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шением к миру, чувств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й ответственности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го 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овательно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уктивной деятельности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ованного 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духовно-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равственных ценносте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человеческо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ой культуры 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развит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14760" y="1206360"/>
            <a:ext cx="540684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960" y="36360"/>
            <a:ext cx="8224920" cy="1438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27360" y="1584360"/>
            <a:ext cx="5175360" cy="464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2880" y="1428840"/>
            <a:ext cx="417204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5840" y="1600200"/>
            <a:ext cx="8429400" cy="497196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«От экологии природы к экологии души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Т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Дни лицейского братства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«Толерантность – дорога к миру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Мир красотой спасетс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НВА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«Правовые знания и реальный мир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ВРА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Радуга здоровь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Добро пожаловать, друзья! Вас в гости ждет моя              семь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ПРЕЛЬ – МА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Победные залпы гремят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8120" y="-79200"/>
            <a:ext cx="8267760" cy="131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15040" y="4071960"/>
            <a:ext cx="3657600" cy="252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68920" y="1116000"/>
            <a:ext cx="3230640" cy="239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75520" y="3357720"/>
            <a:ext cx="3783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кресток профессиональных дорог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Встреча двух поколений выпускников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и учащихся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5306400" y="648828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Акция «Споемьте друзья(песни ВОВ)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53920" y="1219320"/>
            <a:ext cx="29689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950760" y="4145040"/>
            <a:ext cx="3084840" cy="237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5240" y="6411960"/>
            <a:ext cx="285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ильные духом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Мой город будет Экоградом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1080" y="1170000"/>
            <a:ext cx="3181320" cy="2444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63520" y="3760920"/>
            <a:ext cx="2176560" cy="2828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75360" y="4041720"/>
            <a:ext cx="3114720" cy="239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029200" y="1200240"/>
            <a:ext cx="3187800" cy="2444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64120" y="630540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емья года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"/>
          <p:cNvSpPr/>
          <p:nvPr/>
        </p:nvSpPr>
        <p:spPr>
          <a:xfrm>
            <a:off x="4886280" y="3560760"/>
            <a:ext cx="33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Играем классику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Экологическая карта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6453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Пишем книгу добрых дел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5880" y="1457280"/>
            <a:ext cx="2676600" cy="203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68640" y="1530360"/>
            <a:ext cx="4132440" cy="203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85880" y="3906720"/>
            <a:ext cx="2627280" cy="2030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29160" y="3870360"/>
            <a:ext cx="2633760" cy="203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Арбат Здоровья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4367160" y="352260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Поколение независимых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4367160" y="5940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олнечный фактор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582480" y="594036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Эко-стиль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7T03:51:51Z</dcterms:created>
  <dc:creator>Михаил</dc:creator>
  <dc:description/>
  <dc:language>en-US</dc:language>
  <cp:lastModifiedBy>Андрей222</cp:lastModifiedBy>
  <dcterms:modified xsi:type="dcterms:W3CDTF">2023-02-05T15:08:01Z</dcterms:modified>
  <cp:revision>192</cp:revision>
  <dc:subject/>
  <dc:title>"Воспитательная система МБОУ «СОШ № 10 г. Новоалтайска Алтайского края»: современные реалии и перспективы, образовательные задачи и подходы к их решению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