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00A9-54C5-44C3-809A-1223B02D164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68560" y="1243080"/>
            <a:ext cx="4473360" cy="33544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1120" y="4782600"/>
            <a:ext cx="5446800" cy="39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4BA3-311F-4C44-B5F2-996C7BE8602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EDA64-A1AD-4EDF-8451-85C7BCE7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96A3B-553C-42CB-A004-54BCBE94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6F2B5-1A74-412B-8CFA-3BA428D9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D145-5C60-42CA-8AF9-1BE6E3B6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4B669-5D30-458E-8DAE-08C2A9A6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A431-836C-4EB6-ADB5-E55D521F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18212-85EC-44BB-B7CB-1038C92B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38AA-2240-4361-9EBB-8CBBD874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4010-94A1-4C9B-9C85-CEA4C160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3E5F9-BA1F-4122-9861-D1F34A3E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1C01-89EB-4E6B-ABBE-E451EFE0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ED6E-1411-46EA-A249-292D662F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0836-1C1F-4BD9-A05F-A66994AD13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8080" y="1828800"/>
            <a:ext cx="8582040" cy="2676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4200" y="476280"/>
            <a:ext cx="8643960" cy="3373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  <a:ea typeface="DejaVu Sans"/>
              </a:rPr>
              <a:t>Комитет образования Администрации города Новоалтайска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"/>
          <p:cNvSpPr/>
          <p:nvPr/>
        </p:nvSpPr>
        <p:spPr>
          <a:xfrm>
            <a:off x="4214880" y="4857840"/>
            <a:ext cx="4572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Царева Наталия Анатольевна,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заместитель директора по ВР,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учитель ОДНКНР МБОУ «СОШ № 10 г. Новоалтайска Алтайского края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ни лицейского братств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38200" y="1504800"/>
            <a:ext cx="3152880" cy="2421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43360" y="4114800"/>
            <a:ext cx="3016440" cy="231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59000" y="3981600"/>
            <a:ext cx="3193920" cy="2449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743360" y="1530360"/>
            <a:ext cx="3187800" cy="24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 Пушкинский бал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16440" y="1231920"/>
            <a:ext cx="3571920" cy="259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3360" y="4237200"/>
            <a:ext cx="3182760" cy="2199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32080" y="1170000"/>
            <a:ext cx="2030400" cy="2932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797360" y="4121280"/>
            <a:ext cx="3328920" cy="22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7760" cy="1182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  <p:cxnSp>
        <p:nvCxnSpPr>
          <p:cNvPr id="104" name=""/>
          <p:cNvCxnSpPr/>
          <p:nvPr/>
        </p:nvCxnSpPr>
        <p:spPr>
          <a:xfrm flipV="1">
            <a:off x="2643120" y="1928520"/>
            <a:ext cx="9309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"/>
          <p:cNvCxnSpPr/>
          <p:nvPr/>
        </p:nvCxnSpPr>
        <p:spPr>
          <a:xfrm>
            <a:off x="5643720" y="1928880"/>
            <a:ext cx="100224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7760" cy="1182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20840" y="1122480"/>
            <a:ext cx="8242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7760" cy="1049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8760" y="1928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85640" y="1285920"/>
            <a:ext cx="65617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Диаграмм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динамики уровня воспитанности обучающихс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за три года по уровням образования (Методика Н.П. Капустиной)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5360" y="1143000"/>
            <a:ext cx="78098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Диаграмм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динамики активности участия обучающихся в воспитательных мероприятиях 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0960" y="6480"/>
            <a:ext cx="8266320" cy="1438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8760" y="1600200"/>
            <a:ext cx="8258040" cy="4525920"/>
          </a:xfrm>
          <a:prstGeom prst="rect">
            <a:avLst/>
          </a:prstGeom>
          <a:solidFill>
            <a:srgbClr val="dbeef4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457200" indent="-457200" algn="just"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аз Президента Российской Федераци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21.07.2020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474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«О национальных целях развития Российской Федерации на период до 2030 года»-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457200" indent="-457200" algn="just"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деральный закон № 304-ФЗ от 31.07.2020 «О внесении изменений в Федеральный закон «Об образовании в РФ» по вопросам воспитания обучающихся»-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457200" indent="-457200" algn="just"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Примерная программа воспитания, разработана ФГБНУ «Институт стратегии развития образования Российской академии образования» и утв. 2.07.2020 года на заседании Федерального учебно-методического объединения по общему образованию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0720" y="1500120"/>
            <a:ext cx="4071960" cy="46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6360"/>
            <a:ext cx="9144000" cy="966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7132" dir="7370424" blurRad="0" rotWithShape="0">
              <a:srgbClr val="434343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1560" y="384120"/>
            <a:ext cx="7991280" cy="987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43000" y="1341360"/>
            <a:ext cx="264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"/>
          <p:cNvSpPr/>
          <p:nvPr/>
        </p:nvSpPr>
        <p:spPr>
          <a:xfrm>
            <a:off x="274680" y="4268880"/>
            <a:ext cx="167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"/>
          <p:cNvSpPr/>
          <p:nvPr/>
        </p:nvSpPr>
        <p:spPr>
          <a:xfrm>
            <a:off x="642960" y="14288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ариантная часть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5072040" y="1571760"/>
            <a:ext cx="31431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ая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22440" y="2444760"/>
            <a:ext cx="3254400" cy="3949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052960" y="2567160"/>
            <a:ext cx="335268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321760" cy="127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38120" y="1596960"/>
            <a:ext cx="8267760" cy="49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440" y="268200"/>
            <a:ext cx="7899120" cy="84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1360" y="1398600"/>
            <a:ext cx="3867120" cy="882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статус семей обучающихся МБОУ «СОШ № 10 г. Новоалтайска Алтайского края»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46000" y="1855800"/>
            <a:ext cx="4119840" cy="484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00760" y="1285920"/>
            <a:ext cx="3979800" cy="54291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63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рганизация (далее-ОО) находится в центральной части города. Транспортная сеть обеспечивает беспрепятственный  подъезд обучающихся из отдаленных районов, мобильную взаимосвязь ОО с правовыми, социальными, культурными центрами г. Новоалтайска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363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обучающихся ежегодно увеличивается в среднем на 10% и в настоящее время составляет 1024 человека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363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реализации основных образовательных программ ОО ориентируется на основные тенденции развития Российского образования, социальный статус семей, контингент обучающихся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363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ю образовательной деятельности, организуемой в МБОУ «СОШ № 10г. Новоалтайска Алтайского края» является направленность на инклюзивное образование: из 37 классов-комплектов в 21 реализуются  программы  для обучающихся с разными образовательными  потребностями. 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46000" y="1865160"/>
            <a:ext cx="4119840" cy="48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38120" y="60480"/>
            <a:ext cx="8267760" cy="143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beef4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каз Президента Российской Федерации от 29.05.2017 г. № 240 «Об объявлении в Российской Федерации Десятилетия детства»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цепция духовно-нравственного развития и воспитания личности гражданина России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грамма развития воспитательной компоненты в общеобразовательных учреждениях (рекомендована Минобрнауки России)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ратегии развития воспитания в РФ на период до 2025 года (Распоряжение от 29.05.2015 г. №996-р)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ГОС 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8200" y="255600"/>
            <a:ext cx="8680680" cy="1182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5840" y="1285920"/>
            <a:ext cx="3500280" cy="52149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ние свободного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ажданина с развитым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ллектуальным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ностями, творческим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шением к миру, чувством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чной ответственности,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ного к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образовательной,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уктивной деятельности,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иентированного н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хранение духовно-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равственных ценностей,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человеческой,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ой культуры 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развити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614760" y="1206360"/>
            <a:ext cx="5406840" cy="53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0960" y="36360"/>
            <a:ext cx="8224920" cy="1438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27360" y="1584360"/>
            <a:ext cx="5175360" cy="4645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42880" y="1428840"/>
            <a:ext cx="417204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7760" cy="118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5840" y="1600200"/>
            <a:ext cx="8429400" cy="4971960"/>
          </a:xfrm>
          <a:prstGeom prst="rect">
            <a:avLst/>
          </a:prstGeom>
          <a:solidFill>
            <a:srgbClr val="dbeef4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НТЯБР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«От экологии природы к экологии души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ТЯБР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«Дни лицейского братства»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ЯБР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«Толерантность – дорога к миру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«Мир красотой спасется»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НВАР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«Правовые знания и реальный мир»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ВРА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«Радуга здоровья»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«Добро пожаловать, друзья! Вас в гости ждет моя              семья»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ПРЕЛЬ – МА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«Победные залпы гремят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8120" y="-79200"/>
            <a:ext cx="8267760" cy="1311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15040" y="4071960"/>
            <a:ext cx="3657600" cy="2523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68920" y="1116000"/>
            <a:ext cx="3230640" cy="2395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75520" y="3357720"/>
            <a:ext cx="3783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Перекресток профессиональных дорог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Встреча двух поколений выпускников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и учащихся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"/>
          <p:cNvSpPr/>
          <p:nvPr/>
        </p:nvSpPr>
        <p:spPr>
          <a:xfrm>
            <a:off x="5306400" y="6488280"/>
            <a:ext cx="38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Акция «Споемьте друзья(песни ВОВ)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53920" y="1219320"/>
            <a:ext cx="296892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950760" y="4145040"/>
            <a:ext cx="3084840" cy="2371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5240" y="6411960"/>
            <a:ext cx="285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Сильные духом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"/>
          <p:cNvSpPr/>
          <p:nvPr/>
        </p:nvSpPr>
        <p:spPr>
          <a:xfrm>
            <a:off x="582480" y="3522600"/>
            <a:ext cx="33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Мой город будет Экоградом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1080" y="1170000"/>
            <a:ext cx="3181320" cy="2444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63520" y="3760920"/>
            <a:ext cx="2176560" cy="2828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175360" y="4041720"/>
            <a:ext cx="3114720" cy="2395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029200" y="1200240"/>
            <a:ext cx="3187800" cy="2444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64120" y="6305400"/>
            <a:ext cx="33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Семья года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"/>
          <p:cNvSpPr/>
          <p:nvPr/>
        </p:nvSpPr>
        <p:spPr>
          <a:xfrm>
            <a:off x="4886280" y="3560760"/>
            <a:ext cx="33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Играем классику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"/>
          <p:cNvSpPr/>
          <p:nvPr/>
        </p:nvSpPr>
        <p:spPr>
          <a:xfrm>
            <a:off x="582480" y="3522600"/>
            <a:ext cx="33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Экологическая карта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6453360"/>
            <a:ext cx="33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Пишем книгу добрых дел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85880" y="1457280"/>
            <a:ext cx="2676600" cy="203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68640" y="1530360"/>
            <a:ext cx="4132440" cy="2030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85880" y="3906720"/>
            <a:ext cx="2627280" cy="2030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529160" y="3870360"/>
            <a:ext cx="2633760" cy="2036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2480" y="3522600"/>
            <a:ext cx="33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Арбат Здоровья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"/>
          <p:cNvSpPr/>
          <p:nvPr/>
        </p:nvSpPr>
        <p:spPr>
          <a:xfrm>
            <a:off x="4367160" y="3522600"/>
            <a:ext cx="33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Поколение независимых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"/>
          <p:cNvSpPr/>
          <p:nvPr/>
        </p:nvSpPr>
        <p:spPr>
          <a:xfrm>
            <a:off x="4367160" y="5940360"/>
            <a:ext cx="33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Солнечный фактор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"/>
          <p:cNvSpPr/>
          <p:nvPr/>
        </p:nvSpPr>
        <p:spPr>
          <a:xfrm>
            <a:off x="582480" y="5940360"/>
            <a:ext cx="33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«Эко-стиль»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17T03:51:51Z</dcterms:created>
  <dc:creator>Михаил</dc:creator>
  <dc:description/>
  <dc:language>en-US</dc:language>
  <cp:lastModifiedBy>Андрей222</cp:lastModifiedBy>
  <dcterms:modified xsi:type="dcterms:W3CDTF">2023-02-05T15:08:01Z</dcterms:modified>
  <cp:revision>192</cp:revision>
  <dc:subject/>
  <dc:title>"Воспитательная система МБОУ «СОШ № 10 г. Новоалтайска Алтайского края»: современные реалии и перспективы, образовательные задачи и подходы к их решению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