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CE4-1462-4E9A-9487-0DE2C7F8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1C8-C5B7-4807-9D29-9CDB19A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370-A032-4C09-903F-98B6F9B2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228-3A2D-4B43-81F9-BDD308B9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C4E1-2F84-4D52-9902-3982C0EA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3D11-48FA-40F9-8346-85212945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84C3-66A6-4EE0-86F9-2D368E9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1040-1738-496C-AFC4-7DCFF574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B997-21E1-45A2-8963-D770E65A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665F-6D58-4017-B166-706854B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B4B2-603E-41F3-BEB9-6F8FC99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1CE-0422-48A2-A497-BE6E4B31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CDC4-4B50-4673-89CF-03CD062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42E1-4E00-4A09-A8B5-09929FFF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95C3-6993-4766-92D9-F7AB4157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1E45-12A5-4275-BB72-46519355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5937-1915-4154-A67B-150A0A10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5F31-0E18-4582-A73C-98F9C4A7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D84A-B9CD-4F66-85E6-ADEBC98D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C9D5-14B5-4EE5-8FFC-66042811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EE6F-65D5-47F2-BE6F-4F40CB90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86CD-71D2-4DA7-B02A-2185EEBD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E9A-3107-4143-906A-5E241610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84FA-A34B-488B-BCBF-1E9C4285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BB81-02B8-4F23-BE17-AFD88C0D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157B-C840-4420-BBA2-1ABB0FD9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586D9-A957-42D6-A14C-223CA475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684F-4AC8-41D7-AA40-D8BDA22D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FE2C-5E07-4A27-ADA1-6BFF8AE4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5356-ACE5-4AC7-9AB5-00861FD8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B804-FDB4-4D48-961F-1D0E206F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059D2-679D-4E3D-BFEC-F676889E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0E96-8FC9-43C7-B59E-76668424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689-9C5C-4A94-ACEB-6B004950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D12B6-2369-44D7-ABD8-9590847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7EDF-4474-4FAB-97CB-E1D75A8C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90230-8BAC-48C6-A5D3-866417AD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0579D-6F66-42DF-ACC2-3F889694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8241-22DA-40E8-BB6A-9160CB44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5EA2D-D0B8-4ADA-BD09-BE1D1C81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32593-77DC-419E-8339-73929768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1CE6F-B134-4B4B-89CE-8B364DB1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28AE-051F-4392-A28E-A618B5E3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F8D4B-FE66-4416-A1BF-8F6D5ECA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8D8-870F-4990-B1D9-7D771A4E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B69F-BFA1-4104-8393-B41E7D84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FAB2-047E-4266-8311-E4775F49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C5FF-60E7-4C92-99A5-CE4808A4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38CBB-2815-4E27-A30A-A1F08A11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6AF3A-71F4-4C1D-8478-B54FBD68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5C19-6519-417C-8586-7E35F89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8A1A-B565-4EEB-8E02-4473691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4F95-0AD9-4CB0-B50D-AB49B67F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E50C5-8DBE-48F0-A9B1-953F1DCA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93F14-73AB-4A53-9227-9B328414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0F6-200E-4FD2-8423-CB317E64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81429-4B11-4ACE-8361-559F48C4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F572D-3431-4648-8C19-6A3830ED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9CB4F-D19D-4912-ADB2-3DB10840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FA493-9799-4D33-B301-91BF0AB2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AC37-5EF5-4CD8-97FC-231BA083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0BA7F-0489-4CAD-A59C-81CF26EB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22F27-C948-401D-A33E-31BB7B88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98806-2C62-4353-92F9-270B7E5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19051-6F68-4EC7-B5E7-913068C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443E2-50BB-4328-9322-7D170D7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65E-5FEB-4737-8433-BE4A25E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B7741-EA11-44BB-B79A-973E7FDD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8FED-8B3A-4133-A960-C8567962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CCAAB-EE16-4747-AB6F-95BEF891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01DD-90C6-4C78-AEE0-DEB28626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ECDF8-B7FD-42E4-A7B2-C141E466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9AD3-2E0A-4CBB-B76F-B6AC9EAD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D55D6-F553-414D-A387-36613173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9CEBA-1612-41EE-B756-82DCDA8E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5D2D-842D-43B3-854F-798B8E2A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2BB07-0596-471B-89CC-DA5788A1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CFD-01D9-4876-BFC6-8362B6C7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D563D-620C-4842-A033-3F1F42CA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BB405-EB7B-468A-A350-A2C7D0FA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59A5C-BA54-456A-9680-EB2D5350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D773-A6B5-48DE-817A-900AFB9C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D1338-F7FB-4B86-8F5D-A435C5F2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631-3592-4730-A826-2C8EE9B6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86CF-060D-44A9-9381-2B6360E7156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Овал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Овал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C8E-86FD-4D81-B096-C2EEA3DF60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Овал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Овал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D3BD-A171-444E-BF14-2B0A296069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0CA7-8155-4248-A116-198D40CFF28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ECB4-0457-4369-8D13-BAD4CE9F65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E292-6637-4605-BB87-06F77300A8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5" name="Блок-схема: процесс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Блок-схема: процесс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A890-CB96-4442-A3DC-63368042B9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44480" y="274680"/>
            <a:ext cx="7499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ллюстрации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к 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казке Ганса Кристиана Андерсена «Гадкий утенок»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с использованием техники ориг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Прямоугольник 4"/>
          <p:cNvSpPr/>
          <p:nvPr/>
        </p:nvSpPr>
        <p:spPr>
          <a:xfrm>
            <a:off x="3672000" y="26384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отов Фаридун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тюк Анастас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локова Кристи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 4-в кла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МБОУ СОШ №5                                                                                        г. Пыть-Я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зыванова А.В,                                                                                                           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е нарисованной части и изготовленных деталей в технике орига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к сказке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роприят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Посещение кружка «Оригами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Консультации с преподавателем изобразительного искусства по созданию иллюстраци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Презентация работы на уроке литературы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ОЖИДАЕМЫЕ РЕЗУЛЬТАТЫ ПРОЕКТ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к сказке Г.Х Андерсена «Гадкий утёнок» с использованием техники оригам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учащихся к занятиям оригам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количества обучающихся, посещающих  кружок «Оригами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итерии результативности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выполненной работ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учащихся к занятиям оригами и чтен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ребованность иллюстраций на уроках литерату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УРСЫ (организационные, кадры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196640"/>
            <a:ext cx="7620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87280" y="1413000"/>
          <a:ext cx="7728120" cy="4605120"/>
        </p:xfrm>
        <a:graphic>
          <a:graphicData uri="http://schemas.openxmlformats.org/drawingml/2006/table">
            <a:tbl>
              <a:tblPr/>
              <a:tblGrid>
                <a:gridCol w="1295640"/>
                <a:gridCol w="2520720"/>
                <a:gridCol w="3911760"/>
              </a:tblGrid>
              <a:tr h="58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д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5 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отов Фаридун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тюк Анастас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локова Крис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 18 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отов Фаридун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тюк Анастас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локова Крис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-20 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тюк Анастас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локова Крис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-22 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отов Фаридун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тюк Анастас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локова Крис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800" spc="-1" strike="noStrike">
                <a:solidFill>
                  <a:srgbClr val="5cadc6"/>
                </a:solidFill>
                <a:latin typeface="Times New Roman"/>
                <a:ea typeface="Times New Roman"/>
              </a:rPr>
              <a:t>Ресурсы </a:t>
            </a:r>
            <a:br>
              <a:rPr sz="3600"/>
            </a:b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63640" y="1143000"/>
            <a:ext cx="6919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й:12-22 апрел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: сайты, тематическая литератур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ые: обучающиеся 4 класса, руководитель кружка «Оригами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: график проведения мероприят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 – технический: компьютер, листы бумаги А-3, А-4, цветная бумага, клей, кисти, крас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ннотац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112500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краткосрочный проект направлен на решение проблемы, связанной с тем, что обучающиеся, посещающие кружок «Оригами» не могут найти практического применения своих знаний и умений в учебном процесс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один из способов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реализации проекта будет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к сказке с применением техники орига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обучающихся к занятиям оригами и чтению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ребованность иллюстраций на уроках литерату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Users\Фаина\Desktop\фото 4-в\IMG_6608.JPG"/>
          <p:cNvPicPr/>
          <p:nvPr/>
        </p:nvPicPr>
        <p:blipFill>
          <a:blip r:embed="rId1"/>
          <a:srcRect l="11333" t="11337" r="0" b="-2440"/>
          <a:stretch/>
        </p:blipFill>
        <p:spPr>
          <a:xfrm>
            <a:off x="1116000" y="620640"/>
            <a:ext cx="2519280" cy="3884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Users\Фаина\Desktop\фото 4-в\IMG_6609.JPG"/>
          <p:cNvPicPr/>
          <p:nvPr/>
        </p:nvPicPr>
        <p:blipFill>
          <a:blip r:embed="rId2"/>
          <a:srcRect l="1959" t="11205" r="21665" b="12667"/>
          <a:stretch/>
        </p:blipFill>
        <p:spPr>
          <a:xfrm>
            <a:off x="6300720" y="412920"/>
            <a:ext cx="2594160" cy="3879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Users\Фаина\Desktop\фото 4-в\IMG_6614.JPG"/>
          <p:cNvPicPr/>
          <p:nvPr/>
        </p:nvPicPr>
        <p:blipFill>
          <a:blip r:embed="rId3"/>
          <a:stretch/>
        </p:blipFill>
        <p:spPr>
          <a:xfrm>
            <a:off x="3222720" y="1773360"/>
            <a:ext cx="3294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C:\Users\Фаина\Desktop\фото 4-в\IMG_6617.JPG"/>
          <p:cNvPicPr/>
          <p:nvPr/>
        </p:nvPicPr>
        <p:blipFill>
          <a:blip r:embed="rId1"/>
          <a:stretch/>
        </p:blipFill>
        <p:spPr>
          <a:xfrm>
            <a:off x="3038400" y="17640"/>
            <a:ext cx="6083280" cy="405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C:\Users\Фаина\Desktop\IMG_6649.JPG"/>
          <p:cNvPicPr/>
          <p:nvPr/>
        </p:nvPicPr>
        <p:blipFill>
          <a:blip r:embed="rId2"/>
          <a:srcRect l="3665" t="0" r="0" b="0"/>
          <a:stretch/>
        </p:blipFill>
        <p:spPr>
          <a:xfrm>
            <a:off x="22320" y="3421080"/>
            <a:ext cx="5203800" cy="36021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1045800" y="44280"/>
            <a:ext cx="8155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применять полученные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осещения кружка «Оригами»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й в учебной деятельност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ясь в кружке «Оригами», мы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лись вопросом: «На каких уроках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именить полученные знани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мения?» Проанализировав вс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ения, мы решили создать дл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 литературы иллюстрации к сказ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ЕВАЯ АУДИТОР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4 в класс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 ПРОЕК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ллюстраций к сказке Г.Х Андерсена «Гадкий утёнок» с использованием техники ориг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 ПРОЕК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казать возможность применения техники оригами в учебном процессе - развивать собственную технику оригами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ить технику оригами в создании иллюстрации к  сказке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свои творческие способност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РАБОЧИЙ ПЛАН РЕАЛИЗАЦИИ ПРОЕКТ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ронологические рамки проекта,  этапы реализации проекта, перечень и описание мероприятий, план-график выполнения запланированных мероприят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сказку и выбрать эпизоды для иллюстра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эпизодов для иллюстрир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хемы для создания героев сказки и цветов в технике орига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в технике оригами героев сказки и ц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и оформление в цвете фона иллюстрац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фоновой части иллюстра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2:58:28Z</dcterms:created>
  <dc:creator>Customer</dc:creator>
  <dc:description/>
  <dc:language>en-US</dc:language>
  <cp:lastModifiedBy>Альбина</cp:lastModifiedBy>
  <dcterms:modified xsi:type="dcterms:W3CDTF">2023-02-05T12:46:38Z</dcterms:modified>
  <cp:revision>24</cp:revision>
  <dc:subject/>
  <dc:title>Матрица проекта</dc:title>
</cp:coreProperties>
</file>