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5D2-55DD-480B-8893-B9C09A53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581-C3E4-4A21-B0B8-13D1EACF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1B2-796A-45A7-8E12-01CE7879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E97-B1D3-457F-9918-AA538AD9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22CD-AC36-4581-A34D-4CC1FBB5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417D-8A70-419D-B014-9ACB42D9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64CD-6228-4D9F-BC98-9CF1BBFC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B3C1-C5E9-4B8E-A226-3B2745E4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EB89-B4D7-4E2D-8D7B-2D8532C5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967B-CCED-4846-B471-82604205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06B9-A8F9-4C03-BEA1-EA86A726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0DC-EC44-4947-9C7E-5E342E7C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5364-8079-4CC2-B7AA-C4E180CA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E7F6-D1E1-407D-941A-AE82F0F0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8676-10CE-4A7C-80C2-1D7C0454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8ECE-D7F2-4411-AE7D-EE9844BE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B94F-E938-4909-9CCD-26968785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4B99-715F-4C80-8EC0-2EAE69BE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76A74-FCD1-4840-BF56-304B2EEC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B426B-2D4F-4F51-B7F4-FDA8970A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E864B-17E8-4BF4-B3CC-9A8E1AAD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C29E8-EC76-4BEF-9EF6-2E439276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2A2-77D7-4654-BF16-82D1E168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254B-EB21-451B-B079-ECE19C36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C5099-5913-4E21-A0F5-74294879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69A8B-F756-4371-958D-6FDC0E47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22C0B-2C88-41C3-86C1-04ABCDDA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DFF04-A5E5-4944-99D8-BC954068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14E3B-7BC0-43F3-A144-9655B0D6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D9979-85CB-47AD-BE18-7E841868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B7B77-6C67-4F24-92AF-1A9ACAC5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3A6F3-1207-46D0-BC06-19181931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369E2-0BEB-47EF-9E43-62A47F26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743-8240-4EEC-B15B-AD3DB991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D4FEA-CB9A-4184-895D-3A8A9780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4BA96-EAC5-4A2B-8CA4-4787147F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E75B5-3D53-477A-8F8B-7F19911D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9F915-4A4D-4097-9A73-563ACC82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05395-B1B8-4B74-BB2A-F270F2D5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C2E9B-D80A-4EC3-978D-21E15068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90071-C27A-4CEE-AADD-B202914E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C95E5-289D-4DD8-97A6-FCE22BD3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34E72-B829-4A23-AFEC-836001C1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2CE13-61A1-4594-82F1-006FECBB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3B8-CE8D-4D20-AE90-E7A0F7FE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CE9EF-4545-4759-88A4-409CB0DA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963CC-24CC-49F9-A07F-FB8A0A66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72AE6-4166-43E0-9ACA-28C68E87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96149-3E58-4C85-A43F-FE2F3CC1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76EA6-BFD1-407E-8CED-F59EBE8C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A7708-1D4C-4919-B712-0C080563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62A83-6652-456A-BE59-B926631C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F1457-68F7-436F-9B12-8D1177CF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B89A7-5902-4112-B685-CB921D82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37369-B65C-4D4C-9852-57508772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1CD-124F-438C-B181-60153AD2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6C8A7-6823-4A2E-A595-3009A849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5CDE2-C469-4E2F-BCF2-18BF5516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F60F9-4412-4990-BFE6-CD669633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ED503-90B3-4AB3-B9EE-BD431AC1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806C9-5B90-4136-A32C-D4F6DD37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80726-71D6-40F6-85C0-1F4F9A10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A06E3-F4D6-4ED5-A725-F2E79B26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0AF4A-5CB9-47FE-98D9-0B6D6614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75422-ED7B-48A0-B83D-8BF71146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34F0B-B9D6-435A-8319-C1CC8A34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D63-18E6-4D02-A9C7-9D43FEA5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55759-62B8-4298-8C21-DC48AE20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3C6D7-0364-4011-87CE-130D8224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17A76-5194-4228-A7FB-C54218C7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981E9-750C-4333-9613-39037E2A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B6E3E-D866-46D8-865A-BACE6FE5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BAD3B-3C8F-4748-9C59-80A15626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E434F-0D1B-4DEF-8E50-D1C51202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49D35-05A1-4757-8758-AA6FF424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66DA9-ACF0-4768-A3B6-B541E74F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B643F-E95D-4DA3-B479-338A1CC8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F80-C5B3-48DA-B5C5-72E298DD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D86B9-08EE-4245-806F-4E0E7769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A54D5-8AE0-4C48-BEAB-9D77C2D4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0747C-0CFC-4E9F-B294-3D040DB6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1DCE1-D9CB-4529-8A14-18E5D63D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7AF33-D50B-4723-9CD9-E1A79D68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68A-71FC-4CB2-A0F4-FB85847B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B2D9-DB40-4571-B97B-1CA16E3E3B9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" name="Овал 1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" name="Овал 2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870A-2BB1-468E-82E2-8848908104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Овал 3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3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Овал 5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2EF3-F04B-4C3A-91C4-280C7CA63D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13BF-7E20-4258-BCAE-4BF734C1767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5436-A49D-4FD8-B965-4E8C092CE9A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FFCD-B824-41FD-B48B-4933FF1D33F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5" name="Блок-схема: процесс 2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Блок-схема: процесс 3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968D-40C6-4AC8-9E07-1B3FEEC3D50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44480" y="274680"/>
            <a:ext cx="7499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ллюстрации</a:t>
            </a: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к </a:t>
            </a: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казке Ганса Кристиана Андерсена «Гадкий утенок»</a:t>
            </a: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с использованием техники ориг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Прямоугольник 4"/>
          <p:cNvSpPr/>
          <p:nvPr/>
        </p:nvSpPr>
        <p:spPr>
          <a:xfrm>
            <a:off x="3672000" y="263844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отов Фаридун,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ттюк Анастаси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локова Кристин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 4-в клас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МБОУ СОШ №5                                                                                        г. Пыть-Я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зыванова А.В,                                                                                                           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этап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ие нарисованной части и изготовленных деталей в технике орига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 к сказке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ероприят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Посещение кружка «Оригами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Консультации с преподавателем изобразительного искусства по созданию иллюстраци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Презентация работы на уроке литературы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ОЖИДАЕМЫЕ РЕЗУЛЬТАТЫ ПРОЕКТ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 к сказке Г.Х Андерсена «Гадкий утёнок» с использованием техники оригам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мотивации учащихся к занятиям оригам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количества обучающихся, посещающих  кружок «Оригами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итерии результативности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выполненной работ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учащихся к занятиям оригами и чтени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ребованность иллюстраций на уроках литерату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УРСЫ (организационные, кадры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000" y="1196640"/>
            <a:ext cx="7620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187280" y="1413000"/>
          <a:ext cx="7728120" cy="4605120"/>
        </p:xfrm>
        <a:graphic>
          <a:graphicData uri="http://schemas.openxmlformats.org/drawingml/2006/table">
            <a:tbl>
              <a:tblPr/>
              <a:tblGrid>
                <a:gridCol w="1295640"/>
                <a:gridCol w="2520720"/>
                <a:gridCol w="3911760"/>
              </a:tblGrid>
              <a:tr h="58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ре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д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5 апр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отов Фаридун,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ттюк Анастас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локова Крист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 18 апр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отов Фаридун,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ттюк Анастас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локова Крист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00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-20 апр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ттюк Анастас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локова Крист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-22 апр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отов Фаридун,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ттюк Анастас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локова Крист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800" spc="-1" strike="noStrike">
                <a:solidFill>
                  <a:srgbClr val="5cadc6"/>
                </a:solidFill>
                <a:latin typeface="Times New Roman"/>
                <a:ea typeface="Times New Roman"/>
              </a:rPr>
              <a:t>Ресурсы </a:t>
            </a:r>
            <a:br>
              <a:rPr sz="3600"/>
            </a:b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763640" y="1143000"/>
            <a:ext cx="6919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17080" indent="-217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ой:12-22 апрел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: сайты, тематическая литератур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ые: обучающиеся 4 класса, руководитель кружка «Оригами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: график проведения мероприят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о – технический: компьютер, листы бумаги А-3, А-4, цветная бумага, клей, кисти, крас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ннотаци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42560" y="112500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краткосрочный проект направлен на решение проблемы, связанной с тем, что обучающиеся, посещающие кружок «Оригами» не могут найти практического применения своих знаний и умений в учебном процесс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ся один из способов решения данной проблем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реализации проекта будет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 к сказке с применением техники орига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обучающихся к занятиям оригами и чтению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ребованность иллюстраций на уроках литератур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C:\Users\Фаина\Desktop\фото 4-в\IMG_6608.JPG"/>
          <p:cNvPicPr/>
          <p:nvPr/>
        </p:nvPicPr>
        <p:blipFill>
          <a:blip r:embed="rId1"/>
          <a:srcRect l="11333" t="11337" r="0" b="-2440"/>
          <a:stretch/>
        </p:blipFill>
        <p:spPr>
          <a:xfrm>
            <a:off x="1116000" y="620640"/>
            <a:ext cx="2519280" cy="3884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C:\Users\Фаина\Desktop\фото 4-в\IMG_6609.JPG"/>
          <p:cNvPicPr/>
          <p:nvPr/>
        </p:nvPicPr>
        <p:blipFill>
          <a:blip r:embed="rId2"/>
          <a:srcRect l="1959" t="11205" r="21665" b="12667"/>
          <a:stretch/>
        </p:blipFill>
        <p:spPr>
          <a:xfrm>
            <a:off x="6300720" y="412920"/>
            <a:ext cx="2594160" cy="3879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C:\Users\Фаина\Desktop\фото 4-в\IMG_6614.JPG"/>
          <p:cNvPicPr/>
          <p:nvPr/>
        </p:nvPicPr>
        <p:blipFill>
          <a:blip r:embed="rId3"/>
          <a:stretch/>
        </p:blipFill>
        <p:spPr>
          <a:xfrm>
            <a:off x="3222720" y="1773360"/>
            <a:ext cx="3294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C:\Users\Фаина\Desktop\фото 4-в\IMG_6617.JPG"/>
          <p:cNvPicPr/>
          <p:nvPr/>
        </p:nvPicPr>
        <p:blipFill>
          <a:blip r:embed="rId1"/>
          <a:stretch/>
        </p:blipFill>
        <p:spPr>
          <a:xfrm>
            <a:off x="3038400" y="17640"/>
            <a:ext cx="6083280" cy="4055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C:\Users\Фаина\Desktop\IMG_6649.JPG"/>
          <p:cNvPicPr/>
          <p:nvPr/>
        </p:nvPicPr>
        <p:blipFill>
          <a:blip r:embed="rId2"/>
          <a:srcRect l="3665" t="0" r="0" b="0"/>
          <a:stretch/>
        </p:blipFill>
        <p:spPr>
          <a:xfrm>
            <a:off x="22320" y="3421080"/>
            <a:ext cx="5203800" cy="36021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1"/>
          <p:cNvSpPr/>
          <p:nvPr/>
        </p:nvSpPr>
        <p:spPr>
          <a:xfrm>
            <a:off x="1045800" y="44280"/>
            <a:ext cx="81558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ние применять полученные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осещения кружка «Оригами»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й в учебной деятельности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ясь в кружке «Оригами», мы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лись вопросом: «На каких уроках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рименить полученные знани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мения?» Проанализировав вс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ения, мы решили создать дл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а литературы иллюстрации к сказк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ЕВАЯ АУДИТОР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4 в класс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 ПРОЕК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ллюстраций к сказке Г.Х Андерсена «Гадкий утёнок» с использованием техники ориг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 ПРОЕК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казать возможность применения техники оригами в учебном процессе - развивать собственную технику оригами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нить технику оригами в создании иллюстрации к  сказке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свои творческие способност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РАБОЧИЙ ПЛАН РЕАЛИЗАЦИИ ПРОЕКТА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ронологические рамки проекта,  этапы реализации проекта, перечень и описание мероприятий, план-график выполнения запланированных мероприят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сказку и выбрать эпизоды для иллюстрац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эпизодов для иллюстриров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хемы для создания героев сказки и цветов в технике орига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в технике оригами героев сказки и цве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и оформление в цвете фона иллюстрац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фоновой части иллюстрац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2:58:28Z</dcterms:created>
  <dc:creator>Customer</dc:creator>
  <dc:description/>
  <dc:language>en-US</dc:language>
  <cp:lastModifiedBy>Альбина</cp:lastModifiedBy>
  <dcterms:modified xsi:type="dcterms:W3CDTF">2023-02-05T12:46:38Z</dcterms:modified>
  <cp:revision>24</cp:revision>
  <dc:subject/>
  <dc:title>Матрица проекта</dc:title>
</cp:coreProperties>
</file>