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160-372E-47FE-B05A-308B6E43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7B7-90A6-4CCA-8B86-9491894E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6E5-8C6A-425B-A2AD-6211357C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146-625E-4DC7-8B3C-56D6354A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A93-AFFF-4827-96D3-6F6BE89E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7DB-58A8-4AFD-BB9D-208BCE8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E19-2974-4F3A-A5EB-FCFF727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DDE-DA68-443F-A6E9-6FE827B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899-5242-4B53-A76A-4EFD35DA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8EE-198D-4102-871E-A2DAED97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F12-2374-435A-B2AE-E6292924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583-3EF5-47D1-8259-B15245F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439B-9203-443C-B5E0-23C39C1EA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143000" y="1295280"/>
            <a:ext cx="670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чное умножение и де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2 и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1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1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3 и н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4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7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4 и н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4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2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8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5 и н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6 и на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4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4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8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7 и на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5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9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8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6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3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0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8 и на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2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4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4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2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8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6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9 и на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2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7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3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1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4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0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Емелина</cp:lastModifiedBy>
  <dcterms:modified xsi:type="dcterms:W3CDTF">2023-02-05T06:46:0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