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FC4-62D1-41F3-AC4E-6CDF666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78B-594F-48BC-B506-43F1AEAB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1C2-15B0-4F2E-AC72-C2CD8180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4E-E209-4BFA-A29B-5316D0D9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26D-96AB-4531-AF0B-9F40543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285-A5A4-4277-8EEA-FBF9DE5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9F4-B888-45A7-BA67-E94E9855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1D8-11CC-4C02-B6FE-EEF9AF32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85A-4ACC-4FC5-8767-7D11B95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79C-C34C-4F0B-B002-197CD55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4B8-8A2C-454D-A2E5-09E5F8D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C04-02B5-47CB-8721-21B1BE6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F52-0153-4805-B7FC-4822A2BE6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43000" y="1295280"/>
            <a:ext cx="670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чное умножение и 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2 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1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1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3 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×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4 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5 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5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0 :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6 и на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4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8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 :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7 и на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9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6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0 :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8 и н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2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8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6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: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990720" y="457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и деление 9 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14400" y="106668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3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2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029200" y="990720"/>
            <a:ext cx="365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10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1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4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×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0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мелина</cp:lastModifiedBy>
  <dcterms:modified xsi:type="dcterms:W3CDTF">2023-02-05T06:46:0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