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03E-71FA-4A75-B2E7-DADD9C3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782-9F5A-44A0-8710-88B19A6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5B-4619-4798-99FA-3974A0AF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069-9DD9-41DE-BAB8-5470B0F3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EE5-6E59-4FDC-991B-5B6099B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078-D2C1-419F-912C-9B298AC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D83-40DD-49F6-8EF1-8B6DE19C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448-A3F3-43F9-8AA4-CFF4DE16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103-AFFF-49B3-A264-D8EEF10A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2E5-D777-48D7-9A91-73DD5D3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F28-893E-4ECE-8F36-3506B36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B25-7E0C-4D12-BAAE-D1935A8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D99-4936-47F7-9974-273181A6B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9680" y="121932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чное умножение и 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2 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990720" y="17524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600200" y="2819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990720" y="3962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990720" y="5029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6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914400" y="6172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579132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52578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2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3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4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5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7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3 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× 3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91440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1066680" y="2895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1143000" y="3962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50292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5867280" y="3276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0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1"/>
          <p:cNvSpPr/>
          <p:nvPr/>
        </p:nvSpPr>
        <p:spPr>
          <a:xfrm>
            <a:off x="5105520" y="49528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4 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4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752480" y="22860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990720" y="2819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5943600" y="1066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7"/>
          <p:cNvSpPr/>
          <p:nvPr/>
        </p:nvSpPr>
        <p:spPr>
          <a:xfrm>
            <a:off x="52578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5867280" y="54864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5 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 = 5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066680" y="2895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5"/>
          <p:cNvSpPr/>
          <p:nvPr/>
        </p:nvSpPr>
        <p:spPr>
          <a:xfrm>
            <a:off x="5029200" y="1676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9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6 и на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 = 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10666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5029200" y="1676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57913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51814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"/>
          <p:cNvSpPr/>
          <p:nvPr/>
        </p:nvSpPr>
        <p:spPr>
          <a:xfrm>
            <a:off x="51814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1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7 и на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 = 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5943600" y="1066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7"/>
          <p:cNvSpPr/>
          <p:nvPr/>
        </p:nvSpPr>
        <p:spPr>
          <a:xfrm>
            <a:off x="50292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9"/>
          <p:cNvSpPr/>
          <p:nvPr/>
        </p:nvSpPr>
        <p:spPr>
          <a:xfrm>
            <a:off x="51814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8 и 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2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 = 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9 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2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 = 9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57913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мелина</cp:lastModifiedBy>
  <dcterms:modified xsi:type="dcterms:W3CDTF">2023-02-05T06:46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