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click.wav" ContentType="audio/x-wav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7FA-B24D-4421-929C-A3AC2661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A13-0B3A-45A1-9239-287BC5F4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3A1-FE8B-450C-9EFF-8CCD95F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B0C-1438-4459-B480-20782513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23E-7BD8-4146-8D40-2A410E6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6C4-B6B0-45BD-8512-8FCF735D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39A-8D3D-4FC4-B2C2-937DAB2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59B-3318-47BE-BB1C-F12B364B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2A1-C381-4B29-9287-EDFD16B3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A23-DD02-4E02-B35A-B2CA24FE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871-BEAE-403C-8B1C-39C40A1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99C-2726-48C3-882D-560273C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D5F-31A5-4412-8E91-BCF4A90E2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image" Target="../media/image1.jpeg"/><Relationship Id="rId5" Type="http://schemas.openxmlformats.org/officeDocument/2006/relationships/slide" Target="slide7.xml"/><Relationship Id="rId6" Type="http://schemas.openxmlformats.org/officeDocument/2006/relationships/image" Target="../media/image1.jpeg"/><Relationship Id="rId7" Type="http://schemas.openxmlformats.org/officeDocument/2006/relationships/slide" Target="slide9.xml"/><Relationship Id="rId8" Type="http://schemas.openxmlformats.org/officeDocument/2006/relationships/image" Target="../media/image1.jpeg"/><Relationship Id="rId9" Type="http://schemas.openxmlformats.org/officeDocument/2006/relationships/slide" Target="slide11.xml"/><Relationship Id="rId10" Type="http://schemas.openxmlformats.org/officeDocument/2006/relationships/image" Target="../media/image1.jpeg"/><Relationship Id="rId11" Type="http://schemas.openxmlformats.org/officeDocument/2006/relationships/slide" Target="slide13.xml"/><Relationship Id="rId12" Type="http://schemas.openxmlformats.org/officeDocument/2006/relationships/image" Target="../media/image2.jpeg"/><Relationship Id="rId13" Type="http://schemas.openxmlformats.org/officeDocument/2006/relationships/slide" Target="slide15.xml"/><Relationship Id="rId14" Type="http://schemas.openxmlformats.org/officeDocument/2006/relationships/image" Target="../media/image2.jpeg"/><Relationship Id="rId15" Type="http://schemas.openxmlformats.org/officeDocument/2006/relationships/slide" Target="slide21.xml"/><Relationship Id="rId16" Type="http://schemas.openxmlformats.org/officeDocument/2006/relationships/image" Target="../media/image2.jpeg"/><Relationship Id="rId17" Type="http://schemas.openxmlformats.org/officeDocument/2006/relationships/slide" Target="slide17.xml"/><Relationship Id="rId18" Type="http://schemas.openxmlformats.org/officeDocument/2006/relationships/image" Target="../media/image2.jpeg"/><Relationship Id="rId19" Type="http://schemas.openxmlformats.org/officeDocument/2006/relationships/slide" Target="slide19.xml"/><Relationship Id="rId20" Type="http://schemas.openxmlformats.org/officeDocument/2006/relationships/image" Target="../media/image2.jpeg"/><Relationship Id="rId21" Type="http://schemas.openxmlformats.org/officeDocument/2006/relationships/slide" Target="slide31.xml"/><Relationship Id="rId22" Type="http://schemas.openxmlformats.org/officeDocument/2006/relationships/image" Target="../media/image3.jpeg"/><Relationship Id="rId23" Type="http://schemas.openxmlformats.org/officeDocument/2006/relationships/slide" Target="slide23.xml"/><Relationship Id="rId24" Type="http://schemas.openxmlformats.org/officeDocument/2006/relationships/image" Target="../media/image3.jpeg"/><Relationship Id="rId25" Type="http://schemas.openxmlformats.org/officeDocument/2006/relationships/slide" Target="slide25.xml"/><Relationship Id="rId26" Type="http://schemas.openxmlformats.org/officeDocument/2006/relationships/image" Target="../media/image3.jpeg"/><Relationship Id="rId27" Type="http://schemas.openxmlformats.org/officeDocument/2006/relationships/slide" Target="slide27.xml"/><Relationship Id="rId28" Type="http://schemas.openxmlformats.org/officeDocument/2006/relationships/image" Target="../media/image3.jpeg"/><Relationship Id="rId29" Type="http://schemas.openxmlformats.org/officeDocument/2006/relationships/slide" Target="slide29.xml"/><Relationship Id="rId30" Type="http://schemas.openxmlformats.org/officeDocument/2006/relationships/image" Target="../media/image3.jpeg"/><Relationship Id="rId31" Type="http://schemas.openxmlformats.org/officeDocument/2006/relationships/slide" Target="slide33.xml"/><Relationship Id="rId32" Type="http://schemas.openxmlformats.org/officeDocument/2006/relationships/image" Target="../media/image4.jpeg"/><Relationship Id="rId33" Type="http://schemas.openxmlformats.org/officeDocument/2006/relationships/slide" Target="slide35.xml"/><Relationship Id="rId34" Type="http://schemas.openxmlformats.org/officeDocument/2006/relationships/image" Target="../media/image4.jpeg"/><Relationship Id="rId35" Type="http://schemas.openxmlformats.org/officeDocument/2006/relationships/slide" Target="slide37.xml"/><Relationship Id="rId36" Type="http://schemas.openxmlformats.org/officeDocument/2006/relationships/image" Target="../media/image4.jpeg"/><Relationship Id="rId37" Type="http://schemas.openxmlformats.org/officeDocument/2006/relationships/slide" Target="slide39.xml"/><Relationship Id="rId38" Type="http://schemas.openxmlformats.org/officeDocument/2006/relationships/image" Target="../media/image4.jpeg"/><Relationship Id="rId39" Type="http://schemas.openxmlformats.org/officeDocument/2006/relationships/slide" Target="slide41.xml"/><Relationship Id="rId40" Type="http://schemas.openxmlformats.org/officeDocument/2006/relationships/image" Target="../media/image4.jpeg"/><Relationship Id="rId41" Type="http://schemas.openxmlformats.org/officeDocument/2006/relationships/slide" Target="slide43.xml"/><Relationship Id="rId42" Type="http://schemas.openxmlformats.org/officeDocument/2006/relationships/image" Target="../media/image5.jpeg"/><Relationship Id="rId43" Type="http://schemas.openxmlformats.org/officeDocument/2006/relationships/slide" Target="slide45.xml"/><Relationship Id="rId44" Type="http://schemas.openxmlformats.org/officeDocument/2006/relationships/image" Target="../media/image5.jpeg"/><Relationship Id="rId45" Type="http://schemas.openxmlformats.org/officeDocument/2006/relationships/slide" Target="slide47.xml"/><Relationship Id="rId46" Type="http://schemas.openxmlformats.org/officeDocument/2006/relationships/image" Target="../media/image5.jpeg"/><Relationship Id="rId47" Type="http://schemas.openxmlformats.org/officeDocument/2006/relationships/slide" Target="slide49.xml"/><Relationship Id="rId48" Type="http://schemas.openxmlformats.org/officeDocument/2006/relationships/image" Target="../media/image5.jpeg"/><Relationship Id="rId49" Type="http://schemas.openxmlformats.org/officeDocument/2006/relationships/slide" Target="slide51.xml"/><Relationship Id="rId50" Type="http://schemas.openxmlformats.org/officeDocument/2006/relationships/image" Target="../media/image5.jpeg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52;&#1080;&#1088;%20&#1080;&#1085;&#1092;&#1086;&#1088;&#1084;&#1072;&#1090;&#1080;&#1082;&#1080;.ppt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9700" spc="-1" strike="noStrike">
                <a:solidFill>
                  <a:srgbClr val="009999"/>
                </a:solidFill>
                <a:latin typeface="Arial"/>
              </a:rPr>
              <a:t>Безопасные летние каникулы</a:t>
            </a:r>
            <a:r>
              <a:rPr b="1" lang="tt-RU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73720"/>
            <a:ext cx="64008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ала:Вакун А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Только по пешеходному переходу, соблюдая все правила. Велосипед нужно везти, а ни в коем случае не ехать на нё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?id=16278d0c02a0e49f31ded49bb5f889f7&amp;n=24"/>
          <p:cNvPicPr/>
          <p:nvPr/>
        </p:nvPicPr>
        <p:blipFill>
          <a:blip r:embed="rId3"/>
          <a:stretch/>
        </p:blipFill>
        <p:spPr>
          <a:xfrm>
            <a:off x="1042920" y="3957480"/>
            <a:ext cx="360036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аким образом водитель автомобиля предупреждает о том, что хочет повернуть направо или налево?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38920" y="5924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Он включает поворотники – мигающие оранжевые огни – справа или слева, в зависимости от направления поворота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?id=19563921da808b6231e59bbef3cee5bf&amp;n=24"/>
          <p:cNvPicPr/>
          <p:nvPr/>
        </p:nvPicPr>
        <p:blipFill>
          <a:blip r:embed="rId3"/>
          <a:stretch/>
        </p:blipFill>
        <p:spPr>
          <a:xfrm>
            <a:off x="395280" y="3860640"/>
            <a:ext cx="1911240" cy="253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чему пожарных вызывают по телефону именно «01»?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667560" y="58482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01» самый простой и короткий номер, его легко запомнить. Этот номер легко набрать даже в темноте и на ощуп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миша\Downloads\86495426.jpg"/>
          <p:cNvPicPr/>
          <p:nvPr/>
        </p:nvPicPr>
        <p:blipFill>
          <a:blip r:embed="rId3"/>
          <a:stretch/>
        </p:blipFill>
        <p:spPr>
          <a:xfrm>
            <a:off x="2700360" y="3789360"/>
            <a:ext cx="3959280" cy="2814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чему пожарная машина красная?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143840" y="5791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миша\Downloads\Fire truck.png"/>
          <p:cNvPicPr/>
          <p:nvPr/>
        </p:nvPicPr>
        <p:blipFill>
          <a:blip r:embed="rId2"/>
          <a:stretch/>
        </p:blipFill>
        <p:spPr>
          <a:xfrm>
            <a:off x="0" y="2895480"/>
            <a:ext cx="6399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ная, чтобы издалека было видно, что едет пожарный автомобиль, которому необходимо уступить доро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расный цв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цвет ог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кой пожар нельзя тушить водой?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286680" y="525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?id=659e6adec82bddb451a6222494d99a09&amp;n=24"/>
          <p:cNvPicPr/>
          <p:nvPr/>
        </p:nvPicPr>
        <p:blipFill>
          <a:blip r:embed="rId2"/>
          <a:stretch/>
        </p:blipFill>
        <p:spPr>
          <a:xfrm>
            <a:off x="1332000" y="3429000"/>
            <a:ext cx="2520720" cy="295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Если горят электроприб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горючи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Можно ли бить стекла в доме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квартире во время пожара?</a:t>
            </a:r>
            <a:r>
              <a:rPr b="0" lang="ru-RU" sz="32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686640" y="5524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2263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0d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484280"/>
          <a:ext cx="8520120" cy="4000680"/>
        </p:xfrm>
        <a:graphic>
          <a:graphicData uri="http://schemas.openxmlformats.org/drawingml/2006/table">
            <a:tbl>
              <a:tblPr/>
              <a:tblGrid>
                <a:gridCol w="3429000"/>
                <a:gridCol w="1136520"/>
                <a:gridCol w="1098720"/>
                <a:gridCol w="971640"/>
                <a:gridCol w="966600"/>
                <a:gridCol w="917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5" name="Rectangle 60"/>
          <p:cNvSpPr/>
          <p:nvPr/>
        </p:nvSpPr>
        <p:spPr>
          <a:xfrm>
            <a:off x="250920" y="1413000"/>
            <a:ext cx="3384360" cy="792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Безопасность на дор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5"/>
          <p:cNvSpPr/>
          <p:nvPr/>
        </p:nvSpPr>
        <p:spPr>
          <a:xfrm>
            <a:off x="250920" y="2276640"/>
            <a:ext cx="33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на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8"/>
          <p:cNvSpPr/>
          <p:nvPr/>
        </p:nvSpPr>
        <p:spPr>
          <a:xfrm>
            <a:off x="250920" y="3068640"/>
            <a:ext cx="338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укашечки – «милаше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250920" y="3933720"/>
            <a:ext cx="338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купались, заг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4"/>
          <p:cNvSpPr/>
          <p:nvPr/>
        </p:nvSpPr>
        <p:spPr>
          <a:xfrm>
            <a:off x="250920" y="4724280"/>
            <a:ext cx="3384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май-отга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ет, т.к. дополнительный поток воздуха способствует распространению ог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cc"/>
                </a:solidFill>
                <a:latin typeface="Arial"/>
              </a:rPr>
              <a:t>Как потушить горящий телевизор?</a:t>
            </a:r>
            <a:r>
              <a:rPr b="0" lang="ru-RU" sz="32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419880" y="5886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?id=7dd665e2ce0656c24ca87622c3be14db&amp;n=24"/>
          <p:cNvPicPr/>
          <p:nvPr/>
        </p:nvPicPr>
        <p:blipFill>
          <a:blip r:embed="rId2"/>
          <a:stretch/>
        </p:blipFill>
        <p:spPr>
          <a:xfrm>
            <a:off x="992160" y="3429000"/>
            <a:ext cx="2590920" cy="287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77724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абросить одея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?id=3f737a6bcf5f94f38bdeee1917e4d3cc&amp;n=24"/>
          <p:cNvPicPr/>
          <p:nvPr/>
        </p:nvPicPr>
        <p:blipFill>
          <a:blip r:embed="rId3"/>
          <a:stretch/>
        </p:blipFill>
        <p:spPr>
          <a:xfrm>
            <a:off x="755640" y="3602160"/>
            <a:ext cx="3816360" cy="286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делать, если вас укусила оса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560" y="5886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?id=46146cf84489363df9e72259fd8796d8&amp;n=24"/>
          <p:cNvPicPr/>
          <p:nvPr/>
        </p:nvPicPr>
        <p:blipFill>
          <a:blip r:embed="rId2"/>
          <a:stretch/>
        </p:blipFill>
        <p:spPr>
          <a:xfrm>
            <a:off x="3132000" y="3429000"/>
            <a:ext cx="2946600" cy="195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04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са может кусать неоднократно, т.к. она  не оставляет жало. Чтобы уменьшить боль и замедлить всасывание яда, на место укуса следует положить что-нибудь холодное (носовой платок, смоченный в воде). Следует чаще пить. По возможности лучше сразу обратиться ко врачу.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im0-tub-ru.yandex.net/i?id=4cff77eba3cda37ff0b67a42ada978e8&amp;n=24"/>
          <p:cNvPicPr/>
          <p:nvPr/>
        </p:nvPicPr>
        <p:blipFill>
          <a:blip r:embed="rId3"/>
          <a:stretch/>
        </p:blipFill>
        <p:spPr>
          <a:xfrm>
            <a:off x="611280" y="5157720"/>
            <a:ext cx="1728720" cy="142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971640" y="1413000"/>
            <a:ext cx="756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Arial"/>
              </a:rPr>
              <a:t>Какую опасность представляет для человека клещ?</a:t>
            </a:r>
            <a:br>
              <a:rPr sz="4000"/>
            </a:br>
            <a:r>
              <a:rPr b="1" lang="ru-RU" sz="4000" spc="-1" strike="noStrike">
                <a:solidFill>
                  <a:srgbClr val="0099cc"/>
                </a:solidFill>
                <a:latin typeface="Arial"/>
              </a:rPr>
              <a:t>Как защититься от клещей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686640" y="6033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?id=38466f73de43884420af651908ad70e6&amp;n=24"/>
          <p:cNvPicPr/>
          <p:nvPr/>
        </p:nvPicPr>
        <p:blipFill>
          <a:blip r:embed="rId2"/>
          <a:srcRect l="0" t="0" r="3315" b="988"/>
          <a:stretch/>
        </p:blipFill>
        <p:spPr>
          <a:xfrm>
            <a:off x="3419640" y="4437000"/>
            <a:ext cx="2306520" cy="157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?id=fd429d78ae65bcebfd69a98e91d90548&amp;n=24"/>
          <p:cNvPicPr/>
          <p:nvPr/>
        </p:nvPicPr>
        <p:blipFill>
          <a:blip r:embed="rId1"/>
          <a:stretch/>
        </p:blipFill>
        <p:spPr>
          <a:xfrm>
            <a:off x="1042920" y="4653000"/>
            <a:ext cx="2592360" cy="1841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00000" y="158760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Переносят инфекционные заболевания, самое опасное из которых энцефалит.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Если идёте в лес, обязательно наденьте головной убор, штаны и кофту с длинными рукавами, а на ноги – закрытую обувь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2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м опасны комары и мошки        для человека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Как защититься от комаров и моше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496200" y="6076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?id=cf8cc44abdaf4b78b7501520df280bb1&amp;n=24"/>
          <p:cNvPicPr/>
          <p:nvPr/>
        </p:nvPicPr>
        <p:blipFill>
          <a:blip r:embed="rId2"/>
          <a:stretch/>
        </p:blipFill>
        <p:spPr>
          <a:xfrm>
            <a:off x="611280" y="4194000"/>
            <a:ext cx="3313080" cy="239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люна комара вызывает зуд, отёк, покраснение в месте укуса, а в некоторых случаях и тяжёлую аллергическую реакцию, с ней в тело человека могут попасть инфек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 помещении можно использовать фумигатор, установить на окна специальную москитную сетку, носить в своей сумочке специальные салфетки-репелленты, запах которых будет отпугивать насекомых в течение нескольких часов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1"/>
          <p:cNvSpPr/>
          <p:nvPr/>
        </p:nvSpPr>
        <p:spPr>
          <a:xfrm>
            <a:off x="684360" y="177336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то такие слепни, чем они опасны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ак защититься от слепн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6991200" y="621036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20d0"/>
                </a:solidFill>
                <a:latin typeface="Arial"/>
              </a:rPr>
              <a:t>Отметьте, о чём идёт реч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«Эта часть улицы безраздельно принадлежит людям. В переводе с французского обозначает «дорога для пешеход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>
            <a:hlinkClick r:id="rId1"/>
          </p:cNvPr>
          <p:cNvSpPr/>
          <p:nvPr/>
        </p:nvSpPr>
        <p:spPr>
          <a:xfrm>
            <a:off x="7711200" y="59547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8598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125360"/>
            <a:ext cx="799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лепень - особая муха, которая живёт у водоёмов и переносит очень опасные заболевания, например, сибирскую язву и болезни крупного рогатого скот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Arial"/>
              </a:rPr>
              <a:t>Чтобы  защититься от слепней вытирайте тело после купания, одевайте светлую одежду, пользуйтесь репеллентами, при укусе нужно обработать ранку антисепт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&amp;Scy;&amp;lcy;&amp;iecy;&amp;pcy;&amp;iecy;&amp;ncy;&amp;softcy; &amp;bcy;&amp;ycy;&amp;chcy;&amp;icy;&amp;jcy; - Tabanus bovinus"/>
          <p:cNvPicPr/>
          <p:nvPr/>
        </p:nvPicPr>
        <p:blipFill>
          <a:blip r:embed="rId3"/>
          <a:stretch/>
        </p:blipFill>
        <p:spPr>
          <a:xfrm>
            <a:off x="395280" y="5157720"/>
            <a:ext cx="1440000" cy="1440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24040" y="1989000"/>
            <a:ext cx="734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если вас укусила пч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257960" y="6153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i?id=3263905062a3e27edfb7cfa7ad299707&amp;n=24"/>
          <p:cNvPicPr/>
          <p:nvPr/>
        </p:nvPicPr>
        <p:blipFill>
          <a:blip r:embed="rId2"/>
          <a:stretch/>
        </p:blipFill>
        <p:spPr>
          <a:xfrm>
            <a:off x="2700360" y="3789360"/>
            <a:ext cx="3368520" cy="224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332000" y="2565360"/>
            <a:ext cx="69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9380"/>
                </a:solidFill>
                <a:latin typeface="Arial"/>
              </a:rPr>
              <a:t>Осторожно удалите жало из места укуса, т.к. из него некоторое время продолжает выделяться яд.</a:t>
            </a:r>
            <a:r>
              <a:rPr b="0" lang="ru-RU" sz="3200" spc="-1" strike="noStrike">
                <a:solidFill>
                  <a:srgbClr val="ca93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7742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акая 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воды и воздуха поход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куп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940360" y="5950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купаться, если температура воздуха ниже +22°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оды - ниже +18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?id=7f51cd24ce77317db3e961e866121e37&amp;n=24"/>
          <p:cNvPicPr/>
          <p:nvPr/>
        </p:nvPicPr>
        <p:blipFill>
          <a:blip r:embed="rId3"/>
          <a:stretch/>
        </p:blipFill>
        <p:spPr>
          <a:xfrm>
            <a:off x="3780000" y="3860640"/>
            <a:ext cx="2246040" cy="224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В какое время суток лучше всего принимать солнечные ванн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324480" y="57531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i?id=284461d2ae285a40e5ebe1462cb0f8f6&amp;n=24"/>
          <p:cNvPicPr/>
          <p:nvPr/>
        </p:nvPicPr>
        <p:blipFill>
          <a:blip r:embed="rId2"/>
          <a:srcRect l="0" t="0" r="0" b="3924"/>
          <a:stretch/>
        </p:blipFill>
        <p:spPr>
          <a:xfrm>
            <a:off x="1619280" y="3987720"/>
            <a:ext cx="3673440" cy="253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742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Между 7 и 11 ч утра, а также начиная с 15 ч и до захода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9380"/>
                </a:solidFill>
                <a:latin typeface="Arial"/>
              </a:rPr>
              <a:t>Утром солнце самое «спокойное», а в период с 11 до 15 ч солнечные лучи опас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8" descr="i?id=6b605a04554fbb2e26fe547fe5ccf5ce&amp;n=24"/>
          <p:cNvPicPr/>
          <p:nvPr/>
        </p:nvPicPr>
        <p:blipFill>
          <a:blip r:embed="rId3"/>
          <a:srcRect l="8628" t="4593" r="4725" b="48953"/>
          <a:stretch/>
        </p:blipFill>
        <p:spPr>
          <a:xfrm>
            <a:off x="250920" y="189000"/>
            <a:ext cx="2520720" cy="190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742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Назовите признаки перегрева и солнечного уд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353360" y="596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i?id=893fa15f37e9e58edbcd28a6db626b32&amp;n=24"/>
          <p:cNvPicPr/>
          <p:nvPr/>
        </p:nvPicPr>
        <p:blipFill>
          <a:blip r:embed="rId2"/>
          <a:stretch/>
        </p:blipFill>
        <p:spPr>
          <a:xfrm>
            <a:off x="2627280" y="3573360"/>
            <a:ext cx="3457440" cy="2598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68000" y="1052640"/>
            <a:ext cx="6875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737"/>
                </a:solidFill>
                <a:latin typeface="Arial"/>
              </a:rPr>
              <a:t>Признаки перегревания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97fd1"/>
                </a:solidFill>
                <a:latin typeface="Arial"/>
              </a:rPr>
              <a:t>слабость, головокружение, перед глазами замелькали «мушк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73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737"/>
                </a:solidFill>
                <a:latin typeface="Arial"/>
              </a:rPr>
              <a:t>Признаки солнечного удар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лицо краснеет, а затем бледнеет, появляется головная боль, головокружение, слабость, шум в ушах, пульс едва прощупывается, дыхание еле заметно. В тяжелых случаях может начаться тошнота, рвота, кровотечение из носа, судороги и обморок.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2" descr="i?id=be7a040381365618ca91845ffc70bb4c&amp;n=24"/>
          <p:cNvPicPr/>
          <p:nvPr/>
        </p:nvPicPr>
        <p:blipFill>
          <a:blip r:embed="rId3"/>
          <a:stretch/>
        </p:blipFill>
        <p:spPr>
          <a:xfrm>
            <a:off x="324000" y="1844640"/>
            <a:ext cx="2020680" cy="27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необходимо сделать, если у человека перегрев или солнечный уд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51640" y="5300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i?id=ade5846c6c4651564986a4f8b8a92fe7&amp;n=24"/>
          <p:cNvPicPr/>
          <p:nvPr/>
        </p:nvPicPr>
        <p:blipFill>
          <a:blip r:embed="rId1"/>
          <a:stretch/>
        </p:blipFill>
        <p:spPr>
          <a:xfrm>
            <a:off x="1258920" y="3789360"/>
            <a:ext cx="4105080" cy="19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Arial"/>
              </a:rPr>
              <a:t>Тротуа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?id=a1668c60981af8878d52fe8ced673290&amp;n=24"/>
          <p:cNvPicPr/>
          <p:nvPr/>
        </p:nvPicPr>
        <p:blipFill>
          <a:blip r:embed="rId3"/>
          <a:stretch/>
        </p:blipFill>
        <p:spPr>
          <a:xfrm>
            <a:off x="611280" y="3641760"/>
            <a:ext cx="4392360" cy="2771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i?id=e40e146f411a30ce36e8a69fe8229b5a&amp;n=24"/>
          <p:cNvPicPr/>
          <p:nvPr/>
        </p:nvPicPr>
        <p:blipFill>
          <a:blip r:embed="rId1"/>
          <a:stretch/>
        </p:blipFill>
        <p:spPr>
          <a:xfrm>
            <a:off x="250920" y="4006800"/>
            <a:ext cx="2881080" cy="2676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737"/>
                </a:solidFill>
                <a:latin typeface="Arial"/>
              </a:rPr>
              <a:t>При перегревании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7fd1"/>
                </a:solidFill>
                <a:latin typeface="Arial"/>
              </a:rPr>
              <a:t>следует присесть или прилечь в тени, смочить голову или лицо холодной водой. Также необходимо обмахиваться газетой, полотенцем, выпить минеральной или слегка подсоленн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737"/>
                </a:solidFill>
                <a:latin typeface="Arial"/>
              </a:rPr>
              <a:t>При солнечном удар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традавшего нужно отвести в тень, положить так, чтобы голова была выше туловища, спрыснуть лицо холодной водой, на голову положить холодный компресс, напоить холодной водой или холодным крепким ч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о всех этих случаях необходимо обратиться в медицинское учреждение.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Назовите правила куп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300720" y="5229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i?id=9d26d00e58dbd6a8befdd91e24749778&amp;n=24"/>
          <p:cNvPicPr/>
          <p:nvPr/>
        </p:nvPicPr>
        <p:blipFill>
          <a:blip r:embed="rId1"/>
          <a:stretch/>
        </p:blipFill>
        <p:spPr>
          <a:xfrm>
            <a:off x="2987640" y="2708280"/>
            <a:ext cx="2631960" cy="3139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600" y="907560"/>
            <a:ext cx="8156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льзя купаться в неизвестных и непредназначенных для этого водоёмах, т.к. там могут быть опасные подводные течения и различны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упайтесь только под присмотром взрослых. Избегайте одиночных куп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льзя входить в воду разогревшимся, и тем более вспотевшим (после бега, прыжков, игр).</a:t>
            </a:r>
            <a:r>
              <a:rPr b="0" lang="ru-RU" sz="2000" spc="-1" strike="noStrike">
                <a:solidFill>
                  <a:srgbClr val="797fd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е заплывайте за ограничительные знаки мест, отведённых для купания, не взбирайтесь на технические и предупредительные знаки, буйки и проч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 подплывайте к моторным, парусным судам, вёсельным лодкам, баржам и другим плавательным средствам – это опа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е толкайте товарищей с берега, вышек, трамплинов в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 купайтесь в очень холодной воде. От холода может свести судорогой ногу. При появлении озноба или сильной усталости выйдите из воды, отдохните и  согрей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б весь день играть на пляже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Люди кожу кремом мажут.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то помазаться не смог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Заработает…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724360" y="5445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Ожо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i?id=2dec2d7fee8864e014a396c1e8acbf9b&amp;n=24"/>
          <p:cNvPicPr/>
          <p:nvPr/>
        </p:nvPicPr>
        <p:blipFill>
          <a:blip r:embed="rId2"/>
          <a:srcRect l="3378" t="19186" r="-402" b="14884"/>
          <a:stretch/>
        </p:blipFill>
        <p:spPr>
          <a:xfrm>
            <a:off x="3419640" y="3429000"/>
            <a:ext cx="2665080" cy="250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небе она сверкает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Громом нас предупреждает: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Прятаться в грозу, друзья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д деревьями нельзя!»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508720" y="5084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Мол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?id=779d225d6bb2ffb2311723ad344cdd44&amp;n=24"/>
          <p:cNvPicPr/>
          <p:nvPr/>
        </p:nvPicPr>
        <p:blipFill>
          <a:blip r:embed="rId2"/>
          <a:srcRect l="13640" t="0" r="15943" b="610"/>
          <a:stretch/>
        </p:blipFill>
        <p:spPr>
          <a:xfrm>
            <a:off x="2987640" y="3284640"/>
            <a:ext cx="3121200" cy="328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1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Висит - молчит,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а перевернешь, шипи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и пена летит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003640" y="537372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60680" y="2008080"/>
            <a:ext cx="57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гнетуш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?id=0945dbefaaf710aab72f2284df17274a&amp;n=24"/>
          <p:cNvPicPr/>
          <p:nvPr/>
        </p:nvPicPr>
        <p:blipFill>
          <a:blip r:embed="rId2"/>
          <a:stretch/>
        </p:blipFill>
        <p:spPr>
          <a:xfrm>
            <a:off x="2916360" y="3500280"/>
            <a:ext cx="2717640" cy="269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Всё ест, не наест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а пьёт – умир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5964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ешеходы должны идти по тротуа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А если тротуара нет? Где и как именно должны двигаться пешеход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24800" y="58863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г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i?id=50300eb44e6aa2a027bb5196916ff777&amp;n=24"/>
          <p:cNvPicPr/>
          <p:nvPr/>
        </p:nvPicPr>
        <p:blipFill>
          <a:blip r:embed="rId2"/>
          <a:stretch/>
        </p:blipFill>
        <p:spPr>
          <a:xfrm>
            <a:off x="3059280" y="3284640"/>
            <a:ext cx="2950920" cy="292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Не ходи по лесу летом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Необутым и раздетым,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Больше на тебе вещей,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Меньше кровопийц – 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877080" y="575316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Клещ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nextslide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i?id=b398b541c8c0aca8e77db6289c0f7306&amp;n=24"/>
          <p:cNvPicPr/>
          <p:nvPr/>
        </p:nvPicPr>
        <p:blipFill>
          <a:blip r:embed="rId2"/>
          <a:stretch/>
        </p:blipFill>
        <p:spPr>
          <a:xfrm>
            <a:off x="3059280" y="2852640"/>
            <a:ext cx="3066840" cy="3067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7"/>
          <p:cNvSpPr txBox="1"/>
          <p:nvPr/>
        </p:nvSpPr>
        <p:spPr>
          <a:xfrm>
            <a:off x="1338120" y="1933560"/>
            <a:ext cx="6562800" cy="27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м спасибо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оконч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?id=d4c20b9d1b781676b84f34bb4597df91&amp;n=24"/>
          <p:cNvPicPr/>
          <p:nvPr/>
        </p:nvPicPr>
        <p:blipFill>
          <a:blip r:embed="rId3"/>
          <a:srcRect l="8718" t="9767" r="8718" b="9244"/>
          <a:stretch/>
        </p:blipFill>
        <p:spPr>
          <a:xfrm>
            <a:off x="1476360" y="3645000"/>
            <a:ext cx="3816360" cy="2813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00280" y="8366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ьчику уже 12 лет. Может ли он ездить на велосипеде по улиц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953400" y="596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. Правила разрешают ездить на велосипеде по улиц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14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?id=05cd2d06c015eb142231984ee519dc7a&amp;n=24"/>
          <p:cNvPicPr/>
          <p:nvPr/>
        </p:nvPicPr>
        <p:blipFill>
          <a:blip r:embed="rId3"/>
          <a:stretch/>
        </p:blipFill>
        <p:spPr>
          <a:xfrm>
            <a:off x="971640" y="3573360"/>
            <a:ext cx="3456000" cy="299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едем на велосипеде и нужно перейти дорогу. Как это сделат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610320" y="57722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5T19:58:27Z</dcterms:created>
  <dc:creator>masyan</dc:creator>
  <dc:description/>
  <dc:language>en-US</dc:language>
  <cp:lastModifiedBy>Алина</cp:lastModifiedBy>
  <dcterms:modified xsi:type="dcterms:W3CDTF">2023-02-05T15:08:38Z</dcterms:modified>
  <cp:revision>12</cp:revision>
  <dc:subject/>
  <dc:title>Безопасные летние каникулы  </dc:title>
</cp:coreProperties>
</file>